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5EC4D-65BB-4990-A088-27A6175E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9AAD-6D49-42AE-8B14-47506339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9391-589B-4193-AB81-67AC45B1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FDB7-6A3F-4B90-AE70-7A55A8BF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35388-2CC0-47D0-958B-E94BF8655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4864C-94BB-4CDA-B60B-FE316013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6379C-9873-4FE6-97D2-1E2992F4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62BEE-0F7B-40A2-8622-AC17DFB2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CD38A-4230-41DB-93B1-6E212A8A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B8915-0E62-4986-9C8A-E0A1EDDD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D8447-D7D4-4CF0-8271-0D433402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7968-3292-4312-A1C9-A02EF91C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ACAE0-CD56-47B3-BD27-FF049A78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9E8F6-30D7-469F-B835-83DA80E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A956D-94B4-4511-BE3E-CE42501E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A2A97-ED96-4705-A90E-94DBC460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777A5-029C-44A5-AB04-13A2DA23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32BD-87DB-49BC-BC50-952DE0B0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90531-E6B3-4D8C-85C6-EAECF62B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09C6-6B2A-46D2-9590-5D7AF157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304A-7E34-4B4B-9189-4764B039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3558-AA7F-4FAD-9249-46546417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DA53-DAAA-4549-85A5-307F57C6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B0AC-04D0-4B17-9A1F-FD9DE362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1253-98A2-424D-B6F6-B5106A3521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42C1-C6BC-4213-A257-5A523555B6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Реформация и Контрреформ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во Фран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З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4, читать, вопросы 2, 3, пере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Генрих 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Picture 4" descr="Рисунок7"/>
          <p:cNvPicPr/>
          <p:nvPr/>
        </p:nvPicPr>
        <p:blipFill>
          <a:blip r:embed="rId1"/>
          <a:stretch/>
        </p:blipFill>
        <p:spPr>
          <a:xfrm>
            <a:off x="250920" y="1773360"/>
            <a:ext cx="3706560" cy="43812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40360" y="1790280"/>
            <a:ext cx="4775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то особенного в биографии этого корол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ag00317_"/>
          <p:cNvPicPr/>
          <p:nvPr/>
        </p:nvPicPr>
        <p:blipFill>
          <a:blip r:embed="rId2"/>
          <a:stretch/>
        </p:blipFill>
        <p:spPr>
          <a:xfrm>
            <a:off x="0" y="-243000"/>
            <a:ext cx="1457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Генрих 4 фр Питер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46560" y="189000"/>
            <a:ext cx="4897440" cy="482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42200"/>
                </a:solidFill>
                <a:latin typeface="Arial"/>
              </a:rPr>
              <a:t>ГЕНРИХ  </a:t>
            </a:r>
            <a:r>
              <a:rPr b="1" lang="en-US" sz="3200" spc="-1" strike="noStrike">
                <a:solidFill>
                  <a:srgbClr val="b422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b42200"/>
                </a:solidFill>
                <a:latin typeface="Arial"/>
              </a:rPr>
              <a:t>  БУРБОН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Picture 5" descr="Генрих 4 вступает в Париж Вопр"/>
          <p:cNvPicPr/>
          <p:nvPr/>
        </p:nvPicPr>
        <p:blipFill>
          <a:blip r:embed="rId3"/>
          <a:stretch/>
        </p:blipFill>
        <p:spPr>
          <a:xfrm>
            <a:off x="-36360" y="836640"/>
            <a:ext cx="9216720" cy="6049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3780000" y="1557360"/>
            <a:ext cx="51116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b56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анцузский гугенот, ставший католиком ради французской к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1598 год – Нантский эдикт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3" name="Picture 5" descr="Рисунок8"/>
          <p:cNvPicPr/>
          <p:nvPr/>
        </p:nvPicPr>
        <p:blipFill>
          <a:blip r:embed="rId1"/>
          <a:stretch/>
        </p:blipFill>
        <p:spPr>
          <a:xfrm>
            <a:off x="395280" y="1989000"/>
            <a:ext cx="3745080" cy="4526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11640" y="2133360"/>
            <a:ext cx="4775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толическая вера – государственная, но провозглашена веротерпим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ag00029_"/>
          <p:cNvPicPr/>
          <p:nvPr/>
        </p:nvPicPr>
        <p:blipFill>
          <a:blip r:embed="rId2"/>
          <a:stretch/>
        </p:blipFill>
        <p:spPr>
          <a:xfrm>
            <a:off x="-108000" y="0"/>
            <a:ext cx="19702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ловарь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Гугеноты – французские кальвинист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Гугеноты ввс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2519280" cy="725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bd5d"/>
                </a:solidFill>
                <a:latin typeface="Arial"/>
              </a:rPr>
              <a:t>ГУГЕНОТЫ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932360" y="260280"/>
            <a:ext cx="374508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c97"/>
                </a:solidFill>
                <a:latin typeface="Arial"/>
              </a:rPr>
              <a:t>Французские кальвин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Французские протестанты: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ринная з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оряне, находящиеся на службе зн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едневшие дворя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орож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ржуа-предпринимате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стья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Религиозная войн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  <p:grpSp>
        <p:nvGrpSpPr>
          <p:cNvPr id="105" name="Organization Chart 6"/>
          <p:cNvGrpSpPr/>
          <p:nvPr/>
        </p:nvGrpSpPr>
        <p:grpSpPr>
          <a:xfrm>
            <a:off x="1143000" y="1790640"/>
            <a:ext cx="7771320" cy="4380120"/>
            <a:chOff x="1143000" y="1790640"/>
            <a:chExt cx="7771320" cy="438012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35800" y="2933640"/>
              <a:ext cx="876600" cy="2093400"/>
            </a:xfrm>
            <a:prstGeom prst="bentConnector3">
              <a:avLst>
                <a:gd name="adj1" fmla="val 125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3543840" y="2934360"/>
              <a:ext cx="876600" cy="2091960"/>
            </a:xfrm>
            <a:prstGeom prst="bentConnector3">
              <a:avLst>
                <a:gd name="adj1" fmla="val 125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0"/>
            <p:cNvSpPr/>
            <p:nvPr/>
          </p:nvSpPr>
          <p:spPr>
            <a:xfrm>
              <a:off x="3234600" y="1790640"/>
              <a:ext cx="3586680" cy="1752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Религиозная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война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>
              <a:off x="1143000" y="4418640"/>
              <a:ext cx="3586680" cy="1752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Север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(католики)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омогает Испа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2"/>
            <p:cNvSpPr/>
            <p:nvPr/>
          </p:nvSpPr>
          <p:spPr>
            <a:xfrm>
              <a:off x="5327640" y="4418640"/>
              <a:ext cx="3586680" cy="1752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Юг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(протестанты)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омогают Англия,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Германия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Запишите дат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562-98 года – религиозная война во Франци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Запишите дат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790280"/>
            <a:ext cx="87361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572 год – Варфоломеевская ноч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g00029_"/>
          <p:cNvPicPr/>
          <p:nvPr/>
        </p:nvPicPr>
        <p:blipFill>
          <a:blip r:embed="rId1"/>
          <a:stretch/>
        </p:blipFill>
        <p:spPr>
          <a:xfrm>
            <a:off x="0" y="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Вопросы к видеосюжету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то произошло в эту ночь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ак вы оцениваете эти события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ag00317_"/>
          <p:cNvPicPr/>
          <p:nvPr/>
        </p:nvPicPr>
        <p:blipFill>
          <a:blip r:embed="rId1"/>
          <a:stretch/>
        </p:blipFill>
        <p:spPr>
          <a:xfrm>
            <a:off x="355680" y="214200"/>
            <a:ext cx="11016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Варфоломеевская ночь Воп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2089080" cy="579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9b"/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42200"/>
                </a:solidFill>
                <a:latin typeface="Arial"/>
              </a:rPr>
              <a:t>1572 г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716360" y="6400800"/>
            <a:ext cx="4032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eeff"/>
                </a:solidFill>
                <a:latin typeface="Arial"/>
              </a:rPr>
              <a:t>Варфоломеевская 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8:48:32Z</dcterms:created>
  <dc:creator>***</dc:creator>
  <dc:description/>
  <dc:language>en-US</dc:language>
  <cp:lastModifiedBy>Алик</cp:lastModifiedBy>
  <dcterms:modified xsi:type="dcterms:W3CDTF">2011-10-01T13:07:41Z</dcterms:modified>
  <cp:revision>30</cp:revision>
  <dc:subject/>
  <dc:title>Реформация и Контрреформация в Англии и Франции</dc:title>
</cp:coreProperties>
</file>