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0DC4C-065E-4944-B70A-DCAFB257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9E49-F274-4E08-A4D5-E2BF6A1F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DE68-0CC2-49A1-B773-AD0BBAB5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7A6BE-BFB0-49BA-9969-79D34423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1CC1D-9EFE-4A43-91AD-CFDEDBAE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13295-9524-41DA-A9A9-2701A829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28AE7-B3B7-49B1-9B95-342F4630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0BCDC-315C-4922-969E-5E1A9A22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D8E47-A84A-4897-8E1B-BA39CB3B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ED9F6-F05D-439D-BFE6-53838368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159F1-DB8A-4B72-8A9B-4174C6BF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7E69-3A99-4708-9A3C-F5BABDD0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A8EFD-AB06-4293-9B4C-B9FD31BF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B509F-3383-47A7-B26D-E4E55CF1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B27A2-95C6-431E-B131-54691B89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D61EB-D9A7-4290-90AE-5D868873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CF5DE-8133-407D-AF30-688AF34B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09BE-B93E-4D58-BCA8-69250EB4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080C-3865-4E64-9713-BACE3970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BFA30-25E9-4841-BCA2-5739A494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3A43B-CD95-4F0A-87F6-5E0A7225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AC80-7C8E-481F-8F51-11240880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CD50-4F74-4455-A496-EA916B37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243E-CB33-44CD-8A78-6BD87DCE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A4EF-36FF-4124-B3EE-FF652F0900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D15F-E4D4-4543-A84B-17AC1BE110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Реформация и Контрреформ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о Фран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З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4, читать, вопросы 2, 3, пере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Генрих 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I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Picture 4" descr="Рисунок7"/>
          <p:cNvPicPr/>
          <p:nvPr/>
        </p:nvPicPr>
        <p:blipFill>
          <a:blip r:embed="rId1"/>
          <a:stretch/>
        </p:blipFill>
        <p:spPr>
          <a:xfrm>
            <a:off x="250920" y="1773360"/>
            <a:ext cx="3706560" cy="43812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40360" y="1790280"/>
            <a:ext cx="4775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особенного в биографии этого корол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ag00317_"/>
          <p:cNvPicPr/>
          <p:nvPr/>
        </p:nvPicPr>
        <p:blipFill>
          <a:blip r:embed="rId2"/>
          <a:stretch/>
        </p:blipFill>
        <p:spPr>
          <a:xfrm>
            <a:off x="0" y="-243000"/>
            <a:ext cx="1457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Генрих 4 фр Питер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46560" y="189000"/>
            <a:ext cx="4897440" cy="482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42200"/>
                </a:solidFill>
                <a:latin typeface="Arial"/>
              </a:rPr>
              <a:t>ГЕНРИХ  </a:t>
            </a:r>
            <a:r>
              <a:rPr b="1" lang="en-US" sz="3200" spc="-1" strike="noStrike">
                <a:solidFill>
                  <a:srgbClr val="b422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b42200"/>
                </a:solidFill>
                <a:latin typeface="Arial"/>
              </a:rPr>
              <a:t>  БУРБОН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Picture 5" descr="Генрих 4 вступает в Париж Вопр"/>
          <p:cNvPicPr/>
          <p:nvPr/>
        </p:nvPicPr>
        <p:blipFill>
          <a:blip r:embed="rId3"/>
          <a:stretch/>
        </p:blipFill>
        <p:spPr>
          <a:xfrm>
            <a:off x="-36360" y="836640"/>
            <a:ext cx="9216720" cy="6049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3780000" y="1557360"/>
            <a:ext cx="5111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56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узский гугенот, ставший католиком ради французской к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1598 год – Нантский эдикт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3" name="Picture 5" descr="Рисунок8"/>
          <p:cNvPicPr/>
          <p:nvPr/>
        </p:nvPicPr>
        <p:blipFill>
          <a:blip r:embed="rId1"/>
          <a:stretch/>
        </p:blipFill>
        <p:spPr>
          <a:xfrm>
            <a:off x="395280" y="1989000"/>
            <a:ext cx="3745080" cy="4526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11640" y="2133360"/>
            <a:ext cx="4775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толическая вера – государственная, но провозглашена веротерпим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g00029_"/>
          <p:cNvPicPr/>
          <p:nvPr/>
        </p:nvPicPr>
        <p:blipFill>
          <a:blip r:embed="rId2"/>
          <a:stretch/>
        </p:blipFill>
        <p:spPr>
          <a:xfrm>
            <a:off x="-108000" y="0"/>
            <a:ext cx="19702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ловарь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Гугеноты – французские кальвинист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Гугеноты ввс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519280" cy="725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bd5d"/>
                </a:solidFill>
                <a:latin typeface="Arial"/>
              </a:rPr>
              <a:t>ГУГЕНОТЫ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932360" y="260280"/>
            <a:ext cx="374508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97"/>
                </a:solidFill>
                <a:latin typeface="Arial"/>
              </a:rPr>
              <a:t>Французские кальвин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Французские протестанты: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ринная зн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оряне, находящиеся на службе зн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едневшие дворя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рож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ржуа-предпринимат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стья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Религиозная войн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  <p:grpSp>
        <p:nvGrpSpPr>
          <p:cNvPr id="105" name="Organization Chart 6"/>
          <p:cNvGrpSpPr/>
          <p:nvPr/>
        </p:nvGrpSpPr>
        <p:grpSpPr>
          <a:xfrm>
            <a:off x="1143000" y="1790640"/>
            <a:ext cx="7771320" cy="4380120"/>
            <a:chOff x="1143000" y="1790640"/>
            <a:chExt cx="7771320" cy="438012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35800" y="2933640"/>
              <a:ext cx="876600" cy="2093400"/>
            </a:xfrm>
            <a:prstGeom prst="bentConnector3">
              <a:avLst>
                <a:gd name="adj1" fmla="val 125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3543840" y="2934360"/>
              <a:ext cx="876600" cy="2091960"/>
            </a:xfrm>
            <a:prstGeom prst="bentConnector3">
              <a:avLst>
                <a:gd name="adj1" fmla="val 125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0"/>
            <p:cNvSpPr/>
            <p:nvPr/>
          </p:nvSpPr>
          <p:spPr>
            <a:xfrm>
              <a:off x="3234600" y="1790640"/>
              <a:ext cx="3586680" cy="1752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Религиозная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война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1"/>
            <p:cNvSpPr/>
            <p:nvPr/>
          </p:nvSpPr>
          <p:spPr>
            <a:xfrm>
              <a:off x="1143000" y="4418640"/>
              <a:ext cx="3586680" cy="1752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Север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(католики)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омогает Испа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2"/>
            <p:cNvSpPr/>
            <p:nvPr/>
          </p:nvSpPr>
          <p:spPr>
            <a:xfrm>
              <a:off x="5327640" y="4418640"/>
              <a:ext cx="3586680" cy="1752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Юг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(протестанты)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омогают Англия,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Герма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Запишите дат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562-98 года – религиозная война во Франци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Запишите дат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790280"/>
            <a:ext cx="87361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572 год – Варфоломеевская ноч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Вопросы к видеосюжет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то произошло в эту ночь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ак вы оцениваете эти события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ag00317_"/>
          <p:cNvPicPr/>
          <p:nvPr/>
        </p:nvPicPr>
        <p:blipFill>
          <a:blip r:embed="rId1"/>
          <a:stretch/>
        </p:blipFill>
        <p:spPr>
          <a:xfrm>
            <a:off x="355680" y="214200"/>
            <a:ext cx="11016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Варфоломеевская ночь Воп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2089080" cy="579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2200"/>
                </a:solidFill>
                <a:latin typeface="Arial"/>
              </a:rPr>
              <a:t>1572 г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716360" y="6400800"/>
            <a:ext cx="403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deeff"/>
                </a:solidFill>
                <a:latin typeface="Arial"/>
              </a:rPr>
              <a:t>Варфоломеевская 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8:48:32Z</dcterms:created>
  <dc:creator>***</dc:creator>
  <dc:description/>
  <dc:language>en-US</dc:language>
  <cp:lastModifiedBy>Алик</cp:lastModifiedBy>
  <dcterms:modified xsi:type="dcterms:W3CDTF">2011-10-01T13:07:41Z</dcterms:modified>
  <cp:revision>30</cp:revision>
  <dc:subject/>
  <dc:title>Реформация и Контрреформация в Англии и Франции</dc:title>
</cp:coreProperties>
</file>