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12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.jpeg" ContentType="image/jpeg"/>
  <Override PartName="/ppt/media/image2.jpeg" ContentType="image/jpeg"/>
  <Override PartName="/ppt/media/image6.gif" ContentType="image/gif"/>
  <Override PartName="/ppt/media/image10.jpeg" ContentType="image/jpeg"/>
  <Override PartName="/ppt/media/image15.png" ContentType="image/png"/>
  <Override PartName="/ppt/media/image3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399BF-19A3-4FDD-841E-F15FA66B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F2ABA-163D-4BEB-BB44-5DBA0352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B13D4-5AEA-48E7-939C-2B2FDD15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7003C-2CBB-4811-BF17-44EF07D5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BB4E3-673B-4450-9767-7DE87D31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E5D6B-286F-46E4-988F-617A2CC2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3D9B7-12FD-4A63-8E05-9466F84A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5406E-49F6-45BD-88BC-6CF01C14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19976-92B8-478C-BFF1-8C107E2A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7AE16-EE3A-401B-896F-782B33AB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82CA8-CC81-4250-B35E-1120A942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70665-ACED-44FE-92B7-5076F61A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792EC-D33F-40F5-9CEA-BB0EA378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838ED-A4E5-4852-B7C2-D75900A3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5BB8E-462C-4E48-8796-213C8599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CB037-9A26-4B56-AA68-2448F147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3C7ED-C733-40BE-A859-BF324CE2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FDB4D-A13E-49EB-AFED-C761F249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27D9C-4740-490C-BCCF-E5035CB1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085DF-C2B6-4D23-9E26-20C715CB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4961A-591E-4632-8486-84F10113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BAF65-ED68-4216-8E0D-60CB6385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45856-2B2D-4080-B5DA-8823F814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ABF64-F8F1-4E7F-A2C1-611ABA43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CA38B-F41E-429A-AB5E-7067A536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EB59C-D789-4A99-8C66-3F2A4BF6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46DEF-1C31-4F79-8455-71616B66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84711-A4BC-4D59-B398-9660AF3E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486E7-994E-459E-A383-1707A580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C911A-DCC5-4891-9760-ABDB88F6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061D7-D7E6-4FEC-9FF2-62025E32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A20C7-FF70-4360-8AE8-94B86F7E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69FB5-29AB-4E80-88AA-3EE5ED2D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031F5-7F55-4079-AADF-0AD0C3B3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A464B-486D-4283-AD49-1A5B15AB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0192D-CF2A-4A8B-801E-4246D33E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269C-EE64-4A72-9503-4E00FD8006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5736-F306-4D97-A679-CABDEC3615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94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AB2E-11F8-486A-BD88-970E957E99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Война за независимость. Создание СШ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/З: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24, читать, пункты 2,5,7, переск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Копия (3) Копия Паленов з ла"/>
          <p:cNvPicPr/>
          <p:nvPr/>
        </p:nvPicPr>
        <p:blipFill>
          <a:blip r:embed="rId1"/>
          <a:stretch/>
        </p:blipFill>
        <p:spPr>
          <a:xfrm>
            <a:off x="3995640" y="476280"/>
            <a:ext cx="4897440" cy="61214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907920"/>
            <a:ext cx="3600360" cy="5796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48e60"/>
                </a:solidFill>
                <a:latin typeface="Garamond"/>
              </a:rPr>
              <a:t>ДЖЕФФЕРСОН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24000" y="2781360"/>
            <a:ext cx="3528720" cy="151956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мериканский просветитель и государственный деятель, автор проекта Декларации независимости С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Джеферсон ддд"/>
          <p:cNvPicPr/>
          <p:nvPr/>
        </p:nvPicPr>
        <p:blipFill>
          <a:blip r:embed="rId2"/>
          <a:stretch/>
        </p:blipFill>
        <p:spPr>
          <a:xfrm>
            <a:off x="4356000" y="907920"/>
            <a:ext cx="4197600" cy="540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691920"/>
            <a:ext cx="3529080" cy="7016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8e60"/>
                </a:solidFill>
                <a:latin typeface="Garamond"/>
              </a:rPr>
              <a:t>ФРАНКЛИН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79280" y="2492280"/>
            <a:ext cx="3851280" cy="173916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мериканский просветитель, государственный деятель, учёный, один из авторов Декларации независимости США и Конституции 178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Отцы-основатели США"/>
          <p:cNvPicPr/>
          <p:nvPr/>
        </p:nvPicPr>
        <p:blipFill>
          <a:blip r:embed="rId1"/>
          <a:stretch/>
        </p:blipFill>
        <p:spPr>
          <a:xfrm>
            <a:off x="4572000" y="981000"/>
            <a:ext cx="4145040" cy="4969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Копия (3) Копия Паленов з ла"/>
          <p:cNvPicPr/>
          <p:nvPr/>
        </p:nvPicPr>
        <p:blipFill>
          <a:blip r:embed="rId2"/>
          <a:stretch/>
        </p:blipFill>
        <p:spPr>
          <a:xfrm>
            <a:off x="4211640" y="549360"/>
            <a:ext cx="4775040" cy="561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Изменение размера Франклин ВС 4 06"/>
          <p:cNvPicPr/>
          <p:nvPr/>
        </p:nvPicPr>
        <p:blipFill>
          <a:blip r:embed="rId3"/>
          <a:stretch/>
        </p:blipFill>
        <p:spPr>
          <a:xfrm>
            <a:off x="4572000" y="907920"/>
            <a:ext cx="404640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Вопросы к фильму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известен этот челове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в его вклад в историю СШ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он отличается от остальных основателей СШ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ag00317_"/>
          <p:cNvPicPr/>
          <p:nvPr/>
        </p:nvPicPr>
        <p:blipFill>
          <a:blip r:embed="rId1"/>
          <a:stretch/>
        </p:blipFill>
        <p:spPr>
          <a:xfrm>
            <a:off x="108000" y="115920"/>
            <a:ext cx="11206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Принципы Декларации Независимост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родное верховенство и естественное равенство люд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родный суверенит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о на свержение власти, нарушающей права нар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венство людей и неотчуждаемые права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ag00029_"/>
          <p:cNvPicPr/>
          <p:nvPr/>
        </p:nvPicPr>
        <p:blipFill>
          <a:blip r:embed="rId1"/>
          <a:stretch/>
        </p:blipFill>
        <p:spPr>
          <a:xfrm>
            <a:off x="0" y="115920"/>
            <a:ext cx="1873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Прокомментируйте слайд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6" name="Picture 5" descr="Патриоты Нью-Йорка свергают Статуюкороля Георга III (18 в)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826920" y="1700280"/>
            <a:ext cx="7561440" cy="41781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187" name="Picture 6" descr="ag00317_"/>
          <p:cNvPicPr/>
          <p:nvPr/>
        </p:nvPicPr>
        <p:blipFill>
          <a:blip r:embed="rId2"/>
          <a:stretch/>
        </p:blipFill>
        <p:spPr>
          <a:xfrm>
            <a:off x="108000" y="115920"/>
            <a:ext cx="1120680" cy="1440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0" y="603576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усть англичане попробуют пули, выплавленные из их короля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Характер войны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90" name="Organization Chart 3"/>
          <p:cNvGrpSpPr/>
          <p:nvPr/>
        </p:nvGrpSpPr>
        <p:grpSpPr>
          <a:xfrm>
            <a:off x="1143000" y="1790640"/>
            <a:ext cx="3814200" cy="4380840"/>
            <a:chOff x="1143000" y="1790640"/>
            <a:chExt cx="3814200" cy="4380840"/>
          </a:xfrm>
        </p:grpSpPr>
        <p:cxnSp>
          <p:nvCxnSpPr>
            <p:cNvPr id="191" name="_s2052"/>
            <p:cNvCxnSpPr>
              <a:stCxn id="192" idx="3"/>
              <a:endCxn id="193" idx="2"/>
            </p:cNvCxnSpPr>
            <p:nvPr/>
          </p:nvCxnSpPr>
          <p:spPr>
            <a:xfrm flipV="1">
              <a:off x="3431160" y="2885400"/>
              <a:ext cx="381960" cy="273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2053"/>
            <p:cNvCxnSpPr>
              <a:stCxn id="195" idx="3"/>
              <a:endCxn id="193" idx="2"/>
            </p:cNvCxnSpPr>
            <p:nvPr/>
          </p:nvCxnSpPr>
          <p:spPr>
            <a:xfrm flipV="1">
              <a:off x="3431160" y="2885400"/>
              <a:ext cx="381960" cy="1095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2054"/>
            <p:cNvSpPr/>
            <p:nvPr/>
          </p:nvSpPr>
          <p:spPr>
            <a:xfrm>
              <a:off x="2668680" y="1790640"/>
              <a:ext cx="228852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Характер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2055"/>
            <p:cNvSpPr/>
            <p:nvPr/>
          </p:nvSpPr>
          <p:spPr>
            <a:xfrm>
              <a:off x="1143000" y="3433320"/>
              <a:ext cx="228852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хватничес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2056"/>
            <p:cNvSpPr/>
            <p:nvPr/>
          </p:nvSpPr>
          <p:spPr>
            <a:xfrm>
              <a:off x="1143000" y="5076360"/>
              <a:ext cx="228852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свободитель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Organization Chart 10"/>
          <p:cNvGrpSpPr/>
          <p:nvPr/>
        </p:nvGrpSpPr>
        <p:grpSpPr>
          <a:xfrm>
            <a:off x="5100480" y="1790640"/>
            <a:ext cx="3814200" cy="4380840"/>
            <a:chOff x="5100480" y="1790640"/>
            <a:chExt cx="3814200" cy="4380840"/>
          </a:xfrm>
        </p:grpSpPr>
        <p:cxnSp>
          <p:nvCxnSpPr>
            <p:cNvPr id="197" name="_s2059"/>
            <p:cNvCxnSpPr>
              <a:stCxn id="198" idx="1"/>
              <a:endCxn id="199" idx="2"/>
            </p:cNvCxnSpPr>
            <p:nvPr/>
          </p:nvCxnSpPr>
          <p:spPr>
            <a:xfrm rot="10800000">
              <a:off x="6243840" y="2885040"/>
              <a:ext cx="381960" cy="273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0" name="_s2060"/>
            <p:cNvCxnSpPr>
              <a:stCxn id="201" idx="1"/>
              <a:endCxn id="199" idx="2"/>
            </p:cNvCxnSpPr>
            <p:nvPr/>
          </p:nvCxnSpPr>
          <p:spPr>
            <a:xfrm rot="10800000">
              <a:off x="6243840" y="2885040"/>
              <a:ext cx="381960" cy="1095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9" name="_s2061"/>
            <p:cNvSpPr/>
            <p:nvPr/>
          </p:nvSpPr>
          <p:spPr>
            <a:xfrm>
              <a:off x="5100480" y="1790640"/>
              <a:ext cx="228852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Arial"/>
                </a:rPr>
                <a:t>Характер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2062"/>
            <p:cNvSpPr/>
            <p:nvPr/>
          </p:nvSpPr>
          <p:spPr>
            <a:xfrm>
              <a:off x="6626160" y="3433320"/>
              <a:ext cx="228852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праведлив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2063"/>
            <p:cNvSpPr/>
            <p:nvPr/>
          </p:nvSpPr>
          <p:spPr>
            <a:xfrm>
              <a:off x="6626160" y="5076360"/>
              <a:ext cx="228852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есправедлив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Picture 17" descr="ag00029_"/>
          <p:cNvPicPr/>
          <p:nvPr/>
        </p:nvPicPr>
        <p:blipFill>
          <a:blip r:embed="rId1"/>
          <a:stretch/>
        </p:blipFill>
        <p:spPr>
          <a:xfrm>
            <a:off x="0" y="260280"/>
            <a:ext cx="1873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1784 год- Конституция СШ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00120" y="1790280"/>
            <a:ext cx="38149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раниц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24-225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читайте и выберите основные положения Конститу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Рисунок1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95280" y="1700280"/>
            <a:ext cx="3867120" cy="44654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206" name="Picture 5" descr="ag00317_"/>
          <p:cNvPicPr/>
          <p:nvPr/>
        </p:nvPicPr>
        <p:blipFill>
          <a:blip r:embed="rId2"/>
          <a:stretch/>
        </p:blipFill>
        <p:spPr>
          <a:xfrm>
            <a:off x="4427640" y="5229360"/>
            <a:ext cx="1120680" cy="1439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ag00029_"/>
          <p:cNvPicPr/>
          <p:nvPr/>
        </p:nvPicPr>
        <p:blipFill>
          <a:blip r:embed="rId3"/>
          <a:stretch/>
        </p:blipFill>
        <p:spPr>
          <a:xfrm>
            <a:off x="0" y="0"/>
            <a:ext cx="1873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Основные положения Конституции США: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5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Республиканский стро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5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Федераци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5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Разделение власте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ag00029_"/>
          <p:cNvPicPr/>
          <p:nvPr/>
        </p:nvPicPr>
        <p:blipFill>
          <a:blip r:embed="rId1"/>
          <a:stretch/>
        </p:blipFill>
        <p:spPr>
          <a:xfrm>
            <a:off x="0" y="0"/>
            <a:ext cx="1873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2,-22,-22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Разделение властей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12" name="Organization Chart 5"/>
          <p:cNvGrpSpPr/>
          <p:nvPr/>
        </p:nvGrpSpPr>
        <p:grpSpPr>
          <a:xfrm>
            <a:off x="1143000" y="1790640"/>
            <a:ext cx="7771680" cy="4380840"/>
            <a:chOff x="1143000" y="1790640"/>
            <a:chExt cx="7771680" cy="4380840"/>
          </a:xfrm>
        </p:grpSpPr>
        <p:cxnSp>
          <p:nvCxnSpPr>
            <p:cNvPr id="213" name="_s3076"/>
            <p:cNvCxnSpPr>
              <a:stCxn id="214" idx="0"/>
              <a:endCxn id="215" idx="2"/>
            </p:cNvCxnSpPr>
            <p:nvPr/>
          </p:nvCxnSpPr>
          <p:spPr>
            <a:xfrm flipV="1">
              <a:off x="7749000" y="4528080"/>
              <a:ext cx="2880" cy="54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3077"/>
            <p:cNvCxnSpPr>
              <a:stCxn id="217" idx="0"/>
              <a:endCxn id="218" idx="2"/>
            </p:cNvCxnSpPr>
            <p:nvPr/>
          </p:nvCxnSpPr>
          <p:spPr>
            <a:xfrm flipV="1">
              <a:off x="5028840" y="4528080"/>
              <a:ext cx="2880" cy="54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3078"/>
            <p:cNvCxnSpPr>
              <a:stCxn id="220" idx="0"/>
              <a:endCxn id="221" idx="2"/>
            </p:cNvCxnSpPr>
            <p:nvPr/>
          </p:nvCxnSpPr>
          <p:spPr>
            <a:xfrm flipV="1">
              <a:off x="2308680" y="4528080"/>
              <a:ext cx="2880" cy="54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2" name="_s3079"/>
            <p:cNvCxnSpPr>
              <a:stCxn id="215" idx="0"/>
              <a:endCxn id="223" idx="2"/>
            </p:cNvCxnSpPr>
            <p:nvPr/>
          </p:nvCxnSpPr>
          <p:spPr>
            <a:xfrm flipV="1" rot="16200000">
              <a:off x="6114600" y="1798560"/>
              <a:ext cx="548280" cy="2720880"/>
            </a:xfrm>
            <a:prstGeom prst="bentConnector3">
              <a:avLst>
                <a:gd name="adj1" fmla="val 208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4" name="_s3080"/>
            <p:cNvCxnSpPr>
              <a:stCxn id="218" idx="0"/>
              <a:endCxn id="223" idx="2"/>
            </p:cNvCxnSpPr>
            <p:nvPr/>
          </p:nvCxnSpPr>
          <p:spPr>
            <a:xfrm flipV="1">
              <a:off x="5028840" y="2885040"/>
              <a:ext cx="2880" cy="54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3081"/>
            <p:cNvCxnSpPr>
              <a:stCxn id="221" idx="0"/>
              <a:endCxn id="223" idx="2"/>
            </p:cNvCxnSpPr>
            <p:nvPr/>
          </p:nvCxnSpPr>
          <p:spPr>
            <a:xfrm flipH="1" flipV="1" rot="5400000">
              <a:off x="3394800" y="1798920"/>
              <a:ext cx="548280" cy="2720880"/>
            </a:xfrm>
            <a:prstGeom prst="bentConnector3">
              <a:avLst>
                <a:gd name="adj1" fmla="val 208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3" name="_s3082"/>
            <p:cNvSpPr/>
            <p:nvPr/>
          </p:nvSpPr>
          <p:spPr>
            <a:xfrm>
              <a:off x="3863160" y="179064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Власт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3083"/>
            <p:cNvSpPr/>
            <p:nvPr/>
          </p:nvSpPr>
          <p:spPr>
            <a:xfrm>
              <a:off x="1143000" y="343332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сполнительн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3084"/>
            <p:cNvSpPr/>
            <p:nvPr/>
          </p:nvSpPr>
          <p:spPr>
            <a:xfrm>
              <a:off x="3863160" y="343332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аконодатель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3085"/>
            <p:cNvSpPr/>
            <p:nvPr/>
          </p:nvSpPr>
          <p:spPr>
            <a:xfrm>
              <a:off x="6583320" y="343332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удеб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3086"/>
            <p:cNvSpPr/>
            <p:nvPr/>
          </p:nvSpPr>
          <p:spPr>
            <a:xfrm>
              <a:off x="1143000" y="507636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3087"/>
            <p:cNvSpPr/>
            <p:nvPr/>
          </p:nvSpPr>
          <p:spPr>
            <a:xfrm>
              <a:off x="3863160" y="507636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3088"/>
            <p:cNvSpPr/>
            <p:nvPr/>
          </p:nvSpPr>
          <p:spPr>
            <a:xfrm>
              <a:off x="6583320" y="507636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20" descr="ag00029_"/>
          <p:cNvPicPr/>
          <p:nvPr/>
        </p:nvPicPr>
        <p:blipFill>
          <a:blip r:embed="rId1"/>
          <a:stretch/>
        </p:blipFill>
        <p:spPr>
          <a:xfrm>
            <a:off x="0" y="0"/>
            <a:ext cx="1873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Разделение властей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28" name="Organization Chart 3"/>
          <p:cNvGrpSpPr/>
          <p:nvPr/>
        </p:nvGrpSpPr>
        <p:grpSpPr>
          <a:xfrm>
            <a:off x="1143000" y="1790640"/>
            <a:ext cx="7771680" cy="4380840"/>
            <a:chOff x="1143000" y="1790640"/>
            <a:chExt cx="7771680" cy="4380840"/>
          </a:xfrm>
        </p:grpSpPr>
        <p:cxnSp>
          <p:nvCxnSpPr>
            <p:cNvPr id="229" name="_s4100"/>
            <p:cNvCxnSpPr>
              <a:stCxn id="230" idx="0"/>
              <a:endCxn id="231" idx="2"/>
            </p:cNvCxnSpPr>
            <p:nvPr/>
          </p:nvCxnSpPr>
          <p:spPr>
            <a:xfrm flipV="1">
              <a:off x="7749000" y="4528080"/>
              <a:ext cx="2880" cy="54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2" name="_s4101"/>
            <p:cNvCxnSpPr>
              <a:stCxn id="233" idx="0"/>
              <a:endCxn id="234" idx="2"/>
            </p:cNvCxnSpPr>
            <p:nvPr/>
          </p:nvCxnSpPr>
          <p:spPr>
            <a:xfrm flipV="1">
              <a:off x="5028840" y="4528080"/>
              <a:ext cx="2880" cy="54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4102"/>
            <p:cNvCxnSpPr>
              <a:stCxn id="236" idx="0"/>
              <a:endCxn id="237" idx="2"/>
            </p:cNvCxnSpPr>
            <p:nvPr/>
          </p:nvCxnSpPr>
          <p:spPr>
            <a:xfrm flipV="1">
              <a:off x="2308680" y="4528080"/>
              <a:ext cx="2880" cy="54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8" name="_s4103"/>
            <p:cNvCxnSpPr>
              <a:stCxn id="231" idx="0"/>
              <a:endCxn id="239" idx="2"/>
            </p:cNvCxnSpPr>
            <p:nvPr/>
          </p:nvCxnSpPr>
          <p:spPr>
            <a:xfrm flipV="1" rot="16200000">
              <a:off x="6114600" y="1798560"/>
              <a:ext cx="548280" cy="2720880"/>
            </a:xfrm>
            <a:prstGeom prst="bentConnector3">
              <a:avLst>
                <a:gd name="adj1" fmla="val 208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0" name="_s4104"/>
            <p:cNvCxnSpPr>
              <a:stCxn id="234" idx="0"/>
              <a:endCxn id="239" idx="2"/>
            </p:cNvCxnSpPr>
            <p:nvPr/>
          </p:nvCxnSpPr>
          <p:spPr>
            <a:xfrm flipV="1">
              <a:off x="5028840" y="2885040"/>
              <a:ext cx="2880" cy="54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1" name="_s4105"/>
            <p:cNvCxnSpPr>
              <a:stCxn id="237" idx="0"/>
              <a:endCxn id="239" idx="2"/>
            </p:cNvCxnSpPr>
            <p:nvPr/>
          </p:nvCxnSpPr>
          <p:spPr>
            <a:xfrm flipH="1" flipV="1" rot="5400000">
              <a:off x="3394800" y="1798920"/>
              <a:ext cx="548280" cy="2720880"/>
            </a:xfrm>
            <a:prstGeom prst="bentConnector3">
              <a:avLst>
                <a:gd name="adj1" fmla="val 208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9" name="_s4106"/>
            <p:cNvSpPr/>
            <p:nvPr/>
          </p:nvSpPr>
          <p:spPr>
            <a:xfrm>
              <a:off x="3863160" y="179064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Власт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4107"/>
            <p:cNvSpPr/>
            <p:nvPr/>
          </p:nvSpPr>
          <p:spPr>
            <a:xfrm>
              <a:off x="1143000" y="343332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сполнительн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4108"/>
            <p:cNvSpPr/>
            <p:nvPr/>
          </p:nvSpPr>
          <p:spPr>
            <a:xfrm>
              <a:off x="3863160" y="343332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аконодатель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4109"/>
            <p:cNvSpPr/>
            <p:nvPr/>
          </p:nvSpPr>
          <p:spPr>
            <a:xfrm>
              <a:off x="6583320" y="343332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удеб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4110"/>
            <p:cNvSpPr/>
            <p:nvPr/>
          </p:nvSpPr>
          <p:spPr>
            <a:xfrm>
              <a:off x="1143000" y="507636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резиден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4111"/>
            <p:cNvSpPr/>
            <p:nvPr/>
          </p:nvSpPr>
          <p:spPr>
            <a:xfrm>
              <a:off x="3863160" y="507636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онгресс СШ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4112"/>
            <p:cNvSpPr/>
            <p:nvPr/>
          </p:nvSpPr>
          <p:spPr>
            <a:xfrm>
              <a:off x="6583320" y="5076360"/>
              <a:ext cx="2331360" cy="1095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ерховны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су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18" descr="ag00029_"/>
          <p:cNvPicPr/>
          <p:nvPr/>
        </p:nvPicPr>
        <p:blipFill>
          <a:blip r:embed="rId1"/>
          <a:stretch/>
        </p:blipFill>
        <p:spPr>
          <a:xfrm>
            <a:off x="0" y="0"/>
            <a:ext cx="1873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Изменение размера 11 ноября 1620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Корабль в США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2881440" cy="7570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42200"/>
                </a:solidFill>
                <a:latin typeface="Arial"/>
              </a:rPr>
              <a:t>1620 г. 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435640" y="260280"/>
            <a:ext cx="3313080" cy="9169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бытие переселенцев из Англии в Америку на корабле «Мэйфлауэ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42920" y="142920"/>
            <a:ext cx="8785080" cy="23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нительная в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Президент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збираемый на 4 года коллегией выборщиков. Имел право вето на законодательные постановления, но если закон принимался 2/3 членов Конгресса, то вето теряло силу. Являлся верховным главнокомандующим армией и флотом, назначал членов Верховного суда, министров, по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00"/>
                </a:solidFill>
                <a:latin typeface="Arial"/>
              </a:rPr>
              <a:t>Джордж Вашингтон – первый презид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5"/>
          <p:cNvPicPr/>
          <p:nvPr/>
        </p:nvPicPr>
        <p:blipFill>
          <a:blip r:embed="rId1"/>
          <a:stretch/>
        </p:blipFill>
        <p:spPr>
          <a:xfrm>
            <a:off x="714240" y="2714760"/>
            <a:ext cx="6264360" cy="3609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245" name="Text Box 5"/>
          <p:cNvSpPr/>
          <p:nvPr/>
        </p:nvSpPr>
        <p:spPr>
          <a:xfrm>
            <a:off x="7020000" y="5942160"/>
            <a:ext cx="300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лый 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равю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6572160" y="5942160"/>
            <a:ext cx="30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ый 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вю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Рисунок2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763640" y="2349360"/>
            <a:ext cx="5256360" cy="3799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248" name="Text Box 5"/>
          <p:cNvSpPr/>
          <p:nvPr/>
        </p:nvSpPr>
        <p:spPr>
          <a:xfrm>
            <a:off x="2911320" y="6156360"/>
            <a:ext cx="32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орец Независ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вюра нач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179280" y="189000"/>
            <a:ext cx="8785440" cy="20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конодательная в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bcbcb"/>
                </a:solidFill>
                <a:latin typeface="Arial"/>
              </a:rPr>
              <a:t>Конгр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ерхняя пала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969696"/>
                </a:solidFill>
                <a:latin typeface="Arial"/>
              </a:rPr>
              <a:t>Сен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ижняя пала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969696"/>
                </a:solidFill>
                <a:latin typeface="Arial"/>
              </a:rPr>
              <a:t>Палата представител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гресс получал право налогообложения, право распоряжения земельным фондом, право содержания армии и флота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13840" y="142920"/>
            <a:ext cx="8713800" cy="24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дебная в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Верховный федеральный с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 пересмотра законов, при их несоответствии Конститу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законено рабств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ейцы не считались гражданами СШ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штатами оставались организация собственного правительства, суд, торговля внутри штата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Рисунок1"/>
          <p:cNvPicPr/>
          <p:nvPr/>
        </p:nvPicPr>
        <p:blipFill>
          <a:blip r:embed="rId1"/>
          <a:stretch/>
        </p:blipFill>
        <p:spPr>
          <a:xfrm>
            <a:off x="1214280" y="2714760"/>
            <a:ext cx="6624720" cy="36972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252" name="Text Box 7"/>
          <p:cNvSpPr/>
          <p:nvPr/>
        </p:nvSpPr>
        <p:spPr>
          <a:xfrm>
            <a:off x="214200" y="6458040"/>
            <a:ext cx="849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рмер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селяютс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Запад.  Гравюра нач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Изменение размера Президенты США кк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США м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962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1800360" cy="76176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22800"/>
                </a:solidFill>
                <a:latin typeface="Garamond"/>
              </a:rPr>
              <a:t>США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2771640" y="476280"/>
            <a:ext cx="5977080" cy="3988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1c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921c00"/>
                </a:solidFill>
                <a:latin typeface="Tahoma"/>
              </a:rPr>
              <a:t>Государство в Северной Америке. </a:t>
            </a:r>
            <a:r>
              <a:rPr b="1" lang="en-US" sz="2000" spc="-1" strike="noStrike">
                <a:solidFill>
                  <a:srgbClr val="921c00"/>
                </a:solidFill>
                <a:latin typeface="Tahoma"/>
              </a:rPr>
              <a:t>XVIII </a:t>
            </a:r>
            <a:r>
              <a:rPr b="1" lang="ru-RU" sz="2000" spc="-1" strike="noStrike">
                <a:solidFill>
                  <a:srgbClr val="921c00"/>
                </a:solidFill>
                <a:latin typeface="Tahoma"/>
              </a:rPr>
              <a:t>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6"/>
          <p:cNvSpPr/>
          <p:nvPr/>
        </p:nvSpPr>
        <p:spPr>
          <a:xfrm>
            <a:off x="4327560" y="2251080"/>
            <a:ext cx="3128760" cy="3111480"/>
          </a:xfrm>
          <a:prstGeom prst="pie">
            <a:avLst/>
          </a:prstGeom>
          <a:solidFill>
            <a:srgbClr val="c82600">
              <a:alpha val="41000"/>
            </a:srgbClr>
          </a:solidFill>
          <a:ln w="19080">
            <a:solidFill>
              <a:srgbClr val="cbcbcb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Изменение размера 1 бой войны за независимость Макс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Бостонское чаепитие Макс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2592360" cy="8240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Garamond"/>
              </a:rPr>
              <a:t>1773 г. 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995640" y="549360"/>
            <a:ext cx="4105440" cy="4597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21900"/>
                </a:solidFill>
                <a:latin typeface="Tahoma"/>
              </a:rPr>
              <a:t>«Бостонское чаепит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Запишите дату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774 год – в Филадельфии собрался первый Континентальный конгресс, который осудил политику Англ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ag00029_"/>
          <p:cNvPicPr/>
          <p:nvPr/>
        </p:nvPicPr>
        <p:blipFill>
          <a:blip r:embed="rId1"/>
          <a:stretch/>
        </p:blipFill>
        <p:spPr>
          <a:xfrm>
            <a:off x="0" y="0"/>
            <a:ext cx="1873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Объясните слова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«Я не виргинец, а американец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атрик Генр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ag00317_"/>
          <p:cNvPicPr/>
          <p:nvPr/>
        </p:nvPicPr>
        <p:blipFill>
          <a:blip r:embed="rId1"/>
          <a:stretch/>
        </p:blipFill>
        <p:spPr>
          <a:xfrm>
            <a:off x="179280" y="189000"/>
            <a:ext cx="11210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Запишите дату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775 – 1783 годы -  война колоний с Англи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ag00029_"/>
          <p:cNvPicPr/>
          <p:nvPr/>
        </p:nvPicPr>
        <p:blipFill>
          <a:blip r:embed="rId1"/>
          <a:stretch/>
        </p:blipFill>
        <p:spPr>
          <a:xfrm>
            <a:off x="179280" y="189000"/>
            <a:ext cx="18734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Вопросы к фильму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11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м известен этот человек в истор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Вашингтон стал командующим арм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1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ой вклад он внес в историю СШ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ag00317_"/>
          <p:cNvPicPr/>
          <p:nvPr/>
        </p:nvPicPr>
        <p:blipFill>
          <a:blip r:embed="rId1"/>
          <a:stretch/>
        </p:blipFill>
        <p:spPr>
          <a:xfrm>
            <a:off x="179280" y="189000"/>
            <a:ext cx="11210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179280" y="3213000"/>
            <a:ext cx="3745080" cy="1557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андующий армии колонистов в войне за независимость США и её первый презид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Вашингтон дл"/>
          <p:cNvPicPr/>
          <p:nvPr/>
        </p:nvPicPr>
        <p:blipFill>
          <a:blip r:embed="rId1"/>
          <a:stretch/>
        </p:blipFill>
        <p:spPr>
          <a:xfrm>
            <a:off x="4844880" y="0"/>
            <a:ext cx="429912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WordArt 6"/>
          <p:cNvSpPr txBox="1"/>
          <p:nvPr/>
        </p:nvSpPr>
        <p:spPr>
          <a:xfrm>
            <a:off x="539640" y="549360"/>
            <a:ext cx="2737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8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48e60"/>
                </a:solidFill>
                <a:latin typeface="Arial"/>
              </a:rPr>
              <a:t>ВАШИНГТ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48e60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Отношение населения к войне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63" name="Organization Chart 3"/>
          <p:cNvGrpSpPr/>
          <p:nvPr/>
        </p:nvGrpSpPr>
        <p:grpSpPr>
          <a:xfrm>
            <a:off x="1143000" y="1790640"/>
            <a:ext cx="7771320" cy="4380120"/>
            <a:chOff x="1143000" y="1790640"/>
            <a:chExt cx="7771320" cy="4380120"/>
          </a:xfrm>
        </p:grpSpPr>
        <p:cxnSp>
          <p:nvCxnSpPr>
            <p:cNvPr id="164" name="_s1028"/>
            <p:cNvCxnSpPr>
              <a:stCxn id="165" idx="0"/>
              <a:endCxn id="166" idx="1"/>
            </p:cNvCxnSpPr>
            <p:nvPr/>
          </p:nvCxnSpPr>
          <p:spPr>
            <a:xfrm flipV="1" rot="16200000">
              <a:off x="5635800" y="2933640"/>
              <a:ext cx="876600" cy="2093400"/>
            </a:xfrm>
            <a:prstGeom prst="bentConnector3">
              <a:avLst>
                <a:gd name="adj1" fmla="val 1257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" name="_s1029"/>
            <p:cNvCxnSpPr>
              <a:stCxn id="168" idx="0"/>
              <a:endCxn id="166" idx="0"/>
            </p:cNvCxnSpPr>
            <p:nvPr/>
          </p:nvCxnSpPr>
          <p:spPr>
            <a:xfrm flipH="1" flipV="1" rot="5400000">
              <a:off x="3543840" y="2934360"/>
              <a:ext cx="876600" cy="2091960"/>
            </a:xfrm>
            <a:prstGeom prst="bentConnector3">
              <a:avLst>
                <a:gd name="adj1" fmla="val 1257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6" name="_s1030"/>
            <p:cNvSpPr/>
            <p:nvPr/>
          </p:nvSpPr>
          <p:spPr>
            <a:xfrm>
              <a:off x="3234600" y="1790640"/>
              <a:ext cx="3586680" cy="1752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8100000"/>
            </a:gra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000000"/>
                  </a:solidFill>
                  <a:latin typeface="Arial"/>
                </a:rPr>
                <a:t>Населен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000000"/>
                  </a:solidFill>
                  <a:latin typeface="Arial"/>
                </a:rPr>
                <a:t>колоний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031"/>
            <p:cNvSpPr/>
            <p:nvPr/>
          </p:nvSpPr>
          <p:spPr>
            <a:xfrm>
              <a:off x="1143000" y="4418640"/>
              <a:ext cx="3586680" cy="1752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eaeaea"/>
                </a:gs>
                <a:gs pos="50000">
                  <a:srgbClr val="ffffff"/>
                </a:gs>
                <a:gs pos="100000">
                  <a:srgbClr val="eaeaea"/>
                </a:gs>
              </a:gsLst>
              <a:lin ang="8100000"/>
            </a:gradFill>
            <a:ln w="3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Патриоты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32"/>
            <p:cNvSpPr/>
            <p:nvPr/>
          </p:nvSpPr>
          <p:spPr>
            <a:xfrm>
              <a:off x="5327640" y="4418640"/>
              <a:ext cx="3586680" cy="1752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eaeaea"/>
                </a:gs>
                <a:gs pos="50000">
                  <a:srgbClr val="ffffff"/>
                </a:gs>
                <a:gs pos="100000">
                  <a:srgbClr val="eaeaea"/>
                </a:gs>
              </a:gsLst>
              <a:lin ang="8100000"/>
            </a:gradFill>
            <a:ln w="3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800" spc="-1" strike="noStrike">
                  <a:solidFill>
                    <a:srgbClr val="000000"/>
                  </a:solidFill>
                  <a:latin typeface="Arial"/>
                </a:rPr>
                <a:t>Лоялисты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Picture 10" descr="ag00029_"/>
          <p:cNvPicPr/>
          <p:nvPr/>
        </p:nvPicPr>
        <p:blipFill>
          <a:blip r:embed="rId1"/>
          <a:stretch/>
        </p:blipFill>
        <p:spPr>
          <a:xfrm>
            <a:off x="0" y="115920"/>
            <a:ext cx="1873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2:08:10Z</dcterms:created>
  <dc:creator>Гульнара</dc:creator>
  <dc:description/>
  <cp:keywords/>
  <dc:language>en-US</dc:language>
  <cp:lastModifiedBy>Алик</cp:lastModifiedBy>
  <dcterms:modified xsi:type="dcterms:W3CDTF">2012-06-06T13:40:36Z</dcterms:modified>
  <cp:revision>26</cp:revision>
  <dc:subject/>
  <dc:title>Понятие «Новой истори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81049</vt:lpwstr>
  </property>
</Properties>
</file>