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C13-030C-46F7-A506-442EBF04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FA9-78C2-43BE-B0A2-62E5C769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444-F9B8-46BF-B7B0-D5B8C84C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06D-C8D5-4908-9C24-F33EC03E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143-239D-4924-BE6F-4ADFAE1E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CFD-F636-496D-9D11-1B777B7D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3B6-12B0-4105-9EF0-9202EE45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D55-8AF1-49CF-B612-4A4959D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053-FABD-4179-98EE-F997713B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3FC-B936-44EB-AEB8-3DA90892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09D-67FC-40AB-87CC-5342D3C8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8A8-A038-4F49-BE22-2B484BD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0F611-A191-4404-A014-9AC254F754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880" y="-5256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Arial"/>
              </a:rPr>
              <a:t>НАШИ БЕЙДЖИКИ (1 в класс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6080" y="1076400"/>
            <a:ext cx="9447120" cy="54086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987480"/>
            <a:ext cx="8623080" cy="49370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9:25:04Z</dcterms:created>
  <dc:creator/>
  <dc:description/>
  <dc:language>en-US</dc:language>
  <cp:lastModifiedBy/>
  <dcterms:modified xsi:type="dcterms:W3CDTF">2012-03-12T19:33:53Z</dcterms:modified>
  <cp:revision>2</cp:revision>
  <dc:subject/>
  <dc:title/>
</cp:coreProperties>
</file>