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185-004A-4B24-86A4-37C04E50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C38-0FB0-449B-B41D-B67AF8C1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19B-933F-454A-B577-4926BFFF6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981-9EA9-44DF-923C-BD72CA8E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4BB-2355-4580-81AA-7673A072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546-063C-4AE7-98F1-AA966BE4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0FA-8949-4FFC-B762-5787D453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93D-C6C4-4E82-BF8B-40FBB103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473-4347-4F97-B0B3-00CFE6D3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9AE-4747-458C-96FA-1AD0EA0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25B-21A7-4F47-B64F-E4DACCC7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5B0-A97B-488E-A235-9AD27163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4ED73-0D20-47CC-ABDF-D6B7CF6F08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880" y="-5256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ff9966"/>
                </a:solidFill>
                <a:latin typeface="Arial"/>
              </a:rPr>
              <a:t>НАШИ БЕЙДЖИКИ (1 в класс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ccc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6080" y="1076400"/>
            <a:ext cx="9447120" cy="540864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16120" y="1311120"/>
            <a:ext cx="8623080" cy="493740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6120" y="987480"/>
            <a:ext cx="8623080" cy="493704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9:25:04Z</dcterms:created>
  <dc:creator/>
  <dc:description/>
  <dc:language>en-US</dc:language>
  <cp:lastModifiedBy/>
  <dcterms:modified xsi:type="dcterms:W3CDTF">2012-03-12T19:33:53Z</dcterms:modified>
  <cp:revision>2</cp:revision>
  <dc:subject/>
  <dc:title/>
</cp:coreProperties>
</file>