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5.jpeg" ContentType="image/jpeg"/>
  <Override PartName="/ppt/media/image10.jpeg" ContentType="image/jpeg"/>
  <Override PartName="/ppt/media/image29.jpeg" ContentType="image/jpeg"/>
  <Override PartName="/ppt/media/image14.jpeg" ContentType="image/jpeg"/>
  <Override PartName="/ppt/media/image8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22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F6EF-1542-4E4F-B71A-6A401262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5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2240" y="4624200"/>
            <a:ext cx="8415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5775-B2CF-4850-9C2F-8F9233B7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224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432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7155-1A33-49B4-A5EE-6B9DC7A0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320" y="21384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2760" y="21384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2240" y="46242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320" y="46242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2760" y="46242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CB61-BF65-497B-A113-AE2D18E0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153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53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224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153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3700-47A8-4898-B005-C01F9B1E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432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240" y="4624200"/>
            <a:ext cx="8415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5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2240" y="4624200"/>
            <a:ext cx="8415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432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320" y="21384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2760" y="21384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2240" y="46242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320" y="46242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2760" y="4624200"/>
            <a:ext cx="2709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53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E66C-CB67-40A2-B3B8-BC1709CD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56EB-6D47-419E-A646-F18F6F87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D57-5765-4D2E-9441-C6FF087E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43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F266-820D-41AA-9AAE-5EB90EC3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224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EF0-EC79-4413-95B8-D4C254A2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4320" y="46242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81C7-E82F-4429-B37B-FE8C4EF6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4320" y="2138400"/>
            <a:ext cx="410652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2240" y="4624200"/>
            <a:ext cx="8415360" cy="2269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348-207D-4A31-B7E0-90707DA0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0A8C7-0EA1-4EA2-BED9-0D26917460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436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2240" y="2138400"/>
            <a:ext cx="84153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9640" y="932040"/>
            <a:ext cx="8820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Georgia"/>
                <a:ea typeface="Lucida Sans Unicode"/>
              </a:rPr>
              <a:t>Классный час  </a:t>
            </a:r>
            <a:br>
              <a:rPr sz="4000"/>
            </a:br>
            <a:r>
              <a:rPr b="1" i="1" lang="ru-RU" sz="4000" spc="-1" strike="noStrike">
                <a:solidFill>
                  <a:srgbClr val="000099"/>
                </a:solidFill>
                <a:latin typeface="Georgia"/>
                <a:ea typeface="Lucida Sans Unicode"/>
              </a:rPr>
              <a:t>«Воинская слава России», </a:t>
            </a:r>
            <a:br>
              <a:rPr sz="4000"/>
            </a:br>
            <a:r>
              <a:rPr b="1" i="1" lang="ru-RU" sz="4000" spc="-1" strike="noStrike">
                <a:solidFill>
                  <a:srgbClr val="000099"/>
                </a:solidFill>
                <a:latin typeface="Georgia"/>
                <a:ea typeface="Lucida Sans Unicode"/>
              </a:rPr>
              <a:t>посвященный</a:t>
            </a:r>
            <a:br>
              <a:rPr sz="4000"/>
            </a:br>
            <a:r>
              <a:rPr b="1" i="1" lang="ru-RU" sz="4000" spc="-1" strike="noStrike">
                <a:solidFill>
                  <a:srgbClr val="000099"/>
                </a:solidFill>
                <a:latin typeface="Georgia"/>
                <a:ea typeface="Lucida Sans Unicode"/>
              </a:rPr>
              <a:t>200-летию </a:t>
            </a:r>
            <a:br>
              <a:rPr sz="4000"/>
            </a:br>
            <a:r>
              <a:rPr b="1" i="1" lang="ru-RU" sz="4000" spc="-1" strike="noStrike">
                <a:solidFill>
                  <a:srgbClr val="000099"/>
                </a:solidFill>
                <a:latin typeface="Georgia"/>
                <a:ea typeface="Lucida Sans Unicode"/>
              </a:rPr>
              <a:t>Бородинского сражения</a:t>
            </a:r>
            <a:br>
              <a:rPr sz="4000"/>
            </a:br>
            <a:r>
              <a:rPr b="1" i="1" lang="ru-RU" sz="4000" spc="-1" strike="noStrike">
                <a:solidFill>
                  <a:srgbClr val="000099"/>
                </a:solidFill>
                <a:latin typeface="Georgia"/>
                <a:ea typeface="Lucida Sans Unicode"/>
              </a:rPr>
              <a:t> в Отечественной войне</a:t>
            </a:r>
            <a:br>
              <a:rPr sz="4000"/>
            </a:br>
            <a:r>
              <a:rPr b="1" i="1" lang="ru-RU" sz="4000" spc="-1" strike="noStrike">
                <a:solidFill>
                  <a:srgbClr val="000099"/>
                </a:solidFill>
                <a:latin typeface="Georgia"/>
                <a:ea typeface="Lucida Sans Unicode"/>
              </a:rPr>
              <a:t> 1812 год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595440" y="2192400"/>
            <a:ext cx="3330360" cy="4522680"/>
            <a:chOff x="595440" y="2192400"/>
            <a:chExt cx="3330360" cy="452268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595440" y="2192400"/>
              <a:ext cx="3330360" cy="4522680"/>
            </a:xfrm>
            <a:prstGeom prst="rect">
              <a:avLst/>
            </a:prstGeom>
            <a:ln w="76320">
              <a:solidFill>
                <a:srgbClr val="000099"/>
              </a:solidFill>
              <a:miter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05" name=""/>
            <p:cNvSpPr/>
            <p:nvPr/>
          </p:nvSpPr>
          <p:spPr>
            <a:xfrm>
              <a:off x="595440" y="2192400"/>
              <a:ext cx="3330360" cy="45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 txBox="1"/>
          <p:nvPr/>
        </p:nvSpPr>
        <p:spPr>
          <a:xfrm>
            <a:off x="5356080" y="2192400"/>
            <a:ext cx="3335400" cy="1030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КУТУЗОВ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Михаил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Илларионович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75400" y="3303720"/>
            <a:ext cx="2460600" cy="23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8375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1745 - 18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71720" y="52560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67360" y="3859200"/>
            <a:ext cx="5397480" cy="20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й Совет рекомендовал на пост главнокомандующего 67-летнего генерала от инфантерии М.И. Кутуз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 августа 1812 года Александр первый подписал указ о назначении. Это сообщение с воодушевлением приняли солд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2398" r="2275" b="3278"/>
          <a:stretch/>
        </p:blipFill>
        <p:spPr>
          <a:xfrm>
            <a:off x="0" y="1368360"/>
            <a:ext cx="4960800" cy="6191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78320" y="1319040"/>
            <a:ext cx="4802400" cy="6240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0" y="287280"/>
            <a:ext cx="4881600" cy="839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русские солда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56080" y="208080"/>
            <a:ext cx="4722840" cy="1030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французские солда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20400"/>
            <a:ext cx="90723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2342" t="0" r="0" b="3796"/>
          <a:stretch/>
        </p:blipFill>
        <p:spPr>
          <a:xfrm>
            <a:off x="0" y="0"/>
            <a:ext cx="4923000" cy="7559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040360" y="0"/>
            <a:ext cx="5040360" cy="7559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0" y="5764320"/>
            <a:ext cx="4883040" cy="1679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русские кавалерис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879800" y="0"/>
            <a:ext cx="5199120" cy="1477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французские кавалерис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320400"/>
            <a:ext cx="90723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1928" t="1688" r="0" b="0"/>
          <a:stretch/>
        </p:blipFill>
        <p:spPr>
          <a:xfrm>
            <a:off x="0" y="127080"/>
            <a:ext cx="10055160" cy="7432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911160" y="6240600"/>
            <a:ext cx="8413920" cy="952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Top">
              <a:avLst>
                <a:gd name="adj" fmla="val 27755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6600ff"/>
                  </a:solidFill>
                  <a:miter/>
                </a:ln>
                <a:solidFill>
                  <a:srgbClr val="e7f80c"/>
                </a:solidFill>
                <a:latin typeface="Arial"/>
              </a:rPr>
              <a:t>В дыму огонь блестел...</a:t>
            </a:r>
            <a:endParaRPr b="0" lang="en-US" sz="1800" spc="1" strike="noStrike">
              <a:ln w="9360">
                <a:solidFill>
                  <a:srgbClr val="6600ff"/>
                </a:solidFill>
                <a:miter/>
              </a:ln>
              <a:solidFill>
                <a:srgbClr val="e7f80c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71720" y="60480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6600ff"/>
                  </a:solidFill>
                  <a:miter/>
                </a:ln>
                <a:solidFill>
                  <a:srgbClr val="e7f80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6600ff"/>
                </a:solidFill>
                <a:miter/>
              </a:ln>
              <a:solidFill>
                <a:srgbClr val="e7f80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6600ff"/>
                  </a:solidFill>
                  <a:miter/>
                </a:ln>
                <a:solidFill>
                  <a:srgbClr val="e7f80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6600ff"/>
                </a:solidFill>
                <a:miter/>
              </a:ln>
              <a:solidFill>
                <a:srgbClr val="e7f80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5437080" y="2271600"/>
            <a:ext cx="3965760" cy="2641680"/>
            <a:chOff x="5437080" y="2271600"/>
            <a:chExt cx="3965760" cy="264168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5437080" y="2271600"/>
              <a:ext cx="3965760" cy="2641680"/>
            </a:xfrm>
            <a:prstGeom prst="rect">
              <a:avLst/>
            </a:prstGeom>
            <a:ln w="76320">
              <a:solidFill>
                <a:srgbClr val="993300"/>
              </a:solidFill>
              <a:miter/>
            </a:ln>
          </p:spPr>
        </p:pic>
        <p:sp>
          <p:nvSpPr>
            <p:cNvPr id="125" name=""/>
            <p:cNvSpPr/>
            <p:nvPr/>
          </p:nvSpPr>
          <p:spPr>
            <a:xfrm>
              <a:off x="5437080" y="2271600"/>
              <a:ext cx="3965760" cy="26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 txBox="1"/>
          <p:nvPr/>
        </p:nvSpPr>
        <p:spPr>
          <a:xfrm>
            <a:off x="1149480" y="2033640"/>
            <a:ext cx="3728880" cy="1508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Вам не видать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таких сражений!.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834160" y="5288040"/>
            <a:ext cx="3728880" cy="1428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Звучал булат,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картечь визжала..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49480" y="52560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468440" y="3701880"/>
            <a:ext cx="2836800" cy="325440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03280" y="306360"/>
            <a:ext cx="907236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16981" r="0" b="6690"/>
          <a:stretch/>
        </p:blipFill>
        <p:spPr>
          <a:xfrm>
            <a:off x="6627960" y="2746440"/>
            <a:ext cx="2809800" cy="317484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132" name=""/>
          <p:cNvSpPr txBox="1"/>
          <p:nvPr/>
        </p:nvSpPr>
        <p:spPr>
          <a:xfrm>
            <a:off x="1627200" y="3382920"/>
            <a:ext cx="4048200" cy="1827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602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200496"/>
                  </a:solidFill>
                  <a:miter/>
                </a:ln>
                <a:solidFill>
                  <a:srgbClr val="e7f80c"/>
                </a:solidFill>
                <a:latin typeface="Arial"/>
              </a:rPr>
              <a:t>Что значит</a:t>
            </a:r>
            <a:endParaRPr b="0" lang="en-US" sz="1800" spc="1" strike="noStrike">
              <a:ln w="9360">
                <a:solidFill>
                  <a:srgbClr val="200496"/>
                </a:solidFill>
                <a:miter/>
              </a:ln>
              <a:solidFill>
                <a:srgbClr val="e7f80c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200496"/>
                  </a:solidFill>
                  <a:miter/>
                </a:ln>
                <a:solidFill>
                  <a:srgbClr val="e7f80c"/>
                </a:solidFill>
                <a:latin typeface="Arial"/>
              </a:rPr>
              <a:t>русский</a:t>
            </a:r>
            <a:endParaRPr b="0" lang="en-US" sz="1800" spc="1" strike="noStrike">
              <a:ln w="9360">
                <a:solidFill>
                  <a:srgbClr val="200496"/>
                </a:solidFill>
                <a:miter/>
              </a:ln>
              <a:solidFill>
                <a:srgbClr val="e7f80c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200496"/>
                  </a:solidFill>
                  <a:miter/>
                </a:ln>
                <a:solidFill>
                  <a:srgbClr val="e7f80c"/>
                </a:solidFill>
                <a:latin typeface="Arial"/>
              </a:rPr>
              <a:t>бой удалый,</a:t>
            </a:r>
            <a:endParaRPr b="0" lang="en-US" sz="1800" spc="1" strike="noStrike">
              <a:ln w="9360">
                <a:solidFill>
                  <a:srgbClr val="200496"/>
                </a:solidFill>
                <a:miter/>
              </a:ln>
              <a:solidFill>
                <a:srgbClr val="e7f80c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49480" y="1874880"/>
            <a:ext cx="8097840" cy="79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0801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200496"/>
                  </a:solidFill>
                  <a:miter/>
                </a:ln>
                <a:solidFill>
                  <a:srgbClr val="e7f80c"/>
                </a:solidFill>
                <a:latin typeface="Arial"/>
              </a:rPr>
              <a:t>Изведал враг в тот день немало,</a:t>
            </a:r>
            <a:endParaRPr b="0" lang="en-US" sz="1800" spc="1" strike="noStrike">
              <a:ln w="9360">
                <a:solidFill>
                  <a:srgbClr val="200496"/>
                </a:solidFill>
                <a:miter/>
              </a:ln>
              <a:solidFill>
                <a:srgbClr val="e7f80c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30480" y="5843520"/>
            <a:ext cx="7143480" cy="873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Down">
              <a:avLst>
                <a:gd name="adj" fmla="val 45713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200496"/>
                  </a:solidFill>
                  <a:miter/>
                </a:ln>
                <a:solidFill>
                  <a:srgbClr val="e7f80c"/>
                </a:solidFill>
                <a:latin typeface="Arial"/>
              </a:rPr>
              <a:t>Наш рукопашный бой!..</a:t>
            </a:r>
            <a:endParaRPr b="0" lang="en-US" sz="1800" spc="1" strike="noStrike">
              <a:ln w="9360">
                <a:solidFill>
                  <a:srgbClr val="200496"/>
                </a:solidFill>
                <a:miter/>
              </a:ln>
              <a:solidFill>
                <a:srgbClr val="e7f80c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71720" y="28728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2103480" y="2112840"/>
            <a:ext cx="5950080" cy="3967200"/>
            <a:chOff x="2103480" y="2112840"/>
            <a:chExt cx="5950080" cy="396720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rcRect l="4348" t="8261" r="4348" b="4746"/>
            <a:stretch/>
          </p:blipFill>
          <p:spPr>
            <a:xfrm>
              <a:off x="2103480" y="2112840"/>
              <a:ext cx="5950080" cy="3967200"/>
            </a:xfrm>
            <a:prstGeom prst="rect">
              <a:avLst/>
            </a:prstGeom>
            <a:ln w="76320">
              <a:solidFill>
                <a:srgbClr val="008000"/>
              </a:solidFill>
              <a:miter/>
            </a:ln>
          </p:spPr>
        </p:pic>
        <p:sp>
          <p:nvSpPr>
            <p:cNvPr id="138" name=""/>
            <p:cNvSpPr/>
            <p:nvPr/>
          </p:nvSpPr>
          <p:spPr>
            <a:xfrm>
              <a:off x="2103480" y="2112840"/>
              <a:ext cx="5950080" cy="39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1149480" y="6240600"/>
            <a:ext cx="8493120" cy="793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Смешались в кучу кони, люди...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71720" y="44604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95440" y="6019920"/>
            <a:ext cx="9072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800" spc="-1" strike="noStrike">
                <a:solidFill>
                  <a:srgbClr val="f01c49"/>
                </a:solidFill>
                <a:latin typeface="Georgia"/>
              </a:rPr>
              <a:t>Когда б на то не божья воля,</a:t>
            </a:r>
            <a:br>
              <a:rPr sz="3800"/>
            </a:br>
            <a:r>
              <a:rPr b="0" i="1" lang="ru-RU" sz="3800" spc="-1" strike="noStrike">
                <a:solidFill>
                  <a:srgbClr val="f01c49"/>
                </a:solidFill>
                <a:latin typeface="Georgia"/>
              </a:rPr>
              <a:t>Не отдали б Москвы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387440" y="1557360"/>
            <a:ext cx="7142040" cy="4519440"/>
            <a:chOff x="1387440" y="1557360"/>
            <a:chExt cx="7142040" cy="451944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1387440" y="1557360"/>
              <a:ext cx="7142040" cy="4519440"/>
            </a:xfrm>
            <a:prstGeom prst="rect">
              <a:avLst/>
            </a:prstGeom>
            <a:ln w="76320">
              <a:solidFill>
                <a:srgbClr val="f01c49"/>
              </a:solidFill>
              <a:miter/>
            </a:ln>
          </p:spPr>
        </p:pic>
        <p:sp>
          <p:nvSpPr>
            <p:cNvPr id="144" name=""/>
            <p:cNvSpPr/>
            <p:nvPr/>
          </p:nvSpPr>
          <p:spPr>
            <a:xfrm>
              <a:off x="1387440" y="1557360"/>
              <a:ext cx="7142040" cy="45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 txBox="1"/>
          <p:nvPr/>
        </p:nvSpPr>
        <p:spPr>
          <a:xfrm>
            <a:off x="900000" y="63036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071720" y="60480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071720" y="2271600"/>
            <a:ext cx="3112920" cy="3330720"/>
            <a:chOff x="1071720" y="2271600"/>
            <a:chExt cx="3112920" cy="333072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rcRect l="7429" t="4061" r="0" b="10725"/>
            <a:stretch/>
          </p:blipFill>
          <p:spPr>
            <a:xfrm>
              <a:off x="1071720" y="2271600"/>
              <a:ext cx="3112920" cy="3330720"/>
            </a:xfrm>
            <a:prstGeom prst="rect">
              <a:avLst/>
            </a:prstGeom>
            <a:ln w="76320">
              <a:solidFill>
                <a:srgbClr val="993300"/>
              </a:solidFill>
              <a:miter/>
            </a:ln>
          </p:spPr>
        </p:pic>
        <p:sp>
          <p:nvSpPr>
            <p:cNvPr id="149" name=""/>
            <p:cNvSpPr/>
            <p:nvPr/>
          </p:nvSpPr>
          <p:spPr>
            <a:xfrm>
              <a:off x="1071720" y="2271600"/>
              <a:ext cx="3112920" cy="33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881600" y="2271600"/>
            <a:ext cx="4641840" cy="294480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911160" y="5769000"/>
            <a:ext cx="365292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«Какое страшное зрелище! Это они сами поджигают... Какая решимость! Какие люди!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78320" y="5697720"/>
            <a:ext cx="412776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«Мы шли по огненной земле под огненным небом, между стен из огн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992160" y="2352600"/>
            <a:ext cx="2992320" cy="4122720"/>
            <a:chOff x="992160" y="2352600"/>
            <a:chExt cx="2992320" cy="412272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992160" y="2352600"/>
              <a:ext cx="2992320" cy="4122720"/>
            </a:xfrm>
            <a:prstGeom prst="rect">
              <a:avLst/>
            </a:prstGeom>
            <a:ln w="76320">
              <a:solidFill>
                <a:srgbClr val="f01c49"/>
              </a:solidFill>
              <a:miter/>
            </a:ln>
          </p:spPr>
        </p:pic>
        <p:sp>
          <p:nvSpPr>
            <p:cNvPr id="155" name=""/>
            <p:cNvSpPr/>
            <p:nvPr/>
          </p:nvSpPr>
          <p:spPr>
            <a:xfrm>
              <a:off x="992160" y="2352600"/>
              <a:ext cx="2992320" cy="41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 txBox="1"/>
          <p:nvPr/>
        </p:nvSpPr>
        <p:spPr>
          <a:xfrm>
            <a:off x="3959280" y="1996920"/>
            <a:ext cx="5449680" cy="484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1c49"/>
                </a:solidFill>
                <a:latin typeface="Arial"/>
              </a:rPr>
              <a:t>Москва несчастная пылае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01c49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1c49"/>
                </a:solid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1c49"/>
                </a:solidFill>
                <a:latin typeface="Arial"/>
              </a:rPr>
              <a:t>Москва гор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01c49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1c49"/>
                </a:solidFill>
                <a:latin typeface="Arial"/>
              </a:rPr>
              <a:t>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1c49"/>
                </a:solidFill>
                <a:latin typeface="Arial"/>
              </a:rPr>
              <a:t>двенадцать дней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01c49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1c49"/>
                </a:solidFill>
                <a:latin typeface="Arial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1c49"/>
                </a:solidFill>
                <a:latin typeface="Arial"/>
              </a:rPr>
              <a:t>В огне нещадн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01c49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1c49"/>
                </a:solidFill>
                <a:latin typeface="Arial"/>
              </a:rPr>
              <a:t>истлева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01c49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01c49"/>
                </a:solidFill>
                <a:latin typeface="Arial"/>
              </a:rPr>
              <a:t>Несметное богатство в ней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01c49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71720" y="44604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720360"/>
            <a:ext cx="8607600" cy="2119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Куликово поле: битва 1380 г. - важнейшее событие в истории средневековой Руси, во многом определившее дальнейшую судьбу Российского государства. Битва на Куликовом поле послужила началом освобождения Северо-Восточной Руси от ига Золотой Орды.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40000" y="3060720"/>
            <a:ext cx="7019640" cy="39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071720" y="60480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278320" y="2271600"/>
            <a:ext cx="4206960" cy="301644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33400" y="2271600"/>
            <a:ext cx="4206960" cy="301644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161" name=""/>
          <p:cNvSpPr txBox="1"/>
          <p:nvPr/>
        </p:nvSpPr>
        <p:spPr>
          <a:xfrm>
            <a:off x="1149480" y="6002280"/>
            <a:ext cx="7875360" cy="577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200496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ступление французской армии</a:t>
            </a:r>
            <a:endParaRPr b="0" lang="en-US" sz="1800" spc="1" strike="noStrike">
              <a:ln w="9360">
                <a:solidFill>
                  <a:srgbClr val="200496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071720" y="60480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992160" y="2430360"/>
            <a:ext cx="3754440" cy="2476440"/>
            <a:chOff x="992160" y="2430360"/>
            <a:chExt cx="3754440" cy="247644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992160" y="2430360"/>
              <a:ext cx="3754440" cy="2476440"/>
            </a:xfrm>
            <a:prstGeom prst="rect">
              <a:avLst/>
            </a:prstGeom>
            <a:ln w="76320">
              <a:solidFill>
                <a:srgbClr val="009900"/>
              </a:solidFill>
              <a:miter/>
            </a:ln>
          </p:spPr>
        </p:pic>
        <p:sp>
          <p:nvSpPr>
            <p:cNvPr id="165" name=""/>
            <p:cNvSpPr/>
            <p:nvPr/>
          </p:nvSpPr>
          <p:spPr>
            <a:xfrm>
              <a:off x="992160" y="2430360"/>
              <a:ext cx="3754440" cy="24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118120" y="2430360"/>
            <a:ext cx="3979800" cy="2497320"/>
            <a:chOff x="5118120" y="2430360"/>
            <a:chExt cx="3979800" cy="2497320"/>
          </a:xfrm>
        </p:grpSpPr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5118120" y="2430360"/>
              <a:ext cx="3979800" cy="2497320"/>
            </a:xfrm>
            <a:prstGeom prst="rect">
              <a:avLst/>
            </a:prstGeom>
            <a:ln w="76320">
              <a:solidFill>
                <a:srgbClr val="009900"/>
              </a:solidFill>
              <a:miter/>
            </a:ln>
          </p:spPr>
        </p:pic>
        <p:sp>
          <p:nvSpPr>
            <p:cNvPr id="168" name=""/>
            <p:cNvSpPr/>
            <p:nvPr/>
          </p:nvSpPr>
          <p:spPr>
            <a:xfrm>
              <a:off x="5118120" y="2430360"/>
              <a:ext cx="3979800" cy="24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 txBox="1"/>
          <p:nvPr/>
        </p:nvSpPr>
        <p:spPr>
          <a:xfrm>
            <a:off x="1627200" y="5207040"/>
            <a:ext cx="6678720" cy="173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Большой урон отступающ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французской арм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наносили партизан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2260440" y="2271600"/>
            <a:ext cx="5473800" cy="3903840"/>
            <a:chOff x="2260440" y="2271600"/>
            <a:chExt cx="5473800" cy="390384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2260440" y="2271600"/>
              <a:ext cx="5473800" cy="3903840"/>
            </a:xfrm>
            <a:prstGeom prst="rect">
              <a:avLst/>
            </a:prstGeom>
            <a:ln w="76320">
              <a:solidFill>
                <a:srgbClr val="009900"/>
              </a:solidFill>
              <a:miter/>
            </a:ln>
          </p:spPr>
        </p:pic>
        <p:sp>
          <p:nvSpPr>
            <p:cNvPr id="172" name=""/>
            <p:cNvSpPr/>
            <p:nvPr/>
          </p:nvSpPr>
          <p:spPr>
            <a:xfrm>
              <a:off x="2260440" y="2271600"/>
              <a:ext cx="5473800" cy="39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 txBox="1"/>
          <p:nvPr/>
        </p:nvSpPr>
        <p:spPr>
          <a:xfrm>
            <a:off x="1149480" y="6081840"/>
            <a:ext cx="7780320" cy="79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егство Наполеона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71720" y="52560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071720" y="60480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516640" y="2430360"/>
            <a:ext cx="3489120" cy="3094200"/>
            <a:chOff x="5516640" y="2430360"/>
            <a:chExt cx="3489120" cy="309420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516640" y="2430360"/>
              <a:ext cx="3489120" cy="3094200"/>
            </a:xfrm>
            <a:prstGeom prst="rect">
              <a:avLst/>
            </a:prstGeom>
            <a:ln w="76320">
              <a:solidFill>
                <a:srgbClr val="200496"/>
              </a:solidFill>
              <a:miter/>
            </a:ln>
          </p:spPr>
        </p:pic>
        <p:sp>
          <p:nvSpPr>
            <p:cNvPr id="178" name=""/>
            <p:cNvSpPr/>
            <p:nvPr/>
          </p:nvSpPr>
          <p:spPr>
            <a:xfrm>
              <a:off x="5516640" y="2430360"/>
              <a:ext cx="3489120" cy="30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149480" y="2430360"/>
            <a:ext cx="3646440" cy="3157560"/>
            <a:chOff x="1149480" y="2430360"/>
            <a:chExt cx="3646440" cy="3157560"/>
          </a:xfrm>
        </p:grpSpPr>
        <p:pic>
          <p:nvPicPr>
            <p:cNvPr id="180" name="" descr=""/>
            <p:cNvPicPr/>
            <p:nvPr/>
          </p:nvPicPr>
          <p:blipFill>
            <a:blip r:embed="rId2">
              <a:lum contrast="6000"/>
            </a:blip>
            <a:srcRect l="18635" t="2269" r="1837" b="10210"/>
            <a:stretch/>
          </p:blipFill>
          <p:spPr>
            <a:xfrm>
              <a:off x="1149480" y="2430360"/>
              <a:ext cx="3646440" cy="3157560"/>
            </a:xfrm>
            <a:prstGeom prst="rect">
              <a:avLst/>
            </a:prstGeom>
            <a:ln w="76320">
              <a:solidFill>
                <a:srgbClr val="200496"/>
              </a:solidFill>
              <a:miter/>
            </a:ln>
          </p:spPr>
        </p:pic>
        <p:sp>
          <p:nvSpPr>
            <p:cNvPr id="181" name=""/>
            <p:cNvSpPr/>
            <p:nvPr/>
          </p:nvSpPr>
          <p:spPr>
            <a:xfrm>
              <a:off x="1149480" y="2430360"/>
              <a:ext cx="364644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 txBox="1"/>
          <p:nvPr/>
        </p:nvSpPr>
        <p:spPr>
          <a:xfrm>
            <a:off x="1149480" y="5764320"/>
            <a:ext cx="3414600" cy="111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рам 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Христа Спасителя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199120" y="5686560"/>
            <a:ext cx="4286160" cy="1190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амятник героям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 Бородинском поле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52800" y="306360"/>
            <a:ext cx="65246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Arial"/>
              </a:rPr>
              <a:t>Вывод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65720" y="1744560"/>
            <a:ext cx="373392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беда русской армии в этой войне избавила страну от захватчиков и освободила страны Европы. Поход завершился триумфальным въездом русских войск в Париж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44640" y="1811160"/>
            <a:ext cx="4163760" cy="4683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 fill="hold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634680"/>
            <a:ext cx="86076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Бородинское поле: 7 сентября 1812 года положило начало изгнанию с земли русской французских захватчиков и вошедшее в историю великим подвигом и примером самопожертвования русских воинов.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13658" r="0" b="0"/>
          <a:stretch/>
        </p:blipFill>
        <p:spPr>
          <a:xfrm>
            <a:off x="1079640" y="2700360"/>
            <a:ext cx="7740360" cy="4140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0720" y="627120"/>
            <a:ext cx="8607600" cy="243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Прохоровское поле: контрудар в ходе Курской битвы 12 июля 1943 г. под Прохоровкой - самое большое встречное танковое сражение Второй мировой войны, которое было выиграно советскими войсками. 12 июля 1943 г. - переломный день в ожесточенных боях на южном фасе Курской дуги и в целом во всей Курской битве.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20720" y="3060720"/>
            <a:ext cx="809928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Благодарные потомки — великим полководцам: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79560" y="2273400"/>
            <a:ext cx="8200800" cy="42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ерои - полководцы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60360" y="1800360"/>
            <a:ext cx="774072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03280" y="2509920"/>
            <a:ext cx="9072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i="1" lang="ru-RU" sz="3600" spc="-1" strike="noStrike">
                <a:solidFill>
                  <a:srgbClr val="ef2111"/>
                </a:solidFill>
                <a:latin typeface="Georgia"/>
              </a:rPr>
              <a:t>Отечество – </a:t>
            </a:r>
            <a:r>
              <a:rPr b="0" i="1" lang="ru-RU" sz="3600" spc="-1" strike="noStrike">
                <a:solidFill>
                  <a:srgbClr val="200496"/>
                </a:solidFill>
                <a:latin typeface="Georgia"/>
              </a:rPr>
              <a:t>родная земля, отчизна, где кто родился, вырос, корень, земля народа, к коему кто по рождению, языку и вере принадлежит; родина в обширном смыс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f2111"/>
                </a:solidFill>
                <a:latin typeface="Georgia"/>
              </a:rPr>
              <a:t>                                         </a:t>
            </a:r>
            <a:r>
              <a:rPr b="0" lang="ru-RU" sz="2800" spc="-1" strike="noStrike">
                <a:solidFill>
                  <a:srgbClr val="200496"/>
                </a:solidFill>
                <a:latin typeface="Georgia"/>
              </a:rPr>
              <a:t>В. И. Д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71720" y="60480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226120" y="2160720"/>
            <a:ext cx="3414600" cy="1906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Наполеон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Бонапарт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00720" y="4319640"/>
            <a:ext cx="2550960" cy="419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1769 - 182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49480" y="525600"/>
            <a:ext cx="8016840" cy="134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ЕЧЕСТВЕННАЯ ВОЙН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12 года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92280" y="1979640"/>
            <a:ext cx="3806640" cy="3557520"/>
            <a:chOff x="692280" y="1979640"/>
            <a:chExt cx="3806640" cy="35575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rcRect l="0" t="4268" r="4006" b="0"/>
            <a:stretch/>
          </p:blipFill>
          <p:spPr>
            <a:xfrm>
              <a:off x="692280" y="1979640"/>
              <a:ext cx="3806640" cy="3557520"/>
            </a:xfrm>
            <a:prstGeom prst="rect">
              <a:avLst/>
            </a:prstGeom>
            <a:ln w="76320">
              <a:solidFill>
                <a:srgbClr val="000099"/>
              </a:solidFill>
              <a:miter/>
            </a:ln>
            <a:effectLst>
              <a:outerShdw dist="36147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98" name=""/>
            <p:cNvSpPr/>
            <p:nvPr/>
          </p:nvSpPr>
          <p:spPr>
            <a:xfrm>
              <a:off x="692280" y="1979640"/>
              <a:ext cx="3806640" cy="35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39640" y="5664240"/>
            <a:ext cx="8820360" cy="1176120"/>
          </a:xfrm>
          <a:prstGeom prst="rect">
            <a:avLst/>
          </a:prstGeom>
          <a:noFill/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«Я буду властелином мира, остаётся одна Россия, но я раздавлю её!»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510920" y="4425480"/>
            <a:ext cx="7056360" cy="19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104" t="10041" r="3385" b="6459"/>
          <a:stretch/>
        </p:blipFill>
        <p:spPr>
          <a:xfrm>
            <a:off x="196920" y="3193920"/>
            <a:ext cx="9685440" cy="4365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754200" y="922320"/>
            <a:ext cx="8570880" cy="2301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НАПАД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/>
  <dcterms:modified xsi:type="dcterms:W3CDTF">2009-04-16T07:32:35Z</dcterms:modified>
  <cp:revision>2</cp:revision>
  <dc:subject/>
  <dc:title/>
</cp:coreProperties>
</file>