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14.jpeg" ContentType="image/jpeg"/>
  <Override PartName="/ppt/media/image8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AED-2935-4509-8D3E-FA52AAC7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D04-870A-418D-B2EC-8183764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608-9A22-4E00-91F2-46738ADF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240-6FE1-4DEA-A491-84FE1AA0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9A8-1B0D-4664-BC90-D00DEE3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FDC-5108-4106-9B2A-5CB1A630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BD3-5CAC-4D88-85FF-F8657660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235-B24B-4089-B6EF-F221522F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0F9-4189-46BD-B447-6AA747F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870-27B1-4886-B6C1-EEE9E7A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51C-D192-4B0E-9587-B8B95B9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BF4-50F5-47D0-A2BD-7D13486F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F6E9-AFD4-41B7-92FD-9E79C1FB86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932040"/>
            <a:ext cx="8820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Классный час 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«Воинская слава России»,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посвященный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200-летию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Бородинского сражения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 в Отечественной войне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 1812 год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95440" y="2192400"/>
            <a:ext cx="3330360" cy="4522680"/>
            <a:chOff x="595440" y="2192400"/>
            <a:chExt cx="3330360" cy="45226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95440" y="2192400"/>
              <a:ext cx="3330360" cy="4522680"/>
            </a:xfrm>
            <a:prstGeom prst="rect">
              <a:avLst/>
            </a:prstGeom>
            <a:ln w="76320">
              <a:solidFill>
                <a:srgbClr val="000099"/>
              </a:solidFill>
              <a:miter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5" name=""/>
            <p:cNvSpPr/>
            <p:nvPr/>
          </p:nvSpPr>
          <p:spPr>
            <a:xfrm>
              <a:off x="595440" y="2192400"/>
              <a:ext cx="333036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5356080" y="2192400"/>
            <a:ext cx="3335400" cy="103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УТУЗОВ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ихаил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лларионович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75400" y="3303720"/>
            <a:ext cx="2460600" cy="23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37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1745 - 18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7172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7360" y="3859200"/>
            <a:ext cx="53974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Совет рекомендовал на пост главнокомандующего 67-летнего генерала от инфантерии М.И. Кутуз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августа 1812 года Александр первый подписал указ о назначении. Это сообщение с воодушевлением приняли солд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2398" r="2275" b="3278"/>
          <a:stretch/>
        </p:blipFill>
        <p:spPr>
          <a:xfrm>
            <a:off x="0" y="1368360"/>
            <a:ext cx="4960800" cy="619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78320" y="1319040"/>
            <a:ext cx="4802400" cy="624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287280"/>
            <a:ext cx="4881600" cy="83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усские солд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56080" y="208080"/>
            <a:ext cx="4722840" cy="103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французские солд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20400"/>
            <a:ext cx="90723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342" t="0" r="0" b="3796"/>
          <a:stretch/>
        </p:blipFill>
        <p:spPr>
          <a:xfrm>
            <a:off x="0" y="0"/>
            <a:ext cx="4923000" cy="755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40360" y="0"/>
            <a:ext cx="504036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5764320"/>
            <a:ext cx="4883040" cy="1679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усские кавалерис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79800" y="0"/>
            <a:ext cx="5199120" cy="147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французские кавалерис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20400"/>
            <a:ext cx="90723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928" t="1688" r="0" b="0"/>
          <a:stretch/>
        </p:blipFill>
        <p:spPr>
          <a:xfrm>
            <a:off x="0" y="127080"/>
            <a:ext cx="10055160" cy="7432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1160" y="6240600"/>
            <a:ext cx="8413920" cy="952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2775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В дыму огонь блестел...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437080" y="2271600"/>
            <a:ext cx="3965760" cy="2641680"/>
            <a:chOff x="5437080" y="2271600"/>
            <a:chExt cx="3965760" cy="26416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437080" y="2271600"/>
              <a:ext cx="3965760" cy="2641680"/>
            </a:xfrm>
            <a:prstGeom prst="rect">
              <a:avLst/>
            </a:prstGeom>
            <a:ln w="76320">
              <a:solidFill>
                <a:srgbClr val="9933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5437080" y="2271600"/>
              <a:ext cx="3965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1149480" y="2033640"/>
            <a:ext cx="3728880" cy="1508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ам не видат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аких сражений!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834160" y="5288040"/>
            <a:ext cx="3728880" cy="142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вучал булат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артечь визжала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948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68440" y="3701880"/>
            <a:ext cx="2836800" cy="32544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3280" y="306360"/>
            <a:ext cx="90723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6981" r="0" b="6690"/>
          <a:stretch/>
        </p:blipFill>
        <p:spPr>
          <a:xfrm>
            <a:off x="6627960" y="2746440"/>
            <a:ext cx="2809800" cy="31748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32" name=""/>
          <p:cNvSpPr txBox="1"/>
          <p:nvPr/>
        </p:nvSpPr>
        <p:spPr>
          <a:xfrm>
            <a:off x="1627200" y="3382920"/>
            <a:ext cx="4048200" cy="182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02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Что значит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русский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бой удалый,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9480" y="1874880"/>
            <a:ext cx="8097840" cy="79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080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Изведал враг в тот день немало,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30480" y="5843520"/>
            <a:ext cx="7143480" cy="87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71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Наш рукопашный бой!..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71720" y="28728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103480" y="2112840"/>
            <a:ext cx="5950080" cy="3967200"/>
            <a:chOff x="2103480" y="2112840"/>
            <a:chExt cx="5950080" cy="39672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4348" t="8261" r="4348" b="4746"/>
            <a:stretch/>
          </p:blipFill>
          <p:spPr>
            <a:xfrm>
              <a:off x="2103480" y="2112840"/>
              <a:ext cx="5950080" cy="396720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2103480" y="2112840"/>
              <a:ext cx="5950080" cy="39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1149480" y="6240600"/>
            <a:ext cx="8493120" cy="79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мешались в кучу кони, люди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720" y="44604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440" y="6019920"/>
            <a:ext cx="9072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f01c49"/>
                </a:solidFill>
                <a:latin typeface="Georgia"/>
              </a:rPr>
              <a:t>Когда б на то не божья воля,</a:t>
            </a:r>
            <a:br>
              <a:rPr sz="3800"/>
            </a:br>
            <a:r>
              <a:rPr b="0" i="1" lang="ru-RU" sz="3800" spc="-1" strike="noStrike">
                <a:solidFill>
                  <a:srgbClr val="f01c49"/>
                </a:solidFill>
                <a:latin typeface="Georgia"/>
              </a:rPr>
              <a:t>Не отдали б Москвы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87440" y="1557360"/>
            <a:ext cx="7142040" cy="4519440"/>
            <a:chOff x="1387440" y="1557360"/>
            <a:chExt cx="7142040" cy="45194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387440" y="1557360"/>
              <a:ext cx="7142040" cy="4519440"/>
            </a:xfrm>
            <a:prstGeom prst="rect">
              <a:avLst/>
            </a:prstGeom>
            <a:ln w="76320">
              <a:solidFill>
                <a:srgbClr val="f01c49"/>
              </a:solidFill>
              <a:miter/>
            </a:ln>
          </p:spPr>
        </p:pic>
        <p:sp>
          <p:nvSpPr>
            <p:cNvPr id="144" name=""/>
            <p:cNvSpPr/>
            <p:nvPr/>
          </p:nvSpPr>
          <p:spPr>
            <a:xfrm>
              <a:off x="1387440" y="1557360"/>
              <a:ext cx="7142040" cy="45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900000" y="63036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71720" y="2271600"/>
            <a:ext cx="3112920" cy="3330720"/>
            <a:chOff x="1071720" y="2271600"/>
            <a:chExt cx="3112920" cy="33307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7429" t="4061" r="0" b="10725"/>
            <a:stretch/>
          </p:blipFill>
          <p:spPr>
            <a:xfrm>
              <a:off x="1071720" y="2271600"/>
              <a:ext cx="3112920" cy="3330720"/>
            </a:xfrm>
            <a:prstGeom prst="rect">
              <a:avLst/>
            </a:prstGeom>
            <a:ln w="76320">
              <a:solidFill>
                <a:srgbClr val="9933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1071720" y="2271600"/>
              <a:ext cx="3112920" cy="33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81600" y="2271600"/>
            <a:ext cx="4641840" cy="29448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911160" y="5769000"/>
            <a:ext cx="36529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Какое страшное зрелище! Это они сами поджигают... Какая решимость! Какие люди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78320" y="5697720"/>
            <a:ext cx="41277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Мы шли по огненной земле под огненным небом, между стен из огн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992160" y="2352600"/>
            <a:ext cx="2992320" cy="4122720"/>
            <a:chOff x="992160" y="2352600"/>
            <a:chExt cx="2992320" cy="41227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92160" y="2352600"/>
              <a:ext cx="2992320" cy="4122720"/>
            </a:xfrm>
            <a:prstGeom prst="rect">
              <a:avLst/>
            </a:prstGeom>
            <a:ln w="76320">
              <a:solidFill>
                <a:srgbClr val="f01c49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992160" y="2352600"/>
              <a:ext cx="2992320" cy="41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3959280" y="1996920"/>
            <a:ext cx="5449680" cy="484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Москва несчастная пылае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Москва гор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двенадцать дней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В огне нещадн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истлев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Несметное богатство в ней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1720" y="44604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20360"/>
            <a:ext cx="860760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Куликово поле: битва 1380 г. - важнейшее событие в истории средневековой Руси, во многом определившее дальнейшую судьбу Российского государства. Битва на Куликовом поле послужила началом освобождения Северо-Восточной Руси от ига Золотой Орды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0000" y="3060720"/>
            <a:ext cx="7019640" cy="39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78320" y="2271600"/>
            <a:ext cx="4206960" cy="30164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3400" y="2271600"/>
            <a:ext cx="4206960" cy="30164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61" name=""/>
          <p:cNvSpPr txBox="1"/>
          <p:nvPr/>
        </p:nvSpPr>
        <p:spPr>
          <a:xfrm>
            <a:off x="1149480" y="6002280"/>
            <a:ext cx="7875360" cy="57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упление французской армии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92160" y="2430360"/>
            <a:ext cx="3754440" cy="2476440"/>
            <a:chOff x="992160" y="2430360"/>
            <a:chExt cx="3754440" cy="2476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992160" y="2430360"/>
              <a:ext cx="3754440" cy="247644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>
              <a:off x="992160" y="2430360"/>
              <a:ext cx="375444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118120" y="2430360"/>
            <a:ext cx="3979800" cy="2497320"/>
            <a:chOff x="5118120" y="2430360"/>
            <a:chExt cx="3979800" cy="24973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5118120" y="2430360"/>
              <a:ext cx="3979800" cy="249732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68" name=""/>
            <p:cNvSpPr/>
            <p:nvPr/>
          </p:nvSpPr>
          <p:spPr>
            <a:xfrm>
              <a:off x="5118120" y="2430360"/>
              <a:ext cx="397980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 txBox="1"/>
          <p:nvPr/>
        </p:nvSpPr>
        <p:spPr>
          <a:xfrm>
            <a:off x="1627200" y="5207040"/>
            <a:ext cx="6678720" cy="17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Большой урон отступ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французской арм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носили партиз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260440" y="2271600"/>
            <a:ext cx="5473800" cy="3903840"/>
            <a:chOff x="2260440" y="2271600"/>
            <a:chExt cx="5473800" cy="39038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2260440" y="2271600"/>
              <a:ext cx="5473800" cy="390384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2260440" y="2271600"/>
              <a:ext cx="547380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1149480" y="6081840"/>
            <a:ext cx="77803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гство Наполеон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7172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516640" y="2430360"/>
            <a:ext cx="3489120" cy="3094200"/>
            <a:chOff x="5516640" y="2430360"/>
            <a:chExt cx="3489120" cy="30942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516640" y="2430360"/>
              <a:ext cx="3489120" cy="3094200"/>
            </a:xfrm>
            <a:prstGeom prst="rect">
              <a:avLst/>
            </a:prstGeom>
            <a:ln w="76320">
              <a:solidFill>
                <a:srgbClr val="200496"/>
              </a:solidFill>
              <a:miter/>
            </a:ln>
          </p:spPr>
        </p:pic>
        <p:sp>
          <p:nvSpPr>
            <p:cNvPr id="178" name=""/>
            <p:cNvSpPr/>
            <p:nvPr/>
          </p:nvSpPr>
          <p:spPr>
            <a:xfrm>
              <a:off x="5516640" y="2430360"/>
              <a:ext cx="3489120" cy="30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49480" y="2430360"/>
            <a:ext cx="3646440" cy="3157560"/>
            <a:chOff x="1149480" y="2430360"/>
            <a:chExt cx="3646440" cy="3157560"/>
          </a:xfrm>
        </p:grpSpPr>
        <p:pic>
          <p:nvPicPr>
            <p:cNvPr id="180" name="" descr=""/>
            <p:cNvPicPr/>
            <p:nvPr/>
          </p:nvPicPr>
          <p:blipFill>
            <a:blip r:embed="rId2">
              <a:lum contrast="6000"/>
            </a:blip>
            <a:srcRect l="18635" t="2269" r="1837" b="10210"/>
            <a:stretch/>
          </p:blipFill>
          <p:spPr>
            <a:xfrm>
              <a:off x="1149480" y="2430360"/>
              <a:ext cx="3646440" cy="3157560"/>
            </a:xfrm>
            <a:prstGeom prst="rect">
              <a:avLst/>
            </a:prstGeom>
            <a:ln w="76320">
              <a:solidFill>
                <a:srgbClr val="200496"/>
              </a:solidFill>
              <a:miter/>
            </a:ln>
          </p:spPr>
        </p:pic>
        <p:sp>
          <p:nvSpPr>
            <p:cNvPr id="181" name=""/>
            <p:cNvSpPr/>
            <p:nvPr/>
          </p:nvSpPr>
          <p:spPr>
            <a:xfrm>
              <a:off x="1149480" y="2430360"/>
              <a:ext cx="364644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1149480" y="5764320"/>
            <a:ext cx="3414600" cy="111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ам 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иста Спасителя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99120" y="5686560"/>
            <a:ext cx="4286160" cy="1190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амятник героям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Бородинском пол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2800" y="306360"/>
            <a:ext cx="6524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5720" y="1744560"/>
            <a:ext cx="37339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беда русской армии в этой войне избавила страну от захватчиков и освободила страны Европы. Поход завершился триумфальным въездом русских войск в Пари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4640" y="1811160"/>
            <a:ext cx="4163760" cy="4683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Бородинское поле: 7 сентября 1812 года положило начало изгнанию с земли русской французских захватчиков и вошедшее в историю великим подвигом и примером самопожертвования русских воинов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3658" r="0" b="0"/>
          <a:stretch/>
        </p:blipFill>
        <p:spPr>
          <a:xfrm>
            <a:off x="1079640" y="2700360"/>
            <a:ext cx="7740360" cy="414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627120"/>
            <a:ext cx="860760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Прохоровское поле: контрудар в ходе Курской битвы 12 июля 1943 г. под Прохоровкой - самое большое встречное танковое сражение Второй мировой войны, которое было выиграно советскими войсками. 12 июля 1943 г. - переломный день в ожесточенных боях на южном фасе Курской дуги и в целом во всей Курской битве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0720" y="3060720"/>
            <a:ext cx="809928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Благодарные потомки — великим полководцам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9560" y="2273400"/>
            <a:ext cx="8200800" cy="42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ои - полководцы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60360" y="1800360"/>
            <a:ext cx="774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2509920"/>
            <a:ext cx="907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i="1" lang="ru-RU" sz="3600" spc="-1" strike="noStrike">
                <a:solidFill>
                  <a:srgbClr val="ef2111"/>
                </a:solidFill>
                <a:latin typeface="Georgia"/>
              </a:rPr>
              <a:t>Отечество – </a:t>
            </a:r>
            <a:r>
              <a:rPr b="0" i="1" lang="ru-RU" sz="3600" spc="-1" strike="noStrike">
                <a:solidFill>
                  <a:srgbClr val="200496"/>
                </a:solidFill>
                <a:latin typeface="Georgia"/>
              </a:rPr>
              <a:t>родная земля, отчизна, где кто родился, вырос, корень, земля народа, к коему кто по рождению, языку и вере принадлежит; родина в обширном смы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f2111"/>
                </a:solidFill>
                <a:latin typeface="Georgia"/>
              </a:rPr>
              <a:t>                                         </a:t>
            </a:r>
            <a:r>
              <a:rPr b="0" lang="ru-RU" sz="2800" spc="-1" strike="noStrike">
                <a:solidFill>
                  <a:srgbClr val="200496"/>
                </a:solidFill>
                <a:latin typeface="Georgia"/>
              </a:rPr>
              <a:t>В. И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226120" y="2160720"/>
            <a:ext cx="3414600" cy="1906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Наполеон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онапарт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00720" y="4319640"/>
            <a:ext cx="2550960" cy="419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1769 - 182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948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2280" y="1979640"/>
            <a:ext cx="3806640" cy="3557520"/>
            <a:chOff x="692280" y="1979640"/>
            <a:chExt cx="3806640" cy="35575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4268" r="4006" b="0"/>
            <a:stretch/>
          </p:blipFill>
          <p:spPr>
            <a:xfrm>
              <a:off x="692280" y="1979640"/>
              <a:ext cx="3806640" cy="3557520"/>
            </a:xfrm>
            <a:prstGeom prst="rect">
              <a:avLst/>
            </a:prstGeom>
            <a:ln w="76320">
              <a:solidFill>
                <a:srgbClr val="000099"/>
              </a:solidFill>
              <a:miter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"/>
            <p:cNvSpPr/>
            <p:nvPr/>
          </p:nvSpPr>
          <p:spPr>
            <a:xfrm>
              <a:off x="692280" y="1979640"/>
              <a:ext cx="3806640" cy="35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9640" y="5664240"/>
            <a:ext cx="8820360" cy="1176120"/>
          </a:xfrm>
          <a:prstGeom prst="rect">
            <a:avLst/>
          </a:pr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Я буду властелином мира, остаётся одна Россия, но я раздавлю её!»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10920" y="4425480"/>
            <a:ext cx="705636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04" t="10041" r="3385" b="6459"/>
          <a:stretch/>
        </p:blipFill>
        <p:spPr>
          <a:xfrm>
            <a:off x="196920" y="3193920"/>
            <a:ext cx="9685440" cy="436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54200" y="922320"/>
            <a:ext cx="8570880" cy="230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АПА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09-04-16T07:32:35Z</dcterms:modified>
  <cp:revision>2</cp:revision>
  <dc:subject/>
  <dc:title/>
</cp:coreProperties>
</file>