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AB6A-EE60-4336-A10C-06A390457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0B22-DAD2-4537-9018-2EAACEB02BA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15EB-6939-4489-985B-BFB60528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840-63DE-44DD-BFB8-02B03107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604-7260-41B8-B5CB-6B2E0213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B24-8B95-411D-A7F8-B0D3F4F1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41DE-42C9-4A12-BC67-7200C993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A516-7C31-4472-B431-6E2376BF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2E3C-BBFB-41DC-9AB1-AF5C07FD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2F8D-43D5-45B9-BD02-A4377B94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CEBD-4D6F-4758-9FE4-D509CFF0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4D72-FA23-4296-93C6-DFFFA90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1555-8B27-47BB-91B8-1685B996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050-899E-4E87-AEF3-654517B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BD7D-A1FA-4648-B800-DAA1B5C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1C0C-0ADE-4C84-87A8-5270DE45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42A7-92BE-45C9-A465-EDE039C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50E5-83CD-4862-82B3-BC7AAA43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81F4-E779-40DC-9F23-030C4594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95FB9-6979-424D-8447-4A90CBB4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CFD6-4D8C-45D6-954E-61FEB8D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EA8E-D8B2-4E24-BB60-927C042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4A8A9-19AD-40F6-9B66-30D3DA3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A537-579B-45B5-9F3B-8319944C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1D8-4148-4582-8994-0F35C513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FD5EA-4412-4F1A-A5D8-7D506D96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873A-8DA1-407C-8DF1-6C03FAEF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E2C1-2163-4865-A349-1AB7D8EF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60B2D-0F21-416A-9E69-FB42B44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25A9-1B42-4D99-954C-B333CB56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4FF1-13C8-439A-A721-D41656BA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914C-B4DF-4C8C-AC54-2389A7A0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12A4-2B94-41B6-9AC5-780F9F52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7E05-4C16-4173-84FC-06FDCEA9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C901-8D58-4304-926F-87A37B5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8E1-525F-44C2-9BEE-BD3F1F21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2AC9-763A-4E99-B63C-77D545B9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B8A9-EA74-4FF8-BED1-F2600F91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68A1-F02E-4D13-8FF8-656947D6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B1718-81EC-4DE0-A91F-67995F6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D1DB-FFF8-4FBC-9D03-19599B01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E9F8-DA59-4B86-B5F4-B5B37C3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F55D-D87F-4BDA-9C6A-7BA1DD0C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EDDD-4147-401C-8419-FBA00D8E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D25D9-FC7F-4D00-A9AD-93196307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2DF5D-0AFA-4D9D-A432-44C45255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F99-5986-4812-BE69-DE0CC5FA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EA9F-0E8A-4C0E-8EEE-A95A679A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B122E-CA6B-4D20-95C7-0A38A85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066BB-DBA3-4187-93B8-8E39D161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D6DFD-1B72-4273-808F-CCFD0D93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2E2B6-2F7B-44CE-8612-44A89198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E33B0-7600-4090-8FF2-019B26B0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D496E-9C83-49A6-AF20-8180E18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BCA6-2DE6-43EC-8AB9-80B81A8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9ADD0-FCF9-4141-89C9-852BEFB2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87C35-DCF5-461D-B5F0-D4766C54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EE6-DDB5-4A31-ABA1-FB64153E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4ED26-15D1-403A-BAD0-211F2D58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89B65-1648-499D-A4D3-80A35A84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6628F-20F3-481C-9596-E1B3D7A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1C117-4C0A-4618-AAAD-C25AAFA8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74CEA-96C2-448C-9F48-2D242661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617CA-4E92-44E4-90A7-589F2E04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32F5D-6637-45A8-8B9B-834FE38D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1DFA-1849-47BF-BFD5-41E7E4DE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9559B-CC3E-4B28-8DB1-F91CCAF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2F41-74DF-4028-AFE0-022E43DF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E87-5849-42B8-A488-FE43298C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7189-D291-4622-8232-0F9C8F52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8DAC8-35A5-4CD3-BC30-44239A74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9AAC4-C3F3-451E-9B91-6B8D82D8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E4933-2CCD-473F-9218-BD71FCB8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CD03-6939-4B34-925E-82022B52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19E9E-8992-4537-9CC6-E37F37F8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A061F-13E8-44C6-9889-A1476E51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B6D2-9713-4B03-B775-F48A36F8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A6090-301C-4FDC-8575-AEFEC5F4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81CD-9125-4795-A0F5-67CFCA4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ED7-BF85-4DF8-B1DA-846E270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7445A-B08A-428B-8182-60C2A41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F18B7-AD79-463F-87E9-D248C14A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D896F-D2C2-4BFB-8783-83B79CD7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E7EBF-DC1F-4176-886C-A1AA871F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2BA8F-8051-4491-9B3D-619E775F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5550-B650-45AC-B88F-BE1B0E86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D37FE-8A74-46FC-A4C6-FB2A578B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87CA5-5A30-4EE2-94F2-9F0106E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32627-B42F-4DA2-A69B-6DEF3AE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F1295-5BC6-437E-A707-E91A12DF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43CD-B939-4FE8-8A96-3F9F075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4991C-C610-4DFD-8DD1-31C523F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A3DE2-B3E9-4684-B960-5FBCC57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5B13-1A56-4FEA-AB0F-1A24E116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5C03D-2BA7-4F81-9469-14B53DC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35592-1402-41FE-8595-9C039146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4AA1E-02B3-42AC-A0AE-EBE9C655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237B7-E8CA-4478-B134-88229492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0112-E715-495C-9E01-14DF7AE6E960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F813-1E08-45B2-9294-60F21F2AF61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78B2-CD88-4C14-A673-08313B4A2987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5DAD-3337-4671-8624-2EA80CFA142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2AEF-0706-47A7-B023-4C38B1EC542B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BBCF-3761-405C-B0A7-6FE0B9BD542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FB67-265F-46D6-A848-6B70036D8A9B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A0DD-E86D-431F-A873-0803A6ECFAE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B606-20F2-4B00-922A-B0416D70CE86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BA89-CD51-401E-95F6-901DC10DE26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ED69-8A34-44F7-8812-09F7B009A034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CF0-CBA0-4A98-AA3F-53BF109B03E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95AB-26FD-4BCF-9441-A33944D29230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182-5D54-4EE9-A546-63C68C5DC450}" type="datetime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59;&#1088;&#1086;&#1082;&#8470;2&#1050;&#1086;&#1083;&#1080;&#1095;&#1077;&#1089;&#1090;&#1074;&#1086;&#1080;&#1085;&#1092;&#1086;&#1088;&#1084;&#1072;&#1094;&#1080;&#1080;.ppt#4. &#1047;&#1085;&#1072;&#1082;&#1080;: &#1092;&#1086;&#1088;&#1084;&#1072; &#1080; &#1079;&#1085;&#1072;&#1095;&#1077;&#1085;&#1080;&#1077;" TargetMode="External"/><Relationship Id="rId3" Type="http://schemas.openxmlformats.org/officeDocument/2006/relationships/hyperlink" Target="file:///&#1059;&#1088;&#1086;&#1082;&#8470;2&#1050;&#1086;&#1083;&#1080;&#1095;&#1077;&#1089;&#1090;&#1074;&#1086;&#1080;&#1085;&#1092;&#1086;&#1088;&#1084;&#1072;&#1094;&#1080;&#1080;.ppt#7. &#1047;&#1085;&#1072;&#1082;&#1086;&#1074;&#1099;&#1077; &#1089;&#1080;&#1089;&#1090;&#1077;&#1084;&#1099;" TargetMode="External"/><Relationship Id="rId4" Type="http://schemas.openxmlformats.org/officeDocument/2006/relationships/slide" Target="slide20.xml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493560" y="1305000"/>
            <a:ext cx="8369280" cy="329076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285880" y="4143240"/>
            <a:ext cx="37148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Информация и информационны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процессы (повторени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Знаки: форма и знач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Знаковые сист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b0f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Кодирование информ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214720" y="214200"/>
            <a:ext cx="4929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МБОУ СОШ №18 имени Э.Д. Потап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5286240" y="6286680"/>
            <a:ext cx="3571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9d9d9"/>
                </a:solidFill>
                <a:latin typeface="Arial"/>
              </a:rPr>
              <a:t>Учитель Зацепина Е.М.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357720" y="6000840"/>
            <a:ext cx="3000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9d9d9"/>
                </a:solidFill>
                <a:latin typeface="Arial"/>
              </a:rPr>
              <a:t>Мичуринск - наукогр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6"/>
          <p:cNvSpPr/>
          <p:nvPr/>
        </p:nvSpPr>
        <p:spPr>
          <a:xfrm>
            <a:off x="4078440" y="8571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9d9d9"/>
                </a:solidFill>
                <a:latin typeface="Arial"/>
              </a:rPr>
              <a:t>8 клас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570880" cy="13240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500040" y="135720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 процессе восприятия, передачи и хранения информации живыми существами человеком или техническими устройствами происходит ее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од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ление информации с помощью какого-либо языка часто называют кодир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d4d2d0"/>
                </a:solidFill>
                <a:uFillTx/>
                <a:latin typeface="Arial"/>
                <a:ea typeface="Arial"/>
              </a:rPr>
              <a:t>Код</a:t>
            </a:r>
            <a:r>
              <a:rPr b="0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 — набор символов (условных обозначений) для представления информации.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3b3b3b"/>
                </a:solidFill>
                <a:uFillTx/>
                <a:latin typeface="Arial"/>
                <a:ea typeface="Arial"/>
              </a:rPr>
              <a:t>Код</a:t>
            </a:r>
            <a:r>
              <a:rPr b="0" lang="ru-RU" sz="1700" spc="-1" strike="noStrike">
                <a:solidFill>
                  <a:srgbClr val="3b3b3b"/>
                </a:solidFill>
                <a:latin typeface="Arial"/>
                <a:ea typeface="Arial"/>
              </a:rPr>
              <a:t> — система условных знаков (символов) для передачи, обработки и хранения информации(со общения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d4d2d0"/>
                </a:solidFill>
                <a:uFillTx/>
                <a:latin typeface="Arial"/>
                <a:ea typeface="Arial"/>
              </a:rPr>
              <a:t>Кодирование</a:t>
            </a:r>
            <a:r>
              <a:rPr b="0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 — процесс представления информации (сообщения) в виде код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се множество символов, используемых для кодирования, называется </a:t>
            </a:r>
            <a:r>
              <a:rPr b="0" i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алфавитом кодирования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. Например, в памяти компьютера любая информация кодируется с помощью двоичного алфавита, содержащего всего два символа: 0 и1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d4d2d0"/>
                </a:solidFill>
                <a:uFillTx/>
                <a:latin typeface="Arial"/>
                <a:ea typeface="Arial"/>
              </a:rPr>
              <a:t>Декодирование</a:t>
            </a:r>
            <a:r>
              <a:rPr b="1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-</a:t>
            </a:r>
            <a:r>
              <a:rPr b="0" lang="ru-RU" sz="1700" spc="-1" strike="noStrike">
                <a:solidFill>
                  <a:srgbClr val="d4d2d0"/>
                </a:solidFill>
                <a:latin typeface="Arial"/>
                <a:ea typeface="Arial"/>
              </a:rPr>
              <a:t> процесс обратного преобразования кода к форме исходной символьной системы, т.е. получение исходного сообщения. Например: перевод с азбуки Морзе в письменный текст на русском язык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более широком смысле декодирование — это процесс восстановления содержания закодированного сообщения. При таком подходе процесс записи текста с помощью русского алфавита можно рассматривать в качестве кодирования, а его чтение — это декодирова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20B2-DA43-4DE4-AB22-8B86F2311D40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6693120" cy="19447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500040" y="178596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Для кодирования одной и той же информации могут быть использованы разные способы; их выбор зависит от ряда обстоятельств: цели кодирования, условий, имеющихся средств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В процессе преобразования информации из одной формы представления (знаковой системы) в другую происходит перекодирование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2f2f2"/>
                </a:solidFill>
                <a:uFillTx/>
                <a:latin typeface="Arial"/>
                <a:ea typeface="Arial"/>
              </a:rPr>
              <a:t>Перекодирование -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 u="sng">
                <a:solidFill>
                  <a:srgbClr val="f2f2f2"/>
                </a:solidFill>
                <a:uFillTx/>
                <a:latin typeface="Arial"/>
                <a:ea typeface="Arial"/>
              </a:rPr>
              <a:t>операция преобразования знаков или групп знаков одной знаковой системы в знаки или группы знаков другой знаковой сист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Если надо записать текст в темпе речи — используем стенографию; если надо передать текст за границу — используем английский алфавит; если надо представить текст в виде, понятном для грамотного русского человека, — записываем его по правилам грамматики русского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Здравствуй, Саша!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»                      «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Zdravstvu</a:t>
            </a:r>
            <a:r>
              <a:rPr b="0" lang="en-US" sz="2000" spc="-1" strike="noStrike">
                <a:solidFill>
                  <a:srgbClr val="00c8c3"/>
                </a:solidFill>
                <a:latin typeface="Arial"/>
                <a:ea typeface="Arial"/>
              </a:rPr>
              <a:t>y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, Sa</a:t>
            </a:r>
            <a:r>
              <a:rPr b="0" lang="en-US" sz="2000" spc="-1" strike="noStrike">
                <a:solidFill>
                  <a:srgbClr val="00c8c3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c8c3"/>
                </a:solidFill>
                <a:latin typeface="Arial"/>
                <a:ea typeface="Arial"/>
              </a:rPr>
              <a:t>ha!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BBE4-2572-4910-BFE3-B30B72EAB971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79200" y="122400"/>
            <a:ext cx="8856720" cy="1944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500040" y="19285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Выбор способа кодирования информации может быть связан с предполагаемым способом ее обработки</a:t>
            </a:r>
            <a:r>
              <a:rPr b="0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кажем это на примере представления чисел — количественной информации. Используя русский алфавит, можно записать число "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тридцать пя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. Используя же алфавит арабской десятичной системы счисления, пишем «</a:t>
            </a:r>
            <a:r>
              <a:rPr b="1" lang="ru-RU" sz="1800" spc="-1" strike="noStrike">
                <a:solidFill>
                  <a:srgbClr val="00c8c3"/>
                </a:solidFill>
                <a:latin typeface="Arial"/>
                <a:ea typeface="Arial"/>
              </a:rPr>
              <a:t>35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». Второй способ не только короче первого, но и удобнее для выполнения вычислений. Какая запись удобнее для выполнения расчетов: "</a:t>
            </a:r>
            <a:r>
              <a:rPr b="0" lang="ru-RU" sz="1800" spc="-1" strike="noStrike">
                <a:solidFill>
                  <a:srgbClr val="00c8c3"/>
                </a:solidFill>
                <a:latin typeface="Arial"/>
                <a:ea typeface="Arial"/>
              </a:rPr>
              <a:t>тридцать пять умножить на сто двадцать сем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 или "</a:t>
            </a:r>
            <a:r>
              <a:rPr b="0" lang="ru-RU" sz="1800" spc="-1" strike="noStrike">
                <a:solidFill>
                  <a:srgbClr val="00c8c3"/>
                </a:solidFill>
                <a:latin typeface="Arial"/>
                <a:ea typeface="Arial"/>
              </a:rPr>
              <a:t>35 х 127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"? Очевидно — втор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4743-3A0A-43B9-A92F-D0F625C6DC83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8510760" cy="1324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4288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В некоторых случаях возникает потребность засекречивания текста сообщения или документа, для того чтобы его не смогли прочитать те, кому не положено. Это называется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защитой от несанкционированного доступ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В таком случае секретный текст </a:t>
            </a:r>
            <a:r>
              <a:rPr b="1" i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шифруетс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В давние времена шифрование называлось </a:t>
            </a:r>
            <a:r>
              <a:rPr b="0" i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тайнописью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Шифрование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 представляет собой процесс превращения открытого текста в зашифрованный, а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ешифрование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—процесс обратного преобразования, при котором восстанавливается исходный текст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Шифрование — это тоже кодирование, но с засекреченным методом, известным только источнику и адресату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Методами шифрования занимается наука под названием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криптографи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B35A-ECCD-4F8A-8201-EDAFC1E416F3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4" descr=""/>
          <p:cNvPicPr/>
          <p:nvPr/>
        </p:nvPicPr>
        <p:blipFill>
          <a:blip r:embed="rId1"/>
          <a:stretch/>
        </p:blipFill>
        <p:spPr>
          <a:xfrm>
            <a:off x="79200" y="212760"/>
            <a:ext cx="8783640" cy="13240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500040" y="1356840"/>
            <a:ext cx="44006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1792 году во Франции Клод Шапп создал систему передачи визуальной информации, которая получила название «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Оптический телеграф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»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простейшем виде это была цепь типовых строений, с расположенными на кровле шестами с подвижными поперечинами, которая создавалась в пределах видимости одно от другого. Шесты с подвижными поперечинами — семафоры — управлялись при помощи тросов специальными операторами изнутри строений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Шапп создал специальную таблицу кодов, где каждой букве алфавита соответствовала определенная фигура, образуемая Семафором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, в зависимости от положений поперечных брусьев относительно опорного шест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Система Шаппа позволяла передавать сообщения на скорости два слова в минуту и быстро распространилась в Европе. В Швеции цепь станций оптического телеграфа действовала до 1880 год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2"/>
          <a:stretch/>
        </p:blipFill>
        <p:spPr>
          <a:xfrm>
            <a:off x="5214960" y="1571760"/>
            <a:ext cx="3171960" cy="4228920"/>
          </a:xfrm>
          <a:prstGeom prst="rect">
            <a:avLst/>
          </a:prstGeom>
          <a:ln w="0">
            <a:noFill/>
          </a:ln>
        </p:spPr>
      </p:pic>
      <p:sp>
        <p:nvSpPr>
          <p:cNvPr id="403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0B52-CB58-4A6C-B997-DE9EFF56A452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4" descr=""/>
          <p:cNvPicPr/>
          <p:nvPr/>
        </p:nvPicPr>
        <p:blipFill>
          <a:blip r:embed="rId1"/>
          <a:stretch/>
        </p:blipFill>
        <p:spPr>
          <a:xfrm>
            <a:off x="165240" y="165240"/>
            <a:ext cx="8618400" cy="143172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450036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Первым техническим средством передачи информации на расстояние стал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телеграф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, изобретенный в1837 году американцем Сэмюэлем Морзе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Телеграфное сообщение — это последовательность электрических сигналов, передаваемая от одного телеграфного аппарата по проводам к другому телеграфному аппарату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Изобретатель Сэмюель Морзе изобрел удивительный код(Азбука Морзе, код Морзе, «Морзянка»), который служит человечеству до сих пор.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я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кодируется тремя «буквами»: длинный сигнал (тире), короткий сигнал (точка) и отсутствие сигнала (пауза)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 для разделения букв. Таким образом, кодирование сводится к использованию набора символов, расположенных в строго определенном порядке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Самым знаменитым телеграфным сообщением является сигнал бедствия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"SOS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" (Save Our Souls - спасите наши души). Вот как он выглядит: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«• • • – – – • • •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»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13" descr="450px-Samuel_Morse"/>
          <p:cNvPicPr/>
          <p:nvPr/>
        </p:nvPicPr>
        <p:blipFill>
          <a:blip r:embed="rId2"/>
          <a:stretch/>
        </p:blipFill>
        <p:spPr>
          <a:xfrm>
            <a:off x="5357880" y="1357200"/>
            <a:ext cx="3181320" cy="42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8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BC55-E9B4-488C-B038-E8E428F7C6A9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426" descr=""/>
          <p:cNvPicPr/>
          <p:nvPr/>
        </p:nvPicPr>
        <p:blipFill>
          <a:blip r:embed="rId1"/>
          <a:stretch/>
        </p:blipFill>
        <p:spPr>
          <a:xfrm>
            <a:off x="225360" y="133200"/>
            <a:ext cx="8510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874800"/>
                <a:gridCol w="1181160"/>
                <a:gridCol w="906480"/>
                <a:gridCol w="1149120"/>
                <a:gridCol w="866880"/>
                <a:gridCol w="1190520"/>
                <a:gridCol w="898560"/>
                <a:gridCol w="11620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Ъ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 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12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BD89-5837-4959-A061-A7C7525BFF63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10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51076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−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ят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• − •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• • −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• − −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• • − −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 − − •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− − • − •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16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92B0-6409-4A2B-9D8B-20947E0D038A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291960" y="249120"/>
            <a:ext cx="8517240" cy="1324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571680" y="14288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 algn="ctr">
              <a:lnSpc>
                <a:spcPct val="7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1c1"/>
                </a:solidFill>
                <a:latin typeface="Arial"/>
                <a:ea typeface="Arial"/>
              </a:rPr>
              <a:t>− • −     − •    • •   − − •    • −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70000"/>
              </a:lnSpc>
              <a:spcBef>
                <a:spcPts val="7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c1c1"/>
                </a:solidFill>
                <a:latin typeface="Arial"/>
                <a:ea typeface="Arial"/>
              </a:rPr>
              <a:t>Характерной особенностью азбуки Морзе является переменная длина кода разных букв, поэтому код Морзе называют неравномерным кодом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  <a:ea typeface="Arial"/>
              </a:rPr>
              <a:t>Буквы, которые встречаются в тексте чаще, имеют более короткий код, чем редкие буквы. Это сделано для того, чтобы сократить длину всего сообщения. Но из-за переменной длины кода букв возникает проблема отделения букв друг от друга в тексте. Поэтому для разделения приходится использовать паузу (пропуск). Следовательно, телеграфный алфавит Морзе является троичным, т.к. в нем используются три знака: точка, тире, пропуск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A982-DFE7-41A7-998C-554416D4C63F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4" descr=""/>
          <p:cNvPicPr/>
          <p:nvPr/>
        </p:nvPicPr>
        <p:blipFill>
          <a:blip r:embed="rId1"/>
          <a:stretch/>
        </p:blipFill>
        <p:spPr>
          <a:xfrm>
            <a:off x="291960" y="79200"/>
            <a:ext cx="8517240" cy="19447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14200" y="1828800"/>
            <a:ext cx="550080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7 мая 1895 года российский ученый Александр Степанович Попов на заседании Русского Физико-Химического Общества продемонстрировал прибор, названный им "грозоотметчик", который был предназначен для регистрации электромагнитных волн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Этот прибор считается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первым в мире аппаратом беспроводной телеграфии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радиоприемником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. В 1897 году при помощи аппаратов беспроводной телеграфии Попов осуществил прием и передачу сообщений между берегом и военным судном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1899 году Попов сконструировал модернизированный вариант приемника электромагнитных волн, где прием сигналов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(азбукой Морзе)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 осуществлялся на головные телефоны оператора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  <a:ea typeface="Arial"/>
              </a:rPr>
              <a:t>В 1900 году благодаря радиостанциям, построенным на острове Гогланд и на российской военно-морской базе в Котке под руководством Попова, были успешно осуществлены аварийно-спасательные работы на борту военного корабля "Генерал-адмирал Апраксин", севшего на мель у острова Гогланд. В результате обмена сообщениями, переданным методом беспроводной телеграфии, экипажу российского ледокола Ермак была своевременно и точно передана информация о финских рыбаках, находящихся на оторванной льдине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8" descr="466px-Popov"/>
          <p:cNvPicPr/>
          <p:nvPr/>
        </p:nvPicPr>
        <p:blipFill>
          <a:blip r:embed="rId2"/>
          <a:stretch/>
        </p:blipFill>
        <p:spPr>
          <a:xfrm>
            <a:off x="4994280" y="1828800"/>
            <a:ext cx="3346560" cy="4302000"/>
          </a:xfrm>
          <a:prstGeom prst="rect">
            <a:avLst/>
          </a:prstGeom>
          <a:ln w="0">
            <a:noFill/>
          </a:ln>
        </p:spPr>
      </p:pic>
      <p:sp>
        <p:nvSpPr>
          <p:cNvPr id="425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7F7-96D6-4D2B-89DA-356D748ADA02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Book Antiqua"/>
              </a:rPr>
              <a:t>Информация и информационные  </a:t>
            </a:r>
            <a:br>
              <a:rPr sz="3600"/>
            </a:br>
            <a:r>
              <a:rPr b="1" lang="ru-RU" sz="3600" spc="-1" strike="noStrike">
                <a:solidFill>
                  <a:srgbClr val="00b0f0"/>
                </a:solidFill>
                <a:latin typeface="Book Antiqua"/>
              </a:rPr>
              <a:t>   процессы (повторение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356840"/>
            <a:ext cx="840096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ибольший объем информации человек получает при помощи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слуха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зре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осяза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обоня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усовых рецепторов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Измерение температуры представляет собой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хранения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передачи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получения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защиты информации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цесс использования информации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бмен информацией - это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выполнение домашней работы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росмотр телепрограммы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блюдение за поведением рыб в аквариуме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разговор по телефону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Тактильную информацию человек получает посредством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специальных приборов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термометра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барометра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осязания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органов слуха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Информацию, изложенную на доступном для получателя языке называют: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л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лез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актуаль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достоверной;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Verdana"/>
                <a:ea typeface="Times New Roman"/>
              </a:rPr>
              <a:t>понятной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125-ADFB-4C14-A558-4C7CCD2EEB7C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4" descr=""/>
          <p:cNvPicPr/>
          <p:nvPr/>
        </p:nvPicPr>
        <p:blipFill>
          <a:blip r:embed="rId1"/>
          <a:stretch/>
        </p:blipFill>
        <p:spPr>
          <a:xfrm>
            <a:off x="152280" y="-6480"/>
            <a:ext cx="8510760" cy="143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57120" y="1357200"/>
            <a:ext cx="5222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Равномерный телеграфны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код был изобретен французом Жаном Морисом Бодо в конце XIX века. В нем использовалось всего два разных вида сигналов. Не важно, как их назвать: точка и тире, плюс и минус, ноль и единица. Это два отличающихся друг от друга электрических сигнала.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лина кода всех символов одинаковая и равна пяти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В таком случае не возникает проблемы отделения букв друг от друга: каждая пятерка сигналов — это знак текста. Поэтому пропуск не нуж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476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c1c1"/>
                </a:solidFill>
                <a:latin typeface="Arial"/>
                <a:ea typeface="Arial"/>
              </a:rPr>
              <a:t>Код называется равномерным, если длина кода всех символов рав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Код Бодо — это первый в истории техники способ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двоичного кодирован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, информации. Благодаря этой идее удалось создать буквопечатающий телеграфный аппарат, имеющий вид пишущей машинки. Нажатие на клавишу с определенной буквой вырабатывает соответствующий пятиимпульсный сигнал, который передается по линии связ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 честь Бодо была названа единица скорости передачи информации — бо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c1c1"/>
                </a:solidFill>
                <a:latin typeface="Arial"/>
                <a:ea typeface="Arial"/>
              </a:rPr>
              <a:t>В современных компьютерах для кодирования текста также применяется равномерный двоичный ко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7" descr="333px-Telex"/>
          <p:cNvPicPr/>
          <p:nvPr/>
        </p:nvPicPr>
        <p:blipFill>
          <a:blip r:embed="rId2"/>
          <a:stretch/>
        </p:blipFill>
        <p:spPr>
          <a:xfrm>
            <a:off x="5643720" y="2000160"/>
            <a:ext cx="3095640" cy="286236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8"/>
          <p:cNvSpPr/>
          <p:nvPr/>
        </p:nvSpPr>
        <p:spPr>
          <a:xfrm>
            <a:off x="5929200" y="5072040"/>
            <a:ext cx="266400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Tel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3b3b"/>
                </a:solidFill>
                <a:latin typeface="Arial"/>
              </a:rPr>
              <a:t>Это интересно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b3b3b"/>
                </a:solidFill>
                <a:latin typeface="Arial"/>
              </a:rPr>
              <a:t>Отель, не имеющий телекса, не может иметь рейтинг "пять звезд".</a:t>
            </a:r>
            <a:r>
              <a:rPr b="0" lang="ru-RU" sz="1600" spc="-1" strike="noStrike">
                <a:solidFill>
                  <a:srgbClr val="3b3b3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Дата 5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E073-7126-4344-B1A0-EF525D292261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Нижний колонтитул 6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52280" y="281160"/>
            <a:ext cx="8510760" cy="1431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500040" y="16430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такое код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ведите примеры кодирования информации, используемой в физике, биологии, географии, математике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идумайте свои способы кодирования русских букв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кодируйте сообщение «информатика» с помощью кода Морз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8D09-A161-42E4-B29C-9BE67A891011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Информация и информационные  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   процессы (повторение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8760" y="2071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едположим, что на "марсианском" языке выражени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lot do may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означает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от съел мыш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may s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ерая мыш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rо d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н съе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Как написать на "марсианском" язык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ерый ко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едставьте в математической форме следующее утвержд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сумму чисел от одного до пяти разделить на разность чисел десять и семь, то в результате получится  пя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ая форма записи удобне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Arial"/>
                <a:ea typeface="Arial"/>
              </a:rPr>
              <a:t>3.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то может обозначать запись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8-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с точки зрения продавца в магазине, машиниста электропоезда, ученика на уроке математик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4EE6-5F01-4305-A989-57CE8FD9547A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52280" y="371520"/>
            <a:ext cx="8510760" cy="13240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57168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ир вокруг нас полон всевозможных образов, звуков, запахов, и всю эту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нформацию доносят до сознания человека его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рганы чувств с помощью знаков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 По способу восприятия знаки делятся на: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рительные, слуховые, обонятельные, вкусовые и осязательные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Зрительные: буквы и цифры письменной речи, знаки химических элементов, музыкальные ноты, дорожные знаки и т.д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Слуховые: звуки устной речи, звуковые сигналы (звонок, колокол, свисток, гудок, сирена и т.д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Обонятельные знаки позволяют ощущать запахи. Многие животные помечают место обитания своей шерстью, запахом, показывая, что территория занята им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Органы вкуса несут информацию о вкусе еды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Осязательные знаки: рукопожатия, похлопыван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       </a:t>
            </a:r>
            <a:r>
              <a:rPr b="0" lang="ru-RU" sz="2100" spc="-1" strike="noStrike">
                <a:solidFill>
                  <a:srgbClr val="d4d2d0"/>
                </a:solidFill>
                <a:latin typeface="Arial"/>
                <a:ea typeface="Arial"/>
              </a:rPr>
              <a:t>по плечу и т.д. Для слепых азбука Брайля (осязательный способ восприятия текстовой информации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26AB-6E6F-4C79-8222-7CC950ED9FA4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79200" y="390600"/>
            <a:ext cx="8515440" cy="1322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571680" y="1714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долговременного хранения знаки записываются на носители информа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Носитель информации – материальный объект, предназначенный для хранения и передачи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ля передачи информации на большие расстояния используют знаки в форме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игна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ветовые сигналы светофор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вуковые сигналы звон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лектрические сигналы в телефонных и компьютерных сетя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лектромагнитные волны передают сигналы     радио и телеви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85CD-99FD-43B4-8284-318179064462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572240" y="5286240"/>
            <a:ext cx="1400400" cy="1301760"/>
          </a:xfrm>
          <a:prstGeom prst="rect">
            <a:avLst/>
          </a:prstGeom>
          <a:ln w="0">
            <a:noFill/>
          </a:ln>
        </p:spPr>
      </p:pic>
      <p:pic>
        <p:nvPicPr>
          <p:cNvPr id="368" name="Rectangle 2" descr=""/>
          <p:cNvPicPr/>
          <p:nvPr/>
        </p:nvPicPr>
        <p:blipFill>
          <a:blip r:embed="rId2"/>
          <a:stretch/>
        </p:blipFill>
        <p:spPr>
          <a:xfrm>
            <a:off x="225360" y="39060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71680" y="14284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наки отображают объекты окружающего мира или понятия, т.е. имеют определенное значение (смысл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зличаются знаки по способу связи между их формой и значение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Console"/>
                <a:ea typeface="Arial"/>
              </a:rPr>
              <a:t>иконическ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позволяют догадаться об их смысле, т.к. имеют форму, похожую на отображаемый объект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значки на Рабочем столе операционной системы компьют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  <a:ea typeface="Arial"/>
              </a:rPr>
              <a:t>Символ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- знаки, для которых связь между формой и значением устанавливается по общепринятому соглашению (символы химических элементов, отображающие атомы химических эле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ислор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Дата 4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01D3-719F-4B31-9DDA-83CC1A182C0B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Нижний колонтитул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225360" y="334800"/>
            <a:ext cx="8510760" cy="1322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28760" y="142884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аждая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знаковая система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троится на основе определенного алфавита (набор знаков) и правил выполнения операций над зна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Язык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- знаковые системы для представления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стественны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ормальные(системы счисления, язык алгебры; ноты, точки и тире азбуки Морз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C083-DC24-4930-81F3-F4138E306789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510760" cy="131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500040" y="149976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ля обмена информацией </a:t>
            </a:r>
            <a:r>
              <a:rPr b="0" i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с другими людьми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человек использует </a:t>
            </a:r>
            <a:r>
              <a:rPr b="1" i="1" lang="ru-RU" sz="2300" spc="-1" strike="noStrike">
                <a:solidFill>
                  <a:srgbClr val="d4d2d0"/>
                </a:solidFill>
                <a:latin typeface="Arial"/>
                <a:ea typeface="Arial"/>
              </a:rPr>
              <a:t>естественные языки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(русский, английский, китайский и др.), то есть 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информация представляется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с помощью естественных языков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 основе языка лежит </a:t>
            </a: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алфавит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, то есть </a:t>
            </a: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набор</a:t>
            </a:r>
            <a:r>
              <a:rPr b="1" lang="ru-RU" sz="23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b0f0"/>
                </a:solidFill>
                <a:latin typeface="Book Antiqua"/>
              </a:rPr>
              <a:t>символов (знаков),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которые человек различает по их начертанию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Язык – это определенная система символов и правил представления информ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 основе русского языка лежит кириллица, содержащая 33 знака, английский язык использует латиницу (26 знаков), китайский язык использует алфавит из десятков тысяч знаков (иероглиф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следовательности символов алфавита в соответствии с правилами грамматики образуют основные объекты языка — слова. Правила, согласно которым образуются предложения из слов данного языка, называются синтаксис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5DA9-2278-414A-ADEF-4D648C39FA40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152280" y="231840"/>
            <a:ext cx="8510760" cy="1322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500040" y="142848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Вся информация, которую обрабатывает компьютер должна быть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представлена двоичным кодом с помощью двух цифр: 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0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и </a:t>
            </a: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1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 точки зрения технической реализации использование двоичной системы счисления для кодирования информации оказалось намного более простым, чем применение других способов. Действительно, удобно кодировать информацию в виде последовательности нулей и единиц, если представить эти значения как два возможных устойчивых состояния электронного элемен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0 – отсутствие электрического сигн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1 – наличие электрического сиг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Эти состояния легко различать.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Недостаток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двоичного кодирования –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длинные коды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о в техник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егч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меть дело с большим количеством простых элементов, чем с небольшим числом слож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Arial"/>
                <a:ea typeface="Arial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Дата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5E9-5DCB-4D3E-90BB-8E64275DBA4C}" type="datetime">
              <a:rPr b="0" lang="ru-RU" sz="1000" spc="-1" strike="noStrike">
                <a:solidFill>
                  <a:srgbClr val="9b9a98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11:16:07Z</dcterms:created>
  <dc:creator>1</dc:creator>
  <dc:description/>
  <dc:language>en-US</dc:language>
  <cp:lastModifiedBy>1</cp:lastModifiedBy>
  <dcterms:modified xsi:type="dcterms:W3CDTF">2012-06-08T13:54:51Z</dcterms:modified>
  <cp:revision>1</cp:revision>
  <dc:subject/>
  <dc:title>Кодирование информации    с помощью знаковых систем</dc:title>
</cp:coreProperties>
</file>