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36C1-B8FD-4438-91AB-7DB62C69D5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68AE-75F0-4808-B717-953A638A55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046-A0A8-4EE5-99F5-4CE43FF6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611-3ABC-4E98-8959-FEAF8F32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DD5-E7AC-4E42-8D7E-F0F7A185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97A-62B3-46E3-8938-1861735D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B3F0-F1B4-4BAB-887B-22A6BD08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F670-B87A-4562-B8E1-92FE5384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7CDF-BBA6-497E-AF41-0AB65027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039C-3E27-4C5E-AD82-ACCCE8A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B7B7-E10E-4443-A236-D002D9E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827B-42AE-49E6-9D8E-6BC343FA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7FF6-B3FC-4C53-9CC5-C9F11157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38F-3559-464C-8AB3-8DACD51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98E0-AFF5-432B-BC99-0188F220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D53A-E46A-4834-9704-33444F1A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244C-AE39-46F4-B87C-7B23480E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B90A-E2E3-45D4-8256-3A6EAA14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2781-9848-47BB-A229-D667651C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FA2B-DCA0-40DD-8DE1-5EEA548A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E1F4-40AE-48B4-8262-703CCC51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65A1-6772-4226-9D23-327C418D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7ED2-88AA-4D9A-B0EF-75607461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8B81-D84B-4FB4-8C01-8C519245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D79-A4F4-4CDD-871D-12300C65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E04C-9478-47D7-B946-3C113D9B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0915-7256-4391-91BC-4B2A8BF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71E6-9B17-47F9-BDB6-35B8D6E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B72D-02C0-4119-A863-3E57A99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7BD3-13EC-40BB-85CC-C8F01F52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81F1-F2C0-4230-87B6-16E09E33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D8F2-1CF7-4770-8563-BE9CC133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BD92-B76F-4415-938D-708DC2F0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7EAA-0A81-441B-96F0-DBB1010C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5042-14D7-4C8F-8FDA-963B5CFA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52A-CFC7-4920-88AA-D9FF6529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C088-70A9-42C4-8FC0-5A881DE0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7101-D4C9-4900-B778-1A82D191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53B2-867E-474C-BC14-6D08FF35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74DB0-7D02-487C-A116-EFCA676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AE46-54B1-4049-8313-51DBEEF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ABA47-AF65-4AB1-B8D9-D2CC82C0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693E-C334-48F6-82CC-5227CC24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74A9E-39BB-4811-8F40-30A8C9AB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CCDA-1812-4D12-8342-55C1A1D5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5AC16-659E-4EB5-8DF9-D81A6626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E16-60D0-4B5D-BDC3-49C133D6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C272-8ED8-46C7-B491-9B63BDB0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8C957-D89C-4815-86F0-86A4EEE0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F1049-D79F-4196-A091-BE191C3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2CA8D-7A4A-4746-8E31-9638EB23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5696-1736-4559-AEA2-D8F364A0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6202-07BB-4AD8-89CC-FDE0C45B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3BF65-697F-49D3-99D5-B03782D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AB178-6134-4D7F-AB2D-CCF7A811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3F145-763E-4073-94EC-23FD6E1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CB456-C018-480B-9857-8E00DBFC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590-B87F-4C97-BC29-BE45B5C6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1592A-85FB-4520-8740-D1799EE1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5397-7EF2-4C6F-BD69-8235387B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6D3FA-C3DA-4EF7-9A06-C904F41A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45274-5C63-49A3-817E-27080D7E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42393-76DB-4D8D-909A-8F1EC509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F907A-372C-496C-B14B-72B48EB7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055CC-A165-48EB-8EA3-51D799C8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0E73-ABC1-419D-92E2-F864CD1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9DDF-2DCE-479A-897B-878C1AD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EE24-177F-4D00-BB5C-07FDE4F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751-D98F-4602-BC4C-C3FA91D2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0A204-3625-4C96-A8CE-264FD4FC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023BA-7906-44DF-B5FC-9864D2EB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87910-2FC8-4560-A0C5-B1853DB2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13800-D583-4190-B954-BC2CEE40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BBC3A-DF0A-4F4C-954E-65F5A1D2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36B6B-83B4-46D6-8358-B9126153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F5F09-1A31-4826-A103-600B81BE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FC6A1-4B28-4B20-AA46-56A7A0FC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CFB38-54D7-4B24-B1CF-BE1D1EDD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278F-B76B-48F8-BDAB-3AE25195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871-6DB9-4E64-A9F5-327CB5FD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2FFD5-1B5A-4E93-8C02-23BD2605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EE123-CF61-4F91-8665-62A37783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2C2B5-A13F-4990-B0D6-E6CD8996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8F83A-D66B-4C28-897C-DEE50B24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271DC-E018-4A0E-A18E-7CE9A0E9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51482-3248-4F3F-AF40-C248DF36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4356F-F6E0-4EDB-8B8F-EFF05086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64DC4-194B-4FDE-9CC3-042C394A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64CA-1C27-47B4-B398-0739AF13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2DB5E-C99E-4E8C-87C6-D2485475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70A-C6CA-40FD-8BB5-EB4AAD51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D801A-90F7-48BC-9801-FB0D868B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5BAEC-98D1-4EBB-A66E-69DD5F53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7D7BA-4639-46D8-B305-69A8BF1F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0648-23E1-4753-AC99-418906F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1116-AC40-4EC2-8AA0-960F6257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EDBE-0D37-482B-BB27-41B59BF5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85E4-8260-40AC-86F7-4275C467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ADF1-F204-4C4C-8100-743E68C55AD9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AC9D-35DC-48EF-BD2E-4F2D507ED86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A63C-F133-4E7D-8162-005788CFE397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D9F2-5D98-4A8E-BFFA-5B7B4E6E690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C3B8-F29C-412A-8AF0-345ADFB86D52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9A6C-E17D-4605-B326-0B9195483D3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4403-DF05-4CE8-841B-5FD35EDEB57A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BF0-566A-4AEC-9EDC-C36E889FE34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262-CFD1-42A1-A368-0FF74CC84538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F77E-8EE8-43D6-8840-D36DC9A34A3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226B-E1DD-4AD2-96CA-61B1E98B13F0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85CF-850E-4A9E-B04C-B589665735B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9AFF-CDED-4548-B5ED-18D0399889BB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2F9F-6B7B-46F7-A77B-E2A3E8EE9F3E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9;&#1088;&#1086;&#1082;&#8470;2&#1050;&#1086;&#1083;&#1080;&#1095;&#1077;&#1089;&#1090;&#1074;&#1086;&#1080;&#1085;&#1092;&#1086;&#1088;&#1084;&#1072;&#1094;&#1080;&#1080;.ppt#4. &#1047;&#1085;&#1072;&#1082;&#1080;: &#1092;&#1086;&#1088;&#1084;&#1072; &#1080; &#1079;&#1085;&#1072;&#1095;&#1077;&#1085;&#1080;&#1077;" TargetMode="External"/><Relationship Id="rId3" Type="http://schemas.openxmlformats.org/officeDocument/2006/relationships/hyperlink" Target="file:///&#1059;&#1088;&#1086;&#1082;&#8470;2&#1050;&#1086;&#1083;&#1080;&#1095;&#1077;&#1089;&#1090;&#1074;&#1086;&#1080;&#1085;&#1092;&#1086;&#1088;&#1084;&#1072;&#1094;&#1080;&#1080;.ppt#7. &#1047;&#1085;&#1072;&#1082;&#1086;&#1074;&#1099;&#1077; &#1089;&#1080;&#1089;&#1090;&#1077;&#1084;&#1099;" TargetMode="External"/><Relationship Id="rId4" Type="http://schemas.openxmlformats.org/officeDocument/2006/relationships/slide" Target="slide20.xm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493560" y="1305000"/>
            <a:ext cx="8369280" cy="32907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285880" y="414324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buClr>
                <a:srgbClr val="00b0f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Информация и информационны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процессы (повторени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Знаки: форма и зна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Знаковые систе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Кодирование информ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214720" y="214200"/>
            <a:ext cx="4929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МБОУ СОШ №18 имени Э.Д. Потап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5286240" y="6286680"/>
            <a:ext cx="3571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d9d9"/>
                </a:solidFill>
                <a:latin typeface="Arial"/>
              </a:rPr>
              <a:t>Учитель Зацепина Е.М.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357720" y="6000840"/>
            <a:ext cx="3000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Мичуринск - наукогра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4078440" y="8571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9d9d9"/>
                </a:solidFill>
                <a:latin typeface="Arial"/>
              </a:rPr>
              <a:t>8 клас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570880" cy="13240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500040" y="135720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процессе восприятия, передачи и хранения информации живыми существами человеком или техническими устройствами происходит ее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одир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ление информации с помощью какого-либо языка часто называют кодир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d4d2d0"/>
                </a:solidFill>
                <a:uFillTx/>
                <a:latin typeface="Arial"/>
                <a:ea typeface="Arial"/>
              </a:rPr>
              <a:t>Код</a:t>
            </a:r>
            <a:r>
              <a:rPr b="0" lang="ru-RU" sz="1700" spc="-1" strike="noStrike">
                <a:solidFill>
                  <a:srgbClr val="d4d2d0"/>
                </a:solidFill>
                <a:latin typeface="Arial"/>
                <a:ea typeface="Arial"/>
              </a:rPr>
              <a:t> — набор символов (условных обозначений) для представления информации.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3b3b3b"/>
                </a:solidFill>
                <a:uFillTx/>
                <a:latin typeface="Arial"/>
                <a:ea typeface="Arial"/>
              </a:rPr>
              <a:t>Код</a:t>
            </a:r>
            <a:r>
              <a:rPr b="0" lang="ru-RU" sz="1700" spc="-1" strike="noStrike">
                <a:solidFill>
                  <a:srgbClr val="3b3b3b"/>
                </a:solidFill>
                <a:latin typeface="Arial"/>
                <a:ea typeface="Arial"/>
              </a:rPr>
              <a:t> — система условных знаков (символов) для передачи, обработки и хранения информации(со общения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d4d2d0"/>
                </a:solidFill>
                <a:uFillTx/>
                <a:latin typeface="Arial"/>
                <a:ea typeface="Arial"/>
              </a:rPr>
              <a:t>Кодирование</a:t>
            </a:r>
            <a:r>
              <a:rPr b="0" lang="ru-RU" sz="1700" spc="-1" strike="noStrike">
                <a:solidFill>
                  <a:srgbClr val="d4d2d0"/>
                </a:solidFill>
                <a:latin typeface="Arial"/>
                <a:ea typeface="Arial"/>
              </a:rPr>
              <a:t> — процесс представления информации (сообщения) в виде код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се множество символов, используемых для кодирования, называется </a:t>
            </a:r>
            <a:r>
              <a:rPr b="0" i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алфавитом кодирования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. Например, в памяти компьютера любая информация кодируется с помощью двоичного алфавита, содержащего всего два символа: 0 и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d4d2d0"/>
                </a:solidFill>
                <a:uFillTx/>
                <a:latin typeface="Arial"/>
                <a:ea typeface="Arial"/>
              </a:rPr>
              <a:t>Декодирование</a:t>
            </a:r>
            <a:r>
              <a:rPr b="1" lang="ru-RU" sz="1700" spc="-1" strike="noStrike">
                <a:solidFill>
                  <a:srgbClr val="d4d2d0"/>
                </a:solidFill>
                <a:latin typeface="Arial"/>
                <a:ea typeface="Arial"/>
              </a:rPr>
              <a:t>-</a:t>
            </a:r>
            <a:r>
              <a:rPr b="0" lang="ru-RU" sz="1700" spc="-1" strike="noStrike">
                <a:solidFill>
                  <a:srgbClr val="d4d2d0"/>
                </a:solidFill>
                <a:latin typeface="Arial"/>
                <a:ea typeface="Arial"/>
              </a:rPr>
              <a:t> процесс обратного преобразования кода к форме исходной символьной системы, т.е. получение исходного сообщения. Например: перевод с азбуки Морзе в письменный текст на русском язык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более широком смысле декодирование — это процесс восстановления содержания закодированного сообщения. При таком подходе процесс записи текста с помощью русского алфавита можно рассматривать в качестве кодирования, а его чтение — это декодиров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B583-9A09-4D3E-88E9-470D7DF232D9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6693120" cy="19447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500040" y="17859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Для кодирования одной и той же информации могут быть использованы разные способы; их выбор зависит от ряда обстоятельств: цели кодирования, условий, имеющихся средств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В процессе преобразования информации из одной формы представления (знаковой системы) в другую происходит перекодирование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2f2f2"/>
                </a:solidFill>
                <a:uFillTx/>
                <a:latin typeface="Arial"/>
                <a:ea typeface="Arial"/>
              </a:rPr>
              <a:t>Перекодирование -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 u="sng">
                <a:solidFill>
                  <a:srgbClr val="f2f2f2"/>
                </a:solidFill>
                <a:uFillTx/>
                <a:latin typeface="Arial"/>
                <a:ea typeface="Arial"/>
              </a:rPr>
              <a:t>операция преобразования знаков или групп знаков одной знаковой системы в знаки или группы знаков другой знаков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надо записать текст в темпе речи — используем стенографию; если надо передать текст за границу — используем английский алфавит; если надо представить текст в виде, понятном для грамотного русского человека, — записываем его по правилам грамматики русского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0" lang="ru-RU" sz="2000" spc="-1" strike="noStrike">
                <a:solidFill>
                  <a:srgbClr val="00c8c3"/>
                </a:solidFill>
                <a:latin typeface="Arial"/>
                <a:ea typeface="Arial"/>
              </a:rPr>
              <a:t>Здравствуй, Саша!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»                      «</a:t>
            </a:r>
            <a:r>
              <a:rPr b="0" lang="ru-RU" sz="2000" spc="-1" strike="noStrike">
                <a:solidFill>
                  <a:srgbClr val="00c8c3"/>
                </a:solidFill>
                <a:latin typeface="Arial"/>
                <a:ea typeface="Arial"/>
              </a:rPr>
              <a:t>Zdravstvu</a:t>
            </a:r>
            <a:r>
              <a:rPr b="0" lang="en-US" sz="2000" spc="-1" strike="noStrike">
                <a:solidFill>
                  <a:srgbClr val="00c8c3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00c8c3"/>
                </a:solidFill>
                <a:latin typeface="Arial"/>
                <a:ea typeface="Arial"/>
              </a:rPr>
              <a:t>, Sa</a:t>
            </a:r>
            <a:r>
              <a:rPr b="0" lang="en-US" sz="2000" spc="-1" strike="noStrike">
                <a:solidFill>
                  <a:srgbClr val="00c8c3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c8c3"/>
                </a:solidFill>
                <a:latin typeface="Arial"/>
                <a:ea typeface="Arial"/>
              </a:rPr>
              <a:t>ha!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247A-C8AD-43B5-8384-E110B9CF4D70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79200" y="122400"/>
            <a:ext cx="8856720" cy="1944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500040" y="19285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c1c1"/>
                </a:solidFill>
                <a:latin typeface="Arial"/>
                <a:ea typeface="Arial"/>
              </a:rPr>
              <a:t>Выбор способа кодирования информации может быть связан с предполагаемым способом ее обработки</a:t>
            </a:r>
            <a:r>
              <a:rPr b="0" lang="ru-RU" sz="3000" spc="-1" strike="noStrike">
                <a:solidFill>
                  <a:srgbClr val="ffc1c1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кажем это на примере представления чисел — количественной информации. Используя русский алфавит, можно записать число "</a:t>
            </a: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тридцать пя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". Используя же алфавит арабской десятичной системы счисления, пишем «</a:t>
            </a:r>
            <a:r>
              <a:rPr b="1" lang="ru-RU" sz="1800" spc="-1" strike="noStrike">
                <a:solidFill>
                  <a:srgbClr val="00c8c3"/>
                </a:solidFill>
                <a:latin typeface="Arial"/>
                <a:ea typeface="Arial"/>
              </a:rPr>
              <a:t>3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». Второй способ не только короче первого, но и удобнее для выполнения вычислений. Какая запись удобнее для выполнения расчетов: "</a:t>
            </a:r>
            <a:r>
              <a:rPr b="0" lang="ru-RU" sz="1800" spc="-1" strike="noStrike">
                <a:solidFill>
                  <a:srgbClr val="00c8c3"/>
                </a:solidFill>
                <a:latin typeface="Arial"/>
                <a:ea typeface="Arial"/>
              </a:rPr>
              <a:t>тридцать пять умножить на сто двадцать сем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" или "</a:t>
            </a:r>
            <a:r>
              <a:rPr b="0" lang="ru-RU" sz="1800" spc="-1" strike="noStrike">
                <a:solidFill>
                  <a:srgbClr val="00c8c3"/>
                </a:solidFill>
                <a:latin typeface="Arial"/>
                <a:ea typeface="Arial"/>
              </a:rPr>
              <a:t>35 х 12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"? Очевидно — втор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BC34-6415-4538-9563-75A698558B9F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8510760" cy="1324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4288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В некоторых случаях возникает потребность засекречивания текста сообщения или документа, для того чтобы его не смогли прочитать те, кому не положено. Это называется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защитой от несанкционированного доступ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В таком случае секретный текст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шифруется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В давние времена шифрование называлось </a:t>
            </a:r>
            <a:r>
              <a:rPr b="0" i="1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тайнописью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Шифрование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 представляет собой процесс превращения открытого текста в зашифрованный, а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дешифрование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—процесс обратного преобразования, при котором восстанавливается исходный текст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c1c1"/>
                </a:solidFill>
                <a:latin typeface="Arial"/>
                <a:ea typeface="Arial"/>
              </a:rPr>
              <a:t>Шифрование — это тоже кодирование, но с засекреченным методом, известным только источнику и адресату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Методами шифрования занимается наука под названием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криптография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8DEE-52FB-453C-9F01-01C30A2E90DE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4" descr=""/>
          <p:cNvPicPr/>
          <p:nvPr/>
        </p:nvPicPr>
        <p:blipFill>
          <a:blip r:embed="rId1"/>
          <a:stretch/>
        </p:blipFill>
        <p:spPr>
          <a:xfrm>
            <a:off x="79200" y="212760"/>
            <a:ext cx="8783640" cy="1324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500040" y="1356840"/>
            <a:ext cx="44006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 1792 году во Франции Клод Шапп создал систему передачи визуальной информации, которая получила название «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Оптический телеграф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»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 простейшем виде это была цепь типовых строений, с расположенными на кровле шестами с подвижными поперечинами, которая создавалась в пределах видимости одно от другого. Шесты с подвижными поперечинами — семафоры — управлялись при помощи тросов специальными операторами изнутри строений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Шапп создал специальную таблицу кодов, где каждой букве алфавита соответствовала определенная фигура, образуемая Семафором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, в зависимости от положений поперечных брусьев относительно опорного шест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Система Шаппа позволяла передавать сообщения на скорости два слова в минуту и быстро распространилась в Европе. В Швеции цепь станций оптического телеграфа действовала до 1880 год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2"/>
          <a:stretch/>
        </p:blipFill>
        <p:spPr>
          <a:xfrm>
            <a:off x="5214960" y="1571760"/>
            <a:ext cx="3171960" cy="4228920"/>
          </a:xfrm>
          <a:prstGeom prst="rect">
            <a:avLst/>
          </a:prstGeom>
          <a:ln w="0">
            <a:noFill/>
          </a:ln>
        </p:spPr>
      </p:pic>
      <p:sp>
        <p:nvSpPr>
          <p:cNvPr id="403" name="Дата 4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603C-F5A1-4202-9748-DC458015E903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4" descr=""/>
          <p:cNvPicPr/>
          <p:nvPr/>
        </p:nvPicPr>
        <p:blipFill>
          <a:blip r:embed="rId1"/>
          <a:stretch/>
        </p:blipFill>
        <p:spPr>
          <a:xfrm>
            <a:off x="165240" y="165240"/>
            <a:ext cx="8618400" cy="14317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4500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Первым техническим средством передачи информации на расстояние стал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телеграф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, изобретенный в1837 году американцем Сэмюэлем Морзе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Телеграфное сообщение — это последовательность электрических сигналов, передаваемая от одного телеграфного аппарата по проводам к другому телеграфному аппарату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Изобретатель Сэмюель Морзе изобрел удивительный код(Азбука Морзе, код Морзе, «Морзянка»), который служит человечеству до сих пор.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я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кодируется тремя «буквами»: длинный сигнал (тире), короткий сигнал (точка) и отсутствие сигнала (пауза)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 для разделения букв. Таким образом, кодирование сводится к использованию набора символов, расположенных в строго определенном порядк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Самым знаменитым телеграфным сообщением является сигнал бедствия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"SOS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" (Save Our Souls - спасите наши души). Вот как он выглядит: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«• • • – – – • • •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13" descr="450px-Samuel_Morse"/>
          <p:cNvPicPr/>
          <p:nvPr/>
        </p:nvPicPr>
        <p:blipFill>
          <a:blip r:embed="rId2"/>
          <a:stretch/>
        </p:blipFill>
        <p:spPr>
          <a:xfrm>
            <a:off x="5357880" y="1357200"/>
            <a:ext cx="3181320" cy="424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8" name="Дата 4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39F3-DEE3-42B5-9DA8-93EF351FEF3B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426" descr=""/>
          <p:cNvPicPr/>
          <p:nvPr/>
        </p:nvPicPr>
        <p:blipFill>
          <a:blip r:embed="rId1"/>
          <a:stretch/>
        </p:blipFill>
        <p:spPr>
          <a:xfrm>
            <a:off x="225360" y="133200"/>
            <a:ext cx="8510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874800"/>
                <a:gridCol w="1181160"/>
                <a:gridCol w="906480"/>
                <a:gridCol w="1149120"/>
                <a:gridCol w="866880"/>
                <a:gridCol w="1190520"/>
                <a:gridCol w="898560"/>
                <a:gridCol w="116208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•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12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EF23-6EC6-4714-83AA-9E1A4BB1ED0A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10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51076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−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я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• − •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• −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−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 •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• −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16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E70A-9822-4097-965F-629E87C10FF4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291960" y="249120"/>
            <a:ext cx="8517240" cy="1324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571680" y="14288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 algn="ctr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1c1"/>
                </a:solidFill>
                <a:latin typeface="Arial"/>
                <a:ea typeface="Arial"/>
              </a:rPr>
              <a:t>− • −     − •    • •   − − •    • −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70000"/>
              </a:lnSpc>
              <a:spcBef>
                <a:spcPts val="7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c1c1"/>
                </a:solidFill>
                <a:latin typeface="Arial"/>
                <a:ea typeface="Arial"/>
              </a:rPr>
              <a:t>Характерной особенностью азбуки Морзе является переменная длина кода разных букв, поэтому код Морзе называют неравномерным кодом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Буквы, которые встречаются в тексте чаще, имеют более короткий код, чем редкие буквы. Это сделано для того, чтобы сократить длину всего сообщения. Но из-за переменной длины кода букв возникает проблема отделения букв друг от друга в тексте. Поэтому для разделения приходится использовать паузу (пропуск). Следовательно, телеграфный алфавит Морзе является троичным, т.к. в нем используются три знака: точка, тире, пропуск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ECAB-A53E-4C2D-8806-AB2488D9FDA9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4" descr=""/>
          <p:cNvPicPr/>
          <p:nvPr/>
        </p:nvPicPr>
        <p:blipFill>
          <a:blip r:embed="rId1"/>
          <a:stretch/>
        </p:blipFill>
        <p:spPr>
          <a:xfrm>
            <a:off x="291960" y="79200"/>
            <a:ext cx="8517240" cy="1944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14200" y="1828800"/>
            <a:ext cx="550080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7 мая 1895 года российский ученый Александр Степанович Попов на заседании Русского Физико-Химического Общества продемонстрировал прибор, названный им "грозоотметчик", который был предназначен для регистрации электромагнитных волн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Этот прибор считается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первым в мире аппаратом беспроводной телеграфии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радиоприемником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. В 1897 году при помощи аппаратов беспроводной телеграфии Попов осуществил прием и передачу сообщений между берегом и военным судно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 1899 году Попов сконструировал модернизированный вариант приемника электромагнитных волн, где прием сигналов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(азбукой Морзе)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 осуществлялся на головные телефоны оператор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 1900 году благодаря радиостанциям, построенным на острове Гогланд и на российской военно-морской базе в Котке под руководством Попова, были успешно осуществлены аварийно-спасательные работы на борту военного корабля "Генерал-адмирал Апраксин", севшего на мель у острова Гогланд. В результате обмена сообщениями, переданным методом беспроводной телеграфии, экипажу российского ледокола Ермак была своевременно и точно передана информация о финских рыбаках, находящихся на оторванной льдине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8" descr="466px-Popov"/>
          <p:cNvPicPr/>
          <p:nvPr/>
        </p:nvPicPr>
        <p:blipFill>
          <a:blip r:embed="rId2"/>
          <a:stretch/>
        </p:blipFill>
        <p:spPr>
          <a:xfrm>
            <a:off x="4994280" y="1828800"/>
            <a:ext cx="3346560" cy="4302000"/>
          </a:xfrm>
          <a:prstGeom prst="rect">
            <a:avLst/>
          </a:prstGeom>
          <a:ln w="0">
            <a:noFill/>
          </a:ln>
        </p:spPr>
      </p:pic>
      <p:sp>
        <p:nvSpPr>
          <p:cNvPr id="425" name="Дата 4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5154-B15E-4CA4-BAD6-9EBED8C0C328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Book Antiqua"/>
              </a:rPr>
              <a:t>Информация и информационные  </a:t>
            </a:r>
            <a:br>
              <a:rPr sz="3600"/>
            </a:br>
            <a:r>
              <a:rPr b="1" lang="ru-RU" sz="3600" spc="-1" strike="noStrike">
                <a:solidFill>
                  <a:srgbClr val="00b0f0"/>
                </a:solidFill>
                <a:latin typeface="Book Antiqua"/>
              </a:rPr>
              <a:t>   процессы (повторение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356840"/>
            <a:ext cx="840096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ибольший объем информации человек получает при помощи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слуха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зрения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осязания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обоняния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усовых рецепторов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Измерение температуры представляет собой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хранения информации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передачи информации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получения информации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защиты информации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использования информации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мен информацией - это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выполнение домашней работы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смотр телепрограммы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блюдение за поведением рыб в аквариуме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разговор по телефону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Тактильную информацию человек получает посредством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специальных приборов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термометра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барометра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осязания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слуха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Информацию, изложенную на доступном для получателя языке называют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лной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лезной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актуальной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достоверной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нятно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CA4E-6F50-4245-9153-4F5C15B60DE4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4" descr=""/>
          <p:cNvPicPr/>
          <p:nvPr/>
        </p:nvPicPr>
        <p:blipFill>
          <a:blip r:embed="rId1"/>
          <a:stretch/>
        </p:blipFill>
        <p:spPr>
          <a:xfrm>
            <a:off x="152280" y="-6480"/>
            <a:ext cx="8510760" cy="14335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5222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Равномерный телеграфны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код был изобретен французом Жаном Морисом Бодо в конце XIX века. В нем использовалось всего два разных вида сигналов. Не важно, как их назвать: точка и тире, плюс и минус, ноль и единица. Это два отличающихся друг от друга электрических сигнала.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лина кода всех символов одинаковая и равна пяти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В таком случае не возникает проблемы отделения букв друг от друга: каждая пятерка сигналов — это знак текста. Поэтому пропуск не нуж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476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c1c1"/>
                </a:solidFill>
                <a:latin typeface="Arial"/>
                <a:ea typeface="Arial"/>
              </a:rPr>
              <a:t>Код называется равномерным, если длина кода всех символов равн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д Бодо — это первый в истории техники способ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оичного кодирова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, информации. Благодаря этой идее удалось создать буквопечатающий телеграфный аппарат, имеющий вид пишущей машинки. Нажатие на клавишу с определенной буквой вырабатывает соответствующий пятиимпульсный сигнал, который передается по линии связ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честь Бодо была названа единица скорости передачи информации — бо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c1c1"/>
                </a:solidFill>
                <a:latin typeface="Arial"/>
                <a:ea typeface="Arial"/>
              </a:rPr>
              <a:t>В современных компьютерах для кодирования текста также применяется равномерный двоичный код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7" descr="333px-Telex"/>
          <p:cNvPicPr/>
          <p:nvPr/>
        </p:nvPicPr>
        <p:blipFill>
          <a:blip r:embed="rId2"/>
          <a:stretch/>
        </p:blipFill>
        <p:spPr>
          <a:xfrm>
            <a:off x="5643720" y="2000160"/>
            <a:ext cx="3095640" cy="28623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8"/>
          <p:cNvSpPr/>
          <p:nvPr/>
        </p:nvSpPr>
        <p:spPr>
          <a:xfrm>
            <a:off x="5929200" y="5072040"/>
            <a:ext cx="266400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Tel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3b3b"/>
                </a:solidFill>
                <a:latin typeface="Arial"/>
              </a:rPr>
              <a:t>Это интересно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3b3b"/>
                </a:solidFill>
                <a:latin typeface="Arial"/>
              </a:rPr>
              <a:t>Отель, не имеющий телекса, не может иметь рейтинг "пять звезд".</a:t>
            </a:r>
            <a:r>
              <a:rPr b="0" lang="ru-RU" sz="1600" spc="-1" strike="noStrike">
                <a:solidFill>
                  <a:srgbClr val="3b3b3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Дата 5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1412-5E08-4D1C-84A0-7FCB7195AA98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Нижний колонтитул 6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152280" y="281160"/>
            <a:ext cx="8510760" cy="1431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500040" y="16430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такое код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ведите примеры кодирования информации, используемой в физике, биологии, географии, математике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думайте свои способы кодирования русских бук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кодируйте сообщение «информатика» с помощью кода Морз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A4F6-1411-412F-87CA-3C0ACDAC6267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Информация и информационные  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   процессы (повторение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8760" y="2071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едположим, что на "марсианском" языке выражени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lot do ma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означает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т съел мыш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may s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ерая мыш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rо d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н съе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 Как написать на "марсианском" язык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ерый ко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ьте в математической форме следующее утвержде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сумму чисел от одного до пяти разделить на разность чисел десять и семь, то в результате получится  пя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кая форма записи удобне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"/>
                <a:ea typeface="Arial"/>
              </a:rPr>
              <a:t>3.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Что может обозначать запис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8-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с точки зрения продавца в магазине, машиниста электропоезда, ученика на уроке математик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E44C-23C9-43EF-AAB3-C44C89A8DC08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52280" y="371520"/>
            <a:ext cx="8510760" cy="1324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57168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ир вокруг нас полон всевозможных образов, звуков, запахов, и всю эту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нформацию доносят до сознания человека его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рганы чувств с помощью знаков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 По способу восприятия знаки делятся на: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рительные, слуховые, обонятельные, вкусовые и осязательные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Зрительные: буквы и цифры письменной речи, знаки химических элементов, музыкальные ноты, дорожные знаки и т.д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Слуховые: звуки устной речи, звуковые сигналы (звонок, колокол, свисток, гудок, сирена и т.д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Обонятельные знаки позволяют ощущать запахи. Многие животные помечают место обитания своей шерстью, запахом, показывая, что территория занята им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Органы вкуса несут информацию о вкусе еды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Осязательные знаки: рукопожатия, похлопыван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       </a:t>
            </a: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по плечу и т.д. Для слепых азбука Брайля (осязательный способ восприятия текстовой информации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6615-E007-4726-BAE6-5F55F6DCD07C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79200" y="390600"/>
            <a:ext cx="8515440" cy="1322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571680" y="1714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ля долговременного хранения знаки записываются на носители информа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Носитель информации – материальный объект, предназначенный для хранения и передачи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ля передачи информации на большие расстояния используют знаки в форм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игна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ветовые сигналы светофор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вуковые сигналы звон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лектрические сигналы в телефонных и компьютерных сетя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лектромагнитные волны передают сигналы     радио и телеви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ED4E-81FB-4639-A639-5A1442F4102E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572240" y="5286240"/>
            <a:ext cx="1400400" cy="1301760"/>
          </a:xfrm>
          <a:prstGeom prst="rect">
            <a:avLst/>
          </a:prstGeom>
          <a:ln w="0">
            <a:noFill/>
          </a:ln>
        </p:spPr>
      </p:pic>
      <p:pic>
        <p:nvPicPr>
          <p:cNvPr id="368" name="Rectangle 2" descr=""/>
          <p:cNvPicPr/>
          <p:nvPr/>
        </p:nvPicPr>
        <p:blipFill>
          <a:blip r:embed="rId2"/>
          <a:stretch/>
        </p:blipFill>
        <p:spPr>
          <a:xfrm>
            <a:off x="225360" y="39060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71680" y="14284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наки отображают объекты окружающего мира или понятия, т.е. имеют определенное значение (смыс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зличаются знаки по способу связи между их формой и значени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Console"/>
                <a:ea typeface="Arial"/>
              </a:rPr>
              <a:t>иконическ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позволяют догадаться об их смысле, т.к. имеют форму, похожую на отображаемый объект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начки на Рабочем столе операционной системы компьют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Символ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- знаки, для которых связь между формой и значением устанавливается по общепринятому соглашению (символы химических элементов, отображающие атомы химических эле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ислор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Дата 4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E031-649E-408B-8A3C-911696652C00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225360" y="334800"/>
            <a:ext cx="8510760" cy="13226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28760" y="14288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аждая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наковая систем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троится на основе определенного алфавита (набор знаков) и правил выполнения операций над зна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Язык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- знаковые системы для представления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стествен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ормальные(системы счисления, язык алгебры; ноты, точки и тире азбуки Морз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EC0B-DB09-4AF6-9A8B-309C5E18D46E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510760" cy="131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500040" y="149976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ля обмена информацией </a:t>
            </a:r>
            <a:r>
              <a:rPr b="0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с другими людьми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человек использует </a:t>
            </a:r>
            <a:r>
              <a:rPr b="1" i="1" lang="ru-RU" sz="2300" spc="-1" strike="noStrike">
                <a:solidFill>
                  <a:srgbClr val="d4d2d0"/>
                </a:solidFill>
                <a:latin typeface="Arial"/>
                <a:ea typeface="Arial"/>
              </a:rPr>
              <a:t>естественные языки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(русский, английский, китайский и др.), то есть 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я представляется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с помощью естественных языков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 основе языка лежит </a:t>
            </a: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алфавит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, то есть </a:t>
            </a: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набор</a:t>
            </a:r>
            <a:r>
              <a:rPr b="1" lang="ru-RU" sz="23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символов (знаков),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которые человек различает по их начертанию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Язык – это определенная система символов и правил представления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основе русского языка лежит кириллица, содержащая 33 знака, английский язык использует латиницу (26 знаков), китайский язык использует алфавит из десятков тысяч знаков (иероглиф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следовательности символов алфавита в соответствии с правилами грамматики образуют основные объекты языка — слова. Правила, согласно которым образуются предложения из слов данного языка, называются синтаксис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6A53-59A5-4702-834B-C1AD70B82A1B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5228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500040" y="142848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Вся информация, которую обрабатывает компьютер должна быть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редставлена двоичным кодом с помощью двух цифр: </a:t>
            </a: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0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и </a:t>
            </a: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1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 точки зрения технической реализации использование двоичной системы счисления для кодирования информации оказалось намного более простым, чем применение других способов. Действительно, удобно кодировать информацию в виде последовательности нулей и единиц, если представить эти значения как два возможных устойчивых состояния электронного элемен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0 – отсутствие электрического сигн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1 – наличие электрического сиг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ти состояния легко различать.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достаток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двоичного кодирования –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длинные коды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о в техник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егч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меть дело с большим количеством простых элементов, чем с небольшим числом слож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Способы кодирования и декодирования информации в компьютере, в первую очередь, зависит от вида информации, а именно, что должно кодироваться: числа, текст, графические изображения или звук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E4D1-4CEB-4124-90BA-74DEBBA746F4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1:16:07Z</dcterms:created>
  <dc:creator>1</dc:creator>
  <dc:description/>
  <dc:language>en-US</dc:language>
  <cp:lastModifiedBy>1</cp:lastModifiedBy>
  <dcterms:modified xsi:type="dcterms:W3CDTF">2012-06-08T13:54:51Z</dcterms:modified>
  <cp:revision>1</cp:revision>
  <dc:subject/>
  <dc:title>Кодирование информации    с помощью знаковых систем</dc:title>
</cp:coreProperties>
</file>