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C87E-4DCE-44D1-BE85-C5CB1CDA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16ED-9648-4416-9CE0-EB782754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90D4-28CA-4432-A50A-998AFEF7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2692-3025-4F7B-8222-DEE137C5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7F7A-3E14-406D-B14D-A43A43D2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E23D-334A-41C1-8A1C-0E0A26BE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9BA6-6734-4CB7-9898-C3A4DB1E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FCDC-83BA-4158-A4B4-E4984877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9ECF-3838-497E-94B1-77DCEE49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7526-60C5-4E6D-B423-C2E13671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6788-57E5-4BE1-8F66-C79D02E8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EDD5-5FA7-49BA-970D-CBBF8FFE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7C33-6D54-498C-B5E7-A093C512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9310-8036-404F-8578-500E308D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1F5D-465A-44B2-8865-B5FD8D57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4F4D-E085-4975-9EBD-CF12B379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3B94-B479-4315-9D1F-BBE9091B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88C2-B5AE-45C6-98D3-6F6C0755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CBE9-93FA-4853-956D-B989875E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EBED-79B3-4196-842D-BBE76CA5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E46C-570D-4C0A-BBD2-00DBF1DD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379F-624B-4FA4-ACDF-884AD5B2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C03C-7953-4D68-A1E9-EC9557AF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AC95-D603-44C4-8CC2-72BBF403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FB7A-1515-4CEA-B0BE-3053C221715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4165-95FC-4A90-B4FC-F496243E68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8" descr="IMG_04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3" descr="TAA_1434.JPG"/>
          <p:cNvPicPr/>
          <p:nvPr/>
        </p:nvPicPr>
        <p:blipFill>
          <a:blip r:embed="rId2"/>
          <a:stretch/>
        </p:blipFill>
        <p:spPr>
          <a:xfrm>
            <a:off x="2170080" y="762120"/>
            <a:ext cx="3382920" cy="25905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0" descr="TAA_1511.JPG"/>
          <p:cNvPicPr/>
          <p:nvPr/>
        </p:nvPicPr>
        <p:blipFill>
          <a:blip r:embed="rId3"/>
          <a:stretch/>
        </p:blipFill>
        <p:spPr>
          <a:xfrm>
            <a:off x="-19080" y="2200320"/>
            <a:ext cx="3481560" cy="29811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4" descr="TAA_1758.JPG"/>
          <p:cNvPicPr/>
          <p:nvPr/>
        </p:nvPicPr>
        <p:blipFill>
          <a:blip r:embed="rId4"/>
          <a:stretch/>
        </p:blipFill>
        <p:spPr>
          <a:xfrm>
            <a:off x="628560" y="4084560"/>
            <a:ext cx="3321000" cy="2906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5378400" y="993600"/>
            <a:ext cx="3657600" cy="1313640"/>
          </a:xfrm>
          <a:prstGeom prst="rect">
            <a:avLst/>
          </a:prstGeom>
          <a:solidFill>
            <a:srgbClr val="ffcc66">
              <a:alpha val="8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hasm"/>
              </a:rPr>
              <a:t>Образование – важнейшее из благ, если оно высшего качеств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hasm"/>
              </a:rPr>
              <a:t>Р. Киплин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4716360" y="5373720"/>
            <a:ext cx="4233960" cy="94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Государственное бюджетное образовательное учреждение средняя общеобразовательная школа № 580 Приморского района Санкт-Петербург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TextBox 8"/>
          <p:cNvGrpSpPr/>
          <p:nvPr/>
        </p:nvGrpSpPr>
        <p:grpSpPr>
          <a:xfrm>
            <a:off x="414360" y="60480"/>
            <a:ext cx="7815240" cy="1066680"/>
            <a:chOff x="414360" y="60480"/>
            <a:chExt cx="7815240" cy="1066680"/>
          </a:xfrm>
        </p:grpSpPr>
        <p:pic>
          <p:nvPicPr>
            <p:cNvPr id="89" name="TextBox 8" descr=""/>
            <p:cNvPicPr/>
            <p:nvPr/>
          </p:nvPicPr>
          <p:blipFill>
            <a:blip r:embed="rId5"/>
            <a:stretch/>
          </p:blipFill>
          <p:spPr>
            <a:xfrm>
              <a:off x="414360" y="60480"/>
              <a:ext cx="78152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68360" y="182520"/>
              <a:ext cx="770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alibri"/>
                </a:rPr>
                <a:t>Управляем качеством образования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TextBox 1"/>
          <p:cNvSpPr/>
          <p:nvPr/>
        </p:nvSpPr>
        <p:spPr>
          <a:xfrm>
            <a:off x="5148360" y="4581360"/>
            <a:ext cx="3384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меститель директора по УВР Юлаева И.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TextBox 2"/>
          <p:cNvGrpSpPr/>
          <p:nvPr/>
        </p:nvGrpSpPr>
        <p:grpSpPr>
          <a:xfrm>
            <a:off x="3724200" y="6297480"/>
            <a:ext cx="2011320" cy="693720"/>
            <a:chOff x="3724200" y="6297480"/>
            <a:chExt cx="2011320" cy="693720"/>
          </a:xfrm>
        </p:grpSpPr>
        <p:pic>
          <p:nvPicPr>
            <p:cNvPr id="93" name="TextBox 2" descr=""/>
            <p:cNvPicPr/>
            <p:nvPr/>
          </p:nvPicPr>
          <p:blipFill>
            <a:blip r:embed="rId6"/>
            <a:stretch/>
          </p:blipFill>
          <p:spPr>
            <a:xfrm>
              <a:off x="3724200" y="6297480"/>
              <a:ext cx="20113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780000" y="6334200"/>
              <a:ext cx="190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alibri"/>
                </a:rPr>
                <a:t>201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alibri"/>
                </a:rPr>
                <a:t>Санкт-Петербург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одная таблица результатов АРК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№ </a:t>
            </a: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п/п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Ф.И обучающегос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Количество баллов за выполненные зада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Общая сумма балл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71640" y="1484280"/>
          <a:ext cx="7921440" cy="2747880"/>
        </p:xfrm>
        <a:graphic>
          <a:graphicData uri="http://schemas.openxmlformats.org/drawingml/2006/table">
            <a:tbl>
              <a:tblPr/>
              <a:tblGrid>
                <a:gridCol w="431640"/>
                <a:gridCol w="720720"/>
                <a:gridCol w="935280"/>
                <a:gridCol w="522000"/>
                <a:gridCol w="590760"/>
                <a:gridCol w="619200"/>
                <a:gridCol w="599760"/>
                <a:gridCol w="549360"/>
                <a:gridCol w="719280"/>
                <a:gridCol w="649080"/>
                <a:gridCol w="473040"/>
                <a:gridCol w="447840"/>
                <a:gridCol w="331920"/>
                <a:gridCol w="33156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-во выполнявших рабо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-во (%) обуч-ся, выполнивших задание вер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 о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метка  за рабо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иагностические контрольные работы (ДКР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агностика и оценка предметной обученности за определённый период обуч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енность- эт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адение обучающимся системой заданных учебной программой ЗУ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зультат предшествующего обуч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ловие успешности последующего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етодика составления ДК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-  узнавание                  репродуктивная деятельность обучающихс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- запоминание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- поним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  -обобщение внутри темы                 частично- поисковая деятельность обучающихс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- межтемное обобщ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- межпредметное обобщение         элементы эвристики, творчества; умение      использовать опорные знания в новой учебной ситу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авая фигурная скобка 3"/>
          <p:cNvSpPr/>
          <p:nvPr/>
        </p:nvSpPr>
        <p:spPr>
          <a:xfrm>
            <a:off x="3924360" y="400536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3600 h 647640"/>
              <a:gd name="textAreaBottom" fmla="*/ 644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16200" y="10800"/>
                  <a:pt x="21600" y="10800"/>
                </a:cubicBezTo>
                <a:cubicBezTo>
                  <a:pt x="162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авая фигурная скобка 4"/>
          <p:cNvSpPr/>
          <p:nvPr/>
        </p:nvSpPr>
        <p:spPr>
          <a:xfrm>
            <a:off x="3382920" y="432900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5400 h 576360"/>
              <a:gd name="textAreaBottom" fmla="*/ 570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авая фигурная скобка 5"/>
          <p:cNvSpPr/>
          <p:nvPr/>
        </p:nvSpPr>
        <p:spPr>
          <a:xfrm>
            <a:off x="3598920" y="5157720"/>
            <a:ext cx="252360" cy="432000"/>
          </a:xfrm>
          <a:custGeom>
            <a:avLst/>
            <a:gdLst>
              <a:gd name="textAreaLeft" fmla="*/ 0 w 252360"/>
              <a:gd name="textAreaRight" fmla="*/ 91080 w 252360"/>
              <a:gd name="textAreaTop" fmla="*/ 6480 h 432000"/>
              <a:gd name="textAreaBottom" fmla="*/ 42552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26"/>
                  <a:pt x="10800" y="1052"/>
                </a:cubicBezTo>
                <a:lnTo>
                  <a:pt x="10800" y="9748"/>
                </a:lnTo>
                <a:cubicBezTo>
                  <a:pt x="10800" y="10274"/>
                  <a:pt x="16200" y="10800"/>
                  <a:pt x="21600" y="10800"/>
                </a:cubicBezTo>
                <a:cubicBezTo>
                  <a:pt x="16200" y="10800"/>
                  <a:pt x="10800" y="11326"/>
                  <a:pt x="10800" y="11852"/>
                </a:cubicBezTo>
                <a:lnTo>
                  <a:pt x="10800" y="20548"/>
                </a:lnTo>
                <a:cubicBezTo>
                  <a:pt x="10800" y="2107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тодика оценивания ДК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2174400"/>
            <a:ext cx="404028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л-во бал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-1-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-1-2-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-1-2-3-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-1-2-3-4-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-1-2-3-4-5-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1763640" y="551664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ксимальный балл за ДКР- 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ы представления результата ДК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ас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л-во выполнявших рабо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аблица №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4360" y="2565360"/>
          <a:ext cx="7848360" cy="2176560"/>
        </p:xfrm>
        <a:graphic>
          <a:graphicData uri="http://schemas.openxmlformats.org/drawingml/2006/table">
            <a:tbl>
              <a:tblPr/>
              <a:tblGrid>
                <a:gridCol w="574560"/>
                <a:gridCol w="1457280"/>
                <a:gridCol w="409680"/>
                <a:gridCol w="371520"/>
                <a:gridCol w="393480"/>
                <a:gridCol w="444600"/>
                <a:gridCol w="585720"/>
                <a:gridCol w="587520"/>
                <a:gridCol w="1150920"/>
                <a:gridCol w="649080"/>
                <a:gridCol w="122400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.И обуч-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-во баллов за зад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-во баллов за рабо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 о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метка за рабо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ванов 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ова 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ласова 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755640" y="4869000"/>
          <a:ext cx="7632720" cy="1854000"/>
        </p:xfrm>
        <a:graphic>
          <a:graphicData uri="http://schemas.openxmlformats.org/drawingml/2006/table">
            <a:tbl>
              <a:tblPr/>
              <a:tblGrid>
                <a:gridCol w="720720"/>
                <a:gridCol w="2327400"/>
                <a:gridCol w="839520"/>
                <a:gridCol w="37450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вни обуч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 о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просы ДК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продуктив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стично-поиск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вристи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 о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Мониторинг качества предметной обучен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1844640"/>
            <a:ext cx="6400800" cy="720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Критер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Прямая со стрелкой 5"/>
          <p:cNvCxnSpPr/>
          <p:nvPr/>
        </p:nvCxnSpPr>
        <p:spPr>
          <a:xfrm>
            <a:off x="5724360" y="2637000"/>
            <a:ext cx="648360" cy="505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Прямая со стрелкой 9"/>
          <p:cNvCxnSpPr/>
          <p:nvPr/>
        </p:nvCxnSpPr>
        <p:spPr>
          <a:xfrm flipH="1">
            <a:off x="2987280" y="2636640"/>
            <a:ext cx="432720" cy="448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Прямая со стрелкой 15"/>
          <p:cNvCxnSpPr>
            <a:stCxn id="96" idx="2"/>
          </p:cNvCxnSpPr>
          <p:nvPr/>
        </p:nvCxnSpPr>
        <p:spPr>
          <a:xfrm flipH="1">
            <a:off x="4570200" y="2565360"/>
            <a:ext cx="2160" cy="65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Прямоугольник 23"/>
          <p:cNvSpPr/>
          <p:nvPr/>
        </p:nvSpPr>
        <p:spPr>
          <a:xfrm>
            <a:off x="755640" y="3068640"/>
            <a:ext cx="2160720" cy="1440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Уровень знаний по учебным предмет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24"/>
          <p:cNvSpPr/>
          <p:nvPr/>
        </p:nvSpPr>
        <p:spPr>
          <a:xfrm>
            <a:off x="3059280" y="3284640"/>
            <a:ext cx="2808000" cy="1224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формированность предметных ЗУ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25"/>
          <p:cNvSpPr/>
          <p:nvPr/>
        </p:nvSpPr>
        <p:spPr>
          <a:xfrm>
            <a:off x="6012000" y="3213000"/>
            <a:ext cx="2881080" cy="1224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формированность общеучебных ЗУ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27"/>
          <p:cNvSpPr/>
          <p:nvPr/>
        </p:nvSpPr>
        <p:spPr>
          <a:xfrm flipV="1">
            <a:off x="1835280" y="4508280"/>
            <a:ext cx="0" cy="43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30"/>
          <p:cNvSpPr/>
          <p:nvPr/>
        </p:nvSpPr>
        <p:spPr>
          <a:xfrm>
            <a:off x="4356000" y="443700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33"/>
          <p:cNvSpPr/>
          <p:nvPr/>
        </p:nvSpPr>
        <p:spPr>
          <a:xfrm>
            <a:off x="7308720" y="443700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35"/>
          <p:cNvSpPr/>
          <p:nvPr/>
        </p:nvSpPr>
        <p:spPr>
          <a:xfrm>
            <a:off x="826920" y="4869000"/>
            <a:ext cx="7993080" cy="1152360"/>
          </a:xfrm>
          <a:prstGeom prst="rect">
            <a:avLst/>
          </a:prstGeom>
          <a:solidFill>
            <a:srgbClr val="4f81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ндика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ИМы  ГИА,АКР, КДР, АРКР,  срезовые, проверочные работы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лементы системы мониторин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становление стандарта: критерии, индикатор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бор данных: систематическое и итоговое проведение диагностических процедур, матрицы результат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нализ результатов: сравнение полученных результатов  со стандартом, предложение корректирующих ме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нципы проведения процедуры диагностики качества предметной обуч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484280"/>
            <a:ext cx="7931160" cy="29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зависим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вершен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пределение критерия оцен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крыт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Сбор да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Прямая со стрелкой 4"/>
          <p:cNvCxnSpPr/>
          <p:nvPr/>
        </p:nvCxnSpPr>
        <p:spPr>
          <a:xfrm>
            <a:off x="5940000" y="3860640"/>
            <a:ext cx="780120" cy="448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Прямая со стрелкой 7"/>
          <p:cNvCxnSpPr/>
          <p:nvPr/>
        </p:nvCxnSpPr>
        <p:spPr>
          <a:xfrm flipH="1">
            <a:off x="2339640" y="3788280"/>
            <a:ext cx="792720" cy="3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Прямая со стрелкой 12"/>
          <p:cNvCxnSpPr/>
          <p:nvPr/>
        </p:nvCxnSpPr>
        <p:spPr>
          <a:xfrm flipH="1">
            <a:off x="3924000" y="4005360"/>
            <a:ext cx="108720" cy="684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Прямая со стрелкой 15"/>
          <p:cNvCxnSpPr/>
          <p:nvPr/>
        </p:nvCxnSpPr>
        <p:spPr>
          <a:xfrm>
            <a:off x="5003640" y="4005000"/>
            <a:ext cx="432720" cy="648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TextBox 24"/>
          <p:cNvSpPr/>
          <p:nvPr/>
        </p:nvSpPr>
        <p:spPr>
          <a:xfrm>
            <a:off x="0" y="4227480"/>
            <a:ext cx="25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ан диагностических раб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5"/>
          <p:cNvSpPr/>
          <p:nvPr/>
        </p:nvSpPr>
        <p:spPr>
          <a:xfrm>
            <a:off x="2484360" y="479736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рианты диагностичес-ких раб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6"/>
          <p:cNvSpPr/>
          <p:nvPr/>
        </p:nvSpPr>
        <p:spPr>
          <a:xfrm>
            <a:off x="4643280" y="486900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структив-ные материа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27"/>
          <p:cNvSpPr/>
          <p:nvPr/>
        </p:nvSpPr>
        <p:spPr>
          <a:xfrm>
            <a:off x="6659640" y="4437000"/>
            <a:ext cx="24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струкция по оценке диагностических раб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 u="sng">
                <a:solidFill>
                  <a:srgbClr val="000000"/>
                </a:solidFill>
                <a:uFillTx/>
                <a:latin typeface="Calibri"/>
              </a:rPr>
              <a:t>Административные разноуровневые контрольные работы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 (АРКР)- эт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ифференцированный подход к обучени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зможность ощутить успех даже слабому ученик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еальная оценка своих возможност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воевременная коррекция знан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дготовка к текущему итоговому контрол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АРКР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оводятся в течение учебного года по основным предметам учебного пла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оставляются по материалу триместра, большой темы, нескольких т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ключают задания трёх уровней сложн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цениваются по балльной шкал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зволяют сопоставить достижения и возможности обучающегося по различным предмета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АРК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493236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для учителя- это возможность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50560" y="1628280"/>
            <a:ext cx="4392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флексии своей деятель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ышения своего профессионального уровн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ъективности оцени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ифференцированного подхода к обучен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ектирования индивидуальной траектории обучающего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4720" y="765000"/>
            <a:ext cx="417492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для ученика-эт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4720" y="1628640"/>
            <a:ext cx="4319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истема мини-испытаний, подобных по своей структуре ЕГЭ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нструмент для определения ЗУН по конкретному разделу учебной программы в конкретный момент време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казатель качества знан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ыявление пробелов в знания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пределение способностей, возможностей и перспекти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АРК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системе мониторинга, ВШ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авление графика АРКР в начале учебного го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ование тематики и сроков проведения раб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знакомление с графиком обучающихся, родителей, уч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рафик проведения АРКР на 2010-2011 учебный го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Таблица 3" descr=""/>
          <p:cNvPicPr/>
          <p:nvPr/>
        </p:nvPicPr>
        <p:blipFill>
          <a:blip r:embed="rId1"/>
          <a:stretch/>
        </p:blipFill>
        <p:spPr>
          <a:xfrm>
            <a:off x="1432080" y="3541680"/>
            <a:ext cx="656568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одика составления и оцениван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К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50920" y="1052640"/>
          <a:ext cx="8713800" cy="5675040"/>
        </p:xfrm>
        <a:graphic>
          <a:graphicData uri="http://schemas.openxmlformats.org/drawingml/2006/table">
            <a:tbl>
              <a:tblPr/>
              <a:tblGrid>
                <a:gridCol w="1296720"/>
                <a:gridCol w="1295640"/>
                <a:gridCol w="4392720"/>
                <a:gridCol w="1728720"/>
              </a:tblGrid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вень сложности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мер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держание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ксимальное количество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3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сложное задание, проверяющее знание образовательных стандар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 запомнил-воспроизвё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ее сложное задание, не выходящее за рамки стандартов, соответствующее уровню применения ЗУ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бал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бал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0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жное задание, но находящееся в рамках программы, требующее умение применять знания в нестандартной ситуации, проявить смекалку,  элементы творч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бал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агностическая карта по результатам АКР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836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ител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дме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м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лас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а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личество выполнявших работ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50920" y="3429000"/>
          <a:ext cx="8569080" cy="3095640"/>
        </p:xfrm>
        <a:graphic>
          <a:graphicData uri="http://schemas.openxmlformats.org/drawingml/2006/table">
            <a:tbl>
              <a:tblPr/>
              <a:tblGrid>
                <a:gridCol w="649080"/>
                <a:gridCol w="2159280"/>
                <a:gridCol w="792000"/>
                <a:gridCol w="792000"/>
                <a:gridCol w="720720"/>
                <a:gridCol w="792360"/>
                <a:gridCol w="792000"/>
                <a:gridCol w="792360"/>
                <a:gridCol w="1079280"/>
              </a:tblGrid>
              <a:tr h="663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.И обучающего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баллов за выполненные 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ая сумма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37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ванов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37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инова 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37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ласов 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09:51:20Z</dcterms:created>
  <dc:creator>user</dc:creator>
  <dc:description/>
  <dc:language>en-US</dc:language>
  <cp:lastModifiedBy>user</cp:lastModifiedBy>
  <dcterms:modified xsi:type="dcterms:W3CDTF">2012-02-08T07:35:43Z</dcterms:modified>
  <cp:revision>32</cp:revision>
  <dc:subject/>
  <dc:title>Мониторинг качества предметной обученности</dc:title>
</cp:coreProperties>
</file>