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F2F-E2CD-4DFA-AFE0-4958401E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04B-AEB7-4685-9CC1-FB38990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47A-3EA9-4C77-A8E6-106DBDB7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DF8-4FA4-481C-9ED4-64CE237C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51E-F70D-48FD-92F0-39A0ACEC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5614-9ACE-41A5-B5EB-19106FA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9FA2-85CC-411A-98A5-C04600B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CEE-9239-4BDF-A12D-FB6666AE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9972-5068-403E-873A-0A3D535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56B1-4E7A-4B0A-A764-C1090A3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757-0908-41CA-8D69-F7EA970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0D7-F125-4369-A9A9-C4FB9E75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770D-EFDD-4958-B838-80398CB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963A-0ACE-4C1A-97B6-BE2840C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29E9-97F9-4584-B5E2-81B82BE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5B8-3F04-4245-9B9B-71734A44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19D6-7F77-48B9-8B24-1853CDE8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4E3-682E-442D-BCB1-E74DE28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B19-16B0-4B2B-B7B5-1D818348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B32-55EC-41DF-9DEC-F4FC780E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262-1B06-48CE-86F6-A60CCBB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0AB-AE53-43FE-A36F-F7DEE75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412-3947-489D-BE37-EAFB102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496-02AC-4A17-89F8-FB9F34E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33F-331D-4EA2-B186-0FA33F0A66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7D8-0A26-4348-A930-384D8C6B18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IMG_0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TAA_1434.JPG"/>
          <p:cNvPicPr/>
          <p:nvPr/>
        </p:nvPicPr>
        <p:blipFill>
          <a:blip r:embed="rId2"/>
          <a:stretch/>
        </p:blipFill>
        <p:spPr>
          <a:xfrm>
            <a:off x="2170080" y="762120"/>
            <a:ext cx="3382920" cy="2590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TAA_1511.JPG"/>
          <p:cNvPicPr/>
          <p:nvPr/>
        </p:nvPicPr>
        <p:blipFill>
          <a:blip r:embed="rId3"/>
          <a:stretch/>
        </p:blipFill>
        <p:spPr>
          <a:xfrm>
            <a:off x="-19080" y="2200320"/>
            <a:ext cx="3481560" cy="29811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TAA_1758.JPG"/>
          <p:cNvPicPr/>
          <p:nvPr/>
        </p:nvPicPr>
        <p:blipFill>
          <a:blip r:embed="rId4"/>
          <a:stretch/>
        </p:blipFill>
        <p:spPr>
          <a:xfrm>
            <a:off x="628560" y="4084560"/>
            <a:ext cx="332100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5378400" y="993600"/>
            <a:ext cx="3657600" cy="1313640"/>
          </a:xfrm>
          <a:prstGeom prst="rect">
            <a:avLst/>
          </a:prstGeom>
          <a:solidFill>
            <a:srgbClr val="ffcc66">
              <a:alpha val="8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hasm"/>
              </a:rPr>
              <a:t>Образование – важнейшее из благ, если оно высшего ка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hasm"/>
              </a:rPr>
              <a:t>Р. Кипл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716360" y="5373720"/>
            <a:ext cx="423396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разовательное учреждение средняя общеобразовательная школа № 580 Приморского района Санкт-Петербург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TextBox 8"/>
          <p:cNvGrpSpPr/>
          <p:nvPr/>
        </p:nvGrpSpPr>
        <p:grpSpPr>
          <a:xfrm>
            <a:off x="414360" y="60480"/>
            <a:ext cx="7815240" cy="1066680"/>
            <a:chOff x="414360" y="60480"/>
            <a:chExt cx="7815240" cy="1066680"/>
          </a:xfrm>
        </p:grpSpPr>
        <p:pic>
          <p:nvPicPr>
            <p:cNvPr id="89" name="TextBox 8" descr=""/>
            <p:cNvPicPr/>
            <p:nvPr/>
          </p:nvPicPr>
          <p:blipFill>
            <a:blip r:embed="rId5"/>
            <a:stretch/>
          </p:blipFill>
          <p:spPr>
            <a:xfrm>
              <a:off x="414360" y="60480"/>
              <a:ext cx="781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68360" y="182520"/>
              <a:ext cx="77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Управляем качеством образовани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1"/>
          <p:cNvSpPr/>
          <p:nvPr/>
        </p:nvSpPr>
        <p:spPr>
          <a:xfrm>
            <a:off x="5148360" y="4581360"/>
            <a:ext cx="33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ститель директора по УВР Юлаева И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extBox 2"/>
          <p:cNvGrpSpPr/>
          <p:nvPr/>
        </p:nvGrpSpPr>
        <p:grpSpPr>
          <a:xfrm>
            <a:off x="3724200" y="6297480"/>
            <a:ext cx="2011320" cy="693720"/>
            <a:chOff x="3724200" y="6297480"/>
            <a:chExt cx="2011320" cy="693720"/>
          </a:xfrm>
        </p:grpSpPr>
        <p:pic>
          <p:nvPicPr>
            <p:cNvPr id="93" name="TextBox 2" descr=""/>
            <p:cNvPicPr/>
            <p:nvPr/>
          </p:nvPicPr>
          <p:blipFill>
            <a:blip r:embed="rId6"/>
            <a:stretch/>
          </p:blipFill>
          <p:spPr>
            <a:xfrm>
              <a:off x="3724200" y="6297480"/>
              <a:ext cx="20113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780000" y="6334200"/>
              <a:ext cx="190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дная таблица результатов АРК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№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/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Ф.И обучающего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Количество баллов за выполненные зад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бщая сумма бал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71640" y="1484280"/>
          <a:ext cx="7921440" cy="2747880"/>
        </p:xfrm>
        <a:graphic>
          <a:graphicData uri="http://schemas.openxmlformats.org/drawingml/2006/table">
            <a:tbl>
              <a:tblPr/>
              <a:tblGrid>
                <a:gridCol w="431640"/>
                <a:gridCol w="720720"/>
                <a:gridCol w="935280"/>
                <a:gridCol w="522000"/>
                <a:gridCol w="590760"/>
                <a:gridCol w="619200"/>
                <a:gridCol w="599760"/>
                <a:gridCol w="549360"/>
                <a:gridCol w="719280"/>
                <a:gridCol w="649080"/>
                <a:gridCol w="473040"/>
                <a:gridCol w="447840"/>
                <a:gridCol w="331920"/>
                <a:gridCol w="33156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выполнявших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(%) обуч-ся, выполнивших задание ве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  з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иагностические контрольные работы (ДК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ностика и оценка предметной обученности за определённый период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ность- 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 обучающимся системой заданных учебной программой ЗУ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 предшествующего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ловие успешности последующе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ика составления ДК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-  узнавание                  репродуктивная деятельность обучаю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- запоминание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- поним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  -обобщение внутри темы                 частично- поисковая деятельность обучаю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- межтемное обобщ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- межпредметное обобщение         элементы эвристики, творчества; умение      использовать опорные знания в новой учебной ситу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авая фигурная скобка 3"/>
          <p:cNvSpPr/>
          <p:nvPr/>
        </p:nvSpPr>
        <p:spPr>
          <a:xfrm>
            <a:off x="3924360" y="400536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7640"/>
              <a:gd name="textAreaBottom" fmla="*/ 644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авая фигурная скобка 4"/>
          <p:cNvSpPr/>
          <p:nvPr/>
        </p:nvSpPr>
        <p:spPr>
          <a:xfrm>
            <a:off x="3382920" y="4329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5400 h 576360"/>
              <a:gd name="textAreaBottom" fmla="*/ 570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авая фигурная скобка 5"/>
          <p:cNvSpPr/>
          <p:nvPr/>
        </p:nvSpPr>
        <p:spPr>
          <a:xfrm>
            <a:off x="3598920" y="5157720"/>
            <a:ext cx="252360" cy="432000"/>
          </a:xfrm>
          <a:custGeom>
            <a:avLst/>
            <a:gdLst>
              <a:gd name="textAreaLeft" fmla="*/ 0 w 252360"/>
              <a:gd name="textAreaRight" fmla="*/ 91080 w 252360"/>
              <a:gd name="textAreaTop" fmla="*/ 6480 h 432000"/>
              <a:gd name="textAreaBottom" fmla="*/ 4255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16200" y="10800"/>
                  <a:pt x="21600" y="10800"/>
                </a:cubicBezTo>
                <a:cubicBezTo>
                  <a:pt x="162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ика оценивания ДК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174400"/>
            <a:ext cx="404028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-во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-5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763640" y="5516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ый балл за ДКР-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ы представления результата ДК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-во выполнявших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блица №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2565360"/>
          <a:ext cx="7848360" cy="2176560"/>
        </p:xfrm>
        <a:graphic>
          <a:graphicData uri="http://schemas.openxmlformats.org/drawingml/2006/table">
            <a:tbl>
              <a:tblPr/>
              <a:tblGrid>
                <a:gridCol w="574560"/>
                <a:gridCol w="1457280"/>
                <a:gridCol w="409680"/>
                <a:gridCol w="371520"/>
                <a:gridCol w="393480"/>
                <a:gridCol w="444600"/>
                <a:gridCol w="585720"/>
                <a:gridCol w="587520"/>
                <a:gridCol w="1150920"/>
                <a:gridCol w="649080"/>
                <a:gridCol w="1224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 об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баллов за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баллов з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 з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ва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а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4869000"/>
          <a:ext cx="7632720" cy="1854000"/>
        </p:xfrm>
        <a:graphic>
          <a:graphicData uri="http://schemas.openxmlformats.org/drawingml/2006/table">
            <a:tbl>
              <a:tblPr/>
              <a:tblGrid>
                <a:gridCol w="720720"/>
                <a:gridCol w="2327400"/>
                <a:gridCol w="839520"/>
                <a:gridCol w="37450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ни обу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 ДК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роду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чно-поиск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 о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Мониторинг качества предметной обуч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рите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5"/>
          <p:cNvCxnSpPr/>
          <p:nvPr/>
        </p:nvCxnSpPr>
        <p:spPr>
          <a:xfrm>
            <a:off x="5724360" y="2637000"/>
            <a:ext cx="64836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9"/>
          <p:cNvCxnSpPr/>
          <p:nvPr/>
        </p:nvCxnSpPr>
        <p:spPr>
          <a:xfrm flipH="1">
            <a:off x="2987280" y="2636640"/>
            <a:ext cx="432720" cy="44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15"/>
          <p:cNvCxnSpPr>
            <a:stCxn id="96" idx="2"/>
          </p:cNvCxnSpPr>
          <p:nvPr/>
        </p:nvCxnSpPr>
        <p:spPr>
          <a:xfrm flipH="1">
            <a:off x="4570200" y="2565360"/>
            <a:ext cx="2160" cy="65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23"/>
          <p:cNvSpPr/>
          <p:nvPr/>
        </p:nvSpPr>
        <p:spPr>
          <a:xfrm>
            <a:off x="755640" y="3068640"/>
            <a:ext cx="2160720" cy="144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ровень знаний по учебным предм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4"/>
          <p:cNvSpPr/>
          <p:nvPr/>
        </p:nvSpPr>
        <p:spPr>
          <a:xfrm>
            <a:off x="3059280" y="3284640"/>
            <a:ext cx="280800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формированность предметных З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5"/>
          <p:cNvSpPr/>
          <p:nvPr/>
        </p:nvSpPr>
        <p:spPr>
          <a:xfrm>
            <a:off x="6012000" y="3213000"/>
            <a:ext cx="288108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формированность общеучебных З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27"/>
          <p:cNvSpPr/>
          <p:nvPr/>
        </p:nvSpPr>
        <p:spPr>
          <a:xfrm flipV="1">
            <a:off x="1835280" y="4508280"/>
            <a:ext cx="0" cy="43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30"/>
          <p:cNvSpPr/>
          <p:nvPr/>
        </p:nvSpPr>
        <p:spPr>
          <a:xfrm>
            <a:off x="4356000" y="4437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33"/>
          <p:cNvSpPr/>
          <p:nvPr/>
        </p:nvSpPr>
        <p:spPr>
          <a:xfrm>
            <a:off x="7308720" y="4437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5"/>
          <p:cNvSpPr/>
          <p:nvPr/>
        </p:nvSpPr>
        <p:spPr>
          <a:xfrm>
            <a:off x="826920" y="4869000"/>
            <a:ext cx="7993080" cy="115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дик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ИМы  ГИА,АКР, КДР, АРКР,  срезовые, проверочные работы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ы системы монитори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ие стандарта: критерии, индикато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бор данных: систематическое и итоговое проведение диагностических процедур, матрицы результа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результатов: сравнение полученных результатов  со стандартом, предложение корректирующих м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проведения процедуры диагностики качества предметной обуч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484280"/>
            <a:ext cx="7931160" cy="29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ерш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критерия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т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бор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Прямая со стрелкой 4"/>
          <p:cNvCxnSpPr/>
          <p:nvPr/>
        </p:nvCxnSpPr>
        <p:spPr>
          <a:xfrm>
            <a:off x="5940000" y="3860640"/>
            <a:ext cx="780120" cy="448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7"/>
          <p:cNvCxnSpPr/>
          <p:nvPr/>
        </p:nvCxnSpPr>
        <p:spPr>
          <a:xfrm flipH="1">
            <a:off x="2339640" y="3788280"/>
            <a:ext cx="79272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Прямая со стрелкой 12"/>
          <p:cNvCxnSpPr/>
          <p:nvPr/>
        </p:nvCxnSpPr>
        <p:spPr>
          <a:xfrm flipH="1">
            <a:off x="3924000" y="4005360"/>
            <a:ext cx="108720" cy="68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Прямая со стрелкой 15"/>
          <p:cNvCxnSpPr/>
          <p:nvPr/>
        </p:nvCxnSpPr>
        <p:spPr>
          <a:xfrm>
            <a:off x="5003640" y="4005000"/>
            <a:ext cx="43272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Box 24"/>
          <p:cNvSpPr/>
          <p:nvPr/>
        </p:nvSpPr>
        <p:spPr>
          <a:xfrm>
            <a:off x="0" y="422748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иагностичес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2484360" y="4797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ы диагностичес-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4643280" y="486900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тив-ные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7"/>
          <p:cNvSpPr/>
          <p:nvPr/>
        </p:nvSpPr>
        <p:spPr>
          <a:xfrm>
            <a:off x="6659640" y="4437000"/>
            <a:ext cx="24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 по оценке диагностичес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тивные разноуровневые контрольные работ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(АРКР)- э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зможность ощутить успех даже слабому учени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альная оценка своих возможнос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воевременная коррекция зн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отовка к текущему итоговому контрол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К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водятся в течение учебного года по основным предметам учебного пл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ставляются по материалу триместра, большой темы, нескольких т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ключают задания трёх уровней сло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иваются по балльной шка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зволяют сопоставить достижения и возможности обучающегося по различным предме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АРК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93236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ля учителя- это возможнос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628280"/>
            <a:ext cx="439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флексии свое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я своего профессионального уров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ктивности оцени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фференцированного подхода к обуч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ирования индивидуальной траектории обучаю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765000"/>
            <a:ext cx="41749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ля ученика-эт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4720" y="1628640"/>
            <a:ext cx="431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стема мини-испытаний, подобных по своей структуре ЕГ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струмент для определения ЗУН по конкретному разделу учебной программы в конкретный момент вре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казатель качества зн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явление пробелов в знания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способностей, возможностей и перспекти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РК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истеме мониторинга, ВШ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графика АРКР в начале учебного г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е тематики и сроков проведения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с графиком обучающихся, родителей,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к проведения АРКР на 2010-2011 учебный г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Таблица 3" descr=""/>
          <p:cNvPicPr/>
          <p:nvPr/>
        </p:nvPicPr>
        <p:blipFill>
          <a:blip r:embed="rId1"/>
          <a:stretch/>
        </p:blipFill>
        <p:spPr>
          <a:xfrm>
            <a:off x="1432080" y="3541680"/>
            <a:ext cx="65656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ка составления и оценив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К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052640"/>
          <a:ext cx="8713800" cy="567504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  <a:gridCol w="4392720"/>
                <a:gridCol w="172872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сложности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имальное 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ложное задание, проверяющее знание образовательных стандар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запомнил-воспроизвё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сложное задание, не выходящее за рамки стандартов, соответствующее уровню применения ЗУ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ое задание, но находящееся в рамках программы, требующее умение применять знания в нестандартной ситуации, проявить смекалку,  элементы твор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ческая карта по результатам АК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83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ичество выполнявших рабо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3429000"/>
          <a:ext cx="8569080" cy="3095640"/>
        </p:xfrm>
        <a:graphic>
          <a:graphicData uri="http://schemas.openxmlformats.org/drawingml/2006/table">
            <a:tbl>
              <a:tblPr/>
              <a:tblGrid>
                <a:gridCol w="649080"/>
                <a:gridCol w="2159280"/>
                <a:gridCol w="792000"/>
                <a:gridCol w="792000"/>
                <a:gridCol w="720720"/>
                <a:gridCol w="792360"/>
                <a:gridCol w="792000"/>
                <a:gridCol w="792360"/>
                <a:gridCol w="1079280"/>
              </a:tblGrid>
              <a:tr h="663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 обучаю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баллов за выполненн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сумма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но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51:20Z</dcterms:created>
  <dc:creator>user</dc:creator>
  <dc:description/>
  <dc:language>en-US</dc:language>
  <cp:lastModifiedBy>user</cp:lastModifiedBy>
  <dcterms:modified xsi:type="dcterms:W3CDTF">2012-02-08T07:35:43Z</dcterms:modified>
  <cp:revision>32</cp:revision>
  <dc:subject/>
  <dc:title>Мониторинг качества предметной обученности</dc:title>
</cp:coreProperties>
</file>