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D58-21DA-44F6-94FC-1BAB2DC5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A01-9ABA-4103-BC21-DC313589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564-C36E-4D5C-9B5F-2A38900B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DC7-DAD3-4C8F-9D96-879CF4B1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AE4-26FA-4C72-92F6-E1DDE0F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D7E-4AE7-4BE4-8C32-F76F582F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9B2-43BF-4A2D-A55E-C52D7CC5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9F8-C51F-4848-9AC4-F11B97C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123-5E8C-4625-B631-1B17971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197-C57E-4023-991B-8142797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447-DC70-48D6-99B6-74EA4E5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4DA-5474-45EA-9374-9C05E81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54C-E0D0-4448-8C23-F1F6DEC2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dersmal.net/ryska/index.php/laeromedel/-3-4" TargetMode="External"/><Relationship Id="rId2" Type="http://schemas.openxmlformats.org/officeDocument/2006/relationships/hyperlink" Target="http://prkas.ru/index.php?id=145" TargetMode="External"/><Relationship Id="rId3" Type="http://schemas.openxmlformats.org/officeDocument/2006/relationships/hyperlink" Target="http://www.photoforum.ru/photo/182993/index.ru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лай  Сладк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Снег и  Ве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литературного чтения 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шиева Наталья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87480" cy="41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148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я № 227  Фрунзенского рай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добрать  эпит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Ручеёк  (какой?)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быстрый,  звонкий,  журчащий, холодный,  прозрач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унулся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охо  выгляд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унулся – похуде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терять бодрость, стать вялым, апатичным, бездейственны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жидкая грязь на земле, на дорога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ься,  теч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Меня  удивил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почувствовал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думаю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ь пересказ и чтение по р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ersmal.net/ryska/index.php/laeromedel/-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kas.ru/index.php?id=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forum.ru/photo/182993/index.ru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будем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будем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ак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 нас на дворе, подвор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года размокропогоди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иколай  Сл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Иванович Сладков родился 5 января 1920 года в Москве, но всю жизнь прожил в Ленинграде. С детства он любил природу и интересовался ею. Со второго класса начал вести дневник, куда вписывал свои первые впечатления и наблюдения. В молодости увлекался охотой, однако впоследствии отказался от этого занятия, считая спортивную охоту варварством. Вместо неё стал заниматься фотоохотой, выдвинул призыв «Не бери в лес ружье, возьми в лес фоторужье». 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ую книгу «Серебряный хвост» написал в 1953 г. Всего написал более 60 книг. Вместе с Виталием Бианки выпускал радиопередачу «Вести из Леса». Много путешествовал, как правило в одиночку, эти путешествия отражены в книгах. Много писал о необходимости защиты природы, охраны исчезающих видов, воспитания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Незаметно зажглась и тихо начала разгораться алая полос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5335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 и  Вете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урорт – место для  отдыха и л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2212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 образное  определение, которое даёт художественную характеристику явлению или  предмету. Эпитет представляет собой  сравнение и может быть выражен как  именем  прилагательным, так и существительным, глаголом или  наречием. Например,  золотая  осень,  синее  море,  белоснежная  зима, бархатная  кожа,  хрустальный  зв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44:25Z</dcterms:created>
  <dc:creator>Natalia</dc:creator>
  <dc:description/>
  <dc:language>en-US</dc:language>
  <cp:lastModifiedBy>Natalia</cp:lastModifiedBy>
  <dcterms:modified xsi:type="dcterms:W3CDTF">2012-06-09T10:07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