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8D3-0006-45E2-AEEF-75C373A0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227-D7F8-487D-8742-07E37746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D1-C770-4A35-B737-FDF42218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B78-2E59-4B3C-8560-93967875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D17-1CDE-44DF-B9A6-FCEB6DA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D76-4F50-427E-97FC-E33B87D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0EB-3DE5-4018-889F-38EA5A4A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AD5-7905-45FA-8633-92945E9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03C-9BA1-4255-8E4B-461BD32A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216-F847-4228-B061-7AAB7B6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186-F2E5-4043-BAE3-CEBA6E3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C91-B34B-4A19-B7A8-619FE81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72B6-24AE-4918-9277-4A5CC58A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odersmal.net/ryska/index.php/laeromedel/-3-4" TargetMode="External"/><Relationship Id="rId2" Type="http://schemas.openxmlformats.org/officeDocument/2006/relationships/hyperlink" Target="http://prkas.ru/index.php?id=145" TargetMode="External"/><Relationship Id="rId3" Type="http://schemas.openxmlformats.org/officeDocument/2006/relationships/hyperlink" Target="http://www.photoforum.ru/photo/182993/index.ru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2130120"/>
            <a:ext cx="6400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иколай  Сладков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«Снег и  Вете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46479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 литературного чтения 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ншиева Наталья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87480" cy="4151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114800" y="457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мназия № 227  Фрунзенского рай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нкт –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одобрать  эпит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Arial"/>
              </a:rPr>
              <a:t>Ручеёк  (какой?)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быстрый,  звонкий,  журчащий, холодный,  прозрач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сунулся –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бъясните значения  сл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 тебе нет  лица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лохо  выгляд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Осунулся – похудет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скис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терять бодрость, стать вялым, апатичным, бездейственным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лякоть развёл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жидкая грязь на земле, на дорога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струился –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ься,  теч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7328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Меня  удивил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почувствовал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Arial"/>
              </a:rPr>
              <a:t>Я  думаю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машнее 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ь пересказ и чтение по ро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dersmal.net/ryska/index.php/laeromedel/-3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rkas.ru/index.php?id=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hotoforum.ru/photo/182993/index.ru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то хочет разговари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от должен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се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ы будем раз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 будем выговар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ак правильно и внят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Чтоб было всем поня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короговор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 нас на дворе, подворь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года размокропогодила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3505320"/>
            <a:ext cx="38862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иколай  Слад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4038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олай Иванович Сладков родился 5 января 1920 года в Москве, но всю жизнь прожил в Ленинграде. С детства он любил природу и интересовался ею. Со второго класса начал вести дневник, куда вписывал свои первые впечатления и наблюдения. В молодости увлекался охотой, однако впоследствии отказался от этого занятия, считая спортивную охоту варварством. Вместо неё стал заниматься фотоохотой, выдвинул призыв «Не бери в лес ружье, возьми в лес фоторужье». Во время войны добровольцем ушёл на фронт, стал военным топографом. В мирное время сохранил ту же специа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ую книгу «Серебряный хвост» написал в 1953 г. Всего написал более 60 книг. Вместе с Виталием Бианки выпускал радиопередачу «Вести из Леса». Много путешествовал, как правило в одиночку, эти путешествия отражены в книгах. Много писал о необходимости защиты природы, охраны исчезающих видов, воспитания бережного отношения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Незаметно зажглась и тихо начала разгораться алая полоска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371600" y="5335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 и  Вете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Курорт – место для  отдыха и ле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2212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 образное  определение, которое даёт художественную характеристику явлению или  предмету. Эпитет представляет собой  сравнение и может быть выражен как  именем  прилагательным, так и существительным, глаголом или  наречием. Например,  золотая  осень,  синее  море,  белоснежная  зима, бархатная  кожа,  хрустальный  зв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06:44:25Z</dcterms:created>
  <dc:creator>Natalia</dc:creator>
  <dc:description/>
  <dc:language>en-US</dc:language>
  <cp:lastModifiedBy>Natalia</cp:lastModifiedBy>
  <dcterms:modified xsi:type="dcterms:W3CDTF">2012-06-09T10:07:50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