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laser.wav" ContentType="audio/x-wav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497F-D3C0-456C-8C13-451B326E0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4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4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CC60-896C-4F57-9DFF-85D5843E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1160" y="236196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1160" y="430740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6BBB-D249-4012-A1B0-1449DFDAD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75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800" y="2361960"/>
            <a:ext cx="24775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1520" y="2361960"/>
            <a:ext cx="24775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75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800" y="4307400"/>
            <a:ext cx="24775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1520" y="4307400"/>
            <a:ext cx="24775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5E80-E114-4514-A3EC-094068EF7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BABB-7D82-49F1-BF2B-080ED0B21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464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57D5-34F4-4E0D-AE10-956B04F2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4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A653-BDDD-4F8C-B5B9-D9575BEE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1160" y="2361960"/>
            <a:ext cx="3754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3D35-7027-4F16-806E-03AF230B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AD7A4-CC51-4F70-8831-E3776EFD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6F8F-FA5A-446F-A0E2-469D42E0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1160" y="2361960"/>
            <a:ext cx="3754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280C-224A-467A-9C90-78B00FEC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464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4577-B9E5-4BBC-96B8-CA7452FA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1160" y="236196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1160" y="430740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F9EE-6549-4BA6-9EFF-7B230268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1160" y="236196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4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06AC7-D719-476B-B431-E9E41FD8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4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4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2828-A928-4BB8-BD29-9C61A264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1160" y="236196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1160" y="430740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9BDC-B6A7-4071-8146-414CFA671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75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800" y="2361960"/>
            <a:ext cx="24775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1520" y="2361960"/>
            <a:ext cx="24775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75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800" y="4307400"/>
            <a:ext cx="24775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1520" y="4307400"/>
            <a:ext cx="24775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6FC2D-6C93-4039-8B85-2E7D4CE2F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4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896C-05AA-4E75-84BF-3655BCFB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1160" y="2361960"/>
            <a:ext cx="3754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B2DC-735D-4D1C-A24F-BA0B9F9F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EAB4-4610-4AC1-BC6D-33B81B09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0E7A-8E69-41CB-9CA8-C77F296A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1160" y="2361960"/>
            <a:ext cx="3754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1170-CF37-4626-99E5-B990EB76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1160" y="236196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1160" y="430740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708A-81EB-4DCB-9344-C15868D7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1160" y="236196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4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1A17-3A05-415F-98A3-3BBC0BF2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4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7920" y="624852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F5A6-CEA3-4CAD-9A36-80B99F7C4C7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4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7920" y="624852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6320" y="6248520"/>
            <a:ext cx="5889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DF63-B85E-4C13-B2F7-D4B2585A393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4"/>
          <p:cNvSpPr txBox="1"/>
          <p:nvPr/>
        </p:nvSpPr>
        <p:spPr>
          <a:xfrm>
            <a:off x="1042920" y="981000"/>
            <a:ext cx="770580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КРУЖНОСТЬ и КРУГ дружно живут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3284280"/>
            <a:ext cx="401328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Выполнила учениц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8 класс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Безвинная Елизаве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ОКРУЖНОСТ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26560" y="2349360"/>
            <a:ext cx="744876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0000"/>
                </a:solidFill>
                <a:latin typeface="French Script MT"/>
              </a:rPr>
              <a:t> 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лина окружност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0000"/>
                </a:solidFill>
                <a:latin typeface="French Script MT"/>
              </a:rPr>
              <a:t> 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π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0000"/>
                </a:solidFill>
                <a:latin typeface="French Script MT"/>
              </a:rPr>
              <a:t> l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π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                         </a:t>
            </a:r>
            <a:r>
              <a:rPr b="0" lang="en-US" sz="2800" spc="-1" strike="noStrike">
                <a:solidFill>
                  <a:srgbClr val="cc0000"/>
                </a:solidFill>
                <a:latin typeface="French Script MT"/>
              </a:rPr>
              <a:t> 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Для построения окружности необходим чертежный инструмент – циркуль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1988640"/>
            <a:ext cx="7694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Чтоб окружность начертить,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Надо с циркулем дружить.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Закружит одной ногой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Циркуль твой – циркач лихой.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Часто видишь на дороге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Знак запрета очень строгий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Круг, заметив с “кирпичом” -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Помни, въезд здесь запрещён!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На дежурстве в центре вод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Лодка с надписью “ОСВОД”.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Знай, придёт на помощь круг,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Он в беде надёжный друг.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Дождь пришёл на небе ярко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Засияло диво – арка.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Появился полукруг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Разноцветных радуг – дуг.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Лихо мчится птица-тройка.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Чудо дуги плещут бойко.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Кони быстрые летят,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Колокольчики звенят. (Э. Звоницкий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Круг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это плоскость внутри окружност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А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          кругу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В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          кругу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Д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иаметр делит круг на два полукруг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4" name="Picture 7" descr=""/>
          <p:cNvPicPr/>
          <p:nvPr/>
        </p:nvPicPr>
        <p:blipFill>
          <a:blip r:embed="rId1"/>
          <a:stretch/>
        </p:blipFill>
        <p:spPr>
          <a:xfrm>
            <a:off x="5076720" y="2852640"/>
            <a:ext cx="3768840" cy="28702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8"/>
          <p:cNvSpPr/>
          <p:nvPr/>
        </p:nvSpPr>
        <p:spPr>
          <a:xfrm>
            <a:off x="7885080" y="4653000"/>
            <a:ext cx="503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8244000" y="458136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66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7" name="Picture 11" descr=""/>
          <p:cNvPicPr/>
          <p:nvPr/>
        </p:nvPicPr>
        <p:blipFill>
          <a:blip r:embed="rId2"/>
          <a:stretch/>
        </p:blipFill>
        <p:spPr>
          <a:xfrm>
            <a:off x="1693800" y="3645000"/>
            <a:ext cx="685800" cy="561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"/>
          <p:cNvPicPr/>
          <p:nvPr/>
        </p:nvPicPr>
        <p:blipFill>
          <a:blip r:embed="rId3"/>
          <a:stretch/>
        </p:blipFill>
        <p:spPr>
          <a:xfrm>
            <a:off x="1619280" y="4221000"/>
            <a:ext cx="685800" cy="561960"/>
          </a:xfrm>
          <a:prstGeom prst="rect">
            <a:avLst/>
          </a:prstGeom>
          <a:ln w="0">
            <a:noFill/>
          </a:ln>
        </p:spPr>
      </p:pic>
      <p:sp>
        <p:nvSpPr>
          <p:cNvPr id="159" name="Line 14"/>
          <p:cNvSpPr/>
          <p:nvPr/>
        </p:nvSpPr>
        <p:spPr>
          <a:xfrm flipH="1">
            <a:off x="1834920" y="4149720"/>
            <a:ext cx="36036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Oval 15"/>
          <p:cNvSpPr/>
          <p:nvPr/>
        </p:nvSpPr>
        <p:spPr>
          <a:xfrm flipV="1">
            <a:off x="5942160" y="4436280"/>
            <a:ext cx="69840" cy="7164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Rectangle 16"/>
          <p:cNvSpPr/>
          <p:nvPr/>
        </p:nvSpPr>
        <p:spPr>
          <a:xfrm>
            <a:off x="2109960" y="195120"/>
            <a:ext cx="70340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Круг в окружности кольцо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Замкнут. Вот его лицо 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Круглое, пригожее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На солнышко похожее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80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1477800" y="69840"/>
            <a:ext cx="6407280" cy="63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Любят 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Круг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все поголовно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Всяк  признать  его  готов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За  его  характер  ровный -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Не  имеет  он  угл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Круг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есть  всюду - каждый  знает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Парадокс,  но  это  так: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В жизни 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круглыми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бываю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И отличник,  и  дурак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В нашей  сложной 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круговер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Оглянитесь-ка   вокруг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Вот  уж  несколько  столетий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Крутится  гончарный 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Круг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Наша 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круглая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планета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Совершая  свой  полет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Кружит  и  зимой  и  летом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Вокруг  солнца 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круглый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год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Честно  служит 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Круг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всем  людям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Без  него  нам  не  прожить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Не  напрасно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Круг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мы  любим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Есть  за  что  его  любить!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0" y="189000"/>
            <a:ext cx="442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5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66"/>
                </a:solidFill>
                <a:latin typeface="Arial"/>
              </a:rPr>
              <a:t>круг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771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–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площадь круг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= </a:t>
            </a: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π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2286000" y="3000240"/>
            <a:ext cx="171360" cy="1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ОКРУЖНОСТЬ и круг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838080" y="2361960"/>
            <a:ext cx="769464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8000" spc="-1" strike="noStrike">
                <a:solidFill>
                  <a:srgbClr val="cc0000"/>
                </a:solidFill>
                <a:latin typeface="Arial"/>
              </a:rPr>
              <a:t>π</a:t>
            </a:r>
            <a:r>
              <a:rPr b="0" lang="ru-RU" sz="8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НОШЕНИЕ ДЛИНЫ ОКРУЖНОСТИ К ЕЁ ДИАМЕТРУ. ЭТО ВЕЛИЧИНА ПОСТОЯННАЯ И НЕ ЗАВИСИТ ОТ РАЗМЕРОВ ОКРУЖНОСТ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исло, выражающее это отношение принято обозначать греческой буквой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cc0000"/>
                </a:solidFill>
                <a:latin typeface="Arial"/>
              </a:rPr>
              <a:t>π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(пи) – первой буквой слова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ерифирия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(греч. –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кружность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исло </a:t>
            </a:r>
            <a:r>
              <a:rPr b="0" lang="el-GR" sz="2400" spc="-1" strike="noStrike">
                <a:solidFill>
                  <a:srgbClr val="cc0000"/>
                </a:solidFill>
                <a:latin typeface="Arial"/>
              </a:rPr>
              <a:t>π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иблизительно равно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3,14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2565360"/>
            <a:ext cx="6193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33"/>
                </a:solidFill>
                <a:latin typeface="Arial"/>
                <a:ea typeface="Arial"/>
              </a:rPr>
              <a:t>Используя   метод Архимеда,  можно вычислить  </a:t>
            </a:r>
            <a:r>
              <a:rPr b="0" i="1" lang="el-GR" sz="2400" spc="-1" strike="noStrike">
                <a:solidFill>
                  <a:srgbClr val="990033"/>
                </a:solidFill>
                <a:latin typeface="Arial"/>
                <a:ea typeface="Arial"/>
              </a:rPr>
              <a:t>π</a:t>
            </a:r>
            <a:r>
              <a:rPr b="0" i="1" lang="ru-RU" sz="2400" spc="-1" strike="noStrike">
                <a:solidFill>
                  <a:srgbClr val="990033"/>
                </a:solidFill>
                <a:latin typeface="Arial"/>
                <a:ea typeface="Arial"/>
              </a:rPr>
              <a:t> с любой точностью.</a:t>
            </a:r>
            <a:br>
              <a:rPr sz="2400"/>
            </a:br>
            <a:r>
              <a:rPr b="0" i="1" lang="ru-RU" sz="2400" spc="-1" strike="noStrike">
                <a:solidFill>
                  <a:srgbClr val="990033"/>
                </a:solidFill>
                <a:latin typeface="Arial"/>
                <a:ea typeface="Arial"/>
              </a:rPr>
              <a:t>В 1596  году Людольф ван Келен из Дельфта получил 35 знаков числа </a:t>
            </a:r>
            <a:r>
              <a:rPr b="0" i="1" lang="el-GR" sz="2400" spc="-1" strike="noStrike">
                <a:solidFill>
                  <a:srgbClr val="990033"/>
                </a:solidFill>
                <a:latin typeface="Arial"/>
                <a:ea typeface="Arial"/>
              </a:rPr>
              <a:t>π</a:t>
            </a:r>
            <a:r>
              <a:rPr b="0" i="1" lang="ru-RU" sz="2400" spc="-1" strike="noStrike">
                <a:solidFill>
                  <a:srgbClr val="990033"/>
                </a:solidFill>
                <a:latin typeface="Arial"/>
                <a:ea typeface="Arial"/>
              </a:rPr>
              <a:t>. Леонард Эйлер вычислил  </a:t>
            </a:r>
            <a:r>
              <a:rPr b="0" i="1" lang="el-GR" sz="2400" spc="-1" strike="noStrike">
                <a:solidFill>
                  <a:srgbClr val="990033"/>
                </a:solidFill>
                <a:latin typeface="Arial"/>
                <a:ea typeface="Arial"/>
              </a:rPr>
              <a:t>π</a:t>
            </a:r>
            <a:r>
              <a:rPr b="0" i="1" lang="ru-RU" sz="24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br>
              <a:rPr sz="2400"/>
            </a:br>
            <a:r>
              <a:rPr b="0" i="1" lang="ru-RU" sz="2400" spc="-1" strike="noStrike">
                <a:solidFill>
                  <a:srgbClr val="990033"/>
                </a:solidFill>
                <a:latin typeface="Arial"/>
                <a:ea typeface="Arial"/>
              </a:rPr>
              <a:t>с  точностью до 153 десятичных знаков </a:t>
            </a:r>
            <a:br>
              <a:rPr sz="2400"/>
            </a:br>
            <a:r>
              <a:rPr b="0" i="1" lang="ru-RU" sz="2400" spc="-1" strike="noStrike">
                <a:solidFill>
                  <a:srgbClr val="990033"/>
                </a:solidFill>
                <a:latin typeface="Arial"/>
                <a:ea typeface="Arial"/>
              </a:rPr>
              <a:t>В 1963 году было найдено уже 100265 десятичных знаков числа  </a:t>
            </a:r>
            <a:r>
              <a:rPr b="0" i="1" lang="el-GR" sz="2400" spc="-1" strike="noStrike">
                <a:solidFill>
                  <a:srgbClr val="990033"/>
                </a:solidFill>
                <a:latin typeface="Arial"/>
                <a:ea typeface="Arial"/>
              </a:rPr>
              <a:t>π</a:t>
            </a:r>
            <a:r>
              <a:rPr b="0" i="1" lang="ru-RU" sz="2400" spc="-1" strike="noStrike">
                <a:solidFill>
                  <a:srgbClr val="990033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0" name="Rectangle 10" descr=""/>
          <p:cNvPicPr/>
          <p:nvPr/>
        </p:nvPicPr>
        <p:blipFill>
          <a:blip r:embed="rId1"/>
          <a:stretch/>
        </p:blipFill>
        <p:spPr>
          <a:xfrm>
            <a:off x="5791320" y="762120"/>
            <a:ext cx="3078000" cy="57909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826920" y="119700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ОКРУЖНОСТЬ и кру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640" y="155736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6699"/>
                </a:solidFill>
                <a:latin typeface="Times New Roman"/>
              </a:rPr>
              <a:t>Первым  ввел  обозначение  отношения  длины  окружности  к  диаметру  современным  символом  </a:t>
            </a:r>
            <a:r>
              <a:rPr b="0" i="1" lang="el-GR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π</a:t>
            </a:r>
            <a:r>
              <a:rPr b="0" i="1" lang="ru-RU" sz="20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  английский  математик  У.Джонсон  в  1706  году.  В  качестве  символа  он  взял  первую  букву  греческого  слова</a:t>
            </a:r>
            <a:r>
              <a:rPr b="0" i="1" lang="ru-RU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</a:t>
            </a:r>
            <a:r>
              <a:rPr b="0" i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«</a:t>
            </a:r>
            <a:r>
              <a:rPr b="0" i="1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eriferia</a:t>
            </a:r>
            <a:r>
              <a:rPr b="0" i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»</a:t>
            </a:r>
            <a:r>
              <a:rPr b="0" i="1" lang="ru-RU" sz="20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,  что  в  переводе  означает  «</a:t>
            </a:r>
            <a:r>
              <a:rPr b="0" i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кружность»</a:t>
            </a:r>
            <a:r>
              <a:rPr b="0" i="1" lang="ru-RU" sz="20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.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484360" y="378000"/>
            <a:ext cx="6264360" cy="6075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Гордый  Рим  трубил  побед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Над  твердыней  Сиракуз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Но  трудами  Архимед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Много  больше  я  горжусь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Надо  нынче  нам  заняться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Оказать  старинке  честь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Чтобы  нам  не  ошибатьс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Чтоб окружность верно счесть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Надо  только  постаратьс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И запомнить  все  как  есть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Три – четырнадцать – пятнадцать -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–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девяносто  два  и  шесть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4" name="Rectangle 10" descr=""/>
          <p:cNvPicPr/>
          <p:nvPr/>
        </p:nvPicPr>
        <p:blipFill>
          <a:blip r:embed="rId1"/>
          <a:stretch/>
        </p:blipFill>
        <p:spPr>
          <a:xfrm>
            <a:off x="0" y="1268280"/>
            <a:ext cx="329724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8240"/>
                            </p:stCondLst>
                            <p:childTnLst>
                              <p:par>
                                <p:cTn id="242" nodeType="after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6480"/>
                            </p:stCondLst>
                            <p:childTnLst>
                              <p:par>
                                <p:cTn id="2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ОКРУЖНОСТЬ и круг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8771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l-GR" sz="9600" spc="-1" strike="noStrike">
                <a:solidFill>
                  <a:srgbClr val="003366"/>
                </a:solidFill>
                <a:latin typeface="Arial"/>
              </a:rPr>
              <a:t>π</a:t>
            </a:r>
            <a:r>
              <a:rPr b="0" lang="el-GR" sz="4000" spc="-1" strike="noStrike">
                <a:solidFill>
                  <a:srgbClr val="003366"/>
                </a:solidFill>
                <a:latin typeface="Arial"/>
              </a:rPr>
              <a:t>═</a:t>
            </a: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6000" spc="-1" strike="noStrike" u="sng">
                <a:solidFill>
                  <a:srgbClr val="003366"/>
                </a:solidFill>
                <a:uFillTx/>
                <a:latin typeface="Arial"/>
              </a:rPr>
              <a:t>3</a:t>
            </a:r>
            <a:r>
              <a:rPr b="0" lang="ru-RU" sz="6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ru-RU" sz="6000" spc="-1" strike="noStrike" u="sng">
                <a:solidFill>
                  <a:srgbClr val="003366"/>
                </a:solidFill>
                <a:uFillTx/>
                <a:latin typeface="Arial"/>
              </a:rPr>
              <a:t>14</a:t>
            </a:r>
            <a:r>
              <a:rPr b="0" lang="ru-RU" sz="6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6000" spc="-1" strike="noStrike" u="sng">
                <a:solidFill>
                  <a:srgbClr val="003366"/>
                </a:solidFill>
                <a:uFillTx/>
                <a:latin typeface="Arial"/>
              </a:rPr>
              <a:t>15</a:t>
            </a:r>
            <a:r>
              <a:rPr b="0" lang="ru-RU" sz="6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6000" spc="-1" strike="noStrike" u="sng">
                <a:solidFill>
                  <a:srgbClr val="003366"/>
                </a:solidFill>
                <a:uFillTx/>
                <a:latin typeface="Arial"/>
              </a:rPr>
              <a:t>92</a:t>
            </a:r>
            <a:r>
              <a:rPr b="0" lang="ru-RU" sz="6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6000" spc="-1" strike="noStrike" u="sng">
                <a:solidFill>
                  <a:srgbClr val="003366"/>
                </a:solidFill>
                <a:uFillTx/>
                <a:latin typeface="Arial"/>
              </a:rPr>
              <a:t>6</a:t>
            </a:r>
            <a:r>
              <a:rPr b="0" lang="ru-RU" sz="6000" spc="-1" strike="noStrike">
                <a:solidFill>
                  <a:srgbClr val="003366"/>
                </a:solidFill>
                <a:latin typeface="Arial"/>
              </a:rPr>
              <a:t> ...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НУЖНО ТОЛЬКО ПОСТАРАТЬС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И ЗАПОМНИИТЬ ВСЁ КАК ЕСТЬ</a:t>
            </a: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ТРИ, ЧЕТЫРНАДЦАТЬ,                ПЯТНАДЦАТЬ,ДЕВЯНОСТО ДВА И ШЕСТЬ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100"/>
                            </p:stCondLst>
                            <p:childTnLst>
                              <p:par>
                                <p:cTn id="30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7200"/>
                            </p:stCondLst>
                            <p:childTnLst>
                              <p:par>
                                <p:cTn id="3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ОКРУЖНОСТЬ и круг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771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 так выглядит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101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знак числа</a:t>
            </a: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cc0000"/>
                </a:solidFill>
                <a:latin typeface="Arial"/>
              </a:rPr>
              <a:t>π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без округления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3,14159 26535 89793 23846 26433 83279 50288 41971 69399 37510 58209 74944 59230 78164 06286 20899 86280 34825 34211 70679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Цель работ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1989000"/>
            <a:ext cx="7694640" cy="40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Объяснить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очему большинство предметов окружающих нас имеют круглую форму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Какова история возникновения круга и окружности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Где в быту встречаются круг и окружность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Какова история инструментов, используемых для построения круга и окружности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 чем отличие круга и окружности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Что нужно знать, чтобы построить круг или окружность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Что такое радиус, диаметр, центр, дуга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.Какие формулы нужно знать, чтобы вычислить диаметр или радиус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1403280" y="2301840"/>
          <a:ext cx="7740720" cy="4572000"/>
        </p:xfrm>
        <a:graphic>
          <a:graphicData uri="http://schemas.openxmlformats.org/drawingml/2006/table">
            <a:tbl>
              <a:tblPr/>
              <a:tblGrid>
                <a:gridCol w="482760"/>
                <a:gridCol w="484200"/>
                <a:gridCol w="482400"/>
                <a:gridCol w="482760"/>
                <a:gridCol w="500040"/>
                <a:gridCol w="482400"/>
                <a:gridCol w="484200"/>
                <a:gridCol w="481320"/>
                <a:gridCol w="482400"/>
                <a:gridCol w="482760"/>
                <a:gridCol w="482400"/>
                <a:gridCol w="480960"/>
                <a:gridCol w="482760"/>
                <a:gridCol w="482400"/>
                <a:gridCol w="484200"/>
                <a:gridCol w="4827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AutoShape 2067"/>
          <p:cNvSpPr/>
          <p:nvPr/>
        </p:nvSpPr>
        <p:spPr>
          <a:xfrm>
            <a:off x="971640" y="0"/>
            <a:ext cx="7924680" cy="83664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ОКРУЖНОСТЬ и кру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AutoShape 2066"/>
          <p:cNvSpPr/>
          <p:nvPr/>
        </p:nvSpPr>
        <p:spPr>
          <a:xfrm>
            <a:off x="0" y="620640"/>
            <a:ext cx="7669080" cy="3024360"/>
          </a:xfrm>
          <a:prstGeom prst="roundRect">
            <a:avLst>
              <a:gd name="adj" fmla="val 912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685800" indent="-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1.   Хорда – это ……………, соединяющий две точки на окружности.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.   Плоскость внутри окружности.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3.   Точка О - ……………. окружности.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4.   Часть окружности, ограниченная двумя точками.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5.   Уменьшительно-ласкательное наименование круга.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6.   Диаметр разбивает окружность на две …………… .</a:t>
            </a:r>
            <a:br>
              <a:rPr sz="1400"/>
            </a:br>
            <a:br>
              <a:rPr sz="1400"/>
            </a:br>
            <a:br>
              <a:rPr sz="16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7.   Отрезок, соединяющий две точки на окружности.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8.   Отрезок, соединяющий центр окружности с 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точкой на окружности.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9.   Хорда, проходящая через центр окружности.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10. Эта цифра состоит из 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двух окружностей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1692360" y="2301840"/>
          <a:ext cx="6078600" cy="4267080"/>
        </p:xfrm>
        <a:graphic>
          <a:graphicData uri="http://schemas.openxmlformats.org/drawingml/2006/table">
            <a:tbl>
              <a:tblPr/>
              <a:tblGrid>
                <a:gridCol w="379440"/>
                <a:gridCol w="379440"/>
                <a:gridCol w="379440"/>
                <a:gridCol w="379080"/>
                <a:gridCol w="392400"/>
                <a:gridCol w="379440"/>
                <a:gridCol w="379440"/>
                <a:gridCol w="377640"/>
                <a:gridCol w="379440"/>
                <a:gridCol w="461880"/>
                <a:gridCol w="360360"/>
                <a:gridCol w="360360"/>
                <a:gridCol w="358920"/>
                <a:gridCol w="352440"/>
                <a:gridCol w="379440"/>
                <a:gridCol w="379440"/>
              </a:tblGrid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З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К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К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У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Г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Ц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У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Г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К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У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Ж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К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П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У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К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У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Ж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У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М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Т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М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Ь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AutoShape 686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ОКРУЖНОС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Cyr"/>
              </a:rPr>
              <a:t>Кроссворд «Окружность»</a:t>
            </a:r>
            <a:br>
              <a:rPr sz="36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838080" y="2362320"/>
          <a:ext cx="7694640" cy="4024080"/>
        </p:xfrm>
        <a:graphic>
          <a:graphicData uri="http://schemas.openxmlformats.org/drawingml/2006/table">
            <a:tbl>
              <a:tblPr/>
              <a:tblGrid>
                <a:gridCol w="236520"/>
                <a:gridCol w="290520"/>
                <a:gridCol w="290520"/>
                <a:gridCol w="290520"/>
                <a:gridCol w="290520"/>
                <a:gridCol w="290520"/>
                <a:gridCol w="290520"/>
                <a:gridCol w="236520"/>
                <a:gridCol w="236520"/>
                <a:gridCol w="236520"/>
                <a:gridCol w="290520"/>
                <a:gridCol w="238320"/>
                <a:gridCol w="236520"/>
                <a:gridCol w="424008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 Cyr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 Cyr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Вопросы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 Cyr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.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 Геометрическая фигура, состоящая из всех точек плоскости, расположенных на заданном расстоянии от данной точк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 Cyr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.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 Отрезок, соединяющий две точки окружности и проходящий через центр этой окруж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85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 Cyr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.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 Отношение длины окружности к её диаметру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83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 Cyr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4. 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Отрезок, соединяющий любые две точки окруж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 Cyr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5.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 Часть круга, ограниченная дугой и двумя радиусами, соединяющими концы дуги с центром 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6. 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Отрезок, соединяющий центр окружности с какой-либо точкой окруж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84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 Cyr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7. 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Учёный, который ввёл понятие числа "пи"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8. 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Часть плоскости, ограниченная окружностью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8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2492280"/>
            <a:ext cx="29163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Дано: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R</a:t>
            </a:r>
            <a:r>
              <a:rPr b="1" i="1" lang="en-US" sz="2800" spc="-1" strike="noStrike" baseline="-25000">
                <a:solidFill>
                  <a:srgbClr val="003366"/>
                </a:solidFill>
                <a:latin typeface="Arial"/>
                <a:ea typeface="Arial"/>
              </a:rPr>
              <a:t>1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=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20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,  R</a:t>
            </a:r>
            <a:r>
              <a:rPr b="1" i="1" lang="en-US" sz="2800" spc="-1" strike="noStrike" baseline="-25000">
                <a:solidFill>
                  <a:srgbClr val="003366"/>
                </a:solidFill>
                <a:latin typeface="Arial"/>
                <a:ea typeface="Arial"/>
              </a:rPr>
              <a:t>2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=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12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609300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Найти  площадь  закрашенной  фигуры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0360" y="2708280"/>
            <a:ext cx="3168720" cy="3024360"/>
          </a:xfrm>
          <a:prstGeom prst="ellipse">
            <a:avLst/>
          </a:prstGeom>
          <a:solidFill>
            <a:srgbClr val="33cccc"/>
          </a:solidFill>
          <a:ln w="414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76720" y="3284640"/>
            <a:ext cx="2016000" cy="1922400"/>
          </a:xfrm>
          <a:prstGeom prst="ellipse">
            <a:avLst/>
          </a:prstGeom>
          <a:solidFill>
            <a:srgbClr val="ffffff"/>
          </a:solidFill>
          <a:ln w="414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140720" y="393228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.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2916000" y="4219560"/>
            <a:ext cx="1368360" cy="720720"/>
          </a:xfrm>
          <a:prstGeom prst="line">
            <a:avLst/>
          </a:prstGeom>
          <a:ln w="414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84720" y="4219560"/>
            <a:ext cx="216000" cy="936720"/>
          </a:xfrm>
          <a:prstGeom prst="line">
            <a:avLst/>
          </a:prstGeom>
          <a:ln w="414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85720" y="407664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R</a:t>
            </a:r>
            <a:r>
              <a:rPr b="1" i="1" lang="en-US" sz="24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436640" y="44370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R</a:t>
            </a:r>
            <a:r>
              <a:rPr b="1" i="1" lang="en-US" sz="24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05264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Решите задач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300"/>
                            </p:stCondLst>
                            <p:childTnLst>
                              <p:par>
                                <p:cTn id="34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3250"/>
                            </p:stCondLst>
                            <p:childTnLst>
                              <p:par>
                                <p:cTn id="3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75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4250"/>
                            </p:stCondLst>
                            <p:childTnLst>
                              <p:par>
                                <p:cTn id="3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250"/>
                            </p:stCondLst>
                            <p:childTnLst>
                              <p:par>
                                <p:cTn id="3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750"/>
                            </p:stCondLst>
                            <p:childTnLst>
                              <p:par>
                                <p:cTn id="3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6750"/>
                            </p:stCondLst>
                            <p:childTnLst>
                              <p:par>
                                <p:cTn id="3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7250"/>
                            </p:stCondLst>
                            <p:childTnLst>
                              <p:par>
                                <p:cTn id="3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8250"/>
                            </p:stCondLst>
                            <p:childTnLst>
                              <p:par>
                                <p:cTn id="38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755640" y="2349360"/>
            <a:ext cx="252108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Дано: 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R</a:t>
            </a:r>
            <a:r>
              <a:rPr b="1" i="1" lang="en-US" sz="28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 = </a:t>
            </a: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20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,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R</a:t>
            </a:r>
            <a:r>
              <a:rPr b="1" i="1" lang="en-US" sz="28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 = </a:t>
            </a: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5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R</a:t>
            </a:r>
            <a:r>
              <a:rPr b="1" i="1" lang="en-US" sz="2800" spc="-1" strike="noStrike" baseline="-25000">
                <a:solidFill>
                  <a:srgbClr val="003366"/>
                </a:solidFill>
                <a:latin typeface="Times New Roman"/>
              </a:rPr>
              <a:t>3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 = 7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5640" y="6021360"/>
            <a:ext cx="654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Найти  площадь  закрашенной  фигур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03640" y="2492280"/>
            <a:ext cx="3600360" cy="3362400"/>
          </a:xfrm>
          <a:prstGeom prst="ellipse">
            <a:avLst/>
          </a:prstGeom>
          <a:solidFill>
            <a:srgbClr val="f7cdf7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140360" y="4076640"/>
            <a:ext cx="1800000" cy="1800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788000" y="3645000"/>
            <a:ext cx="79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.O</a:t>
            </a:r>
            <a:r>
              <a:rPr b="1" i="1" lang="en-US" sz="24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39560" y="4653000"/>
            <a:ext cx="602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.O</a:t>
            </a:r>
            <a:r>
              <a:rPr b="1" i="1" lang="en-US" sz="24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92360" y="2781360"/>
            <a:ext cx="1295640" cy="1224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51280" y="3068640"/>
            <a:ext cx="83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.O</a:t>
            </a:r>
            <a:r>
              <a:rPr b="1" i="1" lang="en-US" sz="24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56360" y="76500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9640" y="105264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Решите задач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500"/>
                            </p:stCondLst>
                            <p:childTnLst>
                              <p:par>
                                <p:cTn id="4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3450"/>
                            </p:stCondLst>
                            <p:childTnLst>
                              <p:par>
                                <p:cTn id="4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95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4950"/>
                            </p:stCondLst>
                            <p:childTnLst>
                              <p:par>
                                <p:cTn id="4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950"/>
                            </p:stCondLst>
                            <p:childTnLst>
                              <p:par>
                                <p:cTn id="4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6450"/>
                            </p:stCondLst>
                            <p:childTnLst>
                              <p:par>
                                <p:cTn id="4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7450"/>
                            </p:stCondLst>
                            <p:childTnLst>
                              <p:par>
                                <p:cTn id="44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755640" y="2708280"/>
            <a:ext cx="1512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Дано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R</a:t>
            </a:r>
            <a:r>
              <a:rPr b="1" i="1" lang="ru-RU" sz="28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 = </a:t>
            </a: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5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406880" y="6338880"/>
            <a:ext cx="645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Найти  площадь закрашенной  фигур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56360" y="76500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9" name="Rectangle 10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033800" cy="39542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910160" y="4076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6880" y="4076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076640" y="3932280"/>
            <a:ext cx="51732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О</a:t>
            </a:r>
            <a:r>
              <a:rPr b="1" i="1" lang="en-US" sz="24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3366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823840" y="3932280"/>
            <a:ext cx="555840" cy="6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О</a:t>
            </a:r>
            <a:r>
              <a:rPr b="1" i="1" lang="en-US" sz="24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baseline="-25000">
                <a:solidFill>
                  <a:srgbClr val="003366"/>
                </a:solidFill>
                <a:latin typeface="Arial"/>
              </a:rPr>
              <a:t>                </a:t>
            </a:r>
            <a:r>
              <a:rPr b="1" i="1" lang="en-US" sz="1000" spc="-1" strike="noStrike" baseline="-25000">
                <a:solidFill>
                  <a:srgbClr val="003366"/>
                </a:solidFill>
                <a:latin typeface="Arial"/>
              </a:rPr>
              <a:t>**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010480" y="3932280"/>
            <a:ext cx="687960" cy="6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О</a:t>
            </a:r>
            <a:r>
              <a:rPr b="1" i="1" lang="en-US" sz="24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baseline="-25000">
                <a:solidFill>
                  <a:srgbClr val="003366"/>
                </a:solidFill>
                <a:latin typeface="Arial"/>
              </a:rPr>
              <a:t>**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341440" y="4403880"/>
            <a:ext cx="3716640" cy="14040"/>
          </a:xfrm>
          <a:custGeom>
            <a:avLst/>
            <a:gdLst/>
            <a:ahLst/>
            <a:rect l="l" t="t" r="r" b="b"/>
            <a:pathLst>
              <a:path w="2341" h="9">
                <a:moveTo>
                  <a:pt x="0" y="9"/>
                </a:moveTo>
                <a:lnTo>
                  <a:pt x="2341" y="0"/>
                </a:lnTo>
              </a:path>
            </a:pathLst>
          </a:custGeom>
          <a:noFill/>
          <a:ln w="255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076720" y="4365720"/>
            <a:ext cx="144720" cy="122040"/>
          </a:xfrm>
          <a:prstGeom prst="ellipse">
            <a:avLst/>
          </a:prstGeom>
          <a:solidFill>
            <a:srgbClr val="0c03c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140360" y="4365720"/>
            <a:ext cx="144360" cy="122040"/>
          </a:xfrm>
          <a:prstGeom prst="ellipse">
            <a:avLst/>
          </a:prstGeom>
          <a:solidFill>
            <a:srgbClr val="0c03c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03640" y="4365720"/>
            <a:ext cx="144360" cy="122040"/>
          </a:xfrm>
          <a:prstGeom prst="ellipse">
            <a:avLst/>
          </a:prstGeom>
          <a:solidFill>
            <a:srgbClr val="0c03c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9640" y="105264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Решите задач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950"/>
                            </p:stCondLst>
                            <p:childTnLst>
                              <p:par>
                                <p:cTn id="4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900"/>
                            </p:stCondLst>
                            <p:childTnLst>
                              <p:par>
                                <p:cTn id="4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3400"/>
                            </p:stCondLst>
                            <p:childTnLst>
                              <p:par>
                                <p:cTn id="4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400"/>
                            </p:stCondLst>
                            <p:childTnLst>
                              <p:par>
                                <p:cTn id="4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400"/>
                            </p:stCondLst>
                            <p:childTnLst>
                              <p:par>
                                <p:cTn id="5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4"/>
          <p:cNvSpPr/>
          <p:nvPr/>
        </p:nvSpPr>
        <p:spPr>
          <a:xfrm>
            <a:off x="826920" y="988560"/>
            <a:ext cx="83170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ы  ели  из 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круглой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тарелки?  Пили из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круглой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чашки? Грызли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круглое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яблоко?   Пасовали   друг   другу  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круглый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мяч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идели   праздничное   представление   на  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круглой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арене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Если на большинство этих вопросов вы ответили утвердительно,  значит,  вы  согласитесь  со  мною,  что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Круг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в  нашей  жизни  встречается  часто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Круглые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капельки  росы, 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круглое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солнышко на небе,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круглые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глаза удивленного  ребенка...  Симпатичная  штука -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Круг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?  Не  правда  ли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А  еще  чуточку  загадочная:  множество  геометрических фигур  анализировали  древние  философы,  мудрецы,  толкователи  культов.  И  из  всех  фигур, только 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Круг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имел  два противоположных значения - у одних людей он обозначают полноту,  наполненность,  а  у  других -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устоту,  абсолютный вакуум.  И  кроме  того,  у  всех  фигур(квадрат, прямоугольник, ромб…) линия  обвода называется  также,  как  сама фигура. У всех, но не у 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Круга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Круг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"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окружает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"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окружность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0" y="189000"/>
            <a:ext cx="594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ОКРУЖНОС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4" dur="5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Немного истор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-324360" y="714240"/>
            <a:ext cx="972036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Окружность - одна из древнейших геометрических фигур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Согласно Аристотелю, небесная материя, из которой состоят планеты и звезды, как самая совершенная, должна двигаться по самой совершенной линии – окружности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Ещё вавилоняне и древние индийцы считали самым важным элементом окружности </a:t>
            </a:r>
            <a:r>
              <a:rPr b="0" i="1" lang="ru-RU" sz="2000" spc="-1" strike="noStrike">
                <a:solidFill>
                  <a:srgbClr val="003366"/>
                </a:solidFill>
                <a:latin typeface="Verdana"/>
              </a:rPr>
              <a:t>радиус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. Слово это – латинское и означает «луч»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Термин «радиус» впервые встречается в «Геометрии» Рамуса, затем у Ф. Виета.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Термин «радиус» становится общепринятым в конце 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XVII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 в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28360" y="838080"/>
            <a:ext cx="7785000" cy="10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66"/>
                </a:solidFill>
                <a:latin typeface="Arial"/>
              </a:rPr>
              <a:t>ОКРУЖНОСТЬ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Окружность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 -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геометрическая фигура, состоящая из всех точек расположенных на заданном расстояние от данной точки. Данная точка называется центром окружност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66"/>
                </a:solidFill>
                <a:latin typeface="Arial"/>
              </a:rPr>
              <a:t>ОКРУЖНОСТЬ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i="1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– центр окружност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7" descr="Окружность"/>
          <p:cNvPicPr/>
          <p:nvPr/>
        </p:nvPicPr>
        <p:blipFill>
          <a:blip r:embed="rId1"/>
          <a:stretch/>
        </p:blipFill>
        <p:spPr>
          <a:xfrm>
            <a:off x="4859280" y="2349360"/>
            <a:ext cx="3770280" cy="3724560"/>
          </a:xfrm>
          <a:prstGeom prst="rect">
            <a:avLst/>
          </a:prstGeom>
          <a:ln w="0">
            <a:noFill/>
          </a:ln>
        </p:spPr>
      </p:pic>
      <p:sp>
        <p:nvSpPr>
          <p:cNvPr id="106" name="Line 9"/>
          <p:cNvSpPr/>
          <p:nvPr/>
        </p:nvSpPr>
        <p:spPr>
          <a:xfrm>
            <a:off x="6589800" y="4076640"/>
            <a:ext cx="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Oval 10"/>
          <p:cNvSpPr/>
          <p:nvPr/>
        </p:nvSpPr>
        <p:spPr>
          <a:xfrm>
            <a:off x="6659640" y="4149720"/>
            <a:ext cx="73080" cy="71280"/>
          </a:xfrm>
          <a:prstGeom prst="ellipse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6786720" y="3860640"/>
            <a:ext cx="49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66"/>
                </a:solidFill>
                <a:latin typeface="Arial"/>
              </a:rPr>
              <a:t>ОКРУЖНОСТЬ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Arial"/>
              </a:rPr>
              <a:t>ОА</a:t>
            </a:r>
            <a:r>
              <a:rPr b="1" i="1" lang="ru-RU" sz="40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R</a:t>
            </a:r>
            <a:r>
              <a:rPr b="1" i="1" lang="en-US" sz="40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r</a:t>
            </a:r>
            <a:r>
              <a:rPr b="1" i="1" lang="en-US" sz="4000" spc="-1" strike="noStrike">
                <a:solidFill>
                  <a:srgbClr val="003366"/>
                </a:solidFill>
                <a:latin typeface="Arial"/>
              </a:rPr>
              <a:t> –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 радиус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Arial"/>
              </a:rPr>
              <a:t>Радиус 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– это отрезок, соединяющий центр окружности с точкой на окружност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Picture 6" descr="Окружность"/>
          <p:cNvPicPr/>
          <p:nvPr/>
        </p:nvPicPr>
        <p:blipFill>
          <a:blip r:embed="rId1"/>
          <a:stretch/>
        </p:blipFill>
        <p:spPr>
          <a:xfrm>
            <a:off x="4761000" y="2362320"/>
            <a:ext cx="3771720" cy="3724200"/>
          </a:xfrm>
          <a:prstGeom prst="rect">
            <a:avLst/>
          </a:prstGeom>
          <a:ln w="0">
            <a:noFill/>
          </a:ln>
        </p:spPr>
      </p:pic>
      <p:sp>
        <p:nvSpPr>
          <p:cNvPr id="112" name="Oval 7"/>
          <p:cNvSpPr/>
          <p:nvPr/>
        </p:nvSpPr>
        <p:spPr>
          <a:xfrm>
            <a:off x="6659640" y="4149720"/>
            <a:ext cx="73080" cy="71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Line 8"/>
          <p:cNvSpPr/>
          <p:nvPr/>
        </p:nvSpPr>
        <p:spPr>
          <a:xfrm flipV="1">
            <a:off x="6732720" y="3068280"/>
            <a:ext cx="1295280" cy="1081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Oval 10"/>
          <p:cNvSpPr/>
          <p:nvPr/>
        </p:nvSpPr>
        <p:spPr>
          <a:xfrm>
            <a:off x="8028000" y="2997360"/>
            <a:ext cx="73080" cy="71280"/>
          </a:xfrm>
          <a:prstGeom prst="ellipse">
            <a:avLst/>
          </a:prstGeom>
          <a:solidFill>
            <a:srgbClr val="8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6227640" y="364500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8028000" y="2492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66"/>
                </a:solidFill>
                <a:latin typeface="Arial"/>
              </a:rPr>
              <a:t>ОКРУЖНОСТЬ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Хорда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– отрезок, соединяющий две точки на окруж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ВС</a:t>
            </a:r>
            <a:r>
              <a:rPr b="1" i="1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хорд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Picture 8" descr="Окружность"/>
          <p:cNvPicPr/>
          <p:nvPr/>
        </p:nvPicPr>
        <p:blipFill>
          <a:blip r:embed="rId1"/>
          <a:stretch/>
        </p:blipFill>
        <p:spPr>
          <a:xfrm>
            <a:off x="4716360" y="2349360"/>
            <a:ext cx="3772080" cy="3724560"/>
          </a:xfrm>
          <a:prstGeom prst="rect">
            <a:avLst/>
          </a:prstGeom>
          <a:ln w="0">
            <a:noFill/>
          </a:ln>
        </p:spPr>
      </p:pic>
      <p:sp>
        <p:nvSpPr>
          <p:cNvPr id="120" name="Oval 9"/>
          <p:cNvSpPr/>
          <p:nvPr/>
        </p:nvSpPr>
        <p:spPr>
          <a:xfrm>
            <a:off x="6659640" y="4149720"/>
            <a:ext cx="73080" cy="71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6157800" y="3808440"/>
            <a:ext cx="35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6012000" y="357336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66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>
            <a:off x="6589800" y="3789360"/>
            <a:ext cx="1798560" cy="22320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6227640" y="630864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8317080" y="292428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Oval 15"/>
          <p:cNvSpPr/>
          <p:nvPr/>
        </p:nvSpPr>
        <p:spPr>
          <a:xfrm flipH="1" flipV="1">
            <a:off x="8388360" y="3715560"/>
            <a:ext cx="71280" cy="7308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Oval 16"/>
          <p:cNvSpPr/>
          <p:nvPr/>
        </p:nvSpPr>
        <p:spPr>
          <a:xfrm>
            <a:off x="6516720" y="6021360"/>
            <a:ext cx="73080" cy="7164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1500" autoRev="1" fill="hold"/>
                                        <p:tgtEl>
                                          <p:spTgt spid="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ОКРУЖНОСТЬ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26920" y="2133360"/>
            <a:ext cx="3770640" cy="40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Arial"/>
              </a:rPr>
              <a:t>Диаметр 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это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хорда, проходящая через центр окружност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1" i="1" lang="en-US" sz="4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1" i="1" lang="ru-RU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1" i="1" lang="ru-RU" sz="40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i="1" lang="ru-RU" sz="4000" spc="-1" strike="noStrike">
                <a:solidFill>
                  <a:srgbClr val="cc0000"/>
                </a:solidFill>
                <a:latin typeface="Arial"/>
              </a:rPr>
              <a:t>РК 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диаметр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D </a:t>
            </a:r>
            <a:r>
              <a:rPr b="1" i="1" lang="en-US" sz="40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3366"/>
                </a:solidFill>
                <a:latin typeface="Arial"/>
              </a:rPr>
              <a:t>2R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66"/>
                </a:solidFill>
                <a:latin typeface="Arial"/>
              </a:rPr>
              <a:t>Д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иаметр разбивает окружность на две полуокружност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Picture 7" descr="Окружность"/>
          <p:cNvPicPr/>
          <p:nvPr/>
        </p:nvPicPr>
        <p:blipFill>
          <a:blip r:embed="rId1"/>
          <a:stretch/>
        </p:blipFill>
        <p:spPr>
          <a:xfrm>
            <a:off x="4788000" y="2349360"/>
            <a:ext cx="3770280" cy="3724560"/>
          </a:xfrm>
          <a:prstGeom prst="rect">
            <a:avLst/>
          </a:prstGeom>
          <a:ln w="0">
            <a:noFill/>
          </a:ln>
        </p:spPr>
      </p:pic>
      <p:sp>
        <p:nvSpPr>
          <p:cNvPr id="131" name="Line 15"/>
          <p:cNvSpPr/>
          <p:nvPr/>
        </p:nvSpPr>
        <p:spPr>
          <a:xfrm flipV="1">
            <a:off x="4788000" y="3933720"/>
            <a:ext cx="367164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Oval 16"/>
          <p:cNvSpPr/>
          <p:nvPr/>
        </p:nvSpPr>
        <p:spPr>
          <a:xfrm>
            <a:off x="6659640" y="4149720"/>
            <a:ext cx="73080" cy="71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Oval 17"/>
          <p:cNvSpPr/>
          <p:nvPr/>
        </p:nvSpPr>
        <p:spPr>
          <a:xfrm>
            <a:off x="8459640" y="3860640"/>
            <a:ext cx="73080" cy="73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Oval 18"/>
          <p:cNvSpPr/>
          <p:nvPr/>
        </p:nvSpPr>
        <p:spPr>
          <a:xfrm flipV="1">
            <a:off x="4788000" y="4365720"/>
            <a:ext cx="71280" cy="71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4284720" y="4508640"/>
            <a:ext cx="122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Text Box 20"/>
          <p:cNvSpPr/>
          <p:nvPr/>
        </p:nvSpPr>
        <p:spPr>
          <a:xfrm>
            <a:off x="8532720" y="328464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Text Box 21"/>
          <p:cNvSpPr/>
          <p:nvPr/>
        </p:nvSpPr>
        <p:spPr>
          <a:xfrm>
            <a:off x="6300720" y="3429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66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8000"/>
                            </p:stCondLst>
                            <p:childTnLst>
                              <p:par>
                                <p:cTn id="9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1500" autoRev="1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ОКРУЖНОСТЬ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MN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дуг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Arial"/>
              </a:rPr>
              <a:t>Дуга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– это часть окруж-ности, ограни-ченная двумя точкам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6659640" y="4149720"/>
            <a:ext cx="73080" cy="71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Oval 8"/>
          <p:cNvSpPr/>
          <p:nvPr/>
        </p:nvSpPr>
        <p:spPr>
          <a:xfrm>
            <a:off x="8388360" y="4724280"/>
            <a:ext cx="71280" cy="7308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Oval 9"/>
          <p:cNvSpPr/>
          <p:nvPr/>
        </p:nvSpPr>
        <p:spPr>
          <a:xfrm>
            <a:off x="7380360" y="5877000"/>
            <a:ext cx="73080" cy="7308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6373800" y="3573360"/>
            <a:ext cx="3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66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Picture 14" descr=""/>
          <p:cNvPicPr/>
          <p:nvPr/>
        </p:nvPicPr>
        <p:blipFill>
          <a:blip r:embed="rId1"/>
          <a:stretch/>
        </p:blipFill>
        <p:spPr>
          <a:xfrm>
            <a:off x="4788000" y="2492280"/>
            <a:ext cx="3687840" cy="3467160"/>
          </a:xfrm>
          <a:prstGeom prst="rect">
            <a:avLst/>
          </a:prstGeom>
          <a:ln w="0">
            <a:noFill/>
          </a:ln>
        </p:spPr>
      </p:pic>
      <p:sp>
        <p:nvSpPr>
          <p:cNvPr id="145" name="Oval 15"/>
          <p:cNvSpPr/>
          <p:nvPr/>
        </p:nvSpPr>
        <p:spPr>
          <a:xfrm>
            <a:off x="6443640" y="429264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6589800" y="4437000"/>
            <a:ext cx="43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6300720" y="371628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" dur="2000" fill="hold"/>
                                        <p:tgtEl>
                                          <p:spTgt spid="1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09:00:52Z</dcterms:created>
  <dc:creator>Валерий</dc:creator>
  <dc:description/>
  <dc:language>en-US</dc:language>
  <cp:lastModifiedBy>Таня</cp:lastModifiedBy>
  <dcterms:modified xsi:type="dcterms:W3CDTF">2012-06-09T19:39:03Z</dcterms:modified>
  <cp:revision>19</cp:revision>
  <dc:subject/>
  <dc:title>Слайд 1</dc:title>
</cp:coreProperties>
</file>