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laser.wav" ContentType="audio/x-wav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D9B-EA88-4F83-8C8A-5CB3197F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DE7-1C07-4C3C-B9FC-817ECBED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1E5-413C-4A6D-BFBC-9FA3D55C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80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152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80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152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625-857C-4956-8CCC-E730521E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4F6C-12D4-42A6-B586-0F04633B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AE44-ED19-4DDD-8BD0-853E75AE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DBA5-8B6F-49F2-9247-0B86FCDD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FEF6-B67D-42AE-8F7A-CCDAD8E6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AF1E-F2A7-40CD-9484-BE4C37B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10AF-D947-4685-BC1E-69159D4F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E5E6-8492-493B-B29B-E4D8DAE7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A7D-BDC3-4197-A543-748FA5F3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9AA6-CFF1-4C90-B571-27A13755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7AC1-BCF9-49F1-8ACA-78A520A3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7BB7-2C2B-49C4-B2E6-27E9218E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D12F-D92F-462D-ADAA-4746E2A6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80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152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80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152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2D0C-FC28-468A-97B9-617ACE78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3846-AED4-4CD9-AB00-79134FDB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EE8-8B33-4DEC-9887-B01EB6E2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82E-0A45-44BC-BBB8-2E74A74D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9BE-F823-4B56-B9A1-ADF27F94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19F-4EBA-4159-928C-F552E805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8D9-9605-4735-81ED-F027DA55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454-7AFB-436A-B607-21386A4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EC37-81ED-41A6-AF8D-E53B6DB423F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6320" y="6248520"/>
            <a:ext cx="588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760F-928C-4BEC-A67B-EAF69DDC20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1042920" y="981000"/>
            <a:ext cx="7705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РУЖНОСТЬ и КРУГ дружно живут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284280"/>
            <a:ext cx="40132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Выполнила учениц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8 клас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Безвинная Елизав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4487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French Script MT"/>
              </a:rPr>
              <a:t> 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лина окруж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French Script MT"/>
              </a:rPr>
              <a:t> 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0000"/>
                </a:solidFill>
                <a:latin typeface="French Script MT"/>
              </a:rPr>
              <a:t> l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French Script MT"/>
              </a:rPr>
              <a:t>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построения окружности необходим чертежный инструмент – циркуль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1988640"/>
            <a:ext cx="7694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Чтоб окружность начертить,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до с циркулем дружить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акружит одной ногой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Циркуль твой – циркач лихой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Часто видишь на дороге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нак запрета очень строгий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руг, заметив с “кирпичом” 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мни, въезд здесь запрещён!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На дежурстве в центре вод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одка с надписью “ОСВОД”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най, придёт на помощь круг,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н в беде надёжный друг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Дождь пришёл на небе ярко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асияло диво – арка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оявился полукруг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Разноцветных радуг – дуг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ихо мчится птица-тройка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Чудо дуги плещут бойко.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ни быстрые летят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Колокольчики звенят. (Э. Звоницкий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Круг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это плоскость внутри окруж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А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         круг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В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         круг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иаметр делит круг на два полукруг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3768840" cy="28702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7885080" y="4653000"/>
            <a:ext cx="503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8244000" y="4581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11" descr=""/>
          <p:cNvPicPr/>
          <p:nvPr/>
        </p:nvPicPr>
        <p:blipFill>
          <a:blip r:embed="rId2"/>
          <a:stretch/>
        </p:blipFill>
        <p:spPr>
          <a:xfrm>
            <a:off x="1693800" y="3645000"/>
            <a:ext cx="685800" cy="561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3"/>
          <a:stretch/>
        </p:blipFill>
        <p:spPr>
          <a:xfrm>
            <a:off x="1619280" y="4221000"/>
            <a:ext cx="685800" cy="561960"/>
          </a:xfrm>
          <a:prstGeom prst="rect">
            <a:avLst/>
          </a:prstGeom>
          <a:ln w="0">
            <a:noFill/>
          </a:ln>
        </p:spPr>
      </p:pic>
      <p:sp>
        <p:nvSpPr>
          <p:cNvPr id="159" name="Line 14"/>
          <p:cNvSpPr/>
          <p:nvPr/>
        </p:nvSpPr>
        <p:spPr>
          <a:xfrm flipH="1">
            <a:off x="1834920" y="4149720"/>
            <a:ext cx="360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Oval 15"/>
          <p:cNvSpPr/>
          <p:nvPr/>
        </p:nvSpPr>
        <p:spPr>
          <a:xfrm flipV="1">
            <a:off x="5942160" y="4436280"/>
            <a:ext cx="69840" cy="71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2109960" y="195120"/>
            <a:ext cx="70340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Круг в окружности кольцо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Замкнут. Вот его лицо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Круглое, пригожее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На солнышко похожее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477800" y="69840"/>
            <a:ext cx="640728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Любят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все поголовно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сяк  признать  его  готов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За  его  характер  ровный -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е  имеет  он  угл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есть  всюду - каждый  знает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арадокс,  но  это  так: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жизни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лыми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бываю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И отличник,  и  дурак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 нашей  сложной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оверти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Оглянитесь-ка   вокруг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от  уж  несколько  столетий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Крутится  гончарный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аша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лая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планет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Совершая  свой  полет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Кружит  и  зимой  и  лето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Вокруг  солнца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лы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год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Честно  служит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всем  людям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Без  него  нам  не  прожить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Не  напрасно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Круг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мы  любим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Есть  за  что  его  любить!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189000"/>
            <a:ext cx="44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Arial"/>
              </a:rPr>
              <a:t>круг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77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лощадь кру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ОКРУЖНОСТЬ и кру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8080" y="2361960"/>
            <a:ext cx="76946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0" spc="-1" strike="noStrike">
                <a:solidFill>
                  <a:srgbClr val="cc0000"/>
                </a:solidFill>
                <a:latin typeface="Arial"/>
              </a:rPr>
              <a:t>π</a:t>
            </a:r>
            <a:r>
              <a:rPr b="0" lang="ru-RU" sz="8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ШЕНИЕ ДЛИНЫ ОКРУЖНОСТИ К ЕЁ ДИАМЕТРУ. ЭТО ВЕЛИЧИНА ПОСТОЯННАЯ И НЕ ЗАВИСИТ ОТ РАЗМЕРОВ ОКРУЖ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исло, выражающее это отношение принято обозначать греческой буквой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cc0000"/>
                </a:solidFill>
                <a:latin typeface="Arial"/>
              </a:rPr>
              <a:t>π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пи) – первой буквой слова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ифири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(греч. –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кружность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исло </a:t>
            </a:r>
            <a:r>
              <a:rPr b="0" lang="el-GR" sz="2400" spc="-1" strike="noStrike">
                <a:solidFill>
                  <a:srgbClr val="cc0000"/>
                </a:solidFill>
                <a:latin typeface="Arial"/>
              </a:rPr>
              <a:t>π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близительно равн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3,14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2565360"/>
            <a:ext cx="6193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Используя   метод Архимеда,  можно вычислить  </a:t>
            </a:r>
            <a:r>
              <a:rPr b="0" i="1" lang="el-GR" sz="2400" spc="-1" strike="noStrike">
                <a:solidFill>
                  <a:srgbClr val="990033"/>
                </a:solidFill>
                <a:latin typeface="Arial"/>
                <a:ea typeface="Arial"/>
              </a:rPr>
              <a:t>π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 с любой точностью.</a:t>
            </a:r>
            <a:br>
              <a:rPr sz="2400"/>
            </a:b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В 1596  году Людольф ван Келен из Дельфта получил 35 знаков числа </a:t>
            </a:r>
            <a:r>
              <a:rPr b="0" i="1" lang="el-GR" sz="2400" spc="-1" strike="noStrike">
                <a:solidFill>
                  <a:srgbClr val="990033"/>
                </a:solidFill>
                <a:latin typeface="Arial"/>
                <a:ea typeface="Arial"/>
              </a:rPr>
              <a:t>π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. Леонард Эйлер вычислил  </a:t>
            </a:r>
            <a:r>
              <a:rPr b="0" i="1" lang="el-GR" sz="2400" spc="-1" strike="noStrike">
                <a:solidFill>
                  <a:srgbClr val="990033"/>
                </a:solidFill>
                <a:latin typeface="Arial"/>
                <a:ea typeface="Arial"/>
              </a:rPr>
              <a:t>π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с  точностью до 153 десятичных знаков </a:t>
            </a:r>
            <a:br>
              <a:rPr sz="2400"/>
            </a:b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В 1963 году было найдено уже 100265 десятичных знаков числа  </a:t>
            </a:r>
            <a:r>
              <a:rPr b="0" i="1" lang="el-GR" sz="2400" spc="-1" strike="noStrike">
                <a:solidFill>
                  <a:srgbClr val="990033"/>
                </a:solidFill>
                <a:latin typeface="Arial"/>
                <a:ea typeface="Arial"/>
              </a:rPr>
              <a:t>π</a:t>
            </a:r>
            <a:r>
              <a:rPr b="0" i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Rectangle 10" descr=""/>
          <p:cNvPicPr/>
          <p:nvPr/>
        </p:nvPicPr>
        <p:blipFill>
          <a:blip r:embed="rId1"/>
          <a:stretch/>
        </p:blipFill>
        <p:spPr>
          <a:xfrm>
            <a:off x="5791320" y="762120"/>
            <a:ext cx="307800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6920" y="11970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 и кр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6699"/>
                </a:solidFill>
                <a:latin typeface="Times New Roman"/>
              </a:rPr>
              <a:t>Первым  ввел  обозначение  отношения  длины  окружности  к  диаметру  современным  символом  </a:t>
            </a:r>
            <a:r>
              <a:rPr b="0" i="1" lang="el-GR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π</a:t>
            </a:r>
            <a:r>
              <a:rPr b="0" i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английский  математик  У.Джонсон  в  1706  году.  В  качестве  символа  он  взял  первую  букву  греческого  слова</a:t>
            </a:r>
            <a:r>
              <a:rPr b="0" i="1" lang="ru-RU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«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eriferia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,  что  в  переводе  означает  «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кружность»</a:t>
            </a:r>
            <a:r>
              <a:rPr b="0" i="1" lang="ru-RU" sz="20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378000"/>
            <a:ext cx="6264360" cy="6075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Гордый  Рим  трубил  побед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Над  твердыней  Сираку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Но  трудами  Архиме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Много  больше  я  горжусь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Надо  нынче  нам  заняться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Оказать  старинке  честь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Чтобы  нам  не  ошибать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Чтоб окружность верно счесть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Надо  только  постарать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И запомнить  все  как  ес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Три – четырнадцать – пятнадцать 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девяносто  два  и  шесть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Rectangle 10" descr=""/>
          <p:cNvPicPr/>
          <p:nvPr/>
        </p:nvPicPr>
        <p:blipFill>
          <a:blip r:embed="rId1"/>
          <a:stretch/>
        </p:blipFill>
        <p:spPr>
          <a:xfrm>
            <a:off x="0" y="1268280"/>
            <a:ext cx="32972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240"/>
                            </p:stCondLst>
                            <p:childTnLst>
                              <p:par>
                                <p:cTn id="242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48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ОКРУЖНОСТЬ и кру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771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l-GR" sz="9600" spc="-1" strike="noStrike">
                <a:solidFill>
                  <a:srgbClr val="003366"/>
                </a:solidFill>
                <a:latin typeface="Arial"/>
              </a:rPr>
              <a:t>π</a:t>
            </a:r>
            <a:r>
              <a:rPr b="0" lang="el-GR" sz="4000" spc="-1" strike="noStrike">
                <a:solidFill>
                  <a:srgbClr val="003366"/>
                </a:solidFill>
                <a:latin typeface="Arial"/>
              </a:rPr>
              <a:t>═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6000" spc="-1" strike="noStrike" u="sng">
                <a:solidFill>
                  <a:srgbClr val="003366"/>
                </a:solidFill>
                <a:uFillTx/>
                <a:latin typeface="Arial"/>
              </a:rPr>
              <a:t>3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ru-RU" sz="6000" spc="-1" strike="noStrike" u="sng">
                <a:solidFill>
                  <a:srgbClr val="003366"/>
                </a:solidFill>
                <a:uFillTx/>
                <a:latin typeface="Arial"/>
              </a:rPr>
              <a:t>14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6000" spc="-1" strike="noStrike" u="sng">
                <a:solidFill>
                  <a:srgbClr val="003366"/>
                </a:solidFill>
                <a:uFillTx/>
                <a:latin typeface="Arial"/>
              </a:rPr>
              <a:t>15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6000" spc="-1" strike="noStrike" u="sng">
                <a:solidFill>
                  <a:srgbClr val="003366"/>
                </a:solidFill>
                <a:uFillTx/>
                <a:latin typeface="Arial"/>
              </a:rPr>
              <a:t>92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6000" spc="-1" strike="noStrike" u="sng">
                <a:solidFill>
                  <a:srgbClr val="003366"/>
                </a:solidFill>
                <a:uFillTx/>
                <a:latin typeface="Arial"/>
              </a:rPr>
              <a:t>6</a:t>
            </a:r>
            <a:r>
              <a:rPr b="0" lang="ru-RU" sz="6000" spc="-1" strike="noStrike">
                <a:solidFill>
                  <a:srgbClr val="003366"/>
                </a:solidFill>
                <a:latin typeface="Arial"/>
              </a:rPr>
              <a:t> ...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НУЖНО ТОЛЬКО ПОСТАРАТЬ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И ЗАПОМНИИТЬ ВСЁ КАК ЕСТЬ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ТРИ, ЧЕТЫРНАДЦАТЬ,                ПЯТНАДЦАТЬ,ДЕВЯНОСТО ДВА И ШЕСТЬ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100"/>
                            </p:stCondLst>
                            <p:childTnLst>
                              <p:par>
                                <p:cTn id="30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200"/>
                            </p:stCondLst>
                            <p:childTnLst>
                              <p:par>
                                <p:cTn id="3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ОКРУЖНОСТЬ и кру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77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 так выглядит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101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знак числа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cc0000"/>
                </a:solidFill>
                <a:latin typeface="Arial"/>
              </a:rPr>
              <a:t>π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ез округлени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,14159 26535 89793 23846 26433 83279 50288 41971 69399 37510 58209 74944 59230 78164 06286 20899 86280 34825 34211 7067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989000"/>
            <a:ext cx="769464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Объяснить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чему большинство предметов окружающих нас имеют круглую форму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ва история возникновения круга и окружност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Где в быту встречаются круг и окружност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ва история инструментов, используемых для построения круга и окружност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чем отличие круга и окружност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то нужно знать, чтобы построить круг или окружность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то такое радиус, диаметр, центр, дуг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Какие формулы нужно знать, чтобы вычислить диаметр или радиу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403280" y="2301840"/>
          <a:ext cx="7740720" cy="4572000"/>
        </p:xfrm>
        <a:graphic>
          <a:graphicData uri="http://schemas.openxmlformats.org/drawingml/2006/table">
            <a:tbl>
              <a:tblPr/>
              <a:tblGrid>
                <a:gridCol w="482760"/>
                <a:gridCol w="484200"/>
                <a:gridCol w="482400"/>
                <a:gridCol w="482760"/>
                <a:gridCol w="500040"/>
                <a:gridCol w="482400"/>
                <a:gridCol w="484200"/>
                <a:gridCol w="481320"/>
                <a:gridCol w="482400"/>
                <a:gridCol w="482760"/>
                <a:gridCol w="482400"/>
                <a:gridCol w="480960"/>
                <a:gridCol w="482760"/>
                <a:gridCol w="482400"/>
                <a:gridCol w="484200"/>
                <a:gridCol w="482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AutoShape 2067"/>
          <p:cNvSpPr/>
          <p:nvPr/>
        </p:nvSpPr>
        <p:spPr>
          <a:xfrm>
            <a:off x="971640" y="0"/>
            <a:ext cx="7924680" cy="83664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 и кр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AutoShape 2066"/>
          <p:cNvSpPr/>
          <p:nvPr/>
        </p:nvSpPr>
        <p:spPr>
          <a:xfrm>
            <a:off x="0" y="620640"/>
            <a:ext cx="7669080" cy="3024360"/>
          </a:xfrm>
          <a:prstGeom prst="roundRect">
            <a:avLst>
              <a:gd name="adj" fmla="val 91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   Хорда – это ……………, соединяющий две точки на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   Плоскость внутри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   Точка О - …………….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4.   Часть окружности, ограниченная двумя точкам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5.   Уменьшительно-ласкательное наименование круга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6.   Диаметр разбивает окружность на две …………… .</a:t>
            </a:r>
            <a:br>
              <a:rPr sz="1400"/>
            </a:br>
            <a:br>
              <a:rPr sz="1400"/>
            </a:br>
            <a:br>
              <a:rPr sz="16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7.   Отрезок, соединяющий две точки на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.   Отрезок, соединяющий центр окружности с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точкой на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.   Хорда, проходящая через центр окружности.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0. Эта цифра состоит из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двух окружност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692360" y="2301840"/>
          <a:ext cx="6078600" cy="4267080"/>
        </p:xfrm>
        <a:graphic>
          <a:graphicData uri="http://schemas.openxmlformats.org/drawingml/2006/table">
            <a:tbl>
              <a:tblPr/>
              <a:tblGrid>
                <a:gridCol w="379440"/>
                <a:gridCol w="379440"/>
                <a:gridCol w="379440"/>
                <a:gridCol w="379080"/>
                <a:gridCol w="392400"/>
                <a:gridCol w="379440"/>
                <a:gridCol w="379440"/>
                <a:gridCol w="377640"/>
                <a:gridCol w="379440"/>
                <a:gridCol w="461880"/>
                <a:gridCol w="360360"/>
                <a:gridCol w="360360"/>
                <a:gridCol w="358920"/>
                <a:gridCol w="352440"/>
                <a:gridCol w="379440"/>
                <a:gridCol w="37944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AutoShape 686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Cyr"/>
              </a:rPr>
              <a:t>Кроссворд «Окружность»</a:t>
            </a:r>
            <a:br>
              <a:rPr sz="36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2362320"/>
          <a:ext cx="7694640" cy="4024080"/>
        </p:xfrm>
        <a:graphic>
          <a:graphicData uri="http://schemas.openxmlformats.org/drawingml/2006/table">
            <a:tbl>
              <a:tblPr/>
              <a:tblGrid>
                <a:gridCol w="236520"/>
                <a:gridCol w="290520"/>
                <a:gridCol w="290520"/>
                <a:gridCol w="290520"/>
                <a:gridCol w="290520"/>
                <a:gridCol w="290520"/>
                <a:gridCol w="290520"/>
                <a:gridCol w="236520"/>
                <a:gridCol w="236520"/>
                <a:gridCol w="236520"/>
                <a:gridCol w="290520"/>
                <a:gridCol w="238320"/>
                <a:gridCol w="236520"/>
                <a:gridCol w="42400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Вопросы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Геометрическая фигура, состоящая из всех точек плоскости, расположенных на заданном расстоянии от данной точк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Отрезок, соединяющий две точки окружности и проходящий через центр этой окруж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.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Отношение длины окружности к её диаметру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8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Отрезок, соединяющий любые две точки окруж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.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Часть круга, ограниченная дугой и двумя радиусами, соединяющими концы дуги с центром 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6.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Отрезок, соединяющий центр окружности с какой-либо точкой окруж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 Cyr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.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Учёный, который ввёл понятие числа "пи"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.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Часть плоскости, ограниченная окружностью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492280"/>
            <a:ext cx="29163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Дано: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R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1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=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20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,  R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Arial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=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  <a:ea typeface="Arial"/>
              </a:rPr>
              <a:t>12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609300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Найти  площадь  закрашенной  фигуры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2708280"/>
            <a:ext cx="3168720" cy="3024360"/>
          </a:xfrm>
          <a:prstGeom prst="ellipse">
            <a:avLst/>
          </a:prstGeom>
          <a:solidFill>
            <a:srgbClr val="33cccc"/>
          </a:solidFill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3284640"/>
            <a:ext cx="2016000" cy="192240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40720" y="39322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916000" y="4219560"/>
            <a:ext cx="1368360" cy="72072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4219560"/>
            <a:ext cx="216000" cy="936720"/>
          </a:xfrm>
          <a:prstGeom prst="line">
            <a:avLst/>
          </a:prstGeom>
          <a:ln w="414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85720" y="407664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36640" y="44370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052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Решите задач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"/>
                            </p:stCondLst>
                            <p:childTnLst>
                              <p:par>
                                <p:cTn id="3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25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75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250"/>
                            </p:stCondLst>
                            <p:childTnLst>
                              <p:par>
                                <p:cTn id="3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25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75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75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25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825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55640" y="2349360"/>
            <a:ext cx="2521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Дано: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20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,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6021360"/>
            <a:ext cx="65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Найти  площадь  закрашенной  фиг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3640" y="2492280"/>
            <a:ext cx="3600360" cy="3362400"/>
          </a:xfrm>
          <a:prstGeom prst="ellipse">
            <a:avLst/>
          </a:prstGeom>
          <a:solidFill>
            <a:srgbClr val="f7cdf7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4076640"/>
            <a:ext cx="1800000" cy="180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3645000"/>
            <a:ext cx="79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39560" y="4653000"/>
            <a:ext cx="60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2360" y="2781360"/>
            <a:ext cx="1295640" cy="1224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3068640"/>
            <a:ext cx="83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O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052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Решите задач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45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95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95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95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450"/>
                            </p:stCondLst>
                            <p:childTnLst>
                              <p:par>
                                <p:cTn id="4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7450"/>
                            </p:stCondLst>
                            <p:childTnLst>
                              <p:par>
                                <p:cTn id="4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55640" y="2708280"/>
            <a:ext cx="1512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Дано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1" i="1" lang="ru-RU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06880" y="6338880"/>
            <a:ext cx="64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Найти  площадь закрашенной  фиг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56360" y="76500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Rectangle 10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033800" cy="3954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910160" y="40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6880" y="40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76640" y="3932280"/>
            <a:ext cx="5173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23840" y="3932280"/>
            <a:ext cx="55584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baseline="-25000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i="1" lang="en-US" sz="1000" spc="-1" strike="noStrike" baseline="-25000">
                <a:solidFill>
                  <a:srgbClr val="003366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10480" y="3932280"/>
            <a:ext cx="68796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О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baseline="-25000">
                <a:solidFill>
                  <a:srgbClr val="003366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41440" y="4403880"/>
            <a:ext cx="3716640" cy="14040"/>
          </a:xfrm>
          <a:custGeom>
            <a:avLst/>
            <a:gdLst/>
            <a:ahLst/>
            <a:rect l="l" t="t" r="r" b="b"/>
            <a:pathLst>
              <a:path w="2341" h="9">
                <a:moveTo>
                  <a:pt x="0" y="9"/>
                </a:moveTo>
                <a:lnTo>
                  <a:pt x="2341" y="0"/>
                </a:lnTo>
              </a:path>
            </a:pathLst>
          </a:custGeom>
          <a:noFill/>
          <a:ln w="255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4365720"/>
            <a:ext cx="144720" cy="12204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4365720"/>
            <a:ext cx="144360" cy="12204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4365720"/>
            <a:ext cx="144360" cy="122040"/>
          </a:xfrm>
          <a:prstGeom prst="ellipse">
            <a:avLst/>
          </a:prstGeom>
          <a:solidFill>
            <a:srgbClr val="0c03c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052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Решите задач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950"/>
                            </p:stCondLst>
                            <p:childTnLst>
                              <p:par>
                                <p:cTn id="4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9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4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400"/>
                            </p:stCondLst>
                            <p:childTnLst>
                              <p:par>
                                <p:cTn id="4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400"/>
                            </p:stCondLst>
                            <p:childTnLst>
                              <p:par>
                                <p:cTn id="5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826920" y="988560"/>
            <a:ext cx="8317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  ели  из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тарелки?  Пили из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чашки? Грызли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ое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яблоко?   Пасовали   друг   другу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ый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яч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идели   праздничное   представление   на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ой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арене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Если на большинство этих вопросов вы ответили утвердительно,  значит,  вы  согласитесь  со  мною,  что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в  нашей  жизни  встречается  част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ы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капельки  росы,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ло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солнышко на небе,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круглые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глаза удивленного  ребенка...  Симпатичная  штука -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?  Не  правда  ли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А  еще  чуточку  загадочная:  множество  геометрических фигур  анализировали  древние  философы,  мудрецы,  толкователи  культов.  И  из  всех  фигур, только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имел  два противоположных значения - у одних людей он обозначают полноту,  наполненность,  а  у  других 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устоту,  абсолютный вакуум.  И  кроме  того,  у  всех  фигур(квадрат, прямоугольник, ромб…) линия  обвода называется  также,  как  сама фигура. У всех, но не у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а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Круг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"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окружает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окружность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189000"/>
            <a:ext cx="59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много истор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24360" y="714240"/>
            <a:ext cx="97203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Окружность - одна из древнейших геометрических фигур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Согласно Аристотелю, небесная материя, из которой состоят планеты и звезды, как самая совершенная, должна двигаться по самой совершенной линии – окруж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Ещё вавилоняне и древние индийцы считали самым важным элементом окружности </a:t>
            </a:r>
            <a:r>
              <a:rPr b="0" i="1" lang="ru-RU" sz="2000" spc="-1" strike="noStrike">
                <a:solidFill>
                  <a:srgbClr val="003366"/>
                </a:solidFill>
                <a:latin typeface="Verdana"/>
              </a:rPr>
              <a:t>радиус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. Слово это – латинское и означает «луч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Термин «радиус» впервые встречается в «Геометрии» Рамуса, затем у Ф. Виета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Термин «радиус» становится общепринятым в конце  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XVII</a:t>
            </a: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в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28360" y="838080"/>
            <a:ext cx="7785000" cy="10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Окружность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геометрическая фигура, состоящая из всех точек расположенных на заданном расстояние от данной точки. Данная точка называется центром окруж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– центр окруж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7" descr="Окружность"/>
          <p:cNvPicPr/>
          <p:nvPr/>
        </p:nvPicPr>
        <p:blipFill>
          <a:blip r:embed="rId1"/>
          <a:stretch/>
        </p:blipFill>
        <p:spPr>
          <a:xfrm>
            <a:off x="4859280" y="2349360"/>
            <a:ext cx="3770280" cy="3724560"/>
          </a:xfrm>
          <a:prstGeom prst="rect">
            <a:avLst/>
          </a:prstGeom>
          <a:ln w="0">
            <a:noFill/>
          </a:ln>
        </p:spPr>
      </p:pic>
      <p:sp>
        <p:nvSpPr>
          <p:cNvPr id="106" name="Line 9"/>
          <p:cNvSpPr/>
          <p:nvPr/>
        </p:nvSpPr>
        <p:spPr>
          <a:xfrm>
            <a:off x="6589800" y="407664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6659640" y="4149720"/>
            <a:ext cx="73080" cy="71280"/>
          </a:xfrm>
          <a:prstGeom prst="ellipse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786720" y="3860640"/>
            <a:ext cx="49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ОА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r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 радиус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Радиус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– это отрезок, соединяющий центр окружности с точкой на окруж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6" descr="Окружность"/>
          <p:cNvPicPr/>
          <p:nvPr/>
        </p:nvPicPr>
        <p:blipFill>
          <a:blip r:embed="rId1"/>
          <a:stretch/>
        </p:blipFill>
        <p:spPr>
          <a:xfrm>
            <a:off x="4761000" y="2362320"/>
            <a:ext cx="37717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Oval 7"/>
          <p:cNvSpPr/>
          <p:nvPr/>
        </p:nvSpPr>
        <p:spPr>
          <a:xfrm>
            <a:off x="6659640" y="4149720"/>
            <a:ext cx="730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 flipV="1">
            <a:off x="6732720" y="3068280"/>
            <a:ext cx="1295280" cy="108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8028000" y="2997360"/>
            <a:ext cx="73080" cy="71280"/>
          </a:xfrm>
          <a:prstGeom prst="ellipse">
            <a:avLst/>
          </a:prstGeom>
          <a:solidFill>
            <a:srgbClr val="8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6227640" y="3645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8028000" y="2492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Хорда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– отрезок, соединяющий две точки на окруж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ВС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хор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8" descr="Окружность"/>
          <p:cNvPicPr/>
          <p:nvPr/>
        </p:nvPicPr>
        <p:blipFill>
          <a:blip r:embed="rId1"/>
          <a:stretch/>
        </p:blipFill>
        <p:spPr>
          <a:xfrm>
            <a:off x="4716360" y="2349360"/>
            <a:ext cx="3772080" cy="3724560"/>
          </a:xfrm>
          <a:prstGeom prst="rect">
            <a:avLst/>
          </a:prstGeom>
          <a:ln w="0">
            <a:noFill/>
          </a:ln>
        </p:spPr>
      </p:pic>
      <p:sp>
        <p:nvSpPr>
          <p:cNvPr id="120" name="Oval 9"/>
          <p:cNvSpPr/>
          <p:nvPr/>
        </p:nvSpPr>
        <p:spPr>
          <a:xfrm>
            <a:off x="6659640" y="4149720"/>
            <a:ext cx="730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157800" y="3808440"/>
            <a:ext cx="3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6012000" y="3573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589800" y="3789360"/>
            <a:ext cx="1798560" cy="2232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227640" y="6308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317080" y="2924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Oval 15"/>
          <p:cNvSpPr/>
          <p:nvPr/>
        </p:nvSpPr>
        <p:spPr>
          <a:xfrm flipH="1" flipV="1">
            <a:off x="8388360" y="3715560"/>
            <a:ext cx="71280" cy="73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Oval 16"/>
          <p:cNvSpPr/>
          <p:nvPr/>
        </p:nvSpPr>
        <p:spPr>
          <a:xfrm>
            <a:off x="6516720" y="6021360"/>
            <a:ext cx="73080" cy="71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1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377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Диаметр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это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хорда, проходящая через центр окруж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ru-RU" sz="40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РК 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диаметр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D 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2R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иаметр разбивает окружность на две полуокруж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Окружность"/>
          <p:cNvPicPr/>
          <p:nvPr/>
        </p:nvPicPr>
        <p:blipFill>
          <a:blip r:embed="rId1"/>
          <a:stretch/>
        </p:blipFill>
        <p:spPr>
          <a:xfrm>
            <a:off x="4788000" y="2349360"/>
            <a:ext cx="3770280" cy="3724560"/>
          </a:xfrm>
          <a:prstGeom prst="rect">
            <a:avLst/>
          </a:prstGeom>
          <a:ln w="0">
            <a:noFill/>
          </a:ln>
        </p:spPr>
      </p:pic>
      <p:sp>
        <p:nvSpPr>
          <p:cNvPr id="131" name="Line 15"/>
          <p:cNvSpPr/>
          <p:nvPr/>
        </p:nvSpPr>
        <p:spPr>
          <a:xfrm flipV="1">
            <a:off x="4788000" y="3933720"/>
            <a:ext cx="3671640" cy="503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6659640" y="4149720"/>
            <a:ext cx="730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8459640" y="3860640"/>
            <a:ext cx="73080" cy="73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Oval 18"/>
          <p:cNvSpPr/>
          <p:nvPr/>
        </p:nvSpPr>
        <p:spPr>
          <a:xfrm flipV="1">
            <a:off x="4788000" y="436572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4284720" y="450864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8532720" y="3284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6300720" y="3429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5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Arial"/>
              </a:rPr>
              <a:t>ОКРУЖНОСТЬ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MN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уг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Дуга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– это часть окруж-ности, ограни-ченная двумя точк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6659640" y="4149720"/>
            <a:ext cx="730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8388360" y="4724280"/>
            <a:ext cx="71280" cy="73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7380360" y="5877000"/>
            <a:ext cx="73080" cy="73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6373800" y="3573360"/>
            <a:ext cx="3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14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687840" cy="3467160"/>
          </a:xfrm>
          <a:prstGeom prst="rect">
            <a:avLst/>
          </a:prstGeom>
          <a:ln w="0">
            <a:noFill/>
          </a:ln>
        </p:spPr>
      </p:pic>
      <p:sp>
        <p:nvSpPr>
          <p:cNvPr id="145" name="Oval 15"/>
          <p:cNvSpPr/>
          <p:nvPr/>
        </p:nvSpPr>
        <p:spPr>
          <a:xfrm>
            <a:off x="6443640" y="4292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6589800" y="4437000"/>
            <a:ext cx="43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6300720" y="3716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09:00:52Z</dcterms:created>
  <dc:creator>Валерий</dc:creator>
  <dc:description/>
  <dc:language>en-US</dc:language>
  <cp:lastModifiedBy>Таня</cp:lastModifiedBy>
  <dcterms:modified xsi:type="dcterms:W3CDTF">2012-06-09T19:39:03Z</dcterms:modified>
  <cp:revision>19</cp:revision>
  <dc:subject/>
  <dc:title>Слайд 1</dc:title>
</cp:coreProperties>
</file>