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D64A-52AB-40BB-94DB-4AE8FDE89C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A63B-AF9F-4DFD-AB76-9F7D4F2A49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190D-790F-4ED1-9148-58B8786B3D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9D8E-E423-4839-A616-68A66677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47B0-8210-4761-ADAB-31E28ABA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24C-3847-4C28-8000-76A87DA3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80F-2DFA-4424-BED0-EB29D9E0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5830-C979-4F7A-9218-A83C87E2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AFB0-CDDD-4703-AA86-B252197E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C8B6-6AF7-4067-B6F8-EB39AF9C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7D9E-328C-412C-BDD8-A5ADD158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2773-902B-49F5-953F-9522FDCE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14EC-3311-4257-9375-1BD1038B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4B20-9556-4DC2-8241-84FEF972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034-636B-4045-98AC-9D34722D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6028-0AB8-4234-B442-CA0E3C81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89AD-A77A-4EE1-BEE4-43A96A17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8F34-1E5F-4FA6-98F2-A72525FB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3B65-89DA-4EF5-848D-A068E3F6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C17D-12D3-4C28-93F1-60417C8C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F7766-7815-4F3F-B84A-BE16597F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F7DD7-388A-44A0-8E3E-7717D635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B0976-EECE-4631-A104-0FE8E789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072E60-D726-4620-9B58-6F0B6EBF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A4BCC7-ABDB-4814-A83A-AF421924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31B2-0275-4BB7-8B1D-ACF15D2F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9C991-0882-4E9A-B30A-C0447BA3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E4BAB3-DD99-4D9E-AC36-FB014DBA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4EEA1-862E-4615-ABB3-97090E41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1388D-7411-4F2A-93F1-96D3D1AC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1FA5E-1CE0-4C91-9AA3-91B831E8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5E069-D890-408E-A3AC-0170DB0A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BA442-F9F4-49BC-9A37-2B085E36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474E8-9408-4801-8812-CA71A65E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9387E-0F99-4571-8061-C533A2BD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3EB4A-68CE-4D84-A0FC-4CEDB645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4596-C119-407B-B02F-C14ECDC4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1B343-8188-4269-B37D-B685361A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F4329-68C7-45F1-B9E7-2774FE8A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F0C19-22CE-444D-B7FC-11961AF6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C9BA7-973D-4514-901F-1DD48A50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015ED-0153-4A6F-B41D-0D6BAF04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1A19E-2356-48B2-AB8D-BD97D930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82683-02AA-41FD-8B45-4DA9B05D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108DE-B492-4FE3-94C9-CCB9C484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0337E-A7B7-4AE9-B5C2-7FB26343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88002D-CC8F-4CD8-8D1A-2D7D11AD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9D3-3CB9-4064-91D1-E05E5BF7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48333-AF15-416F-B19A-4674AA93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DEB2B-4204-4E44-BE29-BCEC40EB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06ACF2-E4FB-4196-B0F5-AC33120C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7EA57-BA95-4F01-AC2E-E0028CB3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56363-7148-4F1F-B548-F7F0209D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B0F482-87E1-4818-A418-6814943D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3CC5E4-2526-41DB-8526-1B01C500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8E25BA-2C73-4A24-9DAC-8DDC63D7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CF3DD0-73D1-4AC2-A16B-BA0844DF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A4DD84-E121-438D-A6C2-CEFF8BA4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679A-19BF-4295-8345-C856B5D5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E22509-BBDD-42A0-8F30-A8C746E5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CA6A86-3375-4FD8-86ED-675E7891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FB009A-E25C-4024-965A-F622D847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BDFC49-8744-45C0-9F46-52576D12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7AAAF1-CFDF-45FA-8C39-9088971F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E1C66F-1C98-4762-B2B4-69163BDC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62A0B9-ECB9-4BEB-96A1-FA9EBAB9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51B52-40BA-479D-9629-A8319630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B008B0-3AEA-4F80-B3B3-F9F2462A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F9232A-DC7A-424D-A2B5-F2C9F4D5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C94-556D-4CCE-B4CF-B4023478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9A5D72-25A3-4441-B99B-02648E39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59BB85-1A6E-44D4-ABF7-333D4AC5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6FD8BC-3610-41A2-961B-0FF7A228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2EFC77-2ED2-4376-A158-B4FA9DCD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BDF981-AD0F-4760-9765-5D2BEBCA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FD603E-7016-49A7-973C-AE2502B0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0626B-F73A-40DF-9D71-91DDCAC9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6FEFE4-6D5A-4E38-9527-CB84B525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D1B1EE-1CF5-4F67-BFBF-EE597F53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1975DF-F35B-45D8-8B70-7ADC8904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F23-C9C0-4A29-8F78-F7FC861C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DCA3EB-9D52-4550-9E06-A6B716DE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962740-ACA2-4BD5-93C8-29BBAFEC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6B8448-F9C3-4C92-A35F-8AAB796F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8C95CF-FCA9-44BD-9FA6-F696D3DE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C16220-FB6E-4A1B-98F3-3F5F168C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08E2-C565-47AD-A3BF-F631A2E9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6A00-C22B-4940-A352-6ADCDB164A7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6757-A388-4B5C-A1BD-7C43687C644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728C-1C56-4431-A287-88A82EBCD24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D9C3-C919-42E4-A5E3-EEED64E932C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AD3A-AADC-42FB-89FB-BBA29E1810D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4521-7D00-4127-8A58-19E91F04DFB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82EC-D36E-49FC-AFDE-A213B6C95A0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6" descr="C:\Documents and Settings\Ученик\Рабочий стол\Сидякина Лицей\Новая папка\Рисунок29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4000" spc="-1" strike="noStrike">
                <a:solidFill>
                  <a:srgbClr val="c00000"/>
                </a:solidFill>
                <a:latin typeface="Century Schoolbook"/>
              </a:rPr>
              <a:t>РАЗВИВАЕМ  ВНИМАНИЕ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0" y="4572000"/>
            <a:ext cx="42148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160b"/>
                </a:solidFill>
                <a:latin typeface="Century Schoolbook"/>
              </a:rPr>
              <a:t>Автор педагог-психолог МОУ Остафьевской СОШ пос.Остафьево Подольский муниципальный район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160b"/>
                </a:solidFill>
                <a:latin typeface="Century Schoolbook"/>
              </a:rPr>
              <a:t>Сидякина Татьяна Васильев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TextBox 14"/>
          <p:cNvSpPr/>
          <p:nvPr/>
        </p:nvSpPr>
        <p:spPr>
          <a:xfrm>
            <a:off x="3939840" y="62866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entury Schoolbook"/>
              </a:rPr>
              <a:t>2012г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a3d01"/>
                </a:solidFill>
                <a:latin typeface="Century Schoolbook"/>
              </a:rPr>
              <a:t>«НАЙДИ ПАРУ»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4" name="Picture 4" descr="C:\Documents and Settings\Ученик\Рабочий стол\Сидякина Лицей\Новая папка\Рисунок5.jpg"/>
          <p:cNvPicPr/>
          <p:nvPr/>
        </p:nvPicPr>
        <p:blipFill>
          <a:blip r:embed="rId1"/>
          <a:stretch/>
        </p:blipFill>
        <p:spPr>
          <a:xfrm>
            <a:off x="1108080" y="1071720"/>
            <a:ext cx="64166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3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a3d01"/>
                </a:solidFill>
                <a:latin typeface="Century Schoolbook"/>
              </a:rPr>
              <a:t>«НАЙДИ РАЗЛИЧИЯ»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4" descr="C:\Documents and Settings\Ученик\Рабочий стол\Сидякина Лицей\Новая папка\Рисунок4.jpg"/>
          <p:cNvPicPr/>
          <p:nvPr/>
        </p:nvPicPr>
        <p:blipFill>
          <a:blip r:embed="rId1"/>
          <a:stretch/>
        </p:blipFill>
        <p:spPr>
          <a:xfrm>
            <a:off x="2286000" y="1285920"/>
            <a:ext cx="44578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3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Picture 4" descr="C:\Documents and Settings\Ученик\Рабочий стол\Сидякина Лицей\Новая папка\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 Schoolbook"/>
              </a:rPr>
              <a:t>ИНФОРМАЦИЯ О ПРОЕКТЕ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484280"/>
            <a:ext cx="7467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Психолог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Программа «В школу с улыбкой»    (переработанная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Тема занятия: «Развиваем внимание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5" descr="C:\Documents and Settings\Ученик\Рабочий стол\Сидякина Лицей\Новая папка\Рисунок8.jpg"/>
          <p:cNvPicPr/>
          <p:nvPr/>
        </p:nvPicPr>
        <p:blipFill>
          <a:blip r:embed="rId1"/>
          <a:stretch/>
        </p:blipFill>
        <p:spPr>
          <a:xfrm>
            <a:off x="1357200" y="3286080"/>
            <a:ext cx="37893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 Schoolbook"/>
              </a:rPr>
              <a:t>ЦЕЛИ И ЗАДАЧИ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2133720"/>
            <a:ext cx="74674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- познакомить детей с понятием внимание, с его видам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-  развивать у детей произвольное внимание, произвольную память, наблюдательност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воспитывать в детях дисциплину, сдержанность, самоконтроль, умение  слушать товарища и учител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Рисунок 1" descr=""/>
          <p:cNvPicPr/>
          <p:nvPr/>
        </p:nvPicPr>
        <p:blipFill>
          <a:blip r:embed="rId1"/>
          <a:srcRect l="0" t="28809" r="66972" b="15792"/>
          <a:stretch/>
        </p:blipFill>
        <p:spPr>
          <a:xfrm>
            <a:off x="7236000" y="2602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043840" cy="32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ВНИМАНИЕ</a:t>
            </a:r>
            <a:r>
              <a:rPr b="0" lang="ru-RU" sz="2200" spc="-1" strike="noStrike">
                <a:solidFill>
                  <a:srgbClr val="c00000"/>
                </a:solidFill>
                <a:latin typeface="Century Schoolbook"/>
              </a:rPr>
              <a:t> — НАПРАВЛЕННОСТЬ И СОСРЕДОТОЧЕННОСТЬ СОЗНАНИЯ НА КАКОМ-НИБУДЬ ПРЕДМЕТЕ, ЯВЛЕНИИ ИЛИ ДЕЯТЕЛЬНОСТИ. ВНИМАНИЕ МОЖНО ПРЕДСТАВИТЬ КАК ПРОЦЕСС, КОТОРЫЙ ОБЕСПЕЧИВАЕТ УПОРЯДОЧИВАНИЕ ПОСТУПАЮЩЕЙ ИЗВНЕ ИНФОРМАЦИИ В ЗАВИСИМОСТИ ОТ  ВАЖНОСТИ СТОЯЩИХ ПЕРЕД ЧЕЛОВЕКОМ ЗАДАЧ.</a:t>
            </a:r>
            <a:br>
              <a:rPr sz="2700"/>
            </a:b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 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1571760" y="2786040"/>
            <a:ext cx="5695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56800" y="3214440"/>
            <a:ext cx="349884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285480"/>
            <a:ext cx="81154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Основные виды внимани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природное и социально обусловленное внимание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непосредственное и опосредствованное внимание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непроизвольное и произвольное внимание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чувственное и интеллектуальное внимани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Рисунок 4" descr="Рисунок2.jpg"/>
          <p:cNvPicPr/>
          <p:nvPr/>
        </p:nvPicPr>
        <p:blipFill>
          <a:blip r:embed="rId1"/>
          <a:stretch/>
        </p:blipFill>
        <p:spPr>
          <a:xfrm>
            <a:off x="857160" y="3214800"/>
            <a:ext cx="35006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3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3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3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НЕПРОИЗВОЛЬНОЕ ВНИМАНИЕ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Непроизвольное (пассивное) внимание, в возникновении которого наше желание не принимает участ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Оно  может быть полезным т.к. помогает вовремя выявить опасность и принять необходимые меры, и облегчает включение в привычную деятельн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110"/>
                </a:solidFill>
                <a:latin typeface="Century Schoolbook"/>
              </a:rPr>
              <a:t>Но имеет и отрицательное значение, отвлекая нас от главного (необычный шум, выкрики и вспышки света отвлекают наше внимание и мешают сосредоточить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3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3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62110"/>
                </a:solidFill>
                <a:latin typeface="Century Schoolbook"/>
              </a:rPr>
              <a:t>ПРОИЗВОЛЬНОЕ ВНИМАНИЕ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043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Произвольное (активное), возникает благодаря нашему желанию, вследствие приложения нами усилия воли. Таким образом, само запоминается то, на что направлено непроизвольное внимание; то, что надо запомнить, нуждается в произвольном вниман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Произвольное внимание свойственно только человеку и формируется в процессе обучения: в быту, в школе, в труд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Schoolbook"/>
              </a:rPr>
              <a:t>Здесь все просто, нужно поставить цель: "Мне надо быть внимательным, и я заставлю себя быть внимательным, несмотря ни на что", и упорно идти к этой це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3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3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3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  </a:t>
            </a:r>
            <a:r>
              <a:rPr b="1" lang="ru-RU" sz="3000" spc="-1" strike="noStrike">
                <a:solidFill>
                  <a:srgbClr val="9a3d01"/>
                </a:solidFill>
                <a:latin typeface="Century Schoolbook"/>
              </a:rPr>
              <a:t>УПРАЖНЕНИЕ   «МУХА»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785880" y="1428840"/>
          <a:ext cx="4786200" cy="4643280"/>
        </p:xfrm>
        <a:graphic>
          <a:graphicData uri="http://schemas.openxmlformats.org/drawingml/2006/table">
            <a:tbl>
              <a:tblPr/>
              <a:tblGrid>
                <a:gridCol w="1563480"/>
                <a:gridCol w="1663920"/>
                <a:gridCol w="15588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9" name="Рисунок 1" descr=""/>
          <p:cNvPicPr/>
          <p:nvPr/>
        </p:nvPicPr>
        <p:blipFill>
          <a:blip r:embed="rId1"/>
          <a:srcRect l="51154" t="30202" r="30009" b="42382"/>
          <a:stretch/>
        </p:blipFill>
        <p:spPr>
          <a:xfrm>
            <a:off x="214200" y="285840"/>
            <a:ext cx="250056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3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96296E-006 C 0.0066 -0.02615 0.04289 -0.03541 0.0599 -0.0419 C 0.08403 -0.05115 0.10695 -0.06365 0.13143 -0.07222 C 0.1625 -0.0831 0.24497 -0.08194 0.27848 -0.08379 C 0.43872 -0.07662 0.45035 -0.09467 0.55573 -0.0456 C 0.56997 -0.03889 0.58334 -0.03727 0.59427 -0.02268 C 0.59601 -0.01805 0.59896 -0.01018 0.6 -0.00555 C 0.60209 0.00394 0.60573 0.02292 0.60573 0.02292 C 0.59966 0.10949 0.60191 0.11574 0.58282 0.18287 C 0.57275 0.21852 0.53108 0.25232 0.51129 0.2706 C 0.46789 0.31065 0.46997 0.3007 0.42986 0.32014 C 0.38611 0.34121 0.34393 0.3581 0.29844 0.37153 C 0.10139 0.36852 0.09757 0.39445 -0.01857 0.34676 C -0.02986 0.33611 -0.0526 0.31852 -0.06441 0.30486 C -0.07916 0.28773 -0.08698 0.26783 -0.09722 0.24584 C -0.10729 0.22408 -0.11666 0.20834 -0.12014 0.18287 C -0.11128 0.13912 -0.10052 0.14028 -0.06857 0.12778 C 0.029 0.08935 0.12379 0.05278 0.2257 0.0419 C 0.26806 0.03727 0.35278 0.02685 0.35278 0.02685 C 0.41754 0.02732 0.55868 -0.02245 0.63143 0.05718 C 0.63907 0.08195 0.64636 0.10741 0.65139 0.13334 C 0.65608 0.19885 0.66181 0.26852 0.64132 0.32963 C 0.63091 0.36042 0.60886 0.37593 0.58854 0.39445 C 0.52414 0.45301 0.44827 0.47986 0.37136 0.48588 C 0.27952 0.48334 0.1875 0.48519 0.09566 0.47824 C 0.08542 0.47755 0.07674 0.4676 0.06702 0.46297 C 0.05157 0.45579 0.04202 0.45533 0.02709 0.44584 C -0.0085 0.42315 -0.02777 0.39306 -0.04583 0.34676 C -0.0493 0.33797 -0.05382 0.32963 -0.05573 0.32014 C -0.05764 0.31065 -0.06146 0.29144 -0.06146 0.29144 C -0.06093 0.27755 -0.06163 0.26343 -0.06007 0.24954 C -0.05764 0.22755 -0.02847 0.21088 -0.01857 0.20394 C -0.00312 0.19306 0.01459 0.18889 0.03143 0.18287 C 0.08125 0.16551 0.1316 0.16412 0.18282 0.16204 C 0.29427 0.16528 0.40573 0.16621 0.51702 0.17153 C 0.52726 0.17199 0.53716 0.17639 0.54705 0.17917 C 0.60469 0.1956 0.60677 0.24676 0.62275 0.31065 C 0.62466 0.33195 0.6217 0.35209 0.61997 0.37338 C 0.61407 0.44236 0.60764 0.47917 0.57848 0.53542 C 0.56754 0.55648 0.52934 0.56968 0.51285 0.57732 C 0.49271 0.58658 0.47275 0.5963 0.45278 0.60579 C 0.42049 0.62107 0.3691 0.62593 0.3342 0.63056 C 0.18525 0.62199 0.01424 0.67778 -0.0658 0.46875 C -0.06875 0.45023 -0.07291 0.43426 -0.07864 0.41713 C -0.08125 0.39931 -0.08298 0.38195 -0.08437 0.36389 C -0.08402 0.35324 -0.08611 0.32662 -0.07864 0.31435 C -0.05677 0.27847 -0.04757 0.28287 -0.01718 0.26875 C -0.0118 0.26621 -0.00711 0.26111 -0.00156 0.25903 C 0.01198 0.25371 0.02622 0.25209 0.03993 0.24769 C 0.08716 0.24908 0.13438 0.24746 0.18143 0.25162 C 0.19132 0.25255 0.2099 0.26297 0.2099 0.26297 C 0.22118 0.27408 0.23299 0.28403 0.24427 0.29537 C 0.25643 0.32153 0.275 0.34977 0.28143 0.37917 C 0.28872 0.41227 0.29462 0.44213 0.29705 0.47639 C 0.29532 0.5081 0.29896 0.5419 0.28993 0.57153 C 0.27795 0.61088 0.22552 0.63357 0.19705 0.6419 C 0.17761 0.64005 0.15799 0.63935 0.13854 0.63635 C 0.12275 0.6338 0.10365 0.62199 0.08854 0.61528 C 0.07674 0.60394 0.06077 0.59167 0.05 0.57732 C 0.03733 0.56042 0.04479 0.56783 0.0342 0.54861 C 0.0316 0.54398 0.0283 0.54005 0.0257 0.53542 C 0.01789 0.52084 0.01424 0.5007 0.0099 0.4838 C 0.01042 0.46852 0.00834 0.45278 0.01129 0.4382 C 0.01216 0.43426 0.01719 0.43588 0.01997 0.43426 C 0.02396 0.43195 0.02743 0.42894 0.03143 0.42685 C 0.04323 0.42084 0.05521 0.41551 0.06702 0.40972 C 0.13073 0.37917 0.17743 0.35926 0.24705 0.35625 C 0.35313 0.34422 0.30521 0.34838 0.51563 0.35625 C 0.54254 0.35718 0.56233 0.39514 0.57275 0.42292 C 0.57604 0.43172 0.57952 0.44074 0.58282 0.44954 C 0.58629 0.45857 0.59566 0.47431 0.59566 0.47431 C 0.59861 0.48866 0.60278 0.50209 0.60573 0.51621 C 0.60764 0.52547 0.60816 0.53542 0.6099 0.54491 C 0.59653 0.5919 0.58542 0.64005 0.56997 0.68588 C 0.5658 0.69838 0.54306 0.70695 0.5342 0.71065 C 0.52622 0.71412 0.51806 0.7169 0.5099 0.72014 C 0.5066 0.7213 0.5 0.72385 0.5 0.72385 C 0.47188 0.72269 0.44375 0.72292 0.41563 0.72014 C 0.40851 0.71945 0.40243 0.71343 0.39566 0.71065 C 0.38993 0.70834 0.37848 0.70301 0.37848 0.70301 C 0.36841 0.69283 0.35955 0.67778 0.34705 0.67246 C 0.34427 0.66273 0.3415 0.65972 0.33993 0.64954 C 0.3408 0.63496 0.34028 0.62014 0.34271 0.60579 C 0.34358 0.60047 0.34775 0.59699 0.35 0.59236 C 0.36025 0.57222 0.36233 0.5625 0.37709 0.55047 C 0.38039 0.54792 0.3842 0.5463 0.38716 0.54306 C 0.3908 0.53912 0.39306 0.5331 0.39705 0.52963 C 0.40139 0.52593 0.4066 0.52477 0.41129 0.52199 C 0.43542 0.50695 0.45782 0.49306 0.48282 0.48195 C 0.49931 0.47454 0.51563 0.46482 0.53282 0.46111 C 0.55764 0.44398 0.58577 0.46181 0.61129 0.46482 C 0.629 0.47431 0.63525 0.47199 0.65712 0.4706 C 0.6566 0.45417 0.65764 0.43727 0.65573 0.42107 C 0.65521 0.4169 0.64844 0.42871 0.64844 0.42871 E">
                                      <p:cBhvr>
                                        <p:cTn id="11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3000" spc="-1" strike="noStrike">
                <a:solidFill>
                  <a:srgbClr val="9a3d01"/>
                </a:solidFill>
                <a:latin typeface="Century Schoolbook"/>
              </a:rPr>
              <a:t>«НАЙДИ ПАРУ»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Picture 5" descr="C:\Documents and Settings\Ученик\Рабочий стол\Сидякина Лицей\Новая папка\Рисунок6.jpg"/>
          <p:cNvPicPr/>
          <p:nvPr/>
        </p:nvPicPr>
        <p:blipFill>
          <a:blip r:embed="rId1"/>
          <a:stretch/>
        </p:blipFill>
        <p:spPr>
          <a:xfrm>
            <a:off x="785880" y="928800"/>
            <a:ext cx="6572160" cy="2628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6" descr="C:\Documents and Settings\Ученик\Рабочий стол\Сидякина Лицей\Новая папка\Рисунок7.jpg"/>
          <p:cNvPicPr/>
          <p:nvPr/>
        </p:nvPicPr>
        <p:blipFill>
          <a:blip r:embed="rId2"/>
          <a:stretch/>
        </p:blipFill>
        <p:spPr>
          <a:xfrm>
            <a:off x="785880" y="3786120"/>
            <a:ext cx="70009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3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ласс 2</cp:lastModifiedBy>
  <dcterms:modified xsi:type="dcterms:W3CDTF">2012-06-09T09:56:25Z</dcterms:modified>
  <cp:revision>12</cp:revision>
  <dc:subject/>
  <dc:title> РАЗВИВАЕМ  ВНИМАНИЕ</dc:title>
</cp:coreProperties>
</file>