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9767C-93CF-4E68-8676-D01DC4635E0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F20F-DE0A-4211-8A99-965C27A3FC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B4E46-87D2-4068-876A-270DAEB49A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66C7-7E08-4385-ABBE-03A46DFD8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63E9-9CF2-45E8-BFBC-5B3E69E9A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5B62-C684-4416-8E9C-9586B6988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E9AF-44CC-4B14-AAF9-DAD24B0A9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CF254-029E-4FD4-976E-D456E560A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47A01-DDE6-48E0-B119-5F3E8F9D7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18FBB-4243-48CB-A6A9-34786A063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0DECA-FBDF-4D13-8738-6B7AE7404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E7237-7420-4E98-BE35-7046CB947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0CB9D-8026-4F46-AC3E-C478D39A1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E8D5B-B893-4488-A700-8EC7891F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4675-EDD6-4E80-93BB-54BDB2911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178C4-A52B-4F44-8EBE-D406D23D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E2B6E-5674-4320-A3CE-13A21544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2544E-F120-4D98-8976-067F55B18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552DC-2DA4-4CFD-9354-372E749A8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601BF-8F48-4927-8D8B-5D7051F46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A1367E-328D-4B1D-B02C-B05509836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B9F1FB-F8FF-4C36-AC67-E37A3581E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D9F9CC-B320-438A-9B92-761854E9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FEE77C-34FF-4D32-811C-6939F70D6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0C2BE1-F178-4B93-8E67-9011DAE80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E7AE-AF81-43CE-B97F-108B9B38E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C50319-2167-4D0B-AFCA-36D2ED80A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E806C4-76DE-4264-AA8A-A37EE5C3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9B7A72-6D4B-4AAF-888B-7A71F573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AEBB0A-9EEA-4302-9CE5-A0D47CDA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E7C292-9FFF-47A4-BD52-9D14EAD5D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70B091-FA3C-4D92-9577-C5D0A6F61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C9B5BC-9A64-40C7-A2C1-2AD0B1B2E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04BD2-FBCE-4274-8152-C447E7ACC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5F9CF-FD50-4E20-9573-79ED8B9B0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5B1DB-E97F-4FC8-AAC2-3747969C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7DB9-8D62-48BA-B7CC-794FE4D4E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FADF9-CDDB-4805-8C94-72E3C65C7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1D2DE-FCC2-44FD-B98A-5EB7FEDA2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53D13-32A6-486B-B355-47C8509B2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6FDAF-DAC8-4206-95A5-0175BE79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7B64C-2CF2-463A-8321-1EB334E4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C257C-15B8-4E7B-AB41-9CDB15B1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B678F-3C45-4778-801F-04AE35E5B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F5885-35A3-4DCA-A4B6-5850F4174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BD909-2BB9-433D-811C-C4D8D5553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ECC2F3-F7EF-42ED-A0F6-25DB0B87D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E34E-D11E-4DD4-94E9-ED25D6143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0979F6-AF54-4009-9855-33B318F9B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8E335B-7755-4D19-BF32-0608A40A4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3A990F-8037-4BD4-A891-2EC100FC3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8B746D-9DB9-4451-A619-C38D1A810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CB3397-4262-47BF-8C63-57F8ECBB0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2C36FD-0C99-48F8-A471-DAFC77E3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54BD00-2C6F-4E02-B5E6-03A12FB5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753E86-45AF-4091-BF39-0CD3AE4F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A9F477-AC96-4189-ABB9-17969E67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FA8190-CD83-4E9C-8A04-5FCDA3837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B8B5-E914-4CB0-A0E3-B53B806B6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EED375-AD8D-4BA4-9AB6-20A5FAA36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8699F7-0E7B-4E75-9A49-7467387D0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47A71F-F455-4B37-B8C1-53C154274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CE6C80-D7E6-4E1B-BB49-CFE1C768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CD70B0-1BBC-4032-B713-384545E0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4C09A7-2058-4455-B0B6-171885FF3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9E54E9-3D32-4E98-9CB0-029C930CE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71D230-587F-4B3F-87B9-0C2EFF2E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B370A2-1DFE-40F2-8298-3F2DFBCB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2227AF-B8BF-4518-A253-F8E49469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671F-C46B-4D6E-B378-E6A038A5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02C046-C81F-4481-B29F-8040A43E8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FC03C4-191F-4B18-BBEA-B84562BA0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E4687B-C583-4E13-8AFB-D8293C3E5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4F07AD-688A-4DF2-8586-FAF21F091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3EC16C-6E57-4191-8185-804FE6701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3BAB76-4F78-48E9-8690-1C4A44E10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AC8FB0-CC17-4060-9554-7121E3521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48C103-1289-40C5-888D-674F5B76F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C349FB-A0B2-4522-BA6E-5329C726A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4BDB81-6BCE-4C4A-B2F8-90DEEF3C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3FF2-A3B0-43A7-A810-B8EA6F0F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4C4159-F237-4EE4-8ADB-3EBCD203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95794F-A93B-41D5-87B8-CA0C260D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A0372E-6005-4568-876B-32F2215E4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2F4D2A-FE92-49D4-8ECE-FF312E113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69BDF7-76F4-4980-8C73-88D180F00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CD50-7B9D-47D2-9553-212992B2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45B89-C5C9-4BF9-BF47-47CC4FB8737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0DC1E-87F1-4B06-A31B-92DFD1F102D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D547A-33CB-4B74-A31E-CAFBF69AB27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D967A-CB58-4D5D-9A7D-2B128B8EC12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B97A0-D033-45F1-89D9-133F764637A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8386F-F152-4AB0-A204-AE68B706310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73C8B-C9B4-41C1-8151-D24EAEEDDAE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6" descr="C:\Documents and Settings\Ученик\Рабочий стол\Сидякина Лицей\Новая папка\Рисунок29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1" lang="ru-RU" sz="4000" spc="-1" strike="noStrike">
                <a:solidFill>
                  <a:srgbClr val="c00000"/>
                </a:solidFill>
                <a:latin typeface="Century Schoolbook"/>
              </a:rPr>
              <a:t>РАЗВИВАЕМ  ВНИМАНИЕ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0" y="4572000"/>
            <a:ext cx="421488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a160b"/>
                </a:solidFill>
                <a:latin typeface="Century Schoolbook"/>
              </a:rPr>
              <a:t>Автор педагог-психолог МОУ Остафьевской СОШ пос.Остафьево Подольский муниципальный район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a160b"/>
                </a:solidFill>
                <a:latin typeface="Century Schoolbook"/>
              </a:rPr>
              <a:t>Сидякина Татьяна Васильевн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1" name="TextBox 14"/>
          <p:cNvSpPr/>
          <p:nvPr/>
        </p:nvSpPr>
        <p:spPr>
          <a:xfrm>
            <a:off x="3939840" y="628668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entury Schoolbook"/>
              </a:rPr>
              <a:t>2012г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a3d01"/>
                </a:solidFill>
                <a:latin typeface="Century Schoolbook"/>
              </a:rPr>
              <a:t>«НАЙДИ ПАРУ»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4" name="Picture 4" descr="C:\Documents and Settings\Ученик\Рабочий стол\Сидякина Лицей\Новая папка\Рисунок5.jpg"/>
          <p:cNvPicPr/>
          <p:nvPr/>
        </p:nvPicPr>
        <p:blipFill>
          <a:blip r:embed="rId1"/>
          <a:stretch/>
        </p:blipFill>
        <p:spPr>
          <a:xfrm>
            <a:off x="1108080" y="1071720"/>
            <a:ext cx="641664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3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a3d01"/>
                </a:solidFill>
                <a:latin typeface="Century Schoolbook"/>
              </a:rPr>
              <a:t>«НАЙДИ РАЗЛИЧИЯ».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6" name="Picture 4" descr="C:\Documents and Settings\Ученик\Рабочий стол\Сидякина Лицей\Новая папка\Рисунок4.jpg"/>
          <p:cNvPicPr/>
          <p:nvPr/>
        </p:nvPicPr>
        <p:blipFill>
          <a:blip r:embed="rId1"/>
          <a:stretch/>
        </p:blipFill>
        <p:spPr>
          <a:xfrm>
            <a:off x="2286000" y="1285920"/>
            <a:ext cx="445788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77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" dur="770" fill="hold"/>
                                        <p:tgtEl>
                                          <p:spTgt spid="3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1" dur="77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3" dur="77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8" name="Picture 4" descr="C:\Documents and Settings\Ученик\Рабочий стол\Сидякина Лицей\Новая папка\Рисунок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77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entury Schoolbook"/>
              </a:rPr>
              <a:t>ИНФОРМАЦИЯ О ПРОЕКТЕ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484280"/>
            <a:ext cx="74674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2400" spc="-1" strike="noStrike">
                <a:solidFill>
                  <a:srgbClr val="862110"/>
                </a:solidFill>
                <a:latin typeface="Century Schoolbook"/>
              </a:rPr>
              <a:t>Психолог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62110"/>
                </a:solidFill>
                <a:latin typeface="Century Schoolbook"/>
              </a:rPr>
              <a:t>  </a:t>
            </a:r>
            <a:r>
              <a:rPr b="0" lang="ru-RU" sz="2400" spc="-1" strike="noStrike">
                <a:solidFill>
                  <a:srgbClr val="862110"/>
                </a:solidFill>
                <a:latin typeface="Century Schoolbook"/>
              </a:rPr>
              <a:t>Программа «В школу с улыбкой»    (переработанная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62110"/>
                </a:solidFill>
                <a:latin typeface="Century Schoolbook"/>
              </a:rPr>
              <a:t>  </a:t>
            </a:r>
            <a:r>
              <a:rPr b="0" lang="ru-RU" sz="2400" spc="-1" strike="noStrike">
                <a:solidFill>
                  <a:srgbClr val="862110"/>
                </a:solidFill>
                <a:latin typeface="Century Schoolbook"/>
              </a:rPr>
              <a:t>Тема занятия: «Развиваем внимание»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6211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4" name="Picture 5" descr="C:\Documents and Settings\Ученик\Рабочий стол\Сидякина Лицей\Новая папка\Рисунок8.jpg"/>
          <p:cNvPicPr/>
          <p:nvPr/>
        </p:nvPicPr>
        <p:blipFill>
          <a:blip r:embed="rId1"/>
          <a:stretch/>
        </p:blipFill>
        <p:spPr>
          <a:xfrm>
            <a:off x="1357200" y="3286080"/>
            <a:ext cx="378936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entury Schoolbook"/>
              </a:rPr>
              <a:t>ЦЕЛИ И ЗАДАЧИ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2133720"/>
            <a:ext cx="746748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Цель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- познакомить детей с понятием внимание, с его видам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Задачи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-  развивать у детей произвольное внимание, произвольную память, наблюдательность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воспитывать в детях дисциплину, сдержанность, самоконтроль, умение  слушать товарища и учител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7" name="Рисунок 1" descr=""/>
          <p:cNvPicPr/>
          <p:nvPr/>
        </p:nvPicPr>
        <p:blipFill>
          <a:blip r:embed="rId1"/>
          <a:srcRect l="0" t="28809" r="66972" b="15792"/>
          <a:stretch/>
        </p:blipFill>
        <p:spPr>
          <a:xfrm>
            <a:off x="7236000" y="26028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20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043840" cy="32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ВНИМАНИЕ</a:t>
            </a:r>
            <a:r>
              <a:rPr b="0" lang="ru-RU" sz="2200" spc="-1" strike="noStrike">
                <a:solidFill>
                  <a:srgbClr val="c00000"/>
                </a:solidFill>
                <a:latin typeface="Century Schoolbook"/>
              </a:rPr>
              <a:t> — НАПРАВЛЕННОСТЬ И СОСРЕДОТОЧЕННОСТЬ СОЗНАНИЯ НА КАКОМ-НИБУДЬ ПРЕДМЕТЕ, ЯВЛЕНИИ ИЛИ ДЕЯТЕЛЬНОСТИ. ВНИМАНИЕ МОЖНО ПРЕДСТАВИТЬ КАК ПРОЦЕСС, КОТОРЫЙ ОБЕСПЕЧИВАЕТ УПОРЯДОЧИВАНИЕ ПОСТУПАЮЩЕЙ ИЗВНЕ ИНФОРМАЦИИ В ЗАВИСИМОСТИ ОТ  ВАЖНОСТИ СТОЯЩИХ ПЕРЕД ЧЕЛОВЕКОМ ЗАДАЧ.</a:t>
            </a:r>
            <a:br>
              <a:rPr sz="2700"/>
            </a:br>
            <a:r>
              <a:rPr b="0" lang="ru-RU" sz="2700" spc="-1" strike="noStrike">
                <a:solidFill>
                  <a:srgbClr val="c00000"/>
                </a:solidFill>
                <a:latin typeface="Century Schoolbook"/>
              </a:rPr>
              <a:t> 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9" name="Рисунок 3" descr="Рисунок1.jpg"/>
          <p:cNvPicPr/>
          <p:nvPr/>
        </p:nvPicPr>
        <p:blipFill>
          <a:blip r:embed="rId1"/>
          <a:stretch/>
        </p:blipFill>
        <p:spPr>
          <a:xfrm>
            <a:off x="1571760" y="2786040"/>
            <a:ext cx="569592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56800" y="3214440"/>
            <a:ext cx="3498840" cy="33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285480"/>
            <a:ext cx="811548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   </a:t>
            </a:r>
            <a:r>
              <a:rPr b="1" lang="ru-RU" sz="3200" spc="-1" strike="noStrike">
                <a:solidFill>
                  <a:srgbClr val="c00000"/>
                </a:solidFill>
                <a:latin typeface="Century Schoolbook"/>
              </a:rPr>
              <a:t>Основные виды внимания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entury Schoolbook"/>
              </a:rPr>
              <a:t>природное и социально обусловленное внимание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entury Schoolbook"/>
              </a:rPr>
              <a:t>непосредственное и опосредствованное внимание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entury Schoolbook"/>
              </a:rPr>
              <a:t>непроизвольное и произвольное внимание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entury Schoolbook"/>
              </a:rPr>
              <a:t>чувственное и интеллектуальное внимание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2" name="Рисунок 4" descr="Рисунок2.jpg"/>
          <p:cNvPicPr/>
          <p:nvPr/>
        </p:nvPicPr>
        <p:blipFill>
          <a:blip r:embed="rId1"/>
          <a:stretch/>
        </p:blipFill>
        <p:spPr>
          <a:xfrm>
            <a:off x="857160" y="3214800"/>
            <a:ext cx="350064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30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30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30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3000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3000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entury Schoolbook"/>
              </a:rPr>
              <a:t>НЕПРОИЗВОЛЬНОЕ ВНИМАНИЕ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62110"/>
                </a:solidFill>
                <a:latin typeface="Century Schoolbook"/>
              </a:rPr>
              <a:t>Непроизвольное (пассивное) внимание, в возникновении которого наше желание не принимает участ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62110"/>
                </a:solidFill>
                <a:latin typeface="Century Schoolbook"/>
              </a:rPr>
              <a:t>Оно  может быть полезным т.к. помогает вовремя выявить опасность и принять необходимые меры, и облегчает включение в привычную деятельность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62110"/>
                </a:solidFill>
                <a:latin typeface="Century Schoolbook"/>
              </a:rPr>
              <a:t>Но имеет и отрицательное значение, отвлекая нас от главного (необычный шум, выкрики и вспышки света отвлекают наше внимание и мешают сосредоточитьс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3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3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30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30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862110"/>
                </a:solidFill>
                <a:latin typeface="Century Schoolbook"/>
              </a:rPr>
              <a:t>ПРОИЗВОЛЬНОЕ ВНИМАНИЕ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600200"/>
            <a:ext cx="8043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entury Schoolbook"/>
              </a:rPr>
              <a:t>Произвольное (активное), возникает благодаря нашему желанию, вследствие приложения нами усилия воли. Таким образом, само запоминается то, на что направлено непроизвольное внимание; то, что надо запомнить, нуждается в произвольном внимани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entury Schoolbook"/>
              </a:rPr>
              <a:t>Произвольное внимание свойственно только человеку и формируется в процессе обучения: в быту, в школе, в труде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entury Schoolbook"/>
              </a:rPr>
              <a:t>Здесь все просто, нужно поставить цель: "Мне надо быть внимательным, и я заставлю себя быть внимательным, несмотря ни на что", и упорно идти к этой цел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3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3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30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30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  </a:t>
            </a:r>
            <a:r>
              <a:rPr b="1" lang="ru-RU" sz="3000" spc="-1" strike="noStrike">
                <a:solidFill>
                  <a:srgbClr val="9a3d01"/>
                </a:solidFill>
                <a:latin typeface="Century Schoolbook"/>
              </a:rPr>
              <a:t>УПРАЖНЕНИЕ   «МУХА» 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785880" y="1428840"/>
          <a:ext cx="4786200" cy="4643280"/>
        </p:xfrm>
        <a:graphic>
          <a:graphicData uri="http://schemas.openxmlformats.org/drawingml/2006/table">
            <a:tbl>
              <a:tblPr/>
              <a:tblGrid>
                <a:gridCol w="1563480"/>
                <a:gridCol w="1663920"/>
                <a:gridCol w="1558800"/>
              </a:tblGrid>
              <a:tr h="15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79" name="Рисунок 1" descr=""/>
          <p:cNvPicPr/>
          <p:nvPr/>
        </p:nvPicPr>
        <p:blipFill>
          <a:blip r:embed="rId1"/>
          <a:srcRect l="51154" t="30202" r="30009" b="42382"/>
          <a:stretch/>
        </p:blipFill>
        <p:spPr>
          <a:xfrm>
            <a:off x="214200" y="285840"/>
            <a:ext cx="2500560" cy="24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3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2.96296E-006 C 0.0066 -0.02615 0.04289 -0.03541 0.0599 -0.0419 C 0.08403 -0.05115 0.10695 -0.06365 0.13143 -0.07222 C 0.1625 -0.0831 0.24497 -0.08194 0.27848 -0.08379 C 0.43872 -0.07662 0.45035 -0.09467 0.55573 -0.0456 C 0.56997 -0.03889 0.58334 -0.03727 0.59427 -0.02268 C 0.59601 -0.01805 0.59896 -0.01018 0.6 -0.00555 C 0.60209 0.00394 0.60573 0.02292 0.60573 0.02292 C 0.59966 0.10949 0.60191 0.11574 0.58282 0.18287 C 0.57275 0.21852 0.53108 0.25232 0.51129 0.2706 C 0.46789 0.31065 0.46997 0.3007 0.42986 0.32014 C 0.38611 0.34121 0.34393 0.3581 0.29844 0.37153 C 0.10139 0.36852 0.09757 0.39445 -0.01857 0.34676 C -0.02986 0.33611 -0.0526 0.31852 -0.06441 0.30486 C -0.07916 0.28773 -0.08698 0.26783 -0.09722 0.24584 C -0.10729 0.22408 -0.11666 0.20834 -0.12014 0.18287 C -0.11128 0.13912 -0.10052 0.14028 -0.06857 0.12778 C 0.029 0.08935 0.12379 0.05278 0.2257 0.0419 C 0.26806 0.03727 0.35278 0.02685 0.35278 0.02685 C 0.41754 0.02732 0.55868 -0.02245 0.63143 0.05718 C 0.63907 0.08195 0.64636 0.10741 0.65139 0.13334 C 0.65608 0.19885 0.66181 0.26852 0.64132 0.32963 C 0.63091 0.36042 0.60886 0.37593 0.58854 0.39445 C 0.52414 0.45301 0.44827 0.47986 0.37136 0.48588 C 0.27952 0.48334 0.1875 0.48519 0.09566 0.47824 C 0.08542 0.47755 0.07674 0.4676 0.06702 0.46297 C 0.05157 0.45579 0.04202 0.45533 0.02709 0.44584 C -0.0085 0.42315 -0.02777 0.39306 -0.04583 0.34676 C -0.0493 0.33797 -0.05382 0.32963 -0.05573 0.32014 C -0.05764 0.31065 -0.06146 0.29144 -0.06146 0.29144 C -0.06093 0.27755 -0.06163 0.26343 -0.06007 0.24954 C -0.05764 0.22755 -0.02847 0.21088 -0.01857 0.20394 C -0.00312 0.19306 0.01459 0.18889 0.03143 0.18287 C 0.08125 0.16551 0.1316 0.16412 0.18282 0.16204 C 0.29427 0.16528 0.40573 0.16621 0.51702 0.17153 C 0.52726 0.17199 0.53716 0.17639 0.54705 0.17917 C 0.60469 0.1956 0.60677 0.24676 0.62275 0.31065 C 0.62466 0.33195 0.6217 0.35209 0.61997 0.37338 C 0.61407 0.44236 0.60764 0.47917 0.57848 0.53542 C 0.56754 0.55648 0.52934 0.56968 0.51285 0.57732 C 0.49271 0.58658 0.47275 0.5963 0.45278 0.60579 C 0.42049 0.62107 0.3691 0.62593 0.3342 0.63056 C 0.18525 0.62199 0.01424 0.67778 -0.0658 0.46875 C -0.06875 0.45023 -0.07291 0.43426 -0.07864 0.41713 C -0.08125 0.39931 -0.08298 0.38195 -0.08437 0.36389 C -0.08402 0.35324 -0.08611 0.32662 -0.07864 0.31435 C -0.05677 0.27847 -0.04757 0.28287 -0.01718 0.26875 C -0.0118 0.26621 -0.00711 0.26111 -0.00156 0.25903 C 0.01198 0.25371 0.02622 0.25209 0.03993 0.24769 C 0.08716 0.24908 0.13438 0.24746 0.18143 0.25162 C 0.19132 0.25255 0.2099 0.26297 0.2099 0.26297 C 0.22118 0.27408 0.23299 0.28403 0.24427 0.29537 C 0.25643 0.32153 0.275 0.34977 0.28143 0.37917 C 0.28872 0.41227 0.29462 0.44213 0.29705 0.47639 C 0.29532 0.5081 0.29896 0.5419 0.28993 0.57153 C 0.27795 0.61088 0.22552 0.63357 0.19705 0.6419 C 0.17761 0.64005 0.15799 0.63935 0.13854 0.63635 C 0.12275 0.6338 0.10365 0.62199 0.08854 0.61528 C 0.07674 0.60394 0.06077 0.59167 0.05 0.57732 C 0.03733 0.56042 0.04479 0.56783 0.0342 0.54861 C 0.0316 0.54398 0.0283 0.54005 0.0257 0.53542 C 0.01789 0.52084 0.01424 0.5007 0.0099 0.4838 C 0.01042 0.46852 0.00834 0.45278 0.01129 0.4382 C 0.01216 0.43426 0.01719 0.43588 0.01997 0.43426 C 0.02396 0.43195 0.02743 0.42894 0.03143 0.42685 C 0.04323 0.42084 0.05521 0.41551 0.06702 0.40972 C 0.13073 0.37917 0.17743 0.35926 0.24705 0.35625 C 0.35313 0.34422 0.30521 0.34838 0.51563 0.35625 C 0.54254 0.35718 0.56233 0.39514 0.57275 0.42292 C 0.57604 0.43172 0.57952 0.44074 0.58282 0.44954 C 0.58629 0.45857 0.59566 0.47431 0.59566 0.47431 C 0.59861 0.48866 0.60278 0.50209 0.60573 0.51621 C 0.60764 0.52547 0.60816 0.53542 0.6099 0.54491 C 0.59653 0.5919 0.58542 0.64005 0.56997 0.68588 C 0.5658 0.69838 0.54306 0.70695 0.5342 0.71065 C 0.52622 0.71412 0.51806 0.7169 0.5099 0.72014 C 0.5066 0.7213 0.5 0.72385 0.5 0.72385 C 0.47188 0.72269 0.44375 0.72292 0.41563 0.72014 C 0.40851 0.71945 0.40243 0.71343 0.39566 0.71065 C 0.38993 0.70834 0.37848 0.70301 0.37848 0.70301 C 0.36841 0.69283 0.35955 0.67778 0.34705 0.67246 C 0.34427 0.66273 0.3415 0.65972 0.33993 0.64954 C 0.3408 0.63496 0.34028 0.62014 0.34271 0.60579 C 0.34358 0.60047 0.34775 0.59699 0.35 0.59236 C 0.36025 0.57222 0.36233 0.5625 0.37709 0.55047 C 0.38039 0.54792 0.3842 0.5463 0.38716 0.54306 C 0.3908 0.53912 0.39306 0.5331 0.39705 0.52963 C 0.40139 0.52593 0.4066 0.52477 0.41129 0.52199 C 0.43542 0.50695 0.45782 0.49306 0.48282 0.48195 C 0.49931 0.47454 0.51563 0.46482 0.53282 0.46111 C 0.55764 0.44398 0.58577 0.46181 0.61129 0.46482 C 0.629 0.47431 0.63525 0.47199 0.65712 0.4706 C 0.6566 0.45417 0.65764 0.43727 0.65573 0.42107 C 0.65521 0.4169 0.64844 0.42871 0.64844 0.42871 E">
                                      <p:cBhvr>
                                        <p:cTn id="117" dur="3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ru-RU" sz="3000" spc="-1" strike="noStrike">
                <a:solidFill>
                  <a:srgbClr val="9a3d01"/>
                </a:solidFill>
                <a:latin typeface="Century Schoolbook"/>
              </a:rPr>
              <a:t>«НАЙДИ ПАРУ»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1" name="Picture 5" descr="C:\Documents and Settings\Ученик\Рабочий стол\Сидякина Лицей\Новая папка\Рисунок6.jpg"/>
          <p:cNvPicPr/>
          <p:nvPr/>
        </p:nvPicPr>
        <p:blipFill>
          <a:blip r:embed="rId1"/>
          <a:stretch/>
        </p:blipFill>
        <p:spPr>
          <a:xfrm>
            <a:off x="785880" y="928800"/>
            <a:ext cx="6572160" cy="26287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6" descr="C:\Documents and Settings\Ученик\Рабочий стол\Сидякина Лицей\Новая папка\Рисунок7.jpg"/>
          <p:cNvPicPr/>
          <p:nvPr/>
        </p:nvPicPr>
        <p:blipFill>
          <a:blip r:embed="rId2"/>
          <a:stretch/>
        </p:blipFill>
        <p:spPr>
          <a:xfrm>
            <a:off x="785880" y="3786120"/>
            <a:ext cx="700092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3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ласс 2</cp:lastModifiedBy>
  <dcterms:modified xsi:type="dcterms:W3CDTF">2012-06-09T09:56:25Z</dcterms:modified>
  <cp:revision>12</cp:revision>
  <dc:subject/>
  <dc:title> РАЗВИВАЕМ  ВНИМАНИЕ</dc:title>
</cp:coreProperties>
</file>