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BCE-A055-422F-B13F-84D86686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961-7166-442B-8EAE-CDB259A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C90-9782-4B10-9301-800A3CAD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FB2-B184-4161-B49E-C837CBDD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025-5B94-4B74-A4F3-DE410DC9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D81-BB3E-4FA0-B067-863A872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73D-C23C-4F34-874B-18EA3D26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F53-C7AE-44A0-A545-13782CB1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412-9096-4D49-84D6-BD70A492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0DB-1008-4B7F-91D3-A6B8AB98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64B-DCC4-4B5A-8263-EC4FEE4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692-A3BC-4DBE-A0E8-676E025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31B-3498-4A36-A2AF-7DAEF9630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75222"/>
          <p:cNvPicPr/>
          <p:nvPr/>
        </p:nvPicPr>
        <p:blipFill>
          <a:blip r:embed="rId1"/>
          <a:stretch/>
        </p:blipFill>
        <p:spPr>
          <a:xfrm>
            <a:off x="285840" y="1828800"/>
            <a:ext cx="571320" cy="69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92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507204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ambria"/>
              </a:rPr>
              <a:t>Урок 8-11 клас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Cambria"/>
              </a:rPr>
              <a:t>Автор: педагог-психолог МАОУ гимназия г Ны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900000" y="1341360"/>
            <a:ext cx="6912000" cy="32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тал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5" name="Picture 8" descr="0f9abfd4f6d5"/>
          <p:cNvPicPr/>
          <p:nvPr/>
        </p:nvPicPr>
        <p:blipFill>
          <a:blip r:embed="rId2"/>
          <a:stretch/>
        </p:blipFill>
        <p:spPr>
          <a:xfrm>
            <a:off x="6732720" y="4884840"/>
            <a:ext cx="482400" cy="55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:\Картинки усталость\img_24739948_921_1.jpg"/>
          <p:cNvPicPr/>
          <p:nvPr/>
        </p:nvPicPr>
        <p:blipFill>
          <a:blip r:embed="rId3"/>
          <a:srcRect l="0" t="0" r="0" b="6695"/>
          <a:stretch/>
        </p:blipFill>
        <p:spPr>
          <a:xfrm>
            <a:off x="142920" y="6141960"/>
            <a:ext cx="500040" cy="54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40680"/>
            <a:ext cx="5572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560" y="285480"/>
            <a:ext cx="88930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Ухудшается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внешний вид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человека,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астроение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повышается вероятност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ошибок 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ru-RU" sz="4000" spc="-1" strike="noStrike">
                <a:solidFill>
                  <a:srgbClr val="ff0000"/>
                </a:solidFill>
                <a:latin typeface="Cambria"/>
              </a:rPr>
              <a:t>несчастных случаев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E:\Картинки усталость\9948.jpg"/>
          <p:cNvPicPr/>
          <p:nvPr/>
        </p:nvPicPr>
        <p:blipFill>
          <a:blip r:embed="rId1"/>
          <a:stretch/>
        </p:blipFill>
        <p:spPr>
          <a:xfrm>
            <a:off x="2928960" y="5770440"/>
            <a:ext cx="64296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Картинки усталость\290960.jpg"/>
          <p:cNvPicPr/>
          <p:nvPr/>
        </p:nvPicPr>
        <p:blipFill>
          <a:blip r:embed="rId2"/>
          <a:stretch/>
        </p:blipFill>
        <p:spPr>
          <a:xfrm>
            <a:off x="2928960" y="5769000"/>
            <a:ext cx="714240" cy="7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:\Картинки усталость\64614.jpg.jpeg"/>
          <p:cNvPicPr/>
          <p:nvPr/>
        </p:nvPicPr>
        <p:blipFill>
          <a:blip r:embed="rId3"/>
          <a:stretch/>
        </p:blipFill>
        <p:spPr>
          <a:xfrm>
            <a:off x="2928960" y="5786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E:\Картинки усталость\pedikur.jpg"/>
          <p:cNvPicPr/>
          <p:nvPr/>
        </p:nvPicPr>
        <p:blipFill>
          <a:blip r:embed="rId4"/>
          <a:stretch/>
        </p:blipFill>
        <p:spPr>
          <a:xfrm>
            <a:off x="500040" y="5286240"/>
            <a:ext cx="461880" cy="543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:\Картинки усталость\5696.jpg"/>
          <p:cNvPicPr/>
          <p:nvPr/>
        </p:nvPicPr>
        <p:blipFill>
          <a:blip r:embed="rId5"/>
          <a:stretch/>
        </p:blipFill>
        <p:spPr>
          <a:xfrm>
            <a:off x="2928960" y="5786280"/>
            <a:ext cx="657360" cy="64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:\Картинки усталость\ustalost-mozhno-pobedit.jpg"/>
          <p:cNvPicPr/>
          <p:nvPr/>
        </p:nvPicPr>
        <p:blipFill>
          <a:blip r:embed="rId1"/>
          <a:stretch/>
        </p:blipFill>
        <p:spPr>
          <a:xfrm>
            <a:off x="6786720" y="40719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6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213840"/>
            <a:ext cx="82155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досыпание снижает иммуните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причина вяло текущих болезн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тых ОРЗ и т.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E:\Картинки усталость\371643564_img_01414ee66cda5a52bd97613d751df78d_jpg.jpeg"/>
          <p:cNvPicPr/>
          <p:nvPr/>
        </p:nvPicPr>
        <p:blipFill>
          <a:blip r:embed="rId2"/>
          <a:stretch/>
        </p:blipFill>
        <p:spPr>
          <a:xfrm>
            <a:off x="5000760" y="5888160"/>
            <a:ext cx="428400" cy="37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6228"/>
                </a:solidFill>
                <a:latin typeface="Monotype Corsiva"/>
              </a:rPr>
              <a:t>Быстрое восстановление  работоспособн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есть в мягкое кресло и расслабиться на 15-20 минут- кровь при этом очистится от молочной кисло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асытить кровь кислородом с помощью     дыхательных упражнений с задержкой выдоха (6-8 ра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E:\Картинки усталость\64.jpg"/>
          <p:cNvPicPr/>
          <p:nvPr/>
        </p:nvPicPr>
        <p:blipFill>
          <a:blip r:embed="rId1"/>
          <a:stretch/>
        </p:blipFill>
        <p:spPr>
          <a:xfrm>
            <a:off x="6500880" y="6234120"/>
            <a:ext cx="357120" cy="2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умный режим – чередование физической и умствен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лноценный сон (ночной  от 7-8 часов, дневной- от 20 минут до 1,5 час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E:\Картинки усталость\61.jpg"/>
          <p:cNvPicPr/>
          <p:nvPr/>
        </p:nvPicPr>
        <p:blipFill>
          <a:blip r:embed="rId1"/>
          <a:stretch/>
        </p:blipFill>
        <p:spPr>
          <a:xfrm>
            <a:off x="785880" y="5857920"/>
            <a:ext cx="585720" cy="42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:\Картинки усталость\7a2ada446961ed2d406dd004a53d6720.jpg"/>
          <p:cNvPicPr/>
          <p:nvPr/>
        </p:nvPicPr>
        <p:blipFill>
          <a:blip r:embed="rId2"/>
          <a:stretch/>
        </p:blipFill>
        <p:spPr>
          <a:xfrm>
            <a:off x="5072040" y="5715000"/>
            <a:ext cx="695520" cy="54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E:\Картинки усталость\2008_11_17_9_3_19_140__.jpg"/>
          <p:cNvPicPr/>
          <p:nvPr/>
        </p:nvPicPr>
        <p:blipFill>
          <a:blip r:embed="rId1"/>
          <a:stretch/>
        </p:blipFill>
        <p:spPr>
          <a:xfrm>
            <a:off x="1979640" y="0"/>
            <a:ext cx="658800" cy="571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14320" y="428400"/>
            <a:ext cx="57862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mbria"/>
              </a:rPr>
              <a:t>Интеллектуальная устал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075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632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Когда люди утомлены, скор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обработки получаемой 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Cambria"/>
              </a:rPr>
              <a:t>информации уменьш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спокойной и не требующей мыслительного напряжения обстановке активность мозговой деятельности снижается приблизительно на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25%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а бодрств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меньшая время сна, человек все более и более устает, и его мыслительные способности уменьш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E:\Картинки усталость\45356.jpg"/>
          <p:cNvPicPr/>
          <p:nvPr/>
        </p:nvPicPr>
        <p:blipFill>
          <a:blip r:embed="rId2"/>
          <a:stretch/>
        </p:blipFill>
        <p:spPr>
          <a:xfrm>
            <a:off x="7000920" y="2214720"/>
            <a:ext cx="409680" cy="44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15480"/>
            <a:ext cx="871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324000" y="2349360"/>
            <a:ext cx="856908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борьбы с усталостью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8" descr="an197"/>
          <p:cNvPicPr/>
          <p:nvPr/>
        </p:nvPicPr>
        <p:blipFill>
          <a:blip r:embed="rId1"/>
          <a:stretch/>
        </p:blipFill>
        <p:spPr>
          <a:xfrm>
            <a:off x="611280" y="5643720"/>
            <a:ext cx="361800" cy="43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1"/>
          <p:cNvPicPr/>
          <p:nvPr/>
        </p:nvPicPr>
        <p:blipFill>
          <a:blip r:embed="rId2"/>
          <a:stretch/>
        </p:blipFill>
        <p:spPr>
          <a:xfrm>
            <a:off x="6588000" y="1596960"/>
            <a:ext cx="341280" cy="36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7781_big"/>
          <p:cNvPicPr/>
          <p:nvPr/>
        </p:nvPicPr>
        <p:blipFill>
          <a:blip r:embed="rId3"/>
          <a:stretch/>
        </p:blipFill>
        <p:spPr>
          <a:xfrm>
            <a:off x="8120160" y="6143760"/>
            <a:ext cx="1023840" cy="71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E:\Картинки усталость\ustalost1.jpg"/>
          <p:cNvPicPr/>
          <p:nvPr/>
        </p:nvPicPr>
        <p:blipFill>
          <a:blip r:embed="rId1"/>
          <a:stretch/>
        </p:blipFill>
        <p:spPr>
          <a:xfrm>
            <a:off x="4286160" y="3000240"/>
            <a:ext cx="666720" cy="50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2" descr="E:\Картинки усталость\Tired_by_XxBirtaxX.jpg"/>
          <p:cNvPicPr/>
          <p:nvPr/>
        </p:nvPicPr>
        <p:blipFill>
          <a:blip r:embed="rId1"/>
          <a:stretch/>
        </p:blipFill>
        <p:spPr>
          <a:xfrm>
            <a:off x="6572160" y="3029040"/>
            <a:ext cx="428760" cy="293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ambria"/>
              </a:rPr>
              <a:t>ПОЛНОЦЕННЫЙ С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 каждого индивидуальная потребность в сне (от 7 до 9 часов). Регулярный недосып  по 1 часу- «долговая ям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нимаем пищу за  3-4 часа до с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еред сном не должно быть никаких физических занят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помещении, где вы спите, старайтесь поддерживать прохладную темпе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лноценный сон  укрепляет иммунную систему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нижение температуры тела на 1-2 градуса- ускоряет наступление с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Cambria"/>
              </a:rPr>
              <a:t>Признаки нарушения с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рудное засып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ерывистый ночной 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ннее проб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редно недосыпать и спать слишком м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амая меньшая длительность сна составляет 5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снижает усталость хороший ночной со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iker_napping_against_a_ha"/>
          <p:cNvPicPr/>
          <p:nvPr/>
        </p:nvPicPr>
        <p:blipFill>
          <a:blip r:embed="rId1"/>
          <a:stretch/>
        </p:blipFill>
        <p:spPr>
          <a:xfrm>
            <a:off x="8542440" y="1197000"/>
            <a:ext cx="515880" cy="37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mbria"/>
              </a:rPr>
              <a:t>Это надо знать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56800"/>
            <a:ext cx="8820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утешествуя, отдохните, прежде чем вам этого захоч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феин помогает тем, кто употребляет его ред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лкоголь не снимает устал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 человека, не находящего поддержки в семье или среди друзей и обеспокое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такими обстоятельствами, сон часто бывает наруш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 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часов до  </a:t>
            </a:r>
            <a:r>
              <a:rPr b="1" lang="ru-RU" sz="3200" spc="-1" strike="noStrike">
                <a:solidFill>
                  <a:srgbClr val="7030a0"/>
                </a:solidFill>
                <a:latin typeface="Cambria"/>
              </a:rPr>
              <a:t>16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( придерживаться разумного графи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ambria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296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нятие устал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ричины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следствия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пособы борьбы с усталость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leepboy"/>
          <p:cNvPicPr/>
          <p:nvPr/>
        </p:nvPicPr>
        <p:blipFill>
          <a:blip r:embed="rId1"/>
          <a:stretch/>
        </p:blipFill>
        <p:spPr>
          <a:xfrm>
            <a:off x="4859280" y="6419880"/>
            <a:ext cx="641520" cy="438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Бодрствуя, чаще пейте во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езвоживание снижает устойч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рганизма и ускоряет наступление уста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E:\Картинки усталость\03.jpg"/>
          <p:cNvPicPr/>
          <p:nvPr/>
        </p:nvPicPr>
        <p:blipFill>
          <a:blip r:embed="rId1"/>
          <a:stretch/>
        </p:blipFill>
        <p:spPr>
          <a:xfrm>
            <a:off x="5286240" y="5295960"/>
            <a:ext cx="571680" cy="642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E:\Картинки усталость\02.jpg"/>
          <p:cNvPicPr/>
          <p:nvPr/>
        </p:nvPicPr>
        <p:blipFill>
          <a:blip r:embed="rId1"/>
          <a:stretch/>
        </p:blipFill>
        <p:spPr>
          <a:xfrm>
            <a:off x="8310600" y="5143680"/>
            <a:ext cx="833400" cy="571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о время отдыха в первую очередь: устраните уровень шум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низите яркость св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Лучшим отдыхом является «актив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тдых» (чередование различных ви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деятельност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ажный фактор- рациональное п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468360" y="404640"/>
            <a:ext cx="8207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езные сове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680046"/>
          <p:cNvPicPr/>
          <p:nvPr/>
        </p:nvPicPr>
        <p:blipFill>
          <a:blip r:embed="rId1"/>
          <a:stretch/>
        </p:blipFill>
        <p:spPr>
          <a:xfrm>
            <a:off x="0" y="616104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285840"/>
            <a:ext cx="8858160" cy="64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ce6f2"/>
                </a:solidFill>
                <a:latin typeface="Arial"/>
              </a:rPr>
              <a:t>Лучшее место отдыха- природные ландшафт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e6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e6f2"/>
                </a:solidFill>
                <a:latin typeface="Arial"/>
              </a:rPr>
              <a:t>Особенно сильным оздоровительным эффектом обладают леса с их прохладой, тишиной, мягким освещением, гармонией звуков и красок и приятным запах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Frangipani Flowers"/>
          <p:cNvPicPr/>
          <p:nvPr/>
        </p:nvPicPr>
        <p:blipFill>
          <a:blip r:embed="rId1"/>
          <a:stretch/>
        </p:blipFill>
        <p:spPr>
          <a:xfrm>
            <a:off x="3929040" y="3857760"/>
            <a:ext cx="571680" cy="428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дновременное воздействие через все органы чувств вызывает ощущение прекрасного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0 006"/>
          <p:cNvPicPr/>
          <p:nvPr/>
        </p:nvPicPr>
        <p:blipFill>
          <a:blip r:embed="rId2"/>
          <a:srcRect l="37061" t="39670" r="7369" b="18813"/>
          <a:stretch/>
        </p:blipFill>
        <p:spPr>
          <a:xfrm>
            <a:off x="5072040" y="5724360"/>
            <a:ext cx="928800" cy="1133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327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Двигательная активность повышает сопротивляемос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к стрессовым ситуаци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перепадам темпера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ради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травм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гипокс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инфекционным заболеваниям и д.р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female_swimmer_butter_a_ha"/>
          <p:cNvPicPr/>
          <p:nvPr/>
        </p:nvPicPr>
        <p:blipFill>
          <a:blip r:embed="rId1"/>
          <a:stretch/>
        </p:blipFill>
        <p:spPr>
          <a:xfrm>
            <a:off x="5940360" y="4094280"/>
            <a:ext cx="84636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3018"/>
          <p:cNvPicPr/>
          <p:nvPr/>
        </p:nvPicPr>
        <p:blipFill>
          <a:blip r:embed="rId2"/>
          <a:stretch/>
        </p:blipFill>
        <p:spPr>
          <a:xfrm>
            <a:off x="1547640" y="6357960"/>
            <a:ext cx="509760" cy="500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Картинки усталость\0_ae04_88e1907b_L.jpg"/>
          <p:cNvPicPr/>
          <p:nvPr/>
        </p:nvPicPr>
        <p:blipFill>
          <a:blip r:embed="rId1"/>
          <a:stretch/>
        </p:blipFill>
        <p:spPr>
          <a:xfrm>
            <a:off x="4429080" y="3786120"/>
            <a:ext cx="320760" cy="214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357120"/>
            <a:ext cx="5500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Водные процед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Созерцание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Занятия музы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3040" indent="-113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Много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1" descr="E:\Картинки усталость\i.jpeg"/>
          <p:cNvPicPr/>
          <p:nvPr/>
        </p:nvPicPr>
        <p:blipFill>
          <a:blip r:embed="rId2"/>
          <a:stretch/>
        </p:blipFill>
        <p:spPr>
          <a:xfrm>
            <a:off x="571680" y="1928880"/>
            <a:ext cx="48564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E:\Картинки усталость\44.jpg"/>
          <p:cNvPicPr/>
          <p:nvPr/>
        </p:nvPicPr>
        <p:blipFill>
          <a:blip r:embed="rId3"/>
          <a:stretch/>
        </p:blipFill>
        <p:spPr>
          <a:xfrm>
            <a:off x="2928960" y="2025720"/>
            <a:ext cx="500040" cy="40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:\Картинки усталость\1f162f252e07.jpg"/>
          <p:cNvPicPr/>
          <p:nvPr/>
        </p:nvPicPr>
        <p:blipFill>
          <a:blip r:embed="rId4"/>
          <a:stretch/>
        </p:blipFill>
        <p:spPr>
          <a:xfrm>
            <a:off x="5143680" y="1957320"/>
            <a:ext cx="500040" cy="4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E:\Картинки усталость\12016143113787.jpg"/>
          <p:cNvPicPr/>
          <p:nvPr/>
        </p:nvPicPr>
        <p:blipFill>
          <a:blip r:embed="rId5"/>
          <a:stretch/>
        </p:blipFill>
        <p:spPr>
          <a:xfrm>
            <a:off x="6691320" y="3500280"/>
            <a:ext cx="865080" cy="42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E:\Картинки усталость\_.jpg"/>
          <p:cNvPicPr/>
          <p:nvPr/>
        </p:nvPicPr>
        <p:blipFill>
          <a:blip r:embed="rId6"/>
          <a:stretch/>
        </p:blipFill>
        <p:spPr>
          <a:xfrm>
            <a:off x="4714920" y="5046840"/>
            <a:ext cx="714240" cy="38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e514e06eaabd8cebf0cc25da44c_prev"/>
          <p:cNvPicPr/>
          <p:nvPr/>
        </p:nvPicPr>
        <p:blipFill>
          <a:blip r:embed="rId7"/>
          <a:stretch/>
        </p:blipFill>
        <p:spPr>
          <a:xfrm>
            <a:off x="7020000" y="1941480"/>
            <a:ext cx="62388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25-ani"/>
          <p:cNvPicPr/>
          <p:nvPr/>
        </p:nvPicPr>
        <p:blipFill>
          <a:blip r:embed="rId8"/>
          <a:stretch/>
        </p:blipFill>
        <p:spPr>
          <a:xfrm>
            <a:off x="4000680" y="6143760"/>
            <a:ext cx="285480" cy="32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6" descr="E:\Картинки усталость\36d9c26b0e52.jpg"/>
          <p:cNvPicPr/>
          <p:nvPr/>
        </p:nvPicPr>
        <p:blipFill>
          <a:blip r:embed="rId1"/>
          <a:stretch/>
        </p:blipFill>
        <p:spPr>
          <a:xfrm>
            <a:off x="5072040" y="3059280"/>
            <a:ext cx="428760" cy="298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:\Картинки усталость\6a0120a69a9770970c0120a69abab3970c-800wi.jpg"/>
          <p:cNvPicPr/>
          <p:nvPr/>
        </p:nvPicPr>
        <p:blipFill>
          <a:blip r:embed="rId2"/>
          <a:stretch/>
        </p:blipFill>
        <p:spPr>
          <a:xfrm>
            <a:off x="7358040" y="1038240"/>
            <a:ext cx="4287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E:\Картинки усталость\75.jpg"/>
          <p:cNvPicPr/>
          <p:nvPr/>
        </p:nvPicPr>
        <p:blipFill>
          <a:blip r:embed="rId3"/>
          <a:stretch/>
        </p:blipFill>
        <p:spPr>
          <a:xfrm>
            <a:off x="7786800" y="1008000"/>
            <a:ext cx="357120" cy="360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13840" y="356760"/>
            <a:ext cx="5286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Витаминотерапия (Группа 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Балуйте себя сладк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mbria"/>
              </a:rPr>
              <a:t>Тонизирующие напитки имеют  кратковременный срок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3" descr="E:\Картинки усталость\63814.jpg"/>
          <p:cNvPicPr/>
          <p:nvPr/>
        </p:nvPicPr>
        <p:blipFill>
          <a:blip r:embed="rId4"/>
          <a:stretch/>
        </p:blipFill>
        <p:spPr>
          <a:xfrm>
            <a:off x="6215040" y="6254640"/>
            <a:ext cx="642960" cy="3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E:\Картинки усталость\182166_image_large.jpg"/>
          <p:cNvPicPr/>
          <p:nvPr/>
        </p:nvPicPr>
        <p:blipFill>
          <a:blip r:embed="rId5"/>
          <a:stretch/>
        </p:blipFill>
        <p:spPr>
          <a:xfrm>
            <a:off x="3286080" y="6300720"/>
            <a:ext cx="642960" cy="39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51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675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Это следствие повседневной механизации, которая создает дефицит энергозатрат, и скелетные мышцы не реализуют свою энергетическую програм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539640" y="0"/>
            <a:ext cx="7993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динам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0 007"/>
          <p:cNvPicPr/>
          <p:nvPr/>
        </p:nvPicPr>
        <p:blipFill>
          <a:blip r:embed="rId1">
            <a:lum contrast="30000"/>
          </a:blip>
          <a:srcRect l="35234" t="37712" r="3668" b="7801"/>
          <a:stretch/>
        </p:blipFill>
        <p:spPr>
          <a:xfrm>
            <a:off x="1643040" y="5896080"/>
            <a:ext cx="71424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Двигательная актив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ажна в течение всей жизни человека, особенно важны физические упражнения в детском  и пожилом возрасте. Они способств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лучшему развитию нервной систе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росту и укреплению костной и мышечной ткан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повышению вынослив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-повышению устойчивости к различным заболевани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Усталость</a:t>
            </a:r>
            <a:r>
              <a:rPr b="0" lang="ru-RU" sz="4400" spc="-1" strike="noStrike">
                <a:solidFill>
                  <a:srgbClr val="000000"/>
                </a:solidFill>
                <a:latin typeface="Cambria"/>
              </a:rPr>
              <a:t>- состояние, когда снижается продуктивность деятельности и отсутствует обычное желание работ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Человек будущего по некоторым прогноз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0 008"/>
          <p:cNvPicPr/>
          <p:nvPr/>
        </p:nvPicPr>
        <p:blipFill>
          <a:blip r:embed="rId1">
            <a:lum contrast="24000"/>
          </a:blip>
          <a:srcRect l="3689" t="10783" r="35191" b="62328"/>
          <a:stretch/>
        </p:blipFill>
        <p:spPr>
          <a:xfrm>
            <a:off x="1979640" y="4941720"/>
            <a:ext cx="806400" cy="43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связь между здоровьем и движение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динамия и современный челове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снижения двигательной активности челове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ческие меры устал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567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алость проявляется изо дня в день и, если никак  не противостоять ей, влияет на качество нашей деятельности и на нашу жизнь вообщ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егодня условия  нашей работы очень часто способствует появлению специфического утомления, особенностью которого является то, что оно сопровождается постоянной сонлив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mbria"/>
              </a:rPr>
              <a:t>Причины усталост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000"/>
            <a:ext cx="82296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идячая рабо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достаток с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Моното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достаточное количество физических нагрузок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нормированная работа (любая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Чрезмерная умственная нагруз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Неясность ситуации, влекущая за собой эмоциональное опустошени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Усиленный контроль  со сторон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E:\Картинки усталость\23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8360" y="18864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асмурная погода, длительное отсутствие  солнц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еренесенные болезн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ереживание конфликта на работе, в семь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9848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Cambria"/>
              </a:rPr>
              <a:t>Психическое напряж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6a00d83451c1ce69e200e54fa414218833-800wi"/>
          <p:cNvPicPr/>
          <p:nvPr/>
        </p:nvPicPr>
        <p:blipFill>
          <a:blip r:embed="rId2"/>
          <a:stretch/>
        </p:blipFill>
        <p:spPr>
          <a:xfrm>
            <a:off x="5143680" y="3214800"/>
            <a:ext cx="807840" cy="48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206028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50920" y="2133720"/>
            <a:ext cx="8497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едствия устал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63" name="Picture 6" descr="children_15"/>
          <p:cNvPicPr/>
          <p:nvPr/>
        </p:nvPicPr>
        <p:blipFill>
          <a:blip r:embed="rId3"/>
          <a:stretch/>
        </p:blipFill>
        <p:spPr>
          <a:xfrm>
            <a:off x="5940360" y="5759280"/>
            <a:ext cx="488880" cy="40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-360"/>
            <a:ext cx="88581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Cambria"/>
              </a:rPr>
              <a:t>В дорог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иск возникновения несчастных случаев на дороге- между 24 - 6 часами ут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Яркое послеобеденное солнце вызывает усталость (надеть солнцезащитные оч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онный попутчик  провоцирует дрему шофера (позаботьтесь о развлечении или возьмите словоохотливого попутчика, который не даст вам засну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Cambria"/>
              </a:rPr>
              <a:t>На физиологическом уровне усталость вызыва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8446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Учащенное 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Частоту сердцеби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нижение экономичности и эффективности сердечных сокращ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Снижение скорости реак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7:50:40Z</dcterms:created>
  <dc:creator>Ученик18-4</dc:creator>
  <dc:description/>
  <dc:language>en-US</dc:language>
  <cp:lastModifiedBy>Xaoc</cp:lastModifiedBy>
  <dcterms:modified xsi:type="dcterms:W3CDTF">2012-06-09T13:18:10Z</dcterms:modified>
  <cp:revision>136</cp:revision>
  <dc:subject/>
  <dc:title>Слайд 1</dc:title>
</cp:coreProperties>
</file>