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46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41.png" ContentType="image/png"/>
  <Override PartName="/ppt/media/image4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0F0-0D00-4E61-AA2E-22BBA4B0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7EB4-D867-4198-8E67-CC427C58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521B-3DF7-45A8-A2DF-8A37F9B6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5F2-A26E-4246-9A56-29E67EF1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4E01-32B6-43BA-91B1-5C787DAA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005-89C9-4ADF-BCAF-4B3C3989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85B-BEAB-4117-B9B7-A0F2062B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55A0-606D-408E-A75D-116946C9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2671-0FF2-498E-B8C6-A18D2591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BA6-272C-498D-BF49-0EE39EFE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871-F2A1-49DD-951B-007E95DD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C764-299E-4F63-A30A-BA251893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0761-1DC0-430C-A38D-B76A44E067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75222"/>
          <p:cNvPicPr/>
          <p:nvPr/>
        </p:nvPicPr>
        <p:blipFill>
          <a:blip r:embed="rId1"/>
          <a:stretch/>
        </p:blipFill>
        <p:spPr>
          <a:xfrm>
            <a:off x="285840" y="1828800"/>
            <a:ext cx="571320" cy="690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6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5640" y="4928760"/>
            <a:ext cx="507204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Cambria"/>
              </a:rPr>
              <a:t>Урок 8-11 клас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Cambria"/>
              </a:rPr>
              <a:t>Автор: педагог-психолог МАОУ гимназия г Ны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900000" y="1341360"/>
            <a:ext cx="6912000" cy="32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сталос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5" name="Picture 8" descr="0f9abfd4f6d5"/>
          <p:cNvPicPr/>
          <p:nvPr/>
        </p:nvPicPr>
        <p:blipFill>
          <a:blip r:embed="rId2"/>
          <a:stretch/>
        </p:blipFill>
        <p:spPr>
          <a:xfrm>
            <a:off x="6732720" y="4884840"/>
            <a:ext cx="482400" cy="55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E:\Картинки усталость\img_24739948_921_1.jpg"/>
          <p:cNvPicPr/>
          <p:nvPr/>
        </p:nvPicPr>
        <p:blipFill>
          <a:blip r:embed="rId3"/>
          <a:srcRect l="0" t="0" r="0" b="6695"/>
          <a:stretch/>
        </p:blipFill>
        <p:spPr>
          <a:xfrm>
            <a:off x="142920" y="6141960"/>
            <a:ext cx="500040" cy="546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720" y="40680"/>
            <a:ext cx="5572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560" y="285480"/>
            <a:ext cx="88930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Ухудшается </a:t>
            </a: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внешний вид 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человека,  </a:t>
            </a: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настроение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повышается вероятност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ошибок 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несчастных случаев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E:\Картинки усталость\9948.jpg"/>
          <p:cNvPicPr/>
          <p:nvPr/>
        </p:nvPicPr>
        <p:blipFill>
          <a:blip r:embed="rId1"/>
          <a:stretch/>
        </p:blipFill>
        <p:spPr>
          <a:xfrm>
            <a:off x="2928960" y="5770440"/>
            <a:ext cx="642960" cy="65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E:\Картинки усталость\290960.jpg"/>
          <p:cNvPicPr/>
          <p:nvPr/>
        </p:nvPicPr>
        <p:blipFill>
          <a:blip r:embed="rId2"/>
          <a:stretch/>
        </p:blipFill>
        <p:spPr>
          <a:xfrm>
            <a:off x="2928960" y="5769000"/>
            <a:ext cx="714240" cy="731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E:\Картинки усталость\64614.jpg.jpeg"/>
          <p:cNvPicPr/>
          <p:nvPr/>
        </p:nvPicPr>
        <p:blipFill>
          <a:blip r:embed="rId3"/>
          <a:stretch/>
        </p:blipFill>
        <p:spPr>
          <a:xfrm>
            <a:off x="2928960" y="5786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E:\Картинки усталость\pedikur.jpg"/>
          <p:cNvPicPr/>
          <p:nvPr/>
        </p:nvPicPr>
        <p:blipFill>
          <a:blip r:embed="rId4"/>
          <a:stretch/>
        </p:blipFill>
        <p:spPr>
          <a:xfrm>
            <a:off x="500040" y="5286240"/>
            <a:ext cx="461880" cy="543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E:\Картинки усталость\5696.jpg"/>
          <p:cNvPicPr/>
          <p:nvPr/>
        </p:nvPicPr>
        <p:blipFill>
          <a:blip r:embed="rId5"/>
          <a:stretch/>
        </p:blipFill>
        <p:spPr>
          <a:xfrm>
            <a:off x="2928960" y="5786280"/>
            <a:ext cx="657360" cy="642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5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E:\Картинки усталость\ustalost-mozhno-pobedit.jpg"/>
          <p:cNvPicPr/>
          <p:nvPr/>
        </p:nvPicPr>
        <p:blipFill>
          <a:blip r:embed="rId1"/>
          <a:stretch/>
        </p:blipFill>
        <p:spPr>
          <a:xfrm>
            <a:off x="6786720" y="4071960"/>
            <a:ext cx="285480" cy="2858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6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3840" y="213840"/>
            <a:ext cx="821556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едосыпание снижает иммунит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причина вяло текущих болезне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астых ОРЗ и т.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E:\Картинки усталость\371643564_img_01414ee66cda5a52bd97613d751df78d_jpg.jpeg"/>
          <p:cNvPicPr/>
          <p:nvPr/>
        </p:nvPicPr>
        <p:blipFill>
          <a:blip r:embed="rId2"/>
          <a:stretch/>
        </p:blipFill>
        <p:spPr>
          <a:xfrm>
            <a:off x="5000760" y="5888160"/>
            <a:ext cx="428400" cy="372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f6228"/>
                </a:solidFill>
                <a:latin typeface="Monotype Corsiva"/>
              </a:rPr>
              <a:t>Быстрое восстановление  работоспособност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есть в мягкое кресло и расслабиться на 15-20 минут- кровь при этом очистится от молочной кислот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асытить кровь кислородом с помощью     дыхательных упражнений с задержкой выдоха (6-8 ра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E:\Картинки усталость\64.jpg"/>
          <p:cNvPicPr/>
          <p:nvPr/>
        </p:nvPicPr>
        <p:blipFill>
          <a:blip r:embed="rId1"/>
          <a:stretch/>
        </p:blipFill>
        <p:spPr>
          <a:xfrm>
            <a:off x="6500880" y="6234120"/>
            <a:ext cx="357120" cy="29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зумный режим – чередование физической и умствен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лноценный сон (ночной  от 7-8 часов, дневной- от 20 минут до 1,5 час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E:\Картинки усталость\61.jpg"/>
          <p:cNvPicPr/>
          <p:nvPr/>
        </p:nvPicPr>
        <p:blipFill>
          <a:blip r:embed="rId1"/>
          <a:stretch/>
        </p:blipFill>
        <p:spPr>
          <a:xfrm>
            <a:off x="785880" y="5857920"/>
            <a:ext cx="585720" cy="423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E:\Картинки усталость\7a2ada446961ed2d406dd004a53d6720.jpg"/>
          <p:cNvPicPr/>
          <p:nvPr/>
        </p:nvPicPr>
        <p:blipFill>
          <a:blip r:embed="rId2"/>
          <a:stretch/>
        </p:blipFill>
        <p:spPr>
          <a:xfrm>
            <a:off x="5072040" y="5715000"/>
            <a:ext cx="695520" cy="54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E:\Картинки усталость\2008_11_17_9_3_19_140__.jpg"/>
          <p:cNvPicPr/>
          <p:nvPr/>
        </p:nvPicPr>
        <p:blipFill>
          <a:blip r:embed="rId1"/>
          <a:stretch/>
        </p:blipFill>
        <p:spPr>
          <a:xfrm>
            <a:off x="1979640" y="0"/>
            <a:ext cx="658800" cy="571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14320" y="428400"/>
            <a:ext cx="57862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mbria"/>
              </a:rPr>
              <a:t>Интеллектуальная устал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5075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mbria"/>
              </a:rPr>
              <a:t>Когда люди утомлены, скор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632523"/>
                </a:solidFill>
                <a:latin typeface="Cambria"/>
              </a:rPr>
              <a:t>обработки получаемой и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632523"/>
                </a:solidFill>
                <a:latin typeface="Cambria"/>
              </a:rPr>
              <a:t>информации уменьша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 спокойной и не требующей мыслительного напряжения обстановке активность мозговой деятельности снижается приблизительно на </a:t>
            </a: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25%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за </a:t>
            </a: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24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аса бодрств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меньшая время сна, человек все более и более устает, и его мыслительные способности уменьшаю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E:\Картинки усталость\45356.jpg"/>
          <p:cNvPicPr/>
          <p:nvPr/>
        </p:nvPicPr>
        <p:blipFill>
          <a:blip r:embed="rId2"/>
          <a:stretch/>
        </p:blipFill>
        <p:spPr>
          <a:xfrm>
            <a:off x="7000920" y="2214720"/>
            <a:ext cx="409680" cy="44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1815480"/>
            <a:ext cx="871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324000" y="2349360"/>
            <a:ext cx="856908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ы борьбы с усталостью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2" name="Picture 8" descr="an197"/>
          <p:cNvPicPr/>
          <p:nvPr/>
        </p:nvPicPr>
        <p:blipFill>
          <a:blip r:embed="rId1"/>
          <a:stretch/>
        </p:blipFill>
        <p:spPr>
          <a:xfrm>
            <a:off x="611280" y="5643720"/>
            <a:ext cx="361800" cy="438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1"/>
          <p:cNvPicPr/>
          <p:nvPr/>
        </p:nvPicPr>
        <p:blipFill>
          <a:blip r:embed="rId2"/>
          <a:stretch/>
        </p:blipFill>
        <p:spPr>
          <a:xfrm>
            <a:off x="6588000" y="1596960"/>
            <a:ext cx="341280" cy="36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7781_big"/>
          <p:cNvPicPr/>
          <p:nvPr/>
        </p:nvPicPr>
        <p:blipFill>
          <a:blip r:embed="rId3"/>
          <a:stretch/>
        </p:blipFill>
        <p:spPr>
          <a:xfrm>
            <a:off x="8120160" y="6143760"/>
            <a:ext cx="1023840" cy="714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E:\Картинки усталость\ustalost1.jpg"/>
          <p:cNvPicPr/>
          <p:nvPr/>
        </p:nvPicPr>
        <p:blipFill>
          <a:blip r:embed="rId1"/>
          <a:stretch/>
        </p:blipFill>
        <p:spPr>
          <a:xfrm>
            <a:off x="4286160" y="3000240"/>
            <a:ext cx="666720" cy="500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2" descr="E:\Картинки усталость\Tired_by_XxBirtaxX.jpg"/>
          <p:cNvPicPr/>
          <p:nvPr/>
        </p:nvPicPr>
        <p:blipFill>
          <a:blip r:embed="rId1"/>
          <a:stretch/>
        </p:blipFill>
        <p:spPr>
          <a:xfrm>
            <a:off x="6572160" y="3029040"/>
            <a:ext cx="428760" cy="293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Cambria"/>
              </a:rPr>
              <a:t>ПОЛНОЦЕННЫЙ СО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876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 каждого индивидуальная потребность в сне (от 7 до 9 часов). Регулярный недосып  по 1 часу- «долговая ям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ринимаем пищу за  3-4 часа до с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еред сном не должно быть никаких физических занят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помещении, где вы спите, старайтесь поддерживать прохладную температу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олноценный сон  укрепляет иммунную систему челов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онижение температуры тела на 1-2 градуса- ускоряет наступление с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Cambria"/>
              </a:rPr>
              <a:t>Признаки нарушения с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Трудное засып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рерывистый ночной с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ннее пробуж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редно недосыпать и спать слишком м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амая меньшая длительность сна составляет 5 ча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снижает усталость хороший ночной со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iker_napping_against_a_ha"/>
          <p:cNvPicPr/>
          <p:nvPr/>
        </p:nvPicPr>
        <p:blipFill>
          <a:blip r:embed="rId1"/>
          <a:stretch/>
        </p:blipFill>
        <p:spPr>
          <a:xfrm>
            <a:off x="8542440" y="1197000"/>
            <a:ext cx="515880" cy="37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mbria"/>
              </a:rPr>
              <a:t>Это надо знат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856800"/>
            <a:ext cx="8820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утешествуя, отдохните, прежде чем вам этого захоч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Кофеин помогает тем, кто употребляет его редк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Алкоголь не снимает устал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 человека, не находящего поддержки в семье или среди друзей и обеспокое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такими обстоятельствами, сон часто бывает наруш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т  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часов до  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16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а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 придерживаться разумного графи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Cambria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4296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нятие устал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ричины устал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следствия устал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пособы борьбы с устал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Гиподинам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leepboy"/>
          <p:cNvPicPr/>
          <p:nvPr/>
        </p:nvPicPr>
        <p:blipFill>
          <a:blip r:embed="rId1"/>
          <a:stretch/>
        </p:blipFill>
        <p:spPr>
          <a:xfrm>
            <a:off x="4859280" y="6419880"/>
            <a:ext cx="641520" cy="438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Бодрствуя, чаще пейте вод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безвоживание снижает устойчив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рганизма и ускоряет наступление устал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E:\Картинки усталость\03.jpg"/>
          <p:cNvPicPr/>
          <p:nvPr/>
        </p:nvPicPr>
        <p:blipFill>
          <a:blip r:embed="rId1"/>
          <a:stretch/>
        </p:blipFill>
        <p:spPr>
          <a:xfrm>
            <a:off x="5286240" y="5295960"/>
            <a:ext cx="571680" cy="642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E:\Картинки усталость\02.jpg"/>
          <p:cNvPicPr/>
          <p:nvPr/>
        </p:nvPicPr>
        <p:blipFill>
          <a:blip r:embed="rId1"/>
          <a:stretch/>
        </p:blipFill>
        <p:spPr>
          <a:xfrm>
            <a:off x="8310600" y="5143680"/>
            <a:ext cx="833400" cy="571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7280" y="1628280"/>
            <a:ext cx="8856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о время отдыха в первую очередь: устраните уровень шум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низите яркость с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Лучшим отдыхом является «актив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тдых» (чередование различных вид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деятельност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ажный фактор- рациональное пит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468360" y="404640"/>
            <a:ext cx="8207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лезные совет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680046"/>
          <p:cNvPicPr/>
          <p:nvPr/>
        </p:nvPicPr>
        <p:blipFill>
          <a:blip r:embed="rId1"/>
          <a:stretch/>
        </p:blipFill>
        <p:spPr>
          <a:xfrm>
            <a:off x="0" y="6161040"/>
            <a:ext cx="928800" cy="696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858160" cy="64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ce6f2"/>
                </a:solidFill>
                <a:latin typeface="Arial"/>
              </a:rPr>
              <a:t>Лучшее место отдыха- природные ландшаф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ce6f2"/>
                </a:solidFill>
                <a:latin typeface="Arial"/>
              </a:rPr>
              <a:t>Особенно сильным оздоровительным эффектом обладают леса с их прохладой, тишиной, мягким освещением, гармонией звуков и красок и приятным запах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Frangipani Flowers"/>
          <p:cNvPicPr/>
          <p:nvPr/>
        </p:nvPicPr>
        <p:blipFill>
          <a:blip r:embed="rId1"/>
          <a:stretch/>
        </p:blipFill>
        <p:spPr>
          <a:xfrm>
            <a:off x="3929040" y="3857760"/>
            <a:ext cx="571680" cy="4284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дновременное воздействие через все органы чувств вызывает ощущение прекрасного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0 006"/>
          <p:cNvPicPr/>
          <p:nvPr/>
        </p:nvPicPr>
        <p:blipFill>
          <a:blip r:embed="rId2"/>
          <a:srcRect l="37061" t="39670" r="7369" b="18813"/>
          <a:stretch/>
        </p:blipFill>
        <p:spPr>
          <a:xfrm>
            <a:off x="5072040" y="5724360"/>
            <a:ext cx="928800" cy="1133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5327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Двигательная активность повышает сопротивляемос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к стрессовым ситуация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перепадам темпера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радиац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травм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гипокс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инфекционным заболеваниям и д.р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female_swimmer_butter_a_ha"/>
          <p:cNvPicPr/>
          <p:nvPr/>
        </p:nvPicPr>
        <p:blipFill>
          <a:blip r:embed="rId1"/>
          <a:stretch/>
        </p:blipFill>
        <p:spPr>
          <a:xfrm>
            <a:off x="5940360" y="4094280"/>
            <a:ext cx="846360" cy="622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s3018"/>
          <p:cNvPicPr/>
          <p:nvPr/>
        </p:nvPicPr>
        <p:blipFill>
          <a:blip r:embed="rId2"/>
          <a:stretch/>
        </p:blipFill>
        <p:spPr>
          <a:xfrm>
            <a:off x="1547640" y="6357960"/>
            <a:ext cx="509760" cy="500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E:\Картинки усталость\0_ae04_88e1907b_L.jpg"/>
          <p:cNvPicPr/>
          <p:nvPr/>
        </p:nvPicPr>
        <p:blipFill>
          <a:blip r:embed="rId1"/>
          <a:stretch/>
        </p:blipFill>
        <p:spPr>
          <a:xfrm>
            <a:off x="4429080" y="3786120"/>
            <a:ext cx="320760" cy="2145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40" y="357120"/>
            <a:ext cx="55008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Водные процед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Созерцание в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Занятия музы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Много 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1" descr="E:\Картинки усталость\i.jpeg"/>
          <p:cNvPicPr/>
          <p:nvPr/>
        </p:nvPicPr>
        <p:blipFill>
          <a:blip r:embed="rId2"/>
          <a:stretch/>
        </p:blipFill>
        <p:spPr>
          <a:xfrm>
            <a:off x="571680" y="1928880"/>
            <a:ext cx="485640" cy="357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E:\Картинки усталость\44.jpg"/>
          <p:cNvPicPr/>
          <p:nvPr/>
        </p:nvPicPr>
        <p:blipFill>
          <a:blip r:embed="rId3"/>
          <a:stretch/>
        </p:blipFill>
        <p:spPr>
          <a:xfrm>
            <a:off x="2928960" y="2025720"/>
            <a:ext cx="500040" cy="403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E:\Картинки усталость\1f162f252e07.jpg"/>
          <p:cNvPicPr/>
          <p:nvPr/>
        </p:nvPicPr>
        <p:blipFill>
          <a:blip r:embed="rId4"/>
          <a:stretch/>
        </p:blipFill>
        <p:spPr>
          <a:xfrm>
            <a:off x="5143680" y="1957320"/>
            <a:ext cx="500040" cy="47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E:\Картинки усталость\12016143113787.jpg"/>
          <p:cNvPicPr/>
          <p:nvPr/>
        </p:nvPicPr>
        <p:blipFill>
          <a:blip r:embed="rId5"/>
          <a:stretch/>
        </p:blipFill>
        <p:spPr>
          <a:xfrm>
            <a:off x="6691320" y="3500280"/>
            <a:ext cx="865080" cy="428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E:\Картинки усталость\_.jpg"/>
          <p:cNvPicPr/>
          <p:nvPr/>
        </p:nvPicPr>
        <p:blipFill>
          <a:blip r:embed="rId6"/>
          <a:stretch/>
        </p:blipFill>
        <p:spPr>
          <a:xfrm>
            <a:off x="4714920" y="5046840"/>
            <a:ext cx="714240" cy="38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e514e06eaabd8cebf0cc25da44c_prev"/>
          <p:cNvPicPr/>
          <p:nvPr/>
        </p:nvPicPr>
        <p:blipFill>
          <a:blip r:embed="rId7"/>
          <a:stretch/>
        </p:blipFill>
        <p:spPr>
          <a:xfrm>
            <a:off x="7020000" y="1941480"/>
            <a:ext cx="623880" cy="4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25-ani"/>
          <p:cNvPicPr/>
          <p:nvPr/>
        </p:nvPicPr>
        <p:blipFill>
          <a:blip r:embed="rId8"/>
          <a:stretch/>
        </p:blipFill>
        <p:spPr>
          <a:xfrm>
            <a:off x="4000680" y="6143760"/>
            <a:ext cx="285480" cy="32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6" descr="E:\Картинки усталость\36d9c26b0e52.jpg"/>
          <p:cNvPicPr/>
          <p:nvPr/>
        </p:nvPicPr>
        <p:blipFill>
          <a:blip r:embed="rId1"/>
          <a:stretch/>
        </p:blipFill>
        <p:spPr>
          <a:xfrm>
            <a:off x="5072040" y="3059280"/>
            <a:ext cx="428760" cy="298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E:\Картинки усталость\6a0120a69a9770970c0120a69abab3970c-800wi.jpg"/>
          <p:cNvPicPr/>
          <p:nvPr/>
        </p:nvPicPr>
        <p:blipFill>
          <a:blip r:embed="rId2"/>
          <a:stretch/>
        </p:blipFill>
        <p:spPr>
          <a:xfrm>
            <a:off x="7358040" y="1038240"/>
            <a:ext cx="4287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E:\Картинки усталость\75.jpg"/>
          <p:cNvPicPr/>
          <p:nvPr/>
        </p:nvPicPr>
        <p:blipFill>
          <a:blip r:embed="rId3"/>
          <a:stretch/>
        </p:blipFill>
        <p:spPr>
          <a:xfrm>
            <a:off x="7786800" y="1008000"/>
            <a:ext cx="357120" cy="360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13840" y="356760"/>
            <a:ext cx="5286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Витаминотерапия (Группа Б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Балуйте себя сладк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Тонизирующие напитки имеют  кратковременный срок дей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13" descr="E:\Картинки усталость\63814.jpg"/>
          <p:cNvPicPr/>
          <p:nvPr/>
        </p:nvPicPr>
        <p:blipFill>
          <a:blip r:embed="rId4"/>
          <a:stretch/>
        </p:blipFill>
        <p:spPr>
          <a:xfrm>
            <a:off x="6215040" y="6254640"/>
            <a:ext cx="642960" cy="389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E:\Картинки усталость\182166_image_large.jpg"/>
          <p:cNvPicPr/>
          <p:nvPr/>
        </p:nvPicPr>
        <p:blipFill>
          <a:blip r:embed="rId5"/>
          <a:stretch/>
        </p:blipFill>
        <p:spPr>
          <a:xfrm>
            <a:off x="3286080" y="6300720"/>
            <a:ext cx="642960" cy="390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518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68000" y="2565360"/>
            <a:ext cx="867564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Это следствие повседневной механизации, которая создает дефицит энергозатрат, и скелетные мышцы не реализуют свою энергетическую программ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539640" y="0"/>
            <a:ext cx="799308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иподинам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0 007"/>
          <p:cNvPicPr/>
          <p:nvPr/>
        </p:nvPicPr>
        <p:blipFill>
          <a:blip r:embed="rId1">
            <a:lum contrast="30000"/>
          </a:blip>
          <a:srcRect l="35234" t="37712" r="3668" b="7801"/>
          <a:stretch/>
        </p:blipFill>
        <p:spPr>
          <a:xfrm>
            <a:off x="1643040" y="5896080"/>
            <a:ext cx="71424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Двигательная актив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ажна в течение всей жизни человека, особенно важны физические упражнения в детском  и пожилом возрасте. Они способствую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-лучшему развитию нервной систем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-росту и укреплению костной и мышечной ткан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-повышению вынослив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-повышению устойчивости к различным заболевани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Усталость</a:t>
            </a: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- состояние, когда снижается продуктивность деятельности и отсутствует обычное желание работа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Человек будущего по некоторым прогноз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0 008"/>
          <p:cNvPicPr/>
          <p:nvPr/>
        </p:nvPicPr>
        <p:blipFill>
          <a:blip r:embed="rId1">
            <a:lum contrast="24000"/>
          </a:blip>
          <a:srcRect l="3689" t="10783" r="35191" b="62328"/>
          <a:stretch/>
        </p:blipFill>
        <p:spPr>
          <a:xfrm>
            <a:off x="1979640" y="4941720"/>
            <a:ext cx="806400" cy="430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опросы для закреп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а связь между здоровьем и движение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одинамия и современный челов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ствия снижения двигательной активности челове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ческие меры устал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35676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сталость проявляется изо дня в день и, если никак  не противостоять ей, влияет на качество нашей деятельности и на нашу жизнь вообщ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егодня условия  нашей работы очень часто способствует появлению специфического утомления, особенностью которого является то, что оно сопровождается постоянной сонлив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Cambria"/>
              </a:rPr>
              <a:t>Причины усталост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25000"/>
            <a:ext cx="82296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Сидячая работ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Недостаток сн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Монотони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Недостаточное количество физических нагрузок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Ненормированная работа (любая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Чрезмерная умственная нагрузк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Неясность ситуации, влекущая за собой эмоциональное опустошени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Усиленный контроль  со стороны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E:\Картинки усталость\23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68360" y="18864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Cambria"/>
              </a:rPr>
              <a:t>Пасмурная погода, длительное отсутствие  солнц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Cambria"/>
              </a:rPr>
              <a:t>Перенесенные болезн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Cambria"/>
              </a:rPr>
              <a:t>Переживание конфликта на работе, в семь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Cambria"/>
              </a:rPr>
              <a:t>Психическое напряж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6a00d83451c1ce69e200e54fa414218833-800wi"/>
          <p:cNvPicPr/>
          <p:nvPr/>
        </p:nvPicPr>
        <p:blipFill>
          <a:blip r:embed="rId2"/>
          <a:stretch/>
        </p:blipFill>
        <p:spPr>
          <a:xfrm>
            <a:off x="5143680" y="3214800"/>
            <a:ext cx="807840" cy="48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2060280"/>
            <a:ext cx="8640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50920" y="2133720"/>
            <a:ext cx="8497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следствия устал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63" name="Picture 6" descr="children_15"/>
          <p:cNvPicPr/>
          <p:nvPr/>
        </p:nvPicPr>
        <p:blipFill>
          <a:blip r:embed="rId3"/>
          <a:stretch/>
        </p:blipFill>
        <p:spPr>
          <a:xfrm>
            <a:off x="5940360" y="5759280"/>
            <a:ext cx="488880" cy="40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5840" y="-360"/>
            <a:ext cx="88581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В дорог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иск возникновения несчастных случаев на дороге- между 24 - 6 часами у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Яркое послеобеденное солнце вызывает усталость (надеть солнцезащитные оч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онный попутчик  провоцирует дрему шофера (позаботьтесь о развлечении или возьмите словоохотливого попутчика, который не даст вам заснут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Cambria"/>
              </a:rPr>
              <a:t>На физиологическом уровне усталость вызыва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8446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Учащенное дых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Частоту сердцеби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Снижение экономичности и эффективности сердечных сокращ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Снижение скорости реак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07:50:40Z</dcterms:created>
  <dc:creator>Ученик18-4</dc:creator>
  <dc:description/>
  <dc:language>en-US</dc:language>
  <cp:lastModifiedBy>Xaoc</cp:lastModifiedBy>
  <dcterms:modified xsi:type="dcterms:W3CDTF">2012-06-09T13:18:10Z</dcterms:modified>
  <cp:revision>136</cp:revision>
  <dc:subject/>
  <dc:title>Слайд 1</dc:title>
</cp:coreProperties>
</file>