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E0E-0017-415B-9ED8-16376CE8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9D7-491D-4679-9896-C564AE8B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8CE-9AF2-48C8-B0A3-DCC1FE24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696-E7D8-438C-8E9A-B14FB555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1291-E7DB-495F-9621-2295AFE2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161-29CB-4AAD-8B09-4F527715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DCD-3EA9-4F37-B72A-67F4118C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3F2-3E17-4C4C-854A-74559AFC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F7D-79A4-48FC-8EB6-3834A6EF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612-0902-430F-A178-6598D6B0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2D3-2240-4AA9-9596-77A5AD99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7088-4162-4293-B89B-E24F3C72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A3C6-AD41-4249-9824-895B1DE791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267760" cy="1182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User\Рабочий стол\физика для маленьких\640068.jpg"/>
          <p:cNvPicPr/>
          <p:nvPr/>
        </p:nvPicPr>
        <p:blipFill>
          <a:blip r:embed="rId2"/>
          <a:stretch/>
        </p:blipFill>
        <p:spPr>
          <a:xfrm>
            <a:off x="2000160" y="2214720"/>
            <a:ext cx="43401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0_23a7b_81ce95b2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826920" y="4437000"/>
            <a:ext cx="79218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Calibri"/>
              </a:rPr>
              <a:t>Твоя тень всегда длиннее ранним утром и после обе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81080" y="-125280"/>
            <a:ext cx="9325080" cy="70833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539640" y="5661000"/>
            <a:ext cx="8064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тические иллюзии (зрительные иллюзии) — ошибки в зрительном восприят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User\Рабочий стол\физика для маленьких\9602281610102444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68360" y="192240"/>
            <a:ext cx="842472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857680" cy="3848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556000" y="2552760"/>
            <a:ext cx="3571920" cy="428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5543640" y="189000"/>
            <a:ext cx="3600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788000" y="30240"/>
            <a:ext cx="2835000" cy="3457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971640" y="30240"/>
            <a:ext cx="3378240" cy="3457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6205680" y="3203640"/>
            <a:ext cx="2577960" cy="3540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4"/>
          <a:stretch/>
        </p:blipFill>
        <p:spPr>
          <a:xfrm>
            <a:off x="324000" y="3230640"/>
            <a:ext cx="29527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050920" y="0"/>
            <a:ext cx="4897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238530273_1881"/>
          <p:cNvPicPr/>
          <p:nvPr/>
        </p:nvPicPr>
        <p:blipFill>
          <a:blip r:embed="rId1"/>
          <a:stretch/>
        </p:blipFill>
        <p:spPr>
          <a:xfrm>
            <a:off x="-108000" y="-8100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611280" y="4941720"/>
            <a:ext cx="79563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ы можешь видеть цвета света или спектра в радуге. Свет проникает сквозь капли дождя и разделяется на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расны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ff9933"/>
                </a:solidFill>
                <a:latin typeface="Calibri"/>
              </a:rPr>
              <a:t>Оранжевы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ffff66"/>
                </a:solidFill>
                <a:latin typeface="Calibri"/>
              </a:rPr>
              <a:t>Желты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66ff66"/>
                </a:solidFill>
                <a:latin typeface="Calibri"/>
              </a:rPr>
              <a:t>Зелены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33ccff"/>
                </a:solidFill>
                <a:latin typeface="Calibri"/>
              </a:rPr>
              <a:t>Голубо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Сини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cc66ff"/>
                </a:solidFill>
                <a:latin typeface="Calibri"/>
              </a:rPr>
              <a:t>Фиолето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033b"/>
          <p:cNvPicPr/>
          <p:nvPr/>
        </p:nvPicPr>
        <p:blipFill>
          <a:blip r:embed="rId1"/>
          <a:stretch/>
        </p:blipFill>
        <p:spPr>
          <a:xfrm>
            <a:off x="0" y="0"/>
            <a:ext cx="5219640" cy="364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4"/>
          <p:cNvPicPr/>
          <p:nvPr/>
        </p:nvPicPr>
        <p:blipFill>
          <a:blip r:embed="rId2"/>
          <a:stretch/>
        </p:blipFill>
        <p:spPr>
          <a:xfrm>
            <a:off x="5292720" y="0"/>
            <a:ext cx="3851280" cy="364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b_92870"/>
          <p:cNvPicPr/>
          <p:nvPr/>
        </p:nvPicPr>
        <p:blipFill>
          <a:blip r:embed="rId3"/>
          <a:stretch/>
        </p:blipFill>
        <p:spPr>
          <a:xfrm>
            <a:off x="5810400" y="35244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0" y="3841920"/>
            <a:ext cx="56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ы бывают различных цветов. Это происходит потому, что они насыщены одним из цветов спект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tomato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3933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171978_0"/>
          <p:cNvPicPr/>
          <p:nvPr/>
        </p:nvPicPr>
        <p:blipFill>
          <a:blip r:embed="rId2"/>
          <a:stretch/>
        </p:blipFill>
        <p:spPr>
          <a:xfrm>
            <a:off x="4356000" y="3924360"/>
            <a:ext cx="4788000" cy="293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a895b45d2b81"/>
          <p:cNvPicPr/>
          <p:nvPr/>
        </p:nvPicPr>
        <p:blipFill>
          <a:blip r:embed="rId3"/>
          <a:stretch/>
        </p:blipFill>
        <p:spPr>
          <a:xfrm>
            <a:off x="0" y="3848040"/>
            <a:ext cx="4356000" cy="3009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0" y="0"/>
            <a:ext cx="493236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идоры поглощают все цвета, кроме красного, который преобразуется в наших глазах. Поэтому мы видим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расный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помид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10karandash"/>
          <p:cNvPicPr/>
          <p:nvPr/>
        </p:nvPicPr>
        <p:blipFill>
          <a:blip r:embed="rId1"/>
          <a:stretch/>
        </p:blipFill>
        <p:spPr>
          <a:xfrm>
            <a:off x="0" y="0"/>
            <a:ext cx="51418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5219640" y="0"/>
            <a:ext cx="39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сли ты поместишь в стакан карандаш, будет казаться, что он изменил форму и размер. Так проявляется закон преломления св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a1-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684360" y="0"/>
            <a:ext cx="65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тен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916360" y="4724280"/>
            <a:ext cx="608328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Световые волны распространяются по прямым линиям. Они не способны огибать предметы. Если что-то встает на пути световой волны, она закрывает свет и образовывается тень. Земля вращается по орбите вокруг Солнца, поэтому направление теней и их длина изменяются в зависимости от времени д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6:59:39Z</dcterms:created>
  <dc:creator>User</dc:creator>
  <dc:description/>
  <dc:language>en-US</dc:language>
  <cp:lastModifiedBy>ADMIN</cp:lastModifiedBy>
  <dcterms:modified xsi:type="dcterms:W3CDTF">2012-06-10T16:46:04Z</dcterms:modified>
  <cp:revision>9</cp:revision>
  <dc:subject/>
  <dc:title>Презентация PowerPoint</dc:title>
</cp:coreProperties>
</file>