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7BC-CE60-4A2B-BF91-B8A647C1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D490-37F5-4586-9BE4-F40C9ED4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766-5756-49E5-8D35-A5820E29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CFF-0FD6-455A-9087-0E82B4FD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442-8B75-4DC7-9F25-8590913F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445-3EED-48A2-AE46-61CDFA6A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961-5C2A-4129-904B-23700EB0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A1B-FE77-47F4-A669-7439CC00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B88-CF60-4D5A-AE25-2ED67CC8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86A-868D-465B-B33B-A948842D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145-943D-4583-84EE-6F529C5C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A8F-5365-40AD-A71C-DF3C6C48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C34A-687F-41F4-9D0A-E62E8CA64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1182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User\Рабочий стол\физика для маленьких\640068.jpg"/>
          <p:cNvPicPr/>
          <p:nvPr/>
        </p:nvPicPr>
        <p:blipFill>
          <a:blip r:embed="rId2"/>
          <a:stretch/>
        </p:blipFill>
        <p:spPr>
          <a:xfrm>
            <a:off x="2000160" y="2214720"/>
            <a:ext cx="43401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_23a7b_81ce95b2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826920" y="4437000"/>
            <a:ext cx="7921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alibri"/>
              </a:rPr>
              <a:t>Твоя тень всегда длиннее ранним утром и после обе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81080" y="-125280"/>
            <a:ext cx="9325080" cy="70833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539640" y="5661000"/>
            <a:ext cx="8064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тические иллюзии (зрительные иллюзии) — ошибки в зрительном восприят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User\Рабочий стол\физика для маленьких\9602281610102444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68360" y="192240"/>
            <a:ext cx="842472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857680" cy="384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56000" y="2552760"/>
            <a:ext cx="3571920" cy="428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5543640" y="189000"/>
            <a:ext cx="360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788000" y="30240"/>
            <a:ext cx="2835000" cy="3457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971640" y="30240"/>
            <a:ext cx="3378240" cy="3457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6205680" y="3203640"/>
            <a:ext cx="2577960" cy="354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4"/>
          <a:stretch/>
        </p:blipFill>
        <p:spPr>
          <a:xfrm>
            <a:off x="324000" y="3230640"/>
            <a:ext cx="2952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50920" y="0"/>
            <a:ext cx="4897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238530273_1881"/>
          <p:cNvPicPr/>
          <p:nvPr/>
        </p:nvPicPr>
        <p:blipFill>
          <a:blip r:embed="rId1"/>
          <a:stretch/>
        </p:blipFill>
        <p:spPr>
          <a:xfrm>
            <a:off x="-108000" y="-8100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611280" y="4941720"/>
            <a:ext cx="7956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ы можешь видеть цвета света или спектра в радуге. Свет проникает сквозь капли дождя и разделяется на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ff9933"/>
                </a:solidFill>
                <a:latin typeface="Calibri"/>
              </a:rPr>
              <a:t>Оранжевы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ffff66"/>
                </a:solidFill>
                <a:latin typeface="Calibri"/>
              </a:rPr>
              <a:t>Желты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66ff66"/>
                </a:solidFill>
                <a:latin typeface="Calibri"/>
              </a:rPr>
              <a:t>Зелены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33ccff"/>
                </a:solidFill>
                <a:latin typeface="Calibri"/>
              </a:rPr>
              <a:t>Голубо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Синий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cc66ff"/>
                </a:solidFill>
                <a:latin typeface="Calibri"/>
              </a:rPr>
              <a:t>Фиолет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033b"/>
          <p:cNvPicPr/>
          <p:nvPr/>
        </p:nvPicPr>
        <p:blipFill>
          <a:blip r:embed="rId1"/>
          <a:stretch/>
        </p:blipFill>
        <p:spPr>
          <a:xfrm>
            <a:off x="0" y="0"/>
            <a:ext cx="5219640" cy="364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4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364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b_92870"/>
          <p:cNvPicPr/>
          <p:nvPr/>
        </p:nvPicPr>
        <p:blipFill>
          <a:blip r:embed="rId3"/>
          <a:stretch/>
        </p:blipFill>
        <p:spPr>
          <a:xfrm>
            <a:off x="5810400" y="35244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0" y="3841920"/>
            <a:ext cx="56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меты бывают различных цветов. Это происходит потому, что они насыщены одним из цветов спект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tomato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39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171978_0"/>
          <p:cNvPicPr/>
          <p:nvPr/>
        </p:nvPicPr>
        <p:blipFill>
          <a:blip r:embed="rId2"/>
          <a:stretch/>
        </p:blipFill>
        <p:spPr>
          <a:xfrm>
            <a:off x="4356000" y="3924360"/>
            <a:ext cx="4788000" cy="29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a895b45d2b81"/>
          <p:cNvPicPr/>
          <p:nvPr/>
        </p:nvPicPr>
        <p:blipFill>
          <a:blip r:embed="rId3"/>
          <a:stretch/>
        </p:blipFill>
        <p:spPr>
          <a:xfrm>
            <a:off x="0" y="3848040"/>
            <a:ext cx="4356000" cy="3009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0" y="0"/>
            <a:ext cx="49323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идоры поглощают все цвета, кроме красного, который преобразуется в наших глазах. Поэтому мы видим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расны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помид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10karandash"/>
          <p:cNvPicPr/>
          <p:nvPr/>
        </p:nvPicPr>
        <p:blipFill>
          <a:blip r:embed="rId1"/>
          <a:stretch/>
        </p:blipFill>
        <p:spPr>
          <a:xfrm>
            <a:off x="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5219640" y="0"/>
            <a:ext cx="39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сли ты поместишь в стакан карандаш, будет казаться, что он изменил форму и размер. Так проявляется закон преломления св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a1-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684360" y="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ен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16360" y="4724280"/>
            <a:ext cx="6083280" cy="192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Световые волны распространяются по прямым линиям. Они не способны огибать предметы. Если что-то встает на пути световой волны, она закрывает свет и образовывается тень. Земля вращается по орбите вокруг Солнца, поэтому направление теней и их длина изменяются в зависимости от времени д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16:59:39Z</dcterms:created>
  <dc:creator>User</dc:creator>
  <dc:description/>
  <dc:language>en-US</dc:language>
  <cp:lastModifiedBy>ADMIN</cp:lastModifiedBy>
  <dcterms:modified xsi:type="dcterms:W3CDTF">2012-06-10T16:46:04Z</dcterms:modified>
  <cp:revision>9</cp:revision>
  <dc:subject/>
  <dc:title>Презентация PowerPoint</dc:title>
</cp:coreProperties>
</file>