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6.png" ContentType="image/png"/>
  <Override PartName="/ppt/media/image7.wmf" ContentType="image/x-wmf"/>
  <Override PartName="/ppt/media/image20.jpeg" ContentType="image/jpeg"/>
  <Override PartName="/ppt/media/image8.png" ContentType="image/png"/>
  <Override PartName="/ppt/media/image14.jpeg" ContentType="image/jpeg"/>
  <Override PartName="/ppt/media/image30.gif" ContentType="image/gif"/>
  <Override PartName="/ppt/media/image9.jpeg" ContentType="image/jpeg"/>
  <Override PartName="/ppt/media/image16.jpeg" ContentType="image/jpeg"/>
  <Override PartName="/ppt/media/image13.gif" ContentType="image/gif"/>
  <Override PartName="/ppt/media/image27.jpeg" ContentType="image/jpeg"/>
  <Override PartName="/ppt/media/image1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media/image23.jpeg" ContentType="image/jpeg"/>
  <Override PartName="/ppt/media/image25.wmf" ContentType="image/x-wmf"/>
  <Override PartName="/ppt/media/image15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E73-D026-4CDE-B020-48A9A8A5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DAE-5762-4E89-A322-5C555A3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C675-C448-4152-A353-B48D2875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1D9-19FC-4192-B882-33B884A3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D36F-BA9B-4BBB-83B2-B25EFCCC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F783-6D0E-43D7-91F5-B91A51E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EB1-09D5-42A7-BD08-1122935F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B2E3-3169-44E3-9F51-EFADAE9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AC3D-E112-4FA6-B905-0846B460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F65D-2550-4B7F-925D-8D804367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6E4-64F7-413C-A086-462041F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4A8-77FC-44BB-872B-206D81DE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6EB6-5EAC-47C4-BC3D-788262A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6F3E-C534-4F40-9965-922DC69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90DB-93B2-44E5-9143-FE71E18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0ED-47FD-4219-860A-7718781D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F185-38F7-4A20-8D7F-4EA34B62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F158-787A-4969-B88F-76300EB9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6733-F3D8-43B9-86DF-81CD6AF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7B1C-9B18-479E-B146-2E023911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90A5-C5B1-47ED-8833-EF73477E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4F26-478F-4C5B-828F-616ED9A2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8F5-D01C-42AB-9E75-7EEB36E6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FF02-B518-489B-BDA3-42DA364B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F5B6-8130-460D-9AF8-19283457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A638-3127-4553-A416-66A6D01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5366E-E1DE-4EF6-8B0F-03C681D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9AF37-F386-48C1-A29E-777B5502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3F1F-6DD3-4EA6-A09E-23EE1A07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16D4-34ED-40C7-B1B4-BD5959FF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7400-AD24-4D37-BD66-2D77010E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7D33-9A7C-4AD9-9102-611D475A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C7E9B-780F-4EA4-B37A-5CBE21AE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3A8-54BB-4C04-9598-B3FA81CA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32AA-632F-4F50-BB10-193E57E1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C9F40-879B-4717-B0D7-D3EA366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5B17-4D15-4CFE-9615-6A09579A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B9F9-6A5E-4706-9329-0293C7A4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5573-0572-4862-8869-98F388F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59BC-C4B8-4316-9C8F-C79DF862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F4C1-4739-4AC2-A279-48FC8488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0AFC-B1B8-463B-A5AD-E4F36483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CC76-D453-4463-B4CF-1D9E4B6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6E70-F9EA-47B2-B6A4-2DB4A837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F00-8D62-4FBB-AB37-B7673E64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2B3EC-5884-4B39-A1DA-D7DE2E1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D8D69-22F0-434F-99F9-5430955F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DF84-8C9D-483B-B34A-1AEEA52D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AC170-590B-4750-86BB-880D98B6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4C9D-167C-471E-86E9-04101BF4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AED59-1383-40B9-A57C-6EE7668E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F772E-1024-4E15-AF56-9968EA8B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EFD40-1902-4745-A8D8-8CF1154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724CC-E89E-4B51-BA46-BA961C1A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19A3-46BB-48A8-8D14-7C1ECF63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8ED-A040-4992-B18E-8421FFC5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63715-3D58-47D3-A5D1-3475BDDD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45F0-0E3D-47A5-B2EF-482F5BFB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679BA-4874-4658-AAC5-8BFD69D5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6DA7-4A51-401B-AC58-AF5C2D2D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9306-633D-40F7-88F7-52F30CBF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BDDEA-8E76-4D1F-8BA3-FBAE1BA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94F97-E06D-46C9-BB98-8865795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44E91-3782-4580-9508-CA316442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2389-BFD4-40B2-A03C-CF0BC99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34D76-D64D-4FB0-988B-8F1BB55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13B-B93A-471F-BEF8-6F860E0A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0B485-8707-4F07-8066-6F846D9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03A3F-1F11-4712-BE95-27A92FFB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3A4E-02FE-4F70-844A-35CC7375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62FED-D5A4-4792-9468-F260B537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B61A-5297-42EF-9279-407492B8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F874-EC15-46F0-A5B7-3D46779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68F6-D226-4AAD-BDEC-0C92850E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73732-A4B3-4EF5-A53F-BBBDB6EA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4B7F-D305-43C8-A8F8-A81D2982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496E0-B40B-4B54-B4E2-B0D000F8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369-DBC1-4848-992F-25EF935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45F01-89EE-4D0E-9705-1B7504A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AFEC-1031-4116-B5FF-D2D8744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2DB1E-897C-4F38-94E6-89867EF8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D6C97-AC07-4052-A8E7-BC86EA19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A560-B43C-423B-89D7-5CE752BF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514-53B8-40ED-9FC9-EE9291B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60A5-BBD8-4F42-94F5-3894D1203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B2A6-3FE0-412F-8E55-5B357D724F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FEFE-7340-43EA-9658-E35DA784D75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7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7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8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9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1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147D-0B73-492B-A9C2-197526E7C3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7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7709-395B-4BF9-8D1F-17408E41AB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1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2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32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331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AE9A-8664-4563-90C1-3A5E3BE4B45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80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4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5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6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7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5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3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4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3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4E62-25D2-4651-86D5-CD68A30BA0B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5"/>
          <p:cNvSpPr txBox="1"/>
          <p:nvPr/>
        </p:nvSpPr>
        <p:spPr>
          <a:xfrm>
            <a:off x="1476360" y="1700280"/>
            <a:ext cx="6191280" cy="118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9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партамент образования города Москвы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веро-Восточное окружное управление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БОУ д/с комбинированного вида №1744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6" name="WordArt 7"/>
          <p:cNvSpPr txBox="1"/>
          <p:nvPr/>
        </p:nvSpPr>
        <p:spPr>
          <a:xfrm>
            <a:off x="1979640" y="3284640"/>
            <a:ext cx="57610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477" name="WordArt 8"/>
          <p:cNvSpPr txBox="1"/>
          <p:nvPr/>
        </p:nvSpPr>
        <p:spPr>
          <a:xfrm>
            <a:off x="1763640" y="4797360"/>
            <a:ext cx="59054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55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для воспитател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говорная речь взрослого как этал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ния с ребёнком»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Учитель-логопед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Шлюева Т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0" y="2491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Дети удивительно чутко улавливают, как разговариваю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взрослые и, подражая , копируют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Языковое богатство, как и недостаток языковой культуры те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людей, с которыми постоянно соприкасается ребён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df6e5"/>
                </a:solidFill>
                <a:latin typeface="Arial"/>
              </a:rPr>
              <a:t>становится его достояние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98" name="Picture 12" descr="iCAPM3SQB"/>
          <p:cNvPicPr/>
          <p:nvPr/>
        </p:nvPicPr>
        <p:blipFill>
          <a:blip r:embed="rId1"/>
          <a:srcRect l="1010" t="0" r="1010" b="0"/>
          <a:stretch/>
        </p:blipFill>
        <p:spPr>
          <a:xfrm>
            <a:off x="324000" y="189000"/>
            <a:ext cx="1090440" cy="10476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iCA481ENV"/>
          <p:cNvPicPr/>
          <p:nvPr/>
        </p:nvPicPr>
        <p:blipFill>
          <a:blip r:embed="rId2"/>
          <a:stretch/>
        </p:blipFill>
        <p:spPr>
          <a:xfrm>
            <a:off x="6227640" y="115920"/>
            <a:ext cx="1584360" cy="11113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C:\Users\Александр\Desktop\Фото\P1010130.JPG"/>
          <p:cNvPicPr/>
          <p:nvPr/>
        </p:nvPicPr>
        <p:blipFill>
          <a:blip r:embed="rId3"/>
          <a:stretch/>
        </p:blipFill>
        <p:spPr>
          <a:xfrm>
            <a:off x="3851280" y="4076640"/>
            <a:ext cx="3205080" cy="2403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дагогу необходимо помнить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звуковой культур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литературном произнош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интонационной выразительност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( фразовые и логические ударения, пау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ижения голоса по высоте, силе, тембру, темп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7" descr="H_01BA~1"/>
          <p:cNvPicPr/>
          <p:nvPr/>
        </p:nvPicPr>
        <p:blipFill>
          <a:blip r:embed="rId2"/>
          <a:stretch/>
        </p:blipFill>
        <p:spPr>
          <a:xfrm rot="1828200">
            <a:off x="7139160" y="3325320"/>
            <a:ext cx="1595160" cy="31734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C:\Users\Александр\Desktop\Фото\IMG_2187.JPG"/>
          <p:cNvPicPr/>
          <p:nvPr/>
        </p:nvPicPr>
        <p:blipFill>
          <a:blip r:embed="rId3"/>
          <a:stretch/>
        </p:blipFill>
        <p:spPr>
          <a:xfrm>
            <a:off x="468360" y="316404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еет огромное значение, с каким выражени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а педагог разговаривает с деть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имика, так же как и жест, дополняет, углубля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нимание слова, усиливает его эмоциональны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тенок. И здесь воспитатель является актёром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орый хорошо владеет искусством позы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имики, жес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5" name="Picture 3" descr="C:\Users\Александр\Desktop\Фото\P1020589.JPG"/>
          <p:cNvPicPr/>
          <p:nvPr/>
        </p:nvPicPr>
        <p:blipFill>
          <a:blip r:embed="rId1"/>
          <a:stretch/>
        </p:blipFill>
        <p:spPr>
          <a:xfrm>
            <a:off x="3132000" y="314172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7d47d"/>
                </a:solidFill>
                <a:latin typeface="Arial"/>
              </a:rPr>
              <a:t>В целом речь педагога должна быть полной, красочной, грамматически правильно оформлена, выразительна, логически связная. В беседе с детьми, при рассказывании необходимо уметь пользоваться синонимами, метафорами, эпитетами , шире использовать устное народное творчество, фразеологические обороты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507" name="Picture 4" descr="C:\Users\Александр\Desktop\Фото\P1070363.JPG"/>
          <p:cNvPicPr/>
          <p:nvPr/>
        </p:nvPicPr>
        <p:blipFill>
          <a:blip r:embed="rId1"/>
          <a:stretch/>
        </p:blipFill>
        <p:spPr>
          <a:xfrm>
            <a:off x="1547640" y="3933720"/>
            <a:ext cx="307188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9" descr="image975"/>
          <p:cNvPicPr/>
          <p:nvPr/>
        </p:nvPicPr>
        <p:blipFill>
          <a:blip r:embed="rId2"/>
          <a:stretch/>
        </p:blipFill>
        <p:spPr>
          <a:xfrm>
            <a:off x="7020000" y="620640"/>
            <a:ext cx="1357200" cy="137016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104292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зусловно, знание воспитателем названных требований, их соблюдения и постоянное совершенствовние какчеств своей речи- это залог успешной работы по речевому развитию детей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C:\Users\Александр\Desktop\Фото\P1070340.JPG"/>
          <p:cNvPicPr/>
          <p:nvPr/>
        </p:nvPicPr>
        <p:blipFill>
          <a:blip r:embed="rId3"/>
          <a:stretch/>
        </p:blipFill>
        <p:spPr>
          <a:xfrm>
            <a:off x="6456240" y="4842000"/>
            <a:ext cx="2687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8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4"/>
          <p:cNvSpPr/>
          <p:nvPr/>
        </p:nvSpPr>
        <p:spPr>
          <a:xfrm>
            <a:off x="324000" y="333360"/>
            <a:ext cx="8640720" cy="652464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2166840" y="23828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Rectangle 7" descr=""/>
          <p:cNvPicPr/>
          <p:nvPr/>
        </p:nvPicPr>
        <p:blipFill>
          <a:blip r:embed="rId1"/>
          <a:stretch/>
        </p:blipFill>
        <p:spPr>
          <a:xfrm>
            <a:off x="-1951200" y="2341440"/>
            <a:ext cx="11101680" cy="2144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AN00790_"/>
          <p:cNvPicPr/>
          <p:nvPr/>
        </p:nvPicPr>
        <p:blipFill>
          <a:blip r:embed="rId2"/>
          <a:stretch/>
        </p:blipFill>
        <p:spPr>
          <a:xfrm>
            <a:off x="6732720" y="4653000"/>
            <a:ext cx="215244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AutoShape 6"/>
          <p:cNvSpPr/>
          <p:nvPr/>
        </p:nvSpPr>
        <p:spPr>
          <a:xfrm>
            <a:off x="0" y="0"/>
            <a:ext cx="6624720" cy="5040360"/>
          </a:xfrm>
          <a:prstGeom prst="cloudCallout">
            <a:avLst>
              <a:gd name="adj1" fmla="val 14134"/>
              <a:gd name="adj2" fmla="val 162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опаганды чистоты речи лого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использовать индивиду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рупповые беседы с воспитател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нары-практикумы, консульт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C:\Users\Александр\Desktop\Фото\P1070364.JPG"/>
          <p:cNvPicPr/>
          <p:nvPr/>
        </p:nvPicPr>
        <p:blipFill>
          <a:blip r:embed="rId2"/>
          <a:stretch/>
        </p:blipFill>
        <p:spPr>
          <a:xfrm>
            <a:off x="5724360" y="3573360"/>
            <a:ext cx="32878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Темы консультаций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Развитие мышления и речи у дошкольников»,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Как и о чём мы разговариваем с ребёнком»,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Рассказывают дети», 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Осторожно: дети вслушиваются», </a:t>
            </a:r>
            <a:br>
              <a:rPr sz="2000"/>
            </a:b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«Что и как читать, разучивать с ребёнком», «Культура речи взрослых- пример для маленьких»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86" name="Picture 3" descr="C:\Users\Александр\Desktop\Фото\IMG_2209.JPG"/>
          <p:cNvPicPr/>
          <p:nvPr/>
        </p:nvPicPr>
        <p:blipFill>
          <a:blip r:embed="rId2"/>
          <a:stretch/>
        </p:blipFill>
        <p:spPr>
          <a:xfrm>
            <a:off x="4788000" y="4508640"/>
            <a:ext cx="2840040" cy="2130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42160" cy="33829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азных сферах социальной жизни ребёнка формирование базиса личностной культуры происходит благода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чевой коммуникац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Л. С. Выготский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речевой акта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А. А. Леонтьев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достижение «единства языка-реч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Ф. А. Сохин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Mvubd235"/>
          <p:cNvPicPr/>
          <p:nvPr/>
        </p:nvPicPr>
        <p:blipFill>
          <a:blip r:embed="rId2"/>
          <a:stretch/>
        </p:blipFill>
        <p:spPr>
          <a:xfrm>
            <a:off x="6372360" y="189000"/>
            <a:ext cx="204624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49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ccff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71280" y="2707920"/>
            <a:ext cx="6910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протяжении дошкольного возраста происходят сдвиги в преобладании тех или иных мотивов: младший возраст- деловые мотивы, средний возраст- познавательные интересы и личностные мотивы общения с взросл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C:\Users\Александр\Desktop\Фото\IMG_2195.JPG"/>
          <p:cNvPicPr/>
          <p:nvPr/>
        </p:nvPicPr>
        <p:blipFill>
          <a:blip r:embed="rId1"/>
          <a:stretch/>
        </p:blipFill>
        <p:spPr>
          <a:xfrm>
            <a:off x="5796000" y="115920"/>
            <a:ext cx="300816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бования к речи педагог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Прави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Точ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Логич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Чистот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Выразительность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Богатств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Умес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C:\Users\Александр\Desktop\Фото\IMG_2212.JPG"/>
          <p:cNvPicPr/>
          <p:nvPr/>
        </p:nvPicPr>
        <p:blipFill>
          <a:blip r:embed="rId2"/>
          <a:stretch/>
        </p:blipFill>
        <p:spPr>
          <a:xfrm>
            <a:off x="5872320" y="4403880"/>
            <a:ext cx="3163680" cy="2373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25200" y="314136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чевые коммуникации имеют целый ряд наименовани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языкова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вербальная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евое общение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вербальное общение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евая деятельность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реч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C:\Users\Александр\Desktop\Фото\P1010403.JPG"/>
          <p:cNvPicPr/>
          <p:nvPr/>
        </p:nvPicPr>
        <p:blipFill>
          <a:blip r:embed="rId2"/>
          <a:stretch/>
        </p:blipFill>
        <p:spPr>
          <a:xfrm>
            <a:off x="5651640" y="423864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4"/>
          <p:cNvSpPr/>
          <p:nvPr/>
        </p:nvSpPr>
        <p:spPr>
          <a:xfrm>
            <a:off x="395280" y="620640"/>
            <a:ext cx="6083280" cy="2592360"/>
          </a:xfrm>
          <a:prstGeom prst="cloudCallout">
            <a:avLst>
              <a:gd name="adj1" fmla="val 26444"/>
              <a:gd name="adj2" fmla="val -1712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ное 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ммуникация- специфическая форма взаимодействия людей в процессе их познавательно-трудовой деятельности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C:\Users\Александр\Desktop\Фото\IMG_2203.JPG"/>
          <p:cNvPicPr/>
          <p:nvPr/>
        </p:nvPicPr>
        <p:blipFill>
          <a:blip r:embed="rId2"/>
          <a:stretch/>
        </p:blipFill>
        <p:spPr>
          <a:xfrm>
            <a:off x="4064040" y="3141720"/>
            <a:ext cx="495612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06:27:44Z</dcterms:created>
  <dc:creator>николай</dc:creator>
  <dc:description/>
  <dc:language>en-US</dc:language>
  <cp:lastModifiedBy>Александр</cp:lastModifiedBy>
  <dcterms:modified xsi:type="dcterms:W3CDTF">2012-05-13T16:05:47Z</dcterms:modified>
  <cp:revision>101</cp:revision>
  <dc:subject/>
  <dc:title>Муниципальное дошкольное образовательное учреждение –</dc:title>
</cp:coreProperties>
</file>