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6.png" ContentType="image/png"/>
  <Override PartName="/ppt/media/image7.wmf" ContentType="image/x-wmf"/>
  <Override PartName="/ppt/media/image20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9.jpeg" ContentType="image/jpeg"/>
  <Override PartName="/ppt/media/image16.jpeg" ContentType="image/jpeg"/>
  <Override PartName="/ppt/media/image13.gif" ContentType="image/gif"/>
  <Override PartName="/ppt/media/image27.jpeg" ContentType="image/jpeg"/>
  <Override PartName="/ppt/media/image1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D7F-CC79-4B79-8B0F-735BB4AD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4AF-CB09-4DA2-ADF8-679FBCA6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A6D-CEF1-4AFC-9506-584848C6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2E0-7CC9-47AD-AC5F-F093C13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E4BA-521F-4950-904B-2CD5FB0C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57F1-55BB-4A2C-8558-FD4776C3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9B62-5586-422F-B348-6958E09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D565-7A8F-48A2-99C5-AFD3AF9C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E99-B45A-4500-8E37-CF3555E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1060-732A-4D3F-951E-3566A76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7E5-0304-43CA-8D56-1A0236C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1B9-FB2E-4F4B-AD2E-49009E4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ADC-5CD9-4B6F-B4B1-44D47009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3665-4465-45E0-8AAB-51C8D0E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8FA3-61A1-4451-A7F8-DB065AC8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C81D-A86C-4342-AB11-79C250CA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127-4716-4D78-BDB1-D83A9A5B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BB87-D16B-43BC-81B0-FE472DFC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DCE3-C341-417B-B98F-D945F6D4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A349-E918-4333-8CC1-94DFB30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2162-1105-4BDA-924C-0AF87ADD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EA4C-B55B-412B-964A-1E7B7599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93C-C309-4D12-B30A-C110ECE7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F360-785F-4447-B30D-23BB8A81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881C-6A9F-485E-8AAB-5CA890C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417A-FE28-47E8-9D1B-0A1AE14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B561-2581-44F1-B458-4979407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CCE2-BA3D-44A8-A9B1-85A8FCC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2314-985E-4A0A-BBA2-63CD5DAB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DDB2-A604-4271-B524-8C2E51F7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A09D-45C5-4748-9568-88132E93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205A-328C-4A36-A86E-D50D09E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BE37-4661-4914-A653-D4A4F3BC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48A-D2E9-4F32-9736-495EC8CC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AC3D-372B-46AF-A371-E3463BAF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3CD60-538E-47B6-B7BE-79F71FEC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DE08-2A02-4A65-9C13-76F6B4F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682E-19BA-4F64-9505-4E618E7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AAD1-81A1-45AB-B3F1-A1060EB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7A73-89E3-4705-9A1C-C5A0B8A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AA2F-D7DF-40E6-9C82-AF6FA5C3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820E-B51F-4032-8E3E-7828C61B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6C25-D41C-4869-8598-431FACC9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93AB-2886-4D6E-B811-54BEBA78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6CA-036F-4A4C-ABE2-9789458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C847-0C19-4074-8753-3209FB9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C18A-AF95-4009-A8C1-6D17D1B8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464C-0961-4335-AAF1-800E1E4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A925-F110-4B39-BF0B-C8435B3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3A88-435C-48A4-A71B-29F99EF0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A4EB-810C-4E38-A50D-7E60E30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98A3-5FDC-475B-8769-70D8EFC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F388-ED2D-48F6-ADC2-2EEC3F4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FAFA-3E3F-4565-B606-8B347D7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1CC7-D038-4EAB-A02F-46E1FFF4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C91-5ABB-4E9A-B93A-52E9153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E46E-F4A8-4EA5-9F24-695E2D97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D229-1CB8-4568-8AE8-5A414185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2F24-1F96-417A-BBFE-785AB5AC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08FE-87C5-469E-BDB7-688C466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A6A8-8A9F-4445-9FB5-BD9B052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F186-8485-4A93-A1B4-9167B84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861E-041F-4CEA-85E2-FA52EF5F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590B-3153-415A-8C86-CCC821F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C655-E1EB-4D35-AD71-3F4A4E4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EB9F2-CFAE-4B2B-A770-21D64EE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0A3-EDC8-4579-B1A7-94A02DD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4335-3F9B-4C4C-AD53-7A7563E6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562B-E854-4CAB-B4F7-EFB306BC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108B-3663-4BF4-A384-E640AEBF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50C9-60B2-4277-BFB7-24A2640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B1C2-265B-431D-87C6-3581EFE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6178-8A76-49EC-AC18-18F8DEB1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2911-1126-4415-A281-E7FEF75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9499-A495-426D-9DA6-572F9DD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DEB79-76B8-4C12-96F3-40FC899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C8EB-B601-466A-945F-AA4A429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BB1-16D1-4CA9-9D9E-74A3C97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B0B9-1C53-4EA2-B49B-D8B7CF1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90E1-4692-4D98-B284-8C1148F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BA6D-A624-4FBA-AFE4-970C80E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81A7-50B1-46BA-A62A-397FDF0E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E68D-082F-40C0-94D7-31E9933D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02B-3655-4D9E-84A2-F43AE41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58E-4FF4-414C-AFC7-E57D89BD5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303-13A0-45F2-8E3C-BBBDD503E9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960E-254D-4814-B720-6CB1ADDC7F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9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4B8-9E7F-4CB2-A42E-754A0FD4A3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7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365-9BBC-4CA1-B9F3-109D9744C8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32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331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749-1678-4FC0-9FB0-8BC4AFBF9E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005-24E8-41F9-AF65-9A5F32593AE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5"/>
          <p:cNvSpPr txBox="1"/>
          <p:nvPr/>
        </p:nvSpPr>
        <p:spPr>
          <a:xfrm>
            <a:off x="1476360" y="1700280"/>
            <a:ext cx="6191280" cy="118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9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партамент образования города Москвы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веро-Восточное окружное управ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БОУ д/с комбинированного вида №174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1979640" y="3284640"/>
            <a:ext cx="57610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77" name="WordArt 8"/>
          <p:cNvSpPr txBox="1"/>
          <p:nvPr/>
        </p:nvSpPr>
        <p:spPr>
          <a:xfrm>
            <a:off x="1763640" y="4797360"/>
            <a:ext cx="59054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для воспит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говорная речь взрослого как этал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я с ребёнком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Учитель-логопе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Шлюева Т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Дети удивительно чутко улавливают, как разговариваю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взрослые и, подражая , копирую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Языковое богатство, как и недостаток языковой культуры те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людей, с которыми постоянно соприкасается ребён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становится его достояни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98" name="Picture 12" descr="iCAPM3SQB"/>
          <p:cNvPicPr/>
          <p:nvPr/>
        </p:nvPicPr>
        <p:blipFill>
          <a:blip r:embed="rId1"/>
          <a:srcRect l="1010" t="0" r="1010" b="0"/>
          <a:stretch/>
        </p:blipFill>
        <p:spPr>
          <a:xfrm>
            <a:off x="324000" y="189000"/>
            <a:ext cx="1090440" cy="1047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iCA481ENV"/>
          <p:cNvPicPr/>
          <p:nvPr/>
        </p:nvPicPr>
        <p:blipFill>
          <a:blip r:embed="rId2"/>
          <a:stretch/>
        </p:blipFill>
        <p:spPr>
          <a:xfrm>
            <a:off x="6227640" y="115920"/>
            <a:ext cx="1584360" cy="111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Users\Александр\Desktop\Фото\P1010130.JPG"/>
          <p:cNvPicPr/>
          <p:nvPr/>
        </p:nvPicPr>
        <p:blipFill>
          <a:blip r:embed="rId3"/>
          <a:stretch/>
        </p:blipFill>
        <p:spPr>
          <a:xfrm>
            <a:off x="3851280" y="407664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дагогу необходимо помнить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звуковой культур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литературном произ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интонационной выразительно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 фразовые и логические ударения, пау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ижения голоса по высоте, силе, тембру, темп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H_01BA~1"/>
          <p:cNvPicPr/>
          <p:nvPr/>
        </p:nvPicPr>
        <p:blipFill>
          <a:blip r:embed="rId2"/>
          <a:stretch/>
        </p:blipFill>
        <p:spPr>
          <a:xfrm rot="1828200">
            <a:off x="7139160" y="3325320"/>
            <a:ext cx="1595160" cy="3173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C:\Users\Александр\Desktop\Фото\IMG_2187.JPG"/>
          <p:cNvPicPr/>
          <p:nvPr/>
        </p:nvPicPr>
        <p:blipFill>
          <a:blip r:embed="rId3"/>
          <a:stretch/>
        </p:blipFill>
        <p:spPr>
          <a:xfrm>
            <a:off x="468360" y="316404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ет огромное значение, с каким выражени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а педагог разговаривает с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имика, так же как и жест, дополняет, углубля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нимание слова, усиливает его эмоциона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тенок. И здесь воспитатель является актёро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орый хорошо владеет искусством поз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имики, же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5" name="Picture 3" descr="C:\Users\Александр\Desktop\Фото\P1020589.JPG"/>
          <p:cNvPicPr/>
          <p:nvPr/>
        </p:nvPicPr>
        <p:blipFill>
          <a:blip r:embed="rId1"/>
          <a:stretch/>
        </p:blipFill>
        <p:spPr>
          <a:xfrm>
            <a:off x="3132000" y="314172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В целом речь педагога должна быть полной, красочной, грамматически правильно оформлена, выразительна, логически связная. В беседе с детьми, при рассказывании необходимо уметь пользоваться синонимами, метафорами, эпитетами , шире использовать устное народное творчество, фразеологические обороты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507" name="Picture 4" descr="C:\Users\Александр\Desktop\Фото\P1070363.JPG"/>
          <p:cNvPicPr/>
          <p:nvPr/>
        </p:nvPicPr>
        <p:blipFill>
          <a:blip r:embed="rId1"/>
          <a:stretch/>
        </p:blipFill>
        <p:spPr>
          <a:xfrm>
            <a:off x="1547640" y="393372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9" descr="image975"/>
          <p:cNvPicPr/>
          <p:nvPr/>
        </p:nvPicPr>
        <p:blipFill>
          <a:blip r:embed="rId2"/>
          <a:stretch/>
        </p:blipFill>
        <p:spPr>
          <a:xfrm>
            <a:off x="7020000" y="620640"/>
            <a:ext cx="1357200" cy="13701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042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условно, знание воспитателем названных требований, их соблюдения и постоянное совершенствовние какчеств своей речи- это залог успешной работы по речевому развитию детей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C:\Users\Александр\Desktop\Фото\P1070340.JPG"/>
          <p:cNvPicPr/>
          <p:nvPr/>
        </p:nvPicPr>
        <p:blipFill>
          <a:blip r:embed="rId3"/>
          <a:stretch/>
        </p:blipFill>
        <p:spPr>
          <a:xfrm>
            <a:off x="6456240" y="484200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0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4"/>
          <p:cNvSpPr/>
          <p:nvPr/>
        </p:nvSpPr>
        <p:spPr>
          <a:xfrm>
            <a:off x="324000" y="333360"/>
            <a:ext cx="8640720" cy="65246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2166840" y="238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Rectangle 7" descr=""/>
          <p:cNvPicPr/>
          <p:nvPr/>
        </p:nvPicPr>
        <p:blipFill>
          <a:blip r:embed="rId1"/>
          <a:stretch/>
        </p:blipFill>
        <p:spPr>
          <a:xfrm>
            <a:off x="-1951200" y="2341440"/>
            <a:ext cx="11101680" cy="2144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N00790_"/>
          <p:cNvPicPr/>
          <p:nvPr/>
        </p:nvPicPr>
        <p:blipFill>
          <a:blip r:embed="rId2"/>
          <a:stretch/>
        </p:blipFill>
        <p:spPr>
          <a:xfrm>
            <a:off x="6732720" y="4653000"/>
            <a:ext cx="215244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6"/>
          <p:cNvSpPr/>
          <p:nvPr/>
        </p:nvSpPr>
        <p:spPr>
          <a:xfrm>
            <a:off x="0" y="0"/>
            <a:ext cx="6624720" cy="5040360"/>
          </a:xfrm>
          <a:prstGeom prst="cloudCallout">
            <a:avLst>
              <a:gd name="adj1" fmla="val 14134"/>
              <a:gd name="adj2" fmla="val 16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опаганды чистоты речи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спользовать индивиду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рупповые беседы с воспитат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-практикумы, консуль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C:\Users\Александр\Desktop\Фото\P1070364.JPG"/>
          <p:cNvPicPr/>
          <p:nvPr/>
        </p:nvPicPr>
        <p:blipFill>
          <a:blip r:embed="rId2"/>
          <a:stretch/>
        </p:blipFill>
        <p:spPr>
          <a:xfrm>
            <a:off x="5724360" y="3573360"/>
            <a:ext cx="32878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Темы консультаций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Развитие мышления и речи у дошкольников»,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Как и о чём мы разговариваем с ребёнком»,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Рассказывают дети», 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Осторожно: дети вслушиваются», 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Что и как читать, разучивать с ребёнком», «Культура речи взрослых- пример для маленьких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86" name="Picture 3" descr="C:\Users\Александр\Desktop\Фото\IMG_2209.JPG"/>
          <p:cNvPicPr/>
          <p:nvPr/>
        </p:nvPicPr>
        <p:blipFill>
          <a:blip r:embed="rId2"/>
          <a:stretch/>
        </p:blipFill>
        <p:spPr>
          <a:xfrm>
            <a:off x="4788000" y="4508640"/>
            <a:ext cx="284004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42160" cy="33829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зных сферах социальной жизни ребёнка формирование базиса личностной культуры происходит благода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чевой коммуник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Л. С. Выготский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чевой акта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А. А. Леонтье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достижение «единства языка-реч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Ф. А. Сохин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Mvubd235"/>
          <p:cNvPicPr/>
          <p:nvPr/>
        </p:nvPicPr>
        <p:blipFill>
          <a:blip r:embed="rId2"/>
          <a:stretch/>
        </p:blipFill>
        <p:spPr>
          <a:xfrm>
            <a:off x="6372360" y="189000"/>
            <a:ext cx="204624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8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ccff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6910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протяжении дошкольного возраста происходят сдвиги в преобладании тех или иных мотивов: младший возраст- деловые мотивы, средний возраст- познавательные интересы и личностные мотивы общения с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C:\Users\Александр\Desktop\Фото\IMG_2195.JPG"/>
          <p:cNvPicPr/>
          <p:nvPr/>
        </p:nvPicPr>
        <p:blipFill>
          <a:blip r:embed="rId1"/>
          <a:stretch/>
        </p:blipFill>
        <p:spPr>
          <a:xfrm>
            <a:off x="5796000" y="115920"/>
            <a:ext cx="300816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речи педагог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рави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Точ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Логич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Чистот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Вырази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Богатств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Ум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C:\Users\Александр\Desktop\Фото\IMG_2212.JPG"/>
          <p:cNvPicPr/>
          <p:nvPr/>
        </p:nvPicPr>
        <p:blipFill>
          <a:blip r:embed="rId2"/>
          <a:stretch/>
        </p:blipFill>
        <p:spPr>
          <a:xfrm>
            <a:off x="5872320" y="4403880"/>
            <a:ext cx="3163680" cy="2373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25200" y="314136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ые коммуникации имеют целый ряд наименовани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языкова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вербальна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евое общение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вербальное общение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евая деятельност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C:\Users\Александр\Desktop\Фото\P1010403.JPG"/>
          <p:cNvPicPr/>
          <p:nvPr/>
        </p:nvPicPr>
        <p:blipFill>
          <a:blip r:embed="rId2"/>
          <a:stretch/>
        </p:blipFill>
        <p:spPr>
          <a:xfrm>
            <a:off x="5651640" y="423864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4"/>
          <p:cNvSpPr/>
          <p:nvPr/>
        </p:nvSpPr>
        <p:spPr>
          <a:xfrm>
            <a:off x="395280" y="620640"/>
            <a:ext cx="6083280" cy="2592360"/>
          </a:xfrm>
          <a:prstGeom prst="cloudCallout">
            <a:avLst>
              <a:gd name="adj1" fmla="val 26444"/>
              <a:gd name="adj2" fmla="val -1712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ное 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муникация- специфическая форма взаимодействия людей в процессе их познавательно-трудовой деятельност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C:\Users\Александр\Desktop\Фото\IMG_2203.JPG"/>
          <p:cNvPicPr/>
          <p:nvPr/>
        </p:nvPicPr>
        <p:blipFill>
          <a:blip r:embed="rId2"/>
          <a:stretch/>
        </p:blipFill>
        <p:spPr>
          <a:xfrm>
            <a:off x="4064040" y="3141720"/>
            <a:ext cx="495612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6:27:44Z</dcterms:created>
  <dc:creator>николай</dc:creator>
  <dc:description/>
  <dc:language>en-US</dc:language>
  <cp:lastModifiedBy>Александр</cp:lastModifiedBy>
  <dcterms:modified xsi:type="dcterms:W3CDTF">2012-05-13T16:05:47Z</dcterms:modified>
  <cp:revision>101</cp:revision>
  <dc:subject/>
  <dc:title>Муниципальное дошкольное образовательное учреждение –</dc:title>
</cp:coreProperties>
</file>