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EE0-A501-49C8-A8CE-F9C170DF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A30-B481-4D20-B3BE-7AE170FF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46E-CB7F-4092-8417-E5B1FB61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C81-F135-4B00-A002-29458DD3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4C1A-0F52-4792-9BA2-9E5EFCC8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9F90-25AF-462A-B68D-BC2F8BE4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F07-E3EB-4C90-8B6A-F6BBAA21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5594-572E-4189-A3E4-22DD77A7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A9E0-7D5A-446B-8207-1E55B877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EB6-1EAA-4AAE-A31A-C6A8A5A9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4A3B-2888-4BD7-9F7C-40FE3092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109-542F-421C-9D5A-57757C7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E37D-76C5-44B0-9659-922EDB18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87EE-E527-4682-95D7-CDD8275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7D7B-6FA9-4F31-B17E-56676BA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FB29-BF85-4FE3-968F-4EF050ED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8FE8-C9DD-4C09-A0F9-AD5B4268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5B94-BF66-4C6D-8296-84CFCD78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E5D-60B4-4F70-B909-1BC8943F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219-463B-4A62-A22E-D9E9DBDD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8CA-0AEC-4BF3-91AE-E9E7ACA6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41A-FC40-493C-8767-1B88CE8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6AF-5307-4F4C-AAF5-68CB73EA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920-B15B-4DC1-BFC1-99CFDBB6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0195-06B0-44DC-BD53-C1C5BEA506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739E-5343-40A7-9621-8696A057A8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С.В. Михалков «Хижина дяди Тома»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презентаци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а Т.В.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У СОШ № 1 г. Наро - Фо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шка кормит, Мишка пои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вко я провел 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меня не беспоко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вным счетом ничего!  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97dd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басня «Заяц – симулянт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473-DE87-472F-9CF5-6BA22BD8E4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т у Коли, наприм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ма милицио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у Толи и у В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 мамы инженер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97dd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8997dd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«А что у вас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сцене шел аукци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етей с отцами разлуч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 звон оков, и плач, и с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 всех сторон в толпе звучал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FB6-32C4-48A0-8460-B274CD3965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49480" y="0"/>
            <a:ext cx="504504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318-CB64-4370-9682-061C8006E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8997dd"/>
                </a:solidFill>
                <a:latin typeface="Times New Roman"/>
              </a:rPr>
              <a:t>Гарриет Бичер-Стоу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32000" y="1557000"/>
            <a:ext cx="3754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852 г. написала роман «Хижина дяди Том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19640" y="3141720"/>
            <a:ext cx="3529080" cy="2938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88332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FF2-ACD4-4BFA-AE2D-C37BEC9DBA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569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укцио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одажа вещей или имущества, при которой покупателем становится тот, кто предложит более высокую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укциони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человек, ведущий аукцио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о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канд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тат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ладелец плантаций, землевладел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лл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денежная единица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чер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невольник, человек, обращенный в собственность, состоящий в полной власти от хозя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ку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плата, деньги, которыми выкуп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лю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иностранные день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бивает ц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вышает це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ы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ильное проявление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58D-93ED-4C1C-8E21-B46E5EEA41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Плантатор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сток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человечность, безразличие к судьбе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уб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у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небре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четлив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905-33C3-416D-92D5-F85AD57359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Люди (покупатели)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сток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ад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знрав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лочность, ничтож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утствие чувства собственного досто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счелове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н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CC7-4F1D-4375-85DE-CFF871AF1D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33"/>
                </a:solidFill>
                <a:latin typeface="Times New Roman"/>
              </a:rPr>
              <a:t>«Добро сильнее, чем валюта!»</a:t>
            </a:r>
            <a:endParaRPr b="0" lang="en-US" sz="9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854-0BC3-4BAC-9CF6-8A440B3EB4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ергей Владимирович Михалков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1913 – 2009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ом – оружием своим,                                    Что я в руках держу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м честным людям труд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, как солдат, служ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882880" cy="42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551-5981-4D7B-AD6D-E36D4FE66B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927080" cy="2924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2577960" cy="292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87280" y="2708280"/>
            <a:ext cx="2224080" cy="2879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012000" y="189000"/>
            <a:ext cx="1834920" cy="2923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995640" y="2781360"/>
            <a:ext cx="2340000" cy="2889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771640" y="4581360"/>
            <a:ext cx="1533600" cy="201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6948360" y="2708280"/>
            <a:ext cx="184968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5364000" y="4581360"/>
            <a:ext cx="1590840" cy="20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630-34FC-474C-BF8E-64DE293C4D7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С. В.Михалков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8000" y="1773000"/>
            <a:ext cx="367164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нописе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зоч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амат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гим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ценари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738600" cy="51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02E-90C1-4C19-8579-72C34C7D58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тературная виктори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сы и рубашка лежат на песке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ямец плывет по опасной р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           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Фома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с распух, не видно глаз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кошена щек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пиваясь, как игла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хвосте жужжит пч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Щенок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ят ему в кино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, товарищ, сядьте на пол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м, товарищ, все ра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      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Дядя Степа</a:t>
            </a:r>
            <a:r>
              <a:rPr b="0" lang="en-US" sz="2400" spc="-1" strike="noStrike">
                <a:solidFill>
                  <a:srgbClr val="8997dd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F70-A68C-42A4-9B06-4BC84A344E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42920" y="1530360"/>
            <a:ext cx="77724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живет он в новом доме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готовый ни к чем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 к тому, чтоб стать пилотом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ть отважным моряком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 летать за пулеметом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авлять грузовиком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растет, боясь моро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Про мимозу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вхожу одним из пер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медицинский каби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 меня стальные нер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ли вовсе нервов 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en-US" sz="2400" spc="-1" strike="noStrike">
                <a:solidFill>
                  <a:srgbClr val="8997dd"/>
                </a:solidFill>
                <a:latin typeface="Arial"/>
              </a:rPr>
              <a:t>(«Прививка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46F-0E3C-47EB-8E1B-A225060040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щет бедная старушк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душкой, под подушкой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головой залезл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матрац, под одеяло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глянула в ведра, в кружки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боты, в валенки, ботин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вверх дном перевернул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идела, отдохнула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здыхала, поворчал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пошла искать снач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«Где очки?»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873-1754-4358-B687-12E0B30A96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ы живем в одной кварти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се соседи знаю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олько мне звонить – четы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 ему – двенадцать раз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«Мы с приятелем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Я карандаш с бумагой взя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рисовал дор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ней быка нарисов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А рядом с ним корову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«Рисуно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0400" y="1816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DD4-0977-4F79-BD30-B392382C91DB}" type="slidenum">
              <a:t>8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просто мальчик 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мин Витя, папин Ви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квартиры номер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он лежит в кро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одеялами на ва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ме плюшек и пирож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чего не хочет есть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i="1" lang="en-US" sz="2800" spc="-1" strike="noStrike">
                <a:solidFill>
                  <a:srgbClr val="8997dd"/>
                </a:solidFill>
                <a:latin typeface="Arial"/>
              </a:rPr>
              <a:t>(«Про мимозу»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C43-5C15-494C-A0E2-9716EA180C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9:39:36Z</dcterms:created>
  <dc:creator>Rains</dc:creator>
  <dc:description/>
  <dc:language>en-US</dc:language>
  <cp:lastModifiedBy>Татьяна</cp:lastModifiedBy>
  <dcterms:modified xsi:type="dcterms:W3CDTF">2012-04-17T18:06:54Z</dcterms:modified>
  <cp:revision>24</cp:revision>
  <dc:subject/>
  <dc:title>Путешествие  в Страну Детства</dc:title>
</cp:coreProperties>
</file>