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908-50D5-4ECE-945F-5E030ADC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FA3-AD6E-4E20-823A-13FC2FD1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BF2-92B0-4C1B-A753-F83B3FE4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9B8-DE69-4AEA-88C0-84463695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B4B5-14EA-4C65-B183-8A634D6A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95F6-515E-456C-96AF-03105C8B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4221-8D69-4E10-BC5D-A15D28A0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72F9-F314-4697-BD50-07E2B500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B5C5-217B-479C-84DC-AA46E7EA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8915-68CD-4350-9550-F5904C0A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E65E-61FD-42E6-A56F-F5892107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D9B-5725-4AD6-AD2A-817DBEA4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F55A-3943-4E45-8614-EBD81C2E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5DC9-EFA7-4156-9B0B-F0CE2E5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BF2A-A2F0-4051-88D1-E177A6B3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623F-D010-4E77-ABBB-32EDCED5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EC5B-B1E6-42DD-A44A-E9865EB7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70F-8BEC-4A3D-9152-96AEFE35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FF4-2DCD-4CBA-A635-AD95DCB0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BF3-8F78-4C2F-B5E3-661DA0F4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68B-E797-4C5E-BD08-52B12CC5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340-7FFC-4975-B367-E9575BA7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7AF-8B9D-49E7-ADE8-FDB01451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6B8-9468-487A-B4B1-966F8408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7AFD-08BC-44B9-983B-9D4FC5D8E5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3C86-0671-4B0A-9B87-270D872CA8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С.В. Михалков «Хижина дяди Тома»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а Т.В.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У СОШ № 1 г. Наро - Фом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шка кормит, Мишка пои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вко я провел 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меня не беспоко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вным счетом ничего!  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97dd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(басня «Заяц – симулянт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E80-06C3-48F7-83A6-332746FC5F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т у Коли, наприм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ма милицио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у Толи и у В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 мамы инженер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97dd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8997dd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«А что у вас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сцене шел аукци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етей с отцами разлуч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 звон оков, и плач, и с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всех сторон в толпе звуча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168-182A-4B77-B039-5EF25F086E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49480" y="0"/>
            <a:ext cx="504504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229-36B9-4C7E-A9FA-DB41848C87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8997dd"/>
                </a:solidFill>
                <a:latin typeface="Times New Roman"/>
              </a:rPr>
              <a:t>Гарриет Бичер-Стоу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32000" y="1557000"/>
            <a:ext cx="3754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852 г. написала роман «Хижина дяди Том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3529080" cy="2938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88332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D08-4B9A-4B76-ADD4-0015532CB3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569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укци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одажа вещей или имущества, при которой покупателем становится тот, кто предложит более высокую 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укциони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человек, ведущий аукци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канд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ладелец плантаций, землевладел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л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денежная единица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чере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невольник, человек, обращенный в собственность, состоящий в полной власти от хозя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ку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плата, деньги, которыми выкуп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лю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иностранные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бивает ц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вышает 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ы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ильное проявление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E41-57CD-4B1B-9125-8E180A381E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Плантатор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сток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человечность, безразличие к судьбе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б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у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небре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четлив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77D-E290-4CBE-BAEB-520F14F014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Люди (покупатели)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сток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а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знрав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лочность, ничто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утствие чувства собственного 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челове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н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D20-53F6-40F1-8D7E-05496F2E9E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33"/>
                </a:solidFill>
                <a:latin typeface="Times New Roman"/>
              </a:rPr>
              <a:t>«Добро сильнее, чем валюта!»</a:t>
            </a:r>
            <a:endParaRPr b="0" lang="en-US" sz="9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332-EBBF-4E83-8006-FAC9B375B1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ергей Владимирович Михалков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1913 – 2009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ом – оружием своим,                                    Что я в руках держу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м честным людям труд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, как солдат, слу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882880" cy="42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8C1-674A-45FC-A269-D8AD46450C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927080" cy="2924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2577960" cy="292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87280" y="2708280"/>
            <a:ext cx="2224080" cy="287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12000" y="189000"/>
            <a:ext cx="1834920" cy="2923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995640" y="2781360"/>
            <a:ext cx="2340000" cy="288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771640" y="4581360"/>
            <a:ext cx="1533600" cy="20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6948360" y="2708280"/>
            <a:ext cx="184968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5364000" y="4581360"/>
            <a:ext cx="1590840" cy="20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5A9-F019-4A3E-9379-E7A88A39B31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С. В.Михалков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8000" y="1773000"/>
            <a:ext cx="367164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нопис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оч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мат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 ги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ценар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738600" cy="51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6AF8-86FD-4E87-9C09-FA6925999E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итературная виктори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сы и рубашка лежат на песке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ямец плывет по опасной р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                                                  </a:t>
            </a: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(«Фома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с распух, не видно глаз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кошена щек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пиваясь, как игл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хвосте жужжит пч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(«Щено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ят ему в кино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, товарищ, сядьте на пол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м, товарищ, все ра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                                             </a:t>
            </a: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(«Дядя Степа</a:t>
            </a:r>
            <a:r>
              <a:rPr b="0" lang="en-US" sz="2400" spc="-1" strike="noStrike">
                <a:solidFill>
                  <a:srgbClr val="8997dd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316-784C-421D-9340-815588ACDE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42920" y="1530360"/>
            <a:ext cx="77724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живет он в новом доме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готовый ни к чем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 к тому, чтоб стать пилотом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ть отважным моряком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летать за пулеметом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влять грузовиком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растет, боясь моро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(«Про мимозу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вхожу одним из пер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медицинский каби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 меня стальные нер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ли вовсе нервов н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(«Прививка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BEA-2978-45F4-9C9E-C8788F3DC1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щет бедная старушк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душкой, под подушкой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головой залезл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матрац, под одеяло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глянула в ведра, в кружки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боты, в валенки, ботин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вверх дном перевернула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идела, отдохнула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здыхала, поворчал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пошла искать снач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(«Где очки?»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C12-2EFB-4A7C-92BD-E3BC10E88D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ы живем в одной кварти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се соседи знаю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олько мне звонить – четы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 ему – двенадцать раз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(«Мы с приятелем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Я карандаш с бумагой взя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рисовал дор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ней быка нарис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 рядом с ним корову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(«Рисуно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30400" y="1816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5A0-BBB7-407F-83A5-6720F15DD00C}" type="slidenum">
              <a:t>8</a:t>
            </a:fld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просто мальчик 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мин Витя, папин 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квартиры номер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он лежит в кро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одеялами на ва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ме плюшек и пирож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чего не хочет есть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(«Про мимозу»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8F4-0C12-481B-8CB6-80CDB9547F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9:39:36Z</dcterms:created>
  <dc:creator>Rains</dc:creator>
  <dc:description/>
  <dc:language>en-US</dc:language>
  <cp:lastModifiedBy>Татьяна</cp:lastModifiedBy>
  <dcterms:modified xsi:type="dcterms:W3CDTF">2012-04-17T18:06:54Z</dcterms:modified>
  <cp:revision>24</cp:revision>
  <dc:subject/>
  <dc:title>Путешествие  в Страну Детства</dc:title>
</cp:coreProperties>
</file>