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7F7-C9A9-4246-88C5-041DC150A4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0624-78DE-4279-AD8C-8E104CD7EE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7784-2CEC-40EA-B691-95F829923F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20D-1EA3-464D-94E2-877F4F46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61C7-EC9C-454F-B974-9C947725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EAA-DB91-4F40-B4AA-418FDBAB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83F-DD63-4E96-8D0A-3CCD419D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49DC-3667-41F5-ACD4-EEF8B497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39D7-8A1C-412F-92B8-AEA16AD6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4CC-ED31-414B-AA7F-C52E9900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659B-B525-442B-BBC6-B2DFE4C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5775-137E-47B3-858A-D7737F0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F879-6802-43C2-9FA1-4D1A498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3A2D-9994-4914-9462-7C718E3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E24-8115-4AD2-BA64-B9B4D091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B465-FD20-4FE1-8FB3-7BB4C7F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DBFE-1FD7-4B39-A705-473873C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7571-D06F-43CD-B40E-D2BB3147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ED5-322F-4432-9F10-6D97B304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9057-3511-46C7-8B2E-8677B719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81C-44A5-4EFE-9E56-6A84914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2DF-64DC-4903-A948-1FA0257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27C-C37F-48F9-BA77-F2E5B3FB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246-157F-457D-98CE-90AEDCE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E0B-77A9-4A03-B56D-B52949F5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9D0-B7C3-469F-8BBB-2C925E0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F9D-816E-47BA-8CA7-7521A570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C60-D949-4739-AD01-12CD95E36C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AD82-4E0F-4D66-9F83-19AB6A20D6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етодика обучения Упражнения с полотно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инка (Схема) – упражн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енн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77080" y="3645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Упражнение на мес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Земля» и.п. стоя руки вниз с полотн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Небо» и.п. стоя руки вверх махом полот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 Волна» и. п. стоя поочередные взмахи руками вв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zemly1"/>
          <p:cNvPicPr/>
          <p:nvPr/>
        </p:nvPicPr>
        <p:blipFill>
          <a:blip r:embed="rId1"/>
          <a:stretch/>
        </p:blipFill>
        <p:spPr>
          <a:xfrm>
            <a:off x="4716360" y="1341360"/>
            <a:ext cx="1943280" cy="15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mauritius147"/>
          <p:cNvPicPr/>
          <p:nvPr/>
        </p:nvPicPr>
        <p:blipFill>
          <a:blip r:embed="rId2"/>
          <a:stretch/>
        </p:blipFill>
        <p:spPr>
          <a:xfrm>
            <a:off x="5364000" y="2997360"/>
            <a:ext cx="2232360" cy="158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592"/>
          <p:cNvPicPr/>
          <p:nvPr/>
        </p:nvPicPr>
        <p:blipFill>
          <a:blip r:embed="rId3"/>
          <a:stretch/>
        </p:blipFill>
        <p:spPr>
          <a:xfrm>
            <a:off x="6516720" y="4724280"/>
            <a:ext cx="2266920" cy="172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Упражнение на мест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4" descr="zemly1"/>
          <p:cNvPicPr/>
          <p:nvPr/>
        </p:nvPicPr>
        <p:blipFill>
          <a:blip r:embed="rId1"/>
          <a:stretch/>
        </p:blipFill>
        <p:spPr>
          <a:xfrm>
            <a:off x="611280" y="1413000"/>
            <a:ext cx="232560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mauritius147"/>
          <p:cNvPicPr/>
          <p:nvPr/>
        </p:nvPicPr>
        <p:blipFill>
          <a:blip r:embed="rId2"/>
          <a:stretch/>
        </p:blipFill>
        <p:spPr>
          <a:xfrm>
            <a:off x="2411280" y="4221000"/>
            <a:ext cx="2232000" cy="158292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8" descr="SAM_1383.JPG"/>
          <p:cNvPicPr/>
          <p:nvPr/>
        </p:nvPicPr>
        <p:blipFill>
          <a:blip r:embed="rId3"/>
          <a:stretch/>
        </p:blipFill>
        <p:spPr>
          <a:xfrm>
            <a:off x="3564000" y="14130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6" descr="SAM_1377.JPG"/>
          <p:cNvPicPr/>
          <p:nvPr/>
        </p:nvPicPr>
        <p:blipFill>
          <a:blip r:embed="rId4"/>
          <a:stretch/>
        </p:blipFill>
        <p:spPr>
          <a:xfrm>
            <a:off x="5508720" y="422100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Picture 6" descr="gallery_937_4_1354462"/>
          <p:cNvPicPr/>
          <p:nvPr/>
        </p:nvPicPr>
        <p:blipFill>
          <a:blip r:embed="rId1"/>
          <a:stretch/>
        </p:blipFill>
        <p:spPr>
          <a:xfrm>
            <a:off x="5148360" y="1773360"/>
            <a:ext cx="3384360" cy="194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Дорожка» и.п. руки с полотном вверху движение вперед (назад) в пар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Лист» и.п. руки с полотном вверх, сходятся вперед и снова в и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0" descr="21747"/>
          <p:cNvPicPr/>
          <p:nvPr/>
        </p:nvPicPr>
        <p:blipFill>
          <a:blip r:embed="rId2"/>
          <a:stretch/>
        </p:blipFill>
        <p:spPr>
          <a:xfrm>
            <a:off x="861840" y="3941640"/>
            <a:ext cx="32292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6" descr="gallery_937_4_1354462"/>
          <p:cNvPicPr/>
          <p:nvPr/>
        </p:nvPicPr>
        <p:blipFill>
          <a:blip r:embed="rId1"/>
          <a:stretch/>
        </p:blipFill>
        <p:spPr>
          <a:xfrm>
            <a:off x="755640" y="1700280"/>
            <a:ext cx="3382920" cy="19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21747"/>
          <p:cNvPicPr/>
          <p:nvPr/>
        </p:nvPicPr>
        <p:blipFill>
          <a:blip r:embed="rId2"/>
          <a:stretch/>
        </p:blipFill>
        <p:spPr>
          <a:xfrm>
            <a:off x="861840" y="3941640"/>
            <a:ext cx="322920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7" descr="SAM_1378.JPG"/>
          <p:cNvPicPr/>
          <p:nvPr/>
        </p:nvPicPr>
        <p:blipFill>
          <a:blip r:embed="rId3"/>
          <a:stretch/>
        </p:blipFill>
        <p:spPr>
          <a:xfrm>
            <a:off x="5219640" y="1628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Users\Роман\Desktop\SAM_1387.JPG"/>
          <p:cNvPicPr/>
          <p:nvPr/>
        </p:nvPicPr>
        <p:blipFill>
          <a:blip r:embed="rId4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« Снежинка» и.п. руки внизу , одновременно мах вверх , переход па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снежинка "/>
          <p:cNvPicPr/>
          <p:nvPr/>
        </p:nvPicPr>
        <p:blipFill>
          <a:blip r:embed="rId1"/>
          <a:stretch/>
        </p:blipFill>
        <p:spPr>
          <a:xfrm>
            <a:off x="138096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2hd48qf"/>
          <p:cNvPicPr/>
          <p:nvPr/>
        </p:nvPicPr>
        <p:blipFill>
          <a:blip r:embed="rId2"/>
          <a:stretch/>
        </p:blipFill>
        <p:spPr>
          <a:xfrm>
            <a:off x="1403280" y="4076640"/>
            <a:ext cx="2232000" cy="2089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3780000" y="4581360"/>
            <a:ext cx="50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Times New Roman"/>
              </a:rPr>
              <a:t>и.п. руки с полотном вверх мах, сойтись  в круг, образуют  « Парашют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4" descr="снежинка "/>
          <p:cNvPicPr/>
          <p:nvPr/>
        </p:nvPicPr>
        <p:blipFill>
          <a:blip r:embed="rId1"/>
          <a:stretch/>
        </p:blipFill>
        <p:spPr>
          <a:xfrm>
            <a:off x="138096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hd48qf"/>
          <p:cNvPicPr/>
          <p:nvPr/>
        </p:nvPicPr>
        <p:blipFill>
          <a:blip r:embed="rId2"/>
          <a:stretch/>
        </p:blipFill>
        <p:spPr>
          <a:xfrm>
            <a:off x="1332000" y="4221000"/>
            <a:ext cx="2232000" cy="2089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3780000" y="4581360"/>
            <a:ext cx="5040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Содержимое 9" descr="SAM_1381.JPG"/>
          <p:cNvPicPr/>
          <p:nvPr/>
        </p:nvPicPr>
        <p:blipFill>
          <a:blip r:embed="rId3"/>
          <a:stretch/>
        </p:blipFill>
        <p:spPr>
          <a:xfrm>
            <a:off x="4427640" y="155736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Роман\Desktop\SAM_1382.JPG"/>
          <p:cNvPicPr/>
          <p:nvPr/>
        </p:nvPicPr>
        <p:blipFill>
          <a:blip r:embed="rId4"/>
          <a:stretch/>
        </p:blipFill>
        <p:spPr>
          <a:xfrm>
            <a:off x="4500720" y="4005360"/>
            <a:ext cx="29178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 Крест» и.п. руки с полотном внизу  взмах вверх в паре, переход крест - накр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2920" y="3933360"/>
            <a:ext cx="40388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Цветок»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и.п. руки с полотном внизу, движение по кругу вправо ( влево) полотно крест - накре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3574872"/>
          <p:cNvPicPr/>
          <p:nvPr/>
        </p:nvPicPr>
        <p:blipFill>
          <a:blip r:embed="rId1"/>
          <a:stretch/>
        </p:blipFill>
        <p:spPr>
          <a:xfrm>
            <a:off x="4932360" y="1557360"/>
            <a:ext cx="2679840" cy="218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krest2"/>
          <p:cNvPicPr/>
          <p:nvPr/>
        </p:nvPicPr>
        <p:blipFill>
          <a:blip r:embed="rId2"/>
          <a:stretch/>
        </p:blipFill>
        <p:spPr>
          <a:xfrm>
            <a:off x="1763640" y="364500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5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Arial"/>
              </a:rPr>
              <a:t>Упражнения в движен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3574872"/>
          <p:cNvPicPr/>
          <p:nvPr/>
        </p:nvPicPr>
        <p:blipFill>
          <a:blip r:embed="rId1"/>
          <a:stretch/>
        </p:blipFill>
        <p:spPr>
          <a:xfrm>
            <a:off x="5003640" y="1600200"/>
            <a:ext cx="332748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krest2"/>
          <p:cNvPicPr/>
          <p:nvPr/>
        </p:nvPicPr>
        <p:blipFill>
          <a:blip r:embed="rId2"/>
          <a:stretch/>
        </p:blipFill>
        <p:spPr>
          <a:xfrm>
            <a:off x="1403280" y="422100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C:\Users\Роман\Desktop\SAM_1388.JPG"/>
          <p:cNvPicPr/>
          <p:nvPr/>
        </p:nvPicPr>
        <p:blipFill>
          <a:blip r:embed="rId3"/>
          <a:stretch/>
        </p:blipFill>
        <p:spPr>
          <a:xfrm>
            <a:off x="1042920" y="1628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Роман\Desktop\SAM_1386.JPG"/>
          <p:cNvPicPr/>
          <p:nvPr/>
        </p:nvPicPr>
        <p:blipFill>
          <a:blip r:embed="rId4"/>
          <a:stretch/>
        </p:blipFill>
        <p:spPr>
          <a:xfrm>
            <a:off x="5364000" y="414972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5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58:20Z</dcterms:created>
  <dc:creator>Лена</dc:creator>
  <dc:description/>
  <dc:language>en-US</dc:language>
  <cp:lastModifiedBy>Роман</cp:lastModifiedBy>
  <dcterms:modified xsi:type="dcterms:W3CDTF">2012-06-08T19:31:38Z</dcterms:modified>
  <cp:revision>35</cp:revision>
  <dc:subject/>
  <dc:title>Упражнения с полотном</dc:title>
</cp:coreProperties>
</file>