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ABBB85-089B-4EAA-8186-13913A8822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8ACAB-DEE4-474A-9F65-2A71E1AAD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823834-29CF-4541-8CB9-9BC2774912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CF6345-CCAE-408C-BB23-89684C06AA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028D0-E325-4340-9E38-D87C08965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422F4-6BCF-45B2-8D72-4A8F7C1C0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E2F1E-6A8E-4677-8134-7E0B4EA01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813F0-F1C1-4F83-B3AB-53909D4DD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37B73-F0E6-487B-BA5A-45147A9F4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9DA35-2F8A-4415-98C9-1C1237963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94208-A2C1-4345-9566-F0442E8B0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2876A-BC5C-4E7E-8BCA-B70D27D5FC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A2461-9D93-407E-831B-E313C1ACDF4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hristmas stories are important tools for spreading Christmas cheer. Actually it is said that Charles Dickens’ story, “A Christmas Carol”, saved Christmas as we know it today. When Charles Dickens wrote his story in the 18th century, the celebration of Xmas was on the wane. But Dickens used his story to describe Christmas as a time of joy, a time when people respect each other, and a time when everything is all right.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ople liked to hear this story, and in the following years, happy Christmas stories became more and more popular together with the decorated Christmas tree, Christmas gifts, and the overall Christmas spirit. If you like christmas stories, you can print and read the christmas stories from this pag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t>
            </a:r>
            <a:endParaRPr b="0" lang="en-US" sz="4400" spc="-1" strike="noStrike">
              <a:solidFill>
                <a:srgbClr val="000000"/>
              </a:solidFill>
              <a:latin typeface="Calibri"/>
            </a:endParaRPr>
          </a:p>
        </p:txBody>
      </p:sp>
      <p:pic>
        <p:nvPicPr>
          <p:cNvPr id="61" name="Содержимое 3" descr="old-santa.jpg"/>
          <p:cNvPicPr/>
          <p:nvPr/>
        </p:nvPicPr>
        <p:blipFill>
          <a:blip r:embed="rId1"/>
          <a:stretch/>
        </p:blipFill>
        <p:spPr>
          <a:xfrm>
            <a:off x="2050920" y="1052640"/>
            <a:ext cx="4229280" cy="5527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45" name="Рисунок 3" descr="christmas-story-1.jpg"/>
          <p:cNvPicPr/>
          <p:nvPr/>
        </p:nvPicPr>
        <p:blipFill>
          <a:blip r:embed="rId1"/>
          <a:stretch/>
        </p:blipFill>
        <p:spPr>
          <a:xfrm>
            <a:off x="266760" y="1357200"/>
            <a:ext cx="8877240" cy="4272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variations of the Christmas traditions of USA equal the number active cultures that have settled in the land. These cultural contributions were given a new lease of life by creative artists, authors, poets and songwriters, and it was melded together by the power of secular and commercialized media in record companies, radio stations, television, cinemas and now the internet. The unwritten law of media is the presentation of a seemingly uniform celebration of the Christmas traditions of USA. This is responsible for the world wide acceptance of a universal Christmas image which they get from the media. Nevertheless, the celebrations are peculiar to each region.</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t>
            </a:r>
            <a:endParaRPr b="0" lang="en-US" sz="4400" spc="-1" strike="noStrike">
              <a:solidFill>
                <a:srgbClr val="000000"/>
              </a:solidFill>
              <a:latin typeface="Calibri"/>
            </a:endParaRPr>
          </a:p>
        </p:txBody>
      </p:sp>
      <p:pic>
        <p:nvPicPr>
          <p:cNvPr id="49" name="Содержимое 3" descr="ChristmasOnMainStreet.JPG"/>
          <p:cNvPicPr/>
          <p:nvPr/>
        </p:nvPicPr>
        <p:blipFill>
          <a:blip r:embed="rId1"/>
          <a:stretch/>
        </p:blipFill>
        <p:spPr>
          <a:xfrm>
            <a:off x="1357200" y="1643040"/>
            <a:ext cx="6831000" cy="4786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t>
            </a:r>
            <a:endParaRPr b="0" lang="en-US" sz="4400" spc="-1" strike="noStrike">
              <a:solidFill>
                <a:srgbClr val="000000"/>
              </a:solidFill>
              <a:latin typeface="Calibri"/>
            </a:endParaRPr>
          </a:p>
        </p:txBody>
      </p:sp>
      <p:pic>
        <p:nvPicPr>
          <p:cNvPr id="51" name="Содержимое 3" descr="denver-downtown-xmas-lights-1-b.jpg"/>
          <p:cNvPicPr/>
          <p:nvPr/>
        </p:nvPicPr>
        <p:blipFill>
          <a:blip r:embed="rId1"/>
          <a:stretch/>
        </p:blipFill>
        <p:spPr>
          <a:xfrm>
            <a:off x="1116000" y="1916280"/>
            <a:ext cx="6775560" cy="4500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Calibri"/>
            </a:endParaRPr>
          </a:p>
        </p:txBody>
      </p:sp>
      <p:pic>
        <p:nvPicPr>
          <p:cNvPr id="53" name="Содержимое 3" descr="denver-downtown-xmas-lights-3-b.jpg"/>
          <p:cNvPicPr/>
          <p:nvPr/>
        </p:nvPicPr>
        <p:blipFill>
          <a:blip r:embed="rId1"/>
          <a:stretch/>
        </p:blipFill>
        <p:spPr>
          <a:xfrm>
            <a:off x="468360" y="981000"/>
            <a:ext cx="3709800" cy="5586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000000"/>
              </a:solidFill>
              <a:latin typeface="Calibri"/>
            </a:endParaRPr>
          </a:p>
        </p:txBody>
      </p:sp>
      <p:pic>
        <p:nvPicPr>
          <p:cNvPr id="55" name="Содержимое 3" descr="times_square.jpg"/>
          <p:cNvPicPr/>
          <p:nvPr/>
        </p:nvPicPr>
        <p:blipFill>
          <a:blip r:embed="rId1"/>
          <a:stretch/>
        </p:blipFill>
        <p:spPr>
          <a:xfrm>
            <a:off x="1214280" y="1643040"/>
            <a:ext cx="6429600" cy="4822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nta Clau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nta Claus was born in US in the 1860's he was named this as he had a white beard and a belly, so he was named Santa Claus as this was the Dutch word for St Nicholas, Sintaklaas. Although the Dutch had bought him with them in the 17th century, he did not become an important person at Christmas until the Novelist Washington Irving put him in a novel that he wrote in 1809. This first Santa Claus was still known as St. Nicholas, he did smoke a pipe, and fly around in a wagon without any reindeer, but he did not have his red suit or live at the North Pole, he did however bring presents to children every year.</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1863 He was given the name Santa Claus and bore the red suit, pipe, and his reindeer and sleigh.</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w Christmas celebrations vary greatly between regions of the United States, because of the variety of nationalities which have settled in i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nta</a:t>
            </a:r>
            <a:endParaRPr b="0" lang="en-US" sz="4400" spc="-1" strike="noStrike">
              <a:solidFill>
                <a:srgbClr val="000000"/>
              </a:solidFill>
              <a:latin typeface="Calibri"/>
            </a:endParaRPr>
          </a:p>
        </p:txBody>
      </p:sp>
      <p:pic>
        <p:nvPicPr>
          <p:cNvPr id="59" name="Содержимое 3" descr="santa-claus.jpg"/>
          <p:cNvPicPr/>
          <p:nvPr/>
        </p:nvPicPr>
        <p:blipFill>
          <a:blip r:embed="rId1"/>
          <a:stretch/>
        </p:blipFill>
        <p:spPr>
          <a:xfrm>
            <a:off x="2500200" y="1071720"/>
            <a:ext cx="3786480" cy="5608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3T18:29:48Z</dcterms:created>
  <dc:creator>Admin</dc:creator>
  <dc:description/>
  <dc:language>en-US</dc:language>
  <cp:lastModifiedBy>SteelRat</cp:lastModifiedBy>
  <dcterms:modified xsi:type="dcterms:W3CDTF">2009-12-21T19:45:09Z</dcterms:modified>
  <cp:revision>3</cp:revision>
  <dc:subject/>
  <dc:title>Слайд 1</dc:title>
</cp:coreProperties>
</file>