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933-D6F7-4491-9E45-4FE87196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4CF-B584-4878-AB70-CBBF39A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7EA-3070-4AEE-8C1A-7396F281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A4A-4CA3-4669-9E69-7239AC97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C3CE-B610-41B3-B318-796245D9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268A-8FC8-4E9C-A971-35250FED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390D-E210-4D3B-9251-72E216E6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8368-8472-47BD-93F6-36A27C7B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1894-55E3-44A8-894B-F6B305FF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B264-FC27-45F4-88F2-6D2D30B6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1EB3-CFC8-4F3F-9799-6F039946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AB6-C7AD-44BC-AB7A-18FF1D78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ABB0-AB92-4F84-82A0-94588CED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5978-A8AA-4F67-80BB-54C9F01E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6F2F-3382-4774-9336-B4757D5C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0DA7-65AF-47A9-824B-AC8BFDAA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398F-644E-419C-B906-C5041759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17C-BDB1-4080-97A3-4D56E123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A8F-C449-4E7C-BC78-C0F7852F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744-F645-4120-903B-C85231FD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253-F220-4353-AAC3-9EB22D6F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22B-E616-4CF7-826E-0C362308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121-BA06-4FF5-9B73-C80158B8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DE2-58AD-4975-A3F8-08460095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0981-1D1B-4F53-849F-8CDA7D1288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0748-3168-42BA-80DA-F6A527C0BC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а проекта: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Особый взгляд автора на войну в рассказе «Веселый солдат» В.П.Астафьева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полнит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зик Кристин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щаяся 10-г клас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БОУ СОШ № 2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.Г.Кучумов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русского языка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й категор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9" descr="Картинка 26 из 33781"/>
          <p:cNvPicPr/>
          <p:nvPr/>
        </p:nvPicPr>
        <p:blipFill>
          <a:blip r:embed="rId1"/>
          <a:stretch/>
        </p:blipFill>
        <p:spPr>
          <a:xfrm>
            <a:off x="1725480" y="2565360"/>
            <a:ext cx="2819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755640" y="2184120"/>
            <a:ext cx="668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ая группа образов – это те, кто равнодушен к солдату, защитнику Родины, человеку, готовому отдать за чужие жизни свою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Кадр №3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4427640" y="361008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21 из 244"/>
          <p:cNvPicPr/>
          <p:nvPr/>
        </p:nvPicPr>
        <p:blipFill>
          <a:blip r:embed="rId2"/>
          <a:stretch/>
        </p:blipFill>
        <p:spPr>
          <a:xfrm>
            <a:off x="179280" y="357336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71640" y="1844280"/>
            <a:ext cx="73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ая группа образов- это персонажи, сумевшие сохранить в себе человека. Их можно назвать героями только за то, что они не утратили на войне милосердия, сочувствия, честно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8" descr="Картинка 157 из 244"/>
          <p:cNvPicPr/>
          <p:nvPr/>
        </p:nvPicPr>
        <p:blipFill>
          <a:blip r:embed="rId1"/>
          <a:stretch/>
        </p:blipFill>
        <p:spPr>
          <a:xfrm>
            <a:off x="3995640" y="3357720"/>
            <a:ext cx="4859280" cy="32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Картинка 191 из 243"/>
          <p:cNvPicPr/>
          <p:nvPr/>
        </p:nvPicPr>
        <p:blipFill>
          <a:blip r:embed="rId2"/>
          <a:stretch/>
        </p:blipFill>
        <p:spPr>
          <a:xfrm>
            <a:off x="250920" y="3691080"/>
            <a:ext cx="3673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овизна Астафьева в изображении войны заключается в том, что автор не восхваляет русский народ, не показывает безмерное геройство на войне. Виктор Петрович оценивает всех по их собственным поступкам. Автора интересует, что определяет поведение человека на войне и  в мирной  жизни. Почему одни малодушничают, «предают» своих же солдат, губят их жизни, хотя должны были бы спасать, а другие, несмотря на все трудности, сохраняют благородство, человечность, достоинство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собенность авторской позиции в рассказе определяется тем, что рассказ не придуман, а основан на автобиографических факта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собый взгляд автора на войну потребовал от автора и нестандартного  построения произведения. Именно поэтому  мы встречаемся с кольцевой композицией- она как нельзя лучше показывает, что веселого в жизни солдата  было мало, скорее всего название звучит иронично, если не саркастическ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403280" y="1628640"/>
            <a:ext cx="74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выдвинутая нами гипотеза 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м, чт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а в изображении В. Астафьева – это не героическое явление, а страшная реальность, ставящая человека перед нравственным испытанием, подтвердила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8" descr="Картинка 108 из 243"/>
          <p:cNvPicPr/>
          <p:nvPr/>
        </p:nvPicPr>
        <p:blipFill>
          <a:blip r:embed="rId1"/>
          <a:stretch/>
        </p:blipFill>
        <p:spPr>
          <a:xfrm>
            <a:off x="4498920" y="3357720"/>
            <a:ext cx="4645080" cy="2417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Картинка 90 из 243"/>
          <p:cNvPicPr/>
          <p:nvPr/>
        </p:nvPicPr>
        <p:blipFill>
          <a:blip r:embed="rId2"/>
          <a:stretch/>
        </p:blipFill>
        <p:spPr>
          <a:xfrm>
            <a:off x="0" y="3357720"/>
            <a:ext cx="4356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403280" y="2565360"/>
            <a:ext cx="662472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исследовать, в чем новизна Астафьева в изображении войны на примере рассказа «Веселый солдат»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Война в изображении В. Астафьева – это не героическое явление, а страшная реальность, ставящая человека перед нравственным испытани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Выявить черты автобиографичности в рассказ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следовать, что для Астафьева является главным при изображении войн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Определить роль композиции произведения для выражения авторской пози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едмет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 человеческие отношения на войне в изображении В. Астафьев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 рассказ «Веселый солдат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Методы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анализ, сопоставление, классификац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Четырнадцатого сентября одна тысяча девятьсот сорок четвертого года я убил человека.Немца. Фашиста. На войн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Кадр №10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395280" y="242100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932360" y="2923560"/>
            <a:ext cx="39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сть «Веселый солдат» имеет особенную композицию- кольцеву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003640" y="35730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оминание об убийстве фашиста – это зачин и финал ром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04360" y="177264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ман состоит из двух частей: «Солдат лечится» и «Солдат женитс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9640" y="22759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ксический повтор в названиях частей также свидетельствует о их смысловой связи  и способствует усилению  эффекта кольцевой компози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Картинка 154 из 12529"/>
          <p:cNvPicPr/>
          <p:nvPr/>
        </p:nvPicPr>
        <p:blipFill>
          <a:blip r:embed="rId1"/>
          <a:stretch/>
        </p:blipFill>
        <p:spPr>
          <a:xfrm>
            <a:off x="0" y="350028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Кадр №2 Виктор Астафьев. Весёлый солдат"/>
          <p:cNvPicPr/>
          <p:nvPr/>
        </p:nvPicPr>
        <p:blipFill>
          <a:blip r:embed="rId2"/>
          <a:stretch/>
        </p:blipFill>
        <p:spPr>
          <a:xfrm>
            <a:off x="5003640" y="3500280"/>
            <a:ext cx="38512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47640" y="1700280"/>
            <a:ext cx="730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Четырнадцатого сентября одна тысяча девятьсот сорок четвертого я убил человека. Немца. Фашиста. На войне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 рефрен помогает проследить, как меняется отношение героя к людям и событиям на войн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Кадр №9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3780000" y="3429000"/>
            <a:ext cx="4495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116000" y="1773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вой части произведения предмет радости солдата – это первая любовь к санитарке Анечк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116000" y="27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ом радости во второй части становится  приход ве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8" descr="Картинка 106 из 294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Картинка 131 из 240"/>
          <p:cNvPicPr/>
          <p:nvPr/>
        </p:nvPicPr>
        <p:blipFill>
          <a:blip r:embed="rId2"/>
          <a:stretch/>
        </p:blipFill>
        <p:spPr>
          <a:xfrm>
            <a:off x="684360" y="3822840"/>
            <a:ext cx="4608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Кадр №10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5977080" y="1844640"/>
            <a:ext cx="3166920" cy="2016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900000" y="1915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а с немцем в первой части является для героя причиной задуматься над вопросом, зачем ему убивать такого же человека, как о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450792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торой части встреча с немцем- это пример человеколюбия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0" descr="Картинка 119 из 240"/>
          <p:cNvPicPr/>
          <p:nvPr/>
        </p:nvPicPr>
        <p:blipFill>
          <a:blip r:embed="rId2"/>
          <a:stretch/>
        </p:blipFill>
        <p:spPr>
          <a:xfrm>
            <a:off x="6443640" y="3933720"/>
            <a:ext cx="2449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4:42:42Z</dcterms:created>
  <dc:creator>XP GAME 2007</dc:creator>
  <dc:description/>
  <dc:language>en-US</dc:language>
  <cp:lastModifiedBy>1</cp:lastModifiedBy>
  <dcterms:modified xsi:type="dcterms:W3CDTF">2012-04-11T16:50:16Z</dcterms:modified>
  <cp:revision>4</cp:revision>
  <dc:subject/>
  <dc:title>Тема проекта:  «Особый взгляд автора на войну в рассказе «Веселый солдат» В.П.Астафьева»</dc:title>
</cp:coreProperties>
</file>