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B912-9754-421C-827F-B61FEFD9E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24A4-9A8A-4EA2-998D-3A9DAC34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BA39-33BD-4F3A-8974-93B5FA0F4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22BF-53C8-4D45-BEC3-F766F9CA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F0B4-9A49-44E3-A13A-5FE2EA959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7443-8043-41E4-92EF-3E7DC129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CD00-1F43-4BAD-8088-C181E5D1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A44A-83E3-4757-AAC6-80C40B68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635B-2778-4905-9557-1368470F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ECF7-A751-4E3D-B911-8DE78A1A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899E-7E9B-461E-886B-0FD11776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279D-7744-488A-9134-253DC150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7D1A-9B19-4328-83BE-49B13DED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54DC-2072-4D33-B476-E8EB0379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7BCB-3C5D-4034-95D8-D4307B31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7611-AA59-40EE-B795-BD31C05BE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FA99-6A45-4308-A5DD-9EA6AFD3E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218F-2337-40C2-97CB-319A26A9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DD5C-AAE4-49EF-ACB3-77F13D59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5FAC-5398-483B-A71E-9174A858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B69A-C9EB-4625-BD8A-F0FB64DE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E6D5-3952-4742-95F9-31C52EFF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851D-B494-426A-98CA-68E01763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B6FC-A418-4A76-97EE-DF74764D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0F73-9E39-45CA-A0C6-F15592EDF5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DCA7-6FE6-4666-AD59-4325549534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Тема проекта: 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«Особый взгляд автора на войну в рассказе «Веселый солдат» В.П.Астафьева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сполнитель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дзик Кристина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ащаяся 10-г класс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БОУ СОШ № 2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уководитель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.Г.Кучумова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итель русского языка 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итератур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шей категор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9" descr="Картинка 26 из 33781"/>
          <p:cNvPicPr/>
          <p:nvPr/>
        </p:nvPicPr>
        <p:blipFill>
          <a:blip r:embed="rId1"/>
          <a:stretch/>
        </p:blipFill>
        <p:spPr>
          <a:xfrm>
            <a:off x="1725480" y="2565360"/>
            <a:ext cx="28195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755640" y="2184120"/>
            <a:ext cx="668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вая группа образов – это те, кто равнодушен к солдату, защитнику Родины, человеку, готовому отдать за чужие жизни свою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6" descr="Кадр №3 Виктор Астафьев. Весёлый солдат"/>
          <p:cNvPicPr/>
          <p:nvPr/>
        </p:nvPicPr>
        <p:blipFill>
          <a:blip r:embed="rId1"/>
          <a:stretch/>
        </p:blipFill>
        <p:spPr>
          <a:xfrm>
            <a:off x="4427640" y="3610080"/>
            <a:ext cx="4495680" cy="3247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Картинка 121 из 244"/>
          <p:cNvPicPr/>
          <p:nvPr/>
        </p:nvPicPr>
        <p:blipFill>
          <a:blip r:embed="rId2"/>
          <a:stretch/>
        </p:blipFill>
        <p:spPr>
          <a:xfrm>
            <a:off x="179280" y="3573360"/>
            <a:ext cx="41036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971640" y="1844280"/>
            <a:ext cx="735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угая группа образов- это персонажи, сумевшие сохранить в себе человека. Их можно назвать героями только за то, что они не утратили на войне милосердия, сочувствия, честност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8" descr="Картинка 157 из 244"/>
          <p:cNvPicPr/>
          <p:nvPr/>
        </p:nvPicPr>
        <p:blipFill>
          <a:blip r:embed="rId1"/>
          <a:stretch/>
        </p:blipFill>
        <p:spPr>
          <a:xfrm>
            <a:off x="3995640" y="3357720"/>
            <a:ext cx="4859280" cy="3233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Картинка 191 из 243"/>
          <p:cNvPicPr/>
          <p:nvPr/>
        </p:nvPicPr>
        <p:blipFill>
          <a:blip r:embed="rId2"/>
          <a:stretch/>
        </p:blipFill>
        <p:spPr>
          <a:xfrm>
            <a:off x="250920" y="3691080"/>
            <a:ext cx="367344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вод: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Новизна Астафьева в изображении войны заключается в том, что автор не восхваляет русский народ, не показывает безмерное геройство на войне. Виктор Петрович оценивает всех по их собственным поступкам. Автора интересует, что определяет поведение человека на войне и  в мирной  жизни. Почему одни малодушничают, «предают» своих же солдат, губят их жизни, хотя должны были бы спасать, а другие, несмотря на все трудности, сохраняют благородство, человечность, достоинство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Особенность авторской позиции в рассказе определяется тем, что рассказ не придуман, а основан на автобиографических фактах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Особый взгляд автора на войну потребовал от автора и нестандартного  построения произведения. Именно поэтому  мы встречаемся с кольцевой композицией- она как нельзя лучше показывает, что веселого в жизни солдата  было мало, скорее всего название звучит иронично, если не саркастически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1403280" y="1628640"/>
            <a:ext cx="746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ким образом, выдвинутая нами гипотеза 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м, что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йна в изображении В. Астафьева – это не героическое явление, а страшная реальность, ставящая человека перед нравственным испытанием, подтвердилас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8" descr="Картинка 108 из 243"/>
          <p:cNvPicPr/>
          <p:nvPr/>
        </p:nvPicPr>
        <p:blipFill>
          <a:blip r:embed="rId1"/>
          <a:stretch/>
        </p:blipFill>
        <p:spPr>
          <a:xfrm>
            <a:off x="4498920" y="3357720"/>
            <a:ext cx="4645080" cy="2417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Картинка 90 из 243"/>
          <p:cNvPicPr/>
          <p:nvPr/>
        </p:nvPicPr>
        <p:blipFill>
          <a:blip r:embed="rId2"/>
          <a:stretch/>
        </p:blipFill>
        <p:spPr>
          <a:xfrm>
            <a:off x="0" y="3357720"/>
            <a:ext cx="435600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4"/>
          <p:cNvSpPr txBox="1"/>
          <p:nvPr/>
        </p:nvSpPr>
        <p:spPr>
          <a:xfrm>
            <a:off x="1403280" y="2565360"/>
            <a:ext cx="6624720" cy="131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Цель проекта: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исследовать, в чем новизна Астафьева в изображении войны на примере рассказа «Веселый солдат»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Гипотеза: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Война в изображении В. Астафьева – это не героическое явление, а страшная реальность, ставящая человека перед нравственным испытанием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Выявить черты автобиографичности в рассказ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Исследовать, что для Астафьева является главным при изображении войны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Определить роль композиции произведения для выражения авторской позиц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Предмет исследования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: человеческие отношения на войне в изображении В. Астафьев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Объект исследования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: рассказ «Веселый солдат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Методы: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анализ, сопоставление, классификация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Четырнадцатого сентября одна тысяча девятьсот сорок четвертого года я убил человека.Немца. Фашиста. На войн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»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5" descr="Кадр №10 Виктор Астафьев. Весёлый солдат"/>
          <p:cNvPicPr/>
          <p:nvPr/>
        </p:nvPicPr>
        <p:blipFill>
          <a:blip r:embed="rId1"/>
          <a:stretch/>
        </p:blipFill>
        <p:spPr>
          <a:xfrm>
            <a:off x="395280" y="2421000"/>
            <a:ext cx="3851280" cy="28893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4932360" y="2923560"/>
            <a:ext cx="396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есть «Веселый солдат» имеет особенную композицию- кольцевую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5003640" y="3573000"/>
            <a:ext cx="389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споминание об убийстве фашиста – это зачин и финал роман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504360" y="1772640"/>
            <a:ext cx="70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ман состоит из двух частей: «Солдат лечится» и «Солдат женится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539640" y="227592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ексический повтор в названиях частей также свидетельствует о их смысловой связи  и способствует усилению  эффекта кольцевой композиц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7" descr="Картинка 154 из 12529"/>
          <p:cNvPicPr/>
          <p:nvPr/>
        </p:nvPicPr>
        <p:blipFill>
          <a:blip r:embed="rId1"/>
          <a:stretch/>
        </p:blipFill>
        <p:spPr>
          <a:xfrm>
            <a:off x="0" y="3500280"/>
            <a:ext cx="4762440" cy="2857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Кадр №2 Виктор Астафьев. Весёлый солдат"/>
          <p:cNvPicPr/>
          <p:nvPr/>
        </p:nvPicPr>
        <p:blipFill>
          <a:blip r:embed="rId2"/>
          <a:stretch/>
        </p:blipFill>
        <p:spPr>
          <a:xfrm>
            <a:off x="5003640" y="3500280"/>
            <a:ext cx="385128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547640" y="1700280"/>
            <a:ext cx="730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Четырнадцатого сентября одна тысяча девятьсот сорок четвертого я убил человека. Немца. Фашиста. На войне»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т  рефрен помогает проследить, как меняется отношение героя к людям и событиям на войн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6" descr="Кадр №9 Виктор Астафьев. Весёлый солдат"/>
          <p:cNvPicPr/>
          <p:nvPr/>
        </p:nvPicPr>
        <p:blipFill>
          <a:blip r:embed="rId1"/>
          <a:stretch/>
        </p:blipFill>
        <p:spPr>
          <a:xfrm>
            <a:off x="3780000" y="3429000"/>
            <a:ext cx="449568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1116000" y="177300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первой части произведения предмет радости солдата – это первая любовь к санитарке Анечк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1116000" y="270792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мером радости во второй части становится  приход весн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8" descr="Картинка 106 из 294"/>
          <p:cNvPicPr/>
          <p:nvPr/>
        </p:nvPicPr>
        <p:blipFill>
          <a:blip r:embed="rId1"/>
          <a:stretch/>
        </p:blipFill>
        <p:spPr>
          <a:xfrm>
            <a:off x="5580000" y="1628640"/>
            <a:ext cx="3240000" cy="215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Картинка 131 из 240"/>
          <p:cNvPicPr/>
          <p:nvPr/>
        </p:nvPicPr>
        <p:blipFill>
          <a:blip r:embed="rId2"/>
          <a:stretch/>
        </p:blipFill>
        <p:spPr>
          <a:xfrm>
            <a:off x="684360" y="3822840"/>
            <a:ext cx="460836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Кадр №10 Виктор Астафьев. Весёлый солдат"/>
          <p:cNvPicPr/>
          <p:nvPr/>
        </p:nvPicPr>
        <p:blipFill>
          <a:blip r:embed="rId1"/>
          <a:stretch/>
        </p:blipFill>
        <p:spPr>
          <a:xfrm>
            <a:off x="5977080" y="1844640"/>
            <a:ext cx="3166920" cy="2016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900000" y="191592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треча с немцем в первой части является для героя причиной задуматься над вопросом, зачем ему убивать такого же человека, как он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0" y="4507920"/>
            <a:ext cx="64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 второй части встреча с немцем- это пример человеколюбия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10" descr="Картинка 119 из 240"/>
          <p:cNvPicPr/>
          <p:nvPr/>
        </p:nvPicPr>
        <p:blipFill>
          <a:blip r:embed="rId2"/>
          <a:stretch/>
        </p:blipFill>
        <p:spPr>
          <a:xfrm>
            <a:off x="6443640" y="3933720"/>
            <a:ext cx="24494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4:42:42Z</dcterms:created>
  <dc:creator>XP GAME 2007</dc:creator>
  <dc:description/>
  <dc:language>en-US</dc:language>
  <cp:lastModifiedBy>1</cp:lastModifiedBy>
  <dcterms:modified xsi:type="dcterms:W3CDTF">2012-04-11T16:50:16Z</dcterms:modified>
  <cp:revision>4</cp:revision>
  <dc:subject/>
  <dc:title>Тема проекта:  «Особый взгляд автора на войну в рассказе «Веселый солдат» В.П.Астафьева»</dc:title>
</cp:coreProperties>
</file>