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92B-C009-4D6A-A82F-B335DD21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894-065C-4767-A7DC-44F094D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4B6-24F6-4FF3-847B-0B2BC55B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629-4D72-461D-BE5A-44243CB4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C9A1-8B3C-4331-98A8-DD6DD568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B55B-8503-49A6-AFF9-8945AF5B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8D50-2B44-4ED4-AD5E-09AE0F2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FDBB-BC14-4719-BB50-538D89A5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8626-5B63-4E4F-9746-7EDC50C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F148-F82B-47C0-A974-D6A7E3A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23F-D606-4734-ABBB-467BE27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CC2-9FD6-4AE7-9397-60D937B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C98B-1247-441E-8EE0-B1D8C9E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FA83-C96C-4FB2-BD13-3E80CC2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5C8-B597-48E6-9076-4401E8C3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D1F2-081B-4063-B4FF-934E44CF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9AD-00C7-4051-8AF9-87F211D5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B51-EFE5-4DE6-BB71-6349BCCC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C6C-0974-4F1D-AA0D-DDF705A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BE4-3AC1-4918-9795-73EFD3D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311-8B1F-4E1E-82E9-4E42BBF0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7DD-E9AB-4774-988F-3C708B6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D00-63AF-4476-B76F-9FF856D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5E2-12BC-490D-864C-B30AE5C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1A2-5CF9-4188-B461-2BA67C3BAE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F2E-0464-44F2-8789-C1A6A8543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Особый взгляд автора на войну в рассказе «Веселый солдат» В.П.Астафьев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н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зик Кристин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аяся 10-г кла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 2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Г.Кучумов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Картинка 26 из 33781"/>
          <p:cNvPicPr/>
          <p:nvPr/>
        </p:nvPicPr>
        <p:blipFill>
          <a:blip r:embed="rId1"/>
          <a:stretch/>
        </p:blipFill>
        <p:spPr>
          <a:xfrm>
            <a:off x="1725480" y="2565360"/>
            <a:ext cx="2819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2184120"/>
            <a:ext cx="66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группа образов – это те, кто равнодушен к солдату, защитнику Родины, человеку, готовому отдать за чужие жизни сво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Кадр №3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4427640" y="361008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21 из 244"/>
          <p:cNvPicPr/>
          <p:nvPr/>
        </p:nvPicPr>
        <p:blipFill>
          <a:blip r:embed="rId2"/>
          <a:stretch/>
        </p:blipFill>
        <p:spPr>
          <a:xfrm>
            <a:off x="17928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1844280"/>
            <a:ext cx="73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ая группа образов- это персонажи, сумевшие сохранить в себе человека. Их можно назвать героями только за то, что они не утратили на войне милосердия, сочувствия, чест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Картинка 157 из 244"/>
          <p:cNvPicPr/>
          <p:nvPr/>
        </p:nvPicPr>
        <p:blipFill>
          <a:blip r:embed="rId1"/>
          <a:stretch/>
        </p:blipFill>
        <p:spPr>
          <a:xfrm>
            <a:off x="3995640" y="3357720"/>
            <a:ext cx="4859280" cy="32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Картинка 191 из 243"/>
          <p:cNvPicPr/>
          <p:nvPr/>
        </p:nvPicPr>
        <p:blipFill>
          <a:blip r:embed="rId2"/>
          <a:stretch/>
        </p:blipFill>
        <p:spPr>
          <a:xfrm>
            <a:off x="250920" y="3691080"/>
            <a:ext cx="3673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овизна Астафьева в изображении войны заключается в том, что автор не восхваляет русский народ, не показывает безмерное геройство на войне. Виктор Петрович оценивает всех по их собственным поступкам. Автора интересует, что определяет поведение человека на войне и  в мирной  жизни. Почему одни малодушничают, «предают» своих же солдат, губят их жизни, хотя должны были бы спасать, а другие, несмотря на все трудности, сохраняют благородство, человечность, достоинств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енность авторской позиции в рассказе определяется тем, что рассказ не придуман, а основан на автобиографических факта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ый взгляд автора на войну потребовал от автора и нестандартного  построения произведения. Именно поэтому  мы встречаемся с кольцевой композицией- она как нельзя лучше показывает, что веселого в жизни солдата  было мало, скорее всего название звучит иронично, если не саркастическ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403280" y="162864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в изображении В. Астафьева – это не героическое явление, а страшная реальность, ставящая человека перед нравственным испытанием, подтверд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Картинка 108 из 243"/>
          <p:cNvPicPr/>
          <p:nvPr/>
        </p:nvPicPr>
        <p:blipFill>
          <a:blip r:embed="rId1"/>
          <a:stretch/>
        </p:blipFill>
        <p:spPr>
          <a:xfrm>
            <a:off x="4498920" y="3357720"/>
            <a:ext cx="4645080" cy="241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Картинка 90 из 243"/>
          <p:cNvPicPr/>
          <p:nvPr/>
        </p:nvPicPr>
        <p:blipFill>
          <a:blip r:embed="rId2"/>
          <a:stretch/>
        </p:blipFill>
        <p:spPr>
          <a:xfrm>
            <a:off x="0" y="3357720"/>
            <a:ext cx="435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403280" y="2565360"/>
            <a:ext cx="66247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исследовать, в чем новизна Астафьева в изображении войны на примере рассказа «Веселый солдат»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Война в изображении В. Астафьева – это не героическое явление, а страшная реальность, ставящая человека перед нравственным испыта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ыявить черты автобиографичности в рассказ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следовать, что для Астафьева является главным при изображении вой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Определить роль композиции произведения для выражения авторской пози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едме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человеческие отношения на войне в изображении В. Астафье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рассказ «Веселый солдат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анализ, сопоставление, классификац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етырнадцатого сентября одна тысяча девятьсот сорок четвертого года я убил человека.Немца. Фашиста. На вой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95280" y="2421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932360" y="292356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сть «Веселый солдат» имеет особенную композицию- кольцев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003640" y="3573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оминание об убийстве фашиста – это зачин и финал ром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04360" y="17726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 состоит из двух частей: «Солдат лечится» и «Солдат женит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9640" y="2275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сический повтор в названиях частей также свидетельствует о их смысловой связи  и способствует усилению  эффекта кольцевой ком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Картинка 154 из 12529"/>
          <p:cNvPicPr/>
          <p:nvPr/>
        </p:nvPicPr>
        <p:blipFill>
          <a:blip r:embed="rId1"/>
          <a:stretch/>
        </p:blipFill>
        <p:spPr>
          <a:xfrm>
            <a:off x="0" y="350028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др №2 Виктор Астафьев. Весёлый солдат"/>
          <p:cNvPicPr/>
          <p:nvPr/>
        </p:nvPicPr>
        <p:blipFill>
          <a:blip r:embed="rId2"/>
          <a:stretch/>
        </p:blipFill>
        <p:spPr>
          <a:xfrm>
            <a:off x="5003640" y="3500280"/>
            <a:ext cx="38512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47640" y="1700280"/>
            <a:ext cx="730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Четырнадцатого сентября одна тысяча девятьсот сорок четвертого я убил человека. Немца. Фашиста. На войн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 рефрен помогает проследить, как меняется отношение героя к людям и событиям на войн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Кадр №9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780000" y="3429000"/>
            <a:ext cx="4495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16000" y="177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й части произведения предмет радости солдата – это первая любовь к санитарке Анеч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1600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ом радости во второй части становится  приход ве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Картинка 106 из 294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Картинка 131 из 240"/>
          <p:cNvPicPr/>
          <p:nvPr/>
        </p:nvPicPr>
        <p:blipFill>
          <a:blip r:embed="rId2"/>
          <a:stretch/>
        </p:blipFill>
        <p:spPr>
          <a:xfrm>
            <a:off x="684360" y="3822840"/>
            <a:ext cx="4608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5977080" y="184464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00000" y="1915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 с немцем в первой части является для героя причиной задуматься над вопросом, зачем ему убивать такого же человека, как о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5079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й части встреча с немцем- это пример человеколюбия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Картинка 119 из 240"/>
          <p:cNvPicPr/>
          <p:nvPr/>
        </p:nvPicPr>
        <p:blipFill>
          <a:blip r:embed="rId2"/>
          <a:stretch/>
        </p:blipFill>
        <p:spPr>
          <a:xfrm>
            <a:off x="6443640" y="3933720"/>
            <a:ext cx="244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2:42Z</dcterms:created>
  <dc:creator>XP GAME 2007</dc:creator>
  <dc:description/>
  <dc:language>en-US</dc:language>
  <cp:lastModifiedBy>1</cp:lastModifiedBy>
  <dcterms:modified xsi:type="dcterms:W3CDTF">2012-04-11T16:50:16Z</dcterms:modified>
  <cp:revision>4</cp:revision>
  <dc:subject/>
  <dc:title>Тема проекта:  «Особый взгляд автора на войну в рассказе «Веселый солдат» В.П.Астафьева»</dc:title>
</cp:coreProperties>
</file>