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724-CE54-422C-B693-BE9A6B2E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4CA-237D-41A9-B613-3F1B708F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2E4-E4B1-4D04-8E36-99C2BD83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9C9-91A4-40DA-B71F-680241B6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B2A1-7A0C-4C22-A0E0-55C45D49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5F69-0CDB-4186-B7BE-985455A6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D5F3-705A-430E-8135-E5B3A6A7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A380-FB27-44D6-B169-32BD71CA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7A09-2DCC-4AB8-9051-4F77608C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8CE-8D37-449A-9550-38A732C5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AD1A-E6D6-4F77-8159-0BFEE76F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178-4FFA-478E-A059-F88EE088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64C3-D552-4FD5-B035-FF0DD7CA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AD54-096F-4682-B5A0-C028401D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4A28-7DDE-4773-A1DF-C0B831D9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9FC3-6C02-40AF-B315-07CF1D54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64C4-E0FD-4C52-A249-6F4E115C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8D9-94AF-40B1-B7E2-4B54D0EC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79E-053F-41A0-A05B-939FC3A6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FD7-53D8-48E8-AF30-5D99C1B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3CA-79F8-48A3-9119-F7AF1E7A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2C9-FDCB-449F-8B2C-6A3B6F3A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769-362E-40D1-8260-9F414C8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398-055A-441F-A65D-2703F8A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7C33-B914-444A-A844-57B6F87414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4EA4-7BA2-493C-ADA5-B63BD27DCB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ема проекта: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Особый взгляд автора на войну в рассказе «Веселый солдат» В.П.Астафьева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полнит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зик Кристин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щаяся 10-г класс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БОУ СОШ № 2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оводитель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.Г.Кучумов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ь русского языка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терату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й категор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9" descr="Картинка 26 из 33781"/>
          <p:cNvPicPr/>
          <p:nvPr/>
        </p:nvPicPr>
        <p:blipFill>
          <a:blip r:embed="rId1"/>
          <a:stretch/>
        </p:blipFill>
        <p:spPr>
          <a:xfrm>
            <a:off x="1725480" y="2565360"/>
            <a:ext cx="28195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755640" y="2184120"/>
            <a:ext cx="668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ая группа образов – это те, кто равнодушен к солдату, защитнику Родины, человеку, готовому отдать за чужие жизни сво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6" descr="Кадр №3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4427640" y="361008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Картинка 121 из 244"/>
          <p:cNvPicPr/>
          <p:nvPr/>
        </p:nvPicPr>
        <p:blipFill>
          <a:blip r:embed="rId2"/>
          <a:stretch/>
        </p:blipFill>
        <p:spPr>
          <a:xfrm>
            <a:off x="179280" y="3573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971640" y="1844280"/>
            <a:ext cx="735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ая группа образов- это персонажи, сумевшие сохранить в себе человека. Их можно назвать героями только за то, что они не утратили на войне милосердия, сочувствия, честно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8" descr="Картинка 157 из 244"/>
          <p:cNvPicPr/>
          <p:nvPr/>
        </p:nvPicPr>
        <p:blipFill>
          <a:blip r:embed="rId1"/>
          <a:stretch/>
        </p:blipFill>
        <p:spPr>
          <a:xfrm>
            <a:off x="3995640" y="3357720"/>
            <a:ext cx="4859280" cy="32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Картинка 191 из 243"/>
          <p:cNvPicPr/>
          <p:nvPr/>
        </p:nvPicPr>
        <p:blipFill>
          <a:blip r:embed="rId2"/>
          <a:stretch/>
        </p:blipFill>
        <p:spPr>
          <a:xfrm>
            <a:off x="250920" y="3691080"/>
            <a:ext cx="3673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Новизна Астафьева в изображении войны заключается в том, что автор не восхваляет русский народ, не показывает безмерное геройство на войне. Виктор Петрович оценивает всех по их собственным поступкам. Автора интересует, что определяет поведение человека на войне и  в мирной  жизни. Почему одни малодушничают, «предают» своих же солдат, губят их жизни, хотя должны были бы спасать, а другие, несмотря на все трудности, сохраняют благородство, человечность, достоинство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обенность авторской позиции в рассказе определяется тем, что рассказ не придуман, а основан на автобиографических факта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собый взгляд автора на войну потребовал от автора и нестандартного  построения произведения. Именно поэтому  мы встречаемся с кольцевой композицией- она как нельзя лучше показывает, что веселого в жизни солдата  было мало, скорее всего название звучит иронично, если не саркастическ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403280" y="1628640"/>
            <a:ext cx="746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им образом, выдвинутая нами гипотеза 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м, чт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а в изображении В. Астафьева – это не героическое явление, а страшная реальность, ставящая человека перед нравственным испытанием, подтвердила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8" descr="Картинка 108 из 243"/>
          <p:cNvPicPr/>
          <p:nvPr/>
        </p:nvPicPr>
        <p:blipFill>
          <a:blip r:embed="rId1"/>
          <a:stretch/>
        </p:blipFill>
        <p:spPr>
          <a:xfrm>
            <a:off x="4498920" y="3357720"/>
            <a:ext cx="4645080" cy="2417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Картинка 90 из 243"/>
          <p:cNvPicPr/>
          <p:nvPr/>
        </p:nvPicPr>
        <p:blipFill>
          <a:blip r:embed="rId2"/>
          <a:stretch/>
        </p:blipFill>
        <p:spPr>
          <a:xfrm>
            <a:off x="0" y="3357720"/>
            <a:ext cx="4356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403280" y="2565360"/>
            <a:ext cx="6624720" cy="13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исследовать, в чем новизна Астафьева в изображении войны на примере рассказа «Веселый солдат»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Война в изображении В. Астафьева – это не героическое явление, а страшная реальность, ставящая человека перед нравственным испытани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Выявить черты автобиографичности в рассказ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сследовать, что для Астафьева является главным при изображении вой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Определить роль композиции произведения для выражения авторской пози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редмет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 человеческие отношения на войне в изображении В. Астафьев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: рассказ «Веселый солдат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Методы: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анализ, сопоставление, классификац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Четырнадцатого сентября одна тысяча девятьсот сорок четвертого года я убил человека.Немца. Фашиста. На войн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Кадр №10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395280" y="242100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932360" y="2923560"/>
            <a:ext cx="396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сть «Веселый солдат» имеет особенную композицию- кольцеву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003640" y="3573000"/>
            <a:ext cx="389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оминание об убийстве фашиста – это зачин и финал рома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04360" y="1772640"/>
            <a:ext cx="70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ман состоит из двух частей: «Солдат лечится» и «Солдат женитс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539640" y="22759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ксический повтор в названиях частей также свидетельствует о их смысловой связи  и способствует усилению  эффекта кольцевой компози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Картинка 154 из 12529"/>
          <p:cNvPicPr/>
          <p:nvPr/>
        </p:nvPicPr>
        <p:blipFill>
          <a:blip r:embed="rId1"/>
          <a:stretch/>
        </p:blipFill>
        <p:spPr>
          <a:xfrm>
            <a:off x="0" y="3500280"/>
            <a:ext cx="4762440" cy="285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Кадр №2 Виктор Астафьев. Весёлый солдат"/>
          <p:cNvPicPr/>
          <p:nvPr/>
        </p:nvPicPr>
        <p:blipFill>
          <a:blip r:embed="rId2"/>
          <a:stretch/>
        </p:blipFill>
        <p:spPr>
          <a:xfrm>
            <a:off x="5003640" y="3500280"/>
            <a:ext cx="385128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547640" y="1700280"/>
            <a:ext cx="730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Четырнадцатого сентября одна тысяча девятьсот сорок четвертого я убил человека. Немца. Фашиста. На войне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 рефрен помогает проследить, как меняется отношение героя к людям и событиям на войн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Кадр №9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3780000" y="3429000"/>
            <a:ext cx="4495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116000" y="177300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вой части произведения предмет радости солдата – это первая любовь к санитарке Анечк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116000" y="27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ром радости во второй части становится  приход вес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8" descr="Картинка 106 из 294"/>
          <p:cNvPicPr/>
          <p:nvPr/>
        </p:nvPicPr>
        <p:blipFill>
          <a:blip r:embed="rId1"/>
          <a:stretch/>
        </p:blipFill>
        <p:spPr>
          <a:xfrm>
            <a:off x="5580000" y="1628640"/>
            <a:ext cx="32400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Картинка 131 из 240"/>
          <p:cNvPicPr/>
          <p:nvPr/>
        </p:nvPicPr>
        <p:blipFill>
          <a:blip r:embed="rId2"/>
          <a:stretch/>
        </p:blipFill>
        <p:spPr>
          <a:xfrm>
            <a:off x="684360" y="3822840"/>
            <a:ext cx="460836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Кадр №10 Виктор Астафьев. Весёлый солдат"/>
          <p:cNvPicPr/>
          <p:nvPr/>
        </p:nvPicPr>
        <p:blipFill>
          <a:blip r:embed="rId1"/>
          <a:stretch/>
        </p:blipFill>
        <p:spPr>
          <a:xfrm>
            <a:off x="5977080" y="1844640"/>
            <a:ext cx="3166920" cy="2016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900000" y="191592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а с немцем в первой части является для героя причиной задуматься над вопросом, зачем ему убивать такого же человека, как о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4507920"/>
            <a:ext cx="64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торой части встреча с немцем- это пример человеколюбия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10" descr="Картинка 119 из 240"/>
          <p:cNvPicPr/>
          <p:nvPr/>
        </p:nvPicPr>
        <p:blipFill>
          <a:blip r:embed="rId2"/>
          <a:stretch/>
        </p:blipFill>
        <p:spPr>
          <a:xfrm>
            <a:off x="6443640" y="3933720"/>
            <a:ext cx="2449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4:42:42Z</dcterms:created>
  <dc:creator>XP GAME 2007</dc:creator>
  <dc:description/>
  <dc:language>en-US</dc:language>
  <cp:lastModifiedBy>1</cp:lastModifiedBy>
  <dcterms:modified xsi:type="dcterms:W3CDTF">2012-04-11T16:50:16Z</dcterms:modified>
  <cp:revision>4</cp:revision>
  <dc:subject/>
  <dc:title>Тема проекта:  «Особый взгляд автора на войну в рассказе «Веселый солдат» В.П.Астафьева»</dc:title>
</cp:coreProperties>
</file>