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A0B6-F195-4C27-B701-35F3E740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5996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703040"/>
            <a:ext cx="85996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B167-6960-4859-A9D4-271AE4AB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70304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000" y="470304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6652-FB81-459F-8C74-ED919EE1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960" y="210168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6320" y="210168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70304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960" y="470304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6320" y="470304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EB7-A27C-4FE3-A08B-3EBC916F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5996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5996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59968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1240" y="470304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5996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1AAF-4AF7-43E2-80E1-F56141A2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8000" y="470304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1240" y="4703040"/>
            <a:ext cx="85996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5996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1240" y="4703040"/>
            <a:ext cx="85996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1240" y="470304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8000" y="470304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8960" y="210168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6320" y="210168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1240" y="470304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8960" y="470304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56320" y="470304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5996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23D-0AE2-4B47-A9B4-80CF1E57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915-543D-4D69-B11D-31BE4A37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7AF3-856B-4EFE-BB47-7A0E3B1D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59968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BFE4-D10A-492B-B2B6-89829FC0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70304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799D-9753-4926-8C01-77C954D6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000" y="470304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93D-79DB-45AA-BE80-DD17EF16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703040"/>
            <a:ext cx="85996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830-8FB4-4587-9EBE-9ED2F5A4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E5F2A-24A3-444E-A25B-4F1509E83D42}" type="slidenum"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1240" y="2101680"/>
            <a:ext cx="85996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rammarmindmaps.com/wp-content/uploads/2011/05/Mind_Map_Prep_of_Place1.jpg" TargetMode="External"/><Relationship Id="rId2" Type="http://schemas.openxmlformats.org/officeDocument/2006/relationships/hyperlink" Target="http://osoznanie.org/uploads/posts/2011-07/1311071816_peyzazh-v-interere.jpg" TargetMode="External"/><Relationship Id="rId3" Type="http://schemas.openxmlformats.org/officeDocument/2006/relationships/hyperlink" Target="http://inetauto.ru/uploads/posts/2012-01/thumbs/1327952318_auto-009.jpg" TargetMode="External"/><Relationship Id="rId4" Type="http://schemas.openxmlformats.org/officeDocument/2006/relationships/hyperlink" Target="http://img0.liveinternet.ru/images/attach/b/0/22338/22338913_Okun.jpg" TargetMode="External"/><Relationship Id="rId5" Type="http://schemas.openxmlformats.org/officeDocument/2006/relationships/hyperlink" Target="http://i1.i.ua/prikol/pic/9/3/351339_337828.jpg" TargetMode="External"/><Relationship Id="rId6" Type="http://schemas.openxmlformats.org/officeDocument/2006/relationships/hyperlink" Target="http://hq-wallpapers.ru/wallpapers/5/hq-wallpapers_ru_nature_20327_1440x900.jpg" TargetMode="External"/><Relationship Id="rId7" Type="http://schemas.openxmlformats.org/officeDocument/2006/relationships/hyperlink" Target="http://pix.com.ua/db/landscapes/asia/india/b-71095.jpg" TargetMode="External"/><Relationship Id="rId8" Type="http://schemas.openxmlformats.org/officeDocument/2006/relationships/hyperlink" Target="http://900igr.net/data/kosmos-gorod-transport/Poezda.files/0008-028-Tonnel-i-most.jpg" TargetMode="External"/><Relationship Id="rId9" Type="http://schemas.openxmlformats.org/officeDocument/2006/relationships/hyperlink" Target="http://pics.livejournal.com/yesda/pic/00006hgb" TargetMode="External"/><Relationship Id="rId10" Type="http://schemas.openxmlformats.org/officeDocument/2006/relationships/hyperlink" Target="http://img.thesun.co.uk/multimedia/archive/00722/SNN3004A_682_722226a.jpg" TargetMode="External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561960"/>
            <a:ext cx="86076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Английские предлоги места (Prepositions of Place)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60360" y="1800360"/>
            <a:ext cx="93600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39440" y="1079640"/>
            <a:ext cx="3398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6000" spc="-1" strike="noStrike">
                <a:solidFill>
                  <a:srgbClr val="c5000b"/>
                </a:solidFill>
                <a:latin typeface="Arial"/>
              </a:rPr>
              <a:t>across</a:t>
            </a:r>
            <a:r>
              <a:rPr b="0" lang="fi-FI" sz="6000" spc="-1" strike="noStrike">
                <a:solidFill>
                  <a:srgbClr val="c5000b"/>
                </a:solidFill>
                <a:latin typeface="Arial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на другой сторо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или на другую сторону 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swim across the 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(плыть через ре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230720" y="2879640"/>
            <a:ext cx="5489640" cy="40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20360" y="1079280"/>
            <a:ext cx="428796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6000" spc="-1" strike="noStrike">
                <a:solidFill>
                  <a:srgbClr val="c90016"/>
                </a:solidFill>
                <a:latin typeface="Arial"/>
              </a:rPr>
              <a:t>through</a:t>
            </a:r>
            <a:r>
              <a:rPr b="1" lang="fi-FI" sz="2000" spc="-1" strike="noStrike">
                <a:solidFill>
                  <a:srgbClr val="c90016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проходить сквозь, входить с одной, а выходить с противоположной стороны чего-либо 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drive through the tunnel (проезжать через тонне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40360" y="3060720"/>
            <a:ext cx="4680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61960" y="1079280"/>
            <a:ext cx="3759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6000" spc="-1" strike="noStrike">
                <a:solidFill>
                  <a:srgbClr val="c90016"/>
                </a:solidFill>
                <a:latin typeface="Arial"/>
              </a:rPr>
              <a:t>to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в направлении кого-либо или чего-либо 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со словом bed (кров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go to school (идти в школ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go to London (ехать в Лондо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go to bed (ложиться сп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0000" y="234000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22320" y="1079640"/>
            <a:ext cx="447840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6000" spc="-1" strike="noStrike">
                <a:solidFill>
                  <a:srgbClr val="c90016"/>
                </a:solidFill>
                <a:latin typeface="Arial"/>
              </a:rPr>
              <a:t>into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движение внутрь чего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go into the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(войти в д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17880" y="2879640"/>
            <a:ext cx="5802480" cy="38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40880" y="1201680"/>
            <a:ext cx="4838760" cy="329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6000" spc="-1" strike="noStrike">
                <a:solidFill>
                  <a:srgbClr val="c90016"/>
                </a:solidFill>
                <a:latin typeface="Arial"/>
              </a:rPr>
              <a:t>from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ая точка, откуда-либо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 flower from the gar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цветок из са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9280" y="2879640"/>
            <a:ext cx="5643360" cy="41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333333"/>
                </a:solidFill>
                <a:latin typeface="Arial"/>
              </a:rPr>
              <a:t>Ресурсы: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0000" y="2160720"/>
            <a:ext cx="89996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grammarmindmaps.com/wp-content/uploads/2011/05/Mind_Map_Prep_of_Place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ttp://images.esellerpro.com/2149/I/289/7/medscale4458%20Grand%20Coupe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osoznanie.org/uploads/posts/2011-07/1311071816_peyzazh-v-interere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inetauto.ru/uploads/posts/2012-01/thumbs/1327952318_auto-009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img0.liveinternet.ru/images/attach/b/0/22338/22338913_Okun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i1.i.ua/prikol/pic/9/3/351339_337828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hq-wallpapers.ru/wallpapers/5/hq-wallpapers_ru_nature_20327_1440x90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pix.com.ua/db/landscapes/asia/india/b-71095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ttp://topok.com.ua/images/4/15089/sumka_ninel___s_1210_9_3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900igr.net/data/kosmos-gorod-transport/Poezda.files/0008-028-Tonnel-i-most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pics.livejournal.com/yesda/pic/00006hg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img.thesun.co.uk/multimedia/archive/00722/SNN3004A_682_722226a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ttp://img-2004-09.photosight.ru/28/631399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40880" y="1079640"/>
            <a:ext cx="41180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90016"/>
                </a:solidFill>
                <a:latin typeface="Arial"/>
              </a:rPr>
              <a:t>in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еделах какого-либо пространства, объекта или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in the kitchen (на кух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in London (в Лондо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in the book (в книг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in the car (в маши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in the world (в мир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00720" y="2879640"/>
            <a:ext cx="5175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80880" y="1079640"/>
            <a:ext cx="4119840" cy="57420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6000" spc="-1" strike="noStrike">
                <a:solidFill>
                  <a:srgbClr val="c90016"/>
                </a:solidFill>
                <a:latin typeface="Arial"/>
              </a:rPr>
              <a:t>at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нахождение (у чего-либо, в, при, на, за и т.п.). Также может означать близость объекта (рядом с, недалеко от, и т.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4046400"/>
            <a:ext cx="37800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at the station (на вокзал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at the table (за стол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at the party (на вечер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at the cinema (в кинотеатр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at the door (у двери, рядом с дверь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59280" y="3060720"/>
            <a:ext cx="485928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20720" y="1079280"/>
            <a:ext cx="429912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6000" spc="-1" strike="noStrike">
                <a:solidFill>
                  <a:srgbClr val="c90016"/>
                </a:solidFill>
                <a:latin typeface="Arial"/>
              </a:rPr>
              <a:t>on</a:t>
            </a:r>
            <a:r>
              <a:rPr b="0" lang="fi-FI" sz="6000" spc="-1" strike="noStrike">
                <a:solidFill>
                  <a:srgbClr val="c90016"/>
                </a:solidFill>
                <a:latin typeface="Arial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на какой-либо поверхности, на чем-либо 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для обозначения стороны (левая, правая)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на каком-либо этаже здания - со словами радио, телеви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4500720"/>
            <a:ext cx="37800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the picture on the wall (картина на сте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on the left (слева, на левой сторо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on the first floor (на первом этаж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on TV (по телевизор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40360" y="3060720"/>
            <a:ext cx="4680000" cy="40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360" y="720360"/>
            <a:ext cx="393876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6000" spc="-1" strike="noStrike">
                <a:solidFill>
                  <a:srgbClr val="c90016"/>
                </a:solidFill>
                <a:latin typeface="Arial"/>
              </a:rPr>
              <a:t>by, next to, beside</a:t>
            </a:r>
            <a:r>
              <a:rPr b="1" lang="fi-FI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333333"/>
                </a:solidFill>
                <a:latin typeface="Arial"/>
              </a:rPr>
              <a:t>- в непосредственной близости от кого-либо или чего-либо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0360" y="4680000"/>
            <a:ext cx="3929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Jane is standing by / next to / beside the car. (Джейн стоит рядом с машиной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0000" y="3240000"/>
            <a:ext cx="521964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41240" y="1079280"/>
            <a:ext cx="4119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6000" spc="-1" strike="noStrike">
                <a:solidFill>
                  <a:srgbClr val="c90016"/>
                </a:solidFill>
                <a:latin typeface="Arial"/>
              </a:rPr>
              <a:t>under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расположенный под чем-либо или ниже чего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60360" y="3600360"/>
            <a:ext cx="37800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the bag is under the table (сумка под стол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40360" y="2700360"/>
            <a:ext cx="4560840" cy="360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659640" y="4140360"/>
            <a:ext cx="143964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20360" y="1079280"/>
            <a:ext cx="321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6000" spc="-1" strike="noStrike">
                <a:solidFill>
                  <a:srgbClr val="c5000b"/>
                </a:solidFill>
                <a:latin typeface="Arial"/>
              </a:rPr>
              <a:t>over -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движение поверх чего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поверх и через что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00720" y="3060720"/>
            <a:ext cx="5219640" cy="39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00000" y="4319640"/>
            <a:ext cx="2700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fly over the ocean (лететь над океан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climb over the wall (перелезть через стен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20720" y="979200"/>
            <a:ext cx="324000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6000" spc="-1" strike="noStrike">
                <a:solidFill>
                  <a:srgbClr val="c90016"/>
                </a:solidFill>
                <a:latin typeface="Arial"/>
              </a:rPr>
              <a:t>below - 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расположенный ниже уровня чего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79640" y="3959280"/>
            <a:ext cx="32400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the fish are below the surface (рыба под вод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319640" y="2340000"/>
            <a:ext cx="540072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41240" y="1079640"/>
            <a:ext cx="537840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6000" spc="-1" strike="noStrike">
                <a:solidFill>
                  <a:srgbClr val="c90016"/>
                </a:solidFill>
                <a:latin typeface="Arial"/>
              </a:rPr>
              <a:t>above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выше чего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3780000"/>
            <a:ext cx="431964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a path above the l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(тропа над озер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00720" y="3419640"/>
            <a:ext cx="5219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16:05:58Z</dcterms:created>
  <dc:creator/>
  <dc:description/>
  <dc:language>en-US</dc:language>
  <cp:lastModifiedBy/>
  <cp:revision>1</cp:revision>
  <dc:subject/>
  <dc:title/>
</cp:coreProperties>
</file>