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AAC2-EBA1-4F85-8087-825E57BF5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5996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703040"/>
            <a:ext cx="85996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A521-2783-4C3D-A748-F152AFF3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65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65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703040"/>
            <a:ext cx="41965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8000" y="4703040"/>
            <a:ext cx="41965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C6B6-A7F1-4E83-BBD5-08ADABD2C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27687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8960" y="2101680"/>
            <a:ext cx="27687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6320" y="2101680"/>
            <a:ext cx="27687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703040"/>
            <a:ext cx="27687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8960" y="4703040"/>
            <a:ext cx="27687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6320" y="4703040"/>
            <a:ext cx="27687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4BB5-1938-485C-8446-2AC2FE72C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5996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5996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6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6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59968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65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6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1240" y="4703040"/>
            <a:ext cx="41965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5996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CD11-7187-47AE-ABC9-EA5EFF11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6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65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48000" y="4703040"/>
            <a:ext cx="41965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65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65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1240" y="4703040"/>
            <a:ext cx="85996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5996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1240" y="4703040"/>
            <a:ext cx="85996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65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65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1240" y="4703040"/>
            <a:ext cx="41965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48000" y="4703040"/>
            <a:ext cx="41965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27687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8960" y="2101680"/>
            <a:ext cx="27687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6320" y="2101680"/>
            <a:ext cx="27687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1240" y="4703040"/>
            <a:ext cx="27687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48960" y="4703040"/>
            <a:ext cx="27687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56320" y="4703040"/>
            <a:ext cx="27687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5996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6FE2-FCE7-4905-AD4A-9B02E37E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6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6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A595-44BD-4752-BFFB-EAEFFDB2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231F-460F-4185-8EDB-0DAFA13D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59968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2E1E-E9BD-4E8E-B1C7-9BCB5D20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65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6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703040"/>
            <a:ext cx="41965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B435-7C30-4CD7-A98B-969E0B19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65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65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8000" y="4703040"/>
            <a:ext cx="41965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2A23-1B66-4EFF-BA22-F4D64E1E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1965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8000" y="2101680"/>
            <a:ext cx="419652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703040"/>
            <a:ext cx="85996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345B-F7A2-4F9C-8B00-262EE05C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860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BCA53-A043-4351-B2B5-9113E6A28919}" type="slidenum"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5996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1240" y="2101680"/>
            <a:ext cx="85996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rammarmindmaps.com/wp-content/uploads/2011/05/Mind_Map_Prep_of_Place1.jpg" TargetMode="External"/><Relationship Id="rId2" Type="http://schemas.openxmlformats.org/officeDocument/2006/relationships/hyperlink" Target="http://osoznanie.org/uploads/posts/2011-07/1311071816_peyzazh-v-interere.jpg" TargetMode="External"/><Relationship Id="rId3" Type="http://schemas.openxmlformats.org/officeDocument/2006/relationships/hyperlink" Target="http://inetauto.ru/uploads/posts/2012-01/thumbs/1327952318_auto-009.jpg" TargetMode="External"/><Relationship Id="rId4" Type="http://schemas.openxmlformats.org/officeDocument/2006/relationships/hyperlink" Target="http://img0.liveinternet.ru/images/attach/b/0/22338/22338913_Okun.jpg" TargetMode="External"/><Relationship Id="rId5" Type="http://schemas.openxmlformats.org/officeDocument/2006/relationships/hyperlink" Target="http://i1.i.ua/prikol/pic/9/3/351339_337828.jpg" TargetMode="External"/><Relationship Id="rId6" Type="http://schemas.openxmlformats.org/officeDocument/2006/relationships/hyperlink" Target="http://hq-wallpapers.ru/wallpapers/5/hq-wallpapers_ru_nature_20327_1440x900.jpg" TargetMode="External"/><Relationship Id="rId7" Type="http://schemas.openxmlformats.org/officeDocument/2006/relationships/hyperlink" Target="http://pix.com.ua/db/landscapes/asia/india/b-71095.jpg" TargetMode="External"/><Relationship Id="rId8" Type="http://schemas.openxmlformats.org/officeDocument/2006/relationships/hyperlink" Target="http://900igr.net/data/kosmos-gorod-transport/Poezda.files/0008-028-Tonnel-i-most.jpg" TargetMode="External"/><Relationship Id="rId9" Type="http://schemas.openxmlformats.org/officeDocument/2006/relationships/hyperlink" Target="http://pics.livejournal.com/yesda/pic/00006hgb" TargetMode="External"/><Relationship Id="rId10" Type="http://schemas.openxmlformats.org/officeDocument/2006/relationships/hyperlink" Target="http://img.thesun.co.uk/multimedia/archive/00722/SNN3004A_682_722226a.jpg" TargetMode="External"/><Relationship Id="rId1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1240" y="561960"/>
            <a:ext cx="86076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Английские предлоги места (Prepositions of Place)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60360" y="1800360"/>
            <a:ext cx="936000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39440" y="1079640"/>
            <a:ext cx="339876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560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fi-FI" sz="6000" spc="-1" strike="noStrike">
                <a:solidFill>
                  <a:srgbClr val="c5000b"/>
                </a:solidFill>
                <a:latin typeface="Arial"/>
              </a:rPr>
              <a:t>across</a:t>
            </a:r>
            <a:r>
              <a:rPr b="0" lang="fi-FI" sz="6000" spc="-1" strike="noStrike">
                <a:solidFill>
                  <a:srgbClr val="c5000b"/>
                </a:solidFill>
                <a:latin typeface="Arial"/>
              </a:rPr>
              <a:t> 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560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на другой сторо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560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или на другую сторону 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560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560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560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560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swim across the 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560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(плыть через рек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230720" y="2879640"/>
            <a:ext cx="5489640" cy="40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20360" y="1079280"/>
            <a:ext cx="4287960" cy="377964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6115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560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fi-FI" sz="6000" spc="-1" strike="noStrike">
                <a:solidFill>
                  <a:srgbClr val="c90016"/>
                </a:solidFill>
                <a:latin typeface="Arial"/>
              </a:rPr>
              <a:t>through</a:t>
            </a:r>
            <a:r>
              <a:rPr b="1" lang="fi-FI" sz="2000" spc="-1" strike="noStrike">
                <a:solidFill>
                  <a:srgbClr val="c90016"/>
                </a:solidFill>
                <a:latin typeface="Arial"/>
              </a:rPr>
              <a:t>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6115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560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проходить сквозь, входить с одной, а выходить с противоположной стороны чего-либо 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6115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560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6115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560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6115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560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drive through the tunnel (проезжать через тоннел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40360" y="3060720"/>
            <a:ext cx="46800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61960" y="1079280"/>
            <a:ext cx="375912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611520"/>
                <a:tab algn="l" pos="4335480"/>
                <a:tab algn="l" pos="5059440"/>
                <a:tab algn="l" pos="5783400"/>
                <a:tab algn="l" pos="6507000"/>
                <a:tab algn="l" pos="7230960"/>
                <a:tab algn="l" pos="795492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fi-FI" sz="6000" spc="-1" strike="noStrike">
                <a:solidFill>
                  <a:srgbClr val="c90016"/>
                </a:solidFill>
                <a:latin typeface="Arial"/>
              </a:rPr>
              <a:t>to </a:t>
            </a: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в направлении кого-либо или чего-либо 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611520"/>
                <a:tab algn="l" pos="4335480"/>
                <a:tab algn="l" pos="5059440"/>
                <a:tab algn="l" pos="5783400"/>
                <a:tab algn="l" pos="6507000"/>
                <a:tab algn="l" pos="7230960"/>
                <a:tab algn="l" pos="795492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со словом bed (крова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611520"/>
                <a:tab algn="l" pos="4335480"/>
                <a:tab algn="l" pos="5059440"/>
                <a:tab algn="l" pos="5783400"/>
                <a:tab algn="l" pos="6507000"/>
                <a:tab algn="l" pos="7230960"/>
                <a:tab algn="l" pos="795492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611520"/>
                <a:tab algn="l" pos="4335480"/>
                <a:tab algn="l" pos="5059440"/>
                <a:tab algn="l" pos="5783400"/>
                <a:tab algn="l" pos="6507000"/>
                <a:tab algn="l" pos="7230960"/>
                <a:tab algn="l" pos="795492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611520"/>
                <a:tab algn="l" pos="4335480"/>
                <a:tab algn="l" pos="5059440"/>
                <a:tab algn="l" pos="5783400"/>
                <a:tab algn="l" pos="6507000"/>
                <a:tab algn="l" pos="7230960"/>
                <a:tab algn="l" pos="795492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611520"/>
                <a:tab algn="l" pos="4335480"/>
                <a:tab algn="l" pos="5059440"/>
                <a:tab algn="l" pos="5783400"/>
                <a:tab algn="l" pos="6507000"/>
                <a:tab algn="l" pos="7230960"/>
                <a:tab algn="l" pos="795492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go to school (идти в школ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611520"/>
                <a:tab algn="l" pos="4335480"/>
                <a:tab algn="l" pos="5059440"/>
                <a:tab algn="l" pos="5783400"/>
                <a:tab algn="l" pos="6507000"/>
                <a:tab algn="l" pos="7230960"/>
                <a:tab algn="l" pos="795492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go to London (ехать в Лондо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611520"/>
                <a:tab algn="l" pos="4335480"/>
                <a:tab algn="l" pos="5059440"/>
                <a:tab algn="l" pos="5783400"/>
                <a:tab algn="l" pos="6507000"/>
                <a:tab algn="l" pos="7230960"/>
                <a:tab algn="l" pos="795492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go to bed (ложиться спа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80000" y="2340000"/>
            <a:ext cx="468000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922320" y="1079640"/>
            <a:ext cx="447840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611520"/>
                <a:tab algn="l" pos="4335480"/>
                <a:tab algn="l" pos="5059440"/>
                <a:tab algn="l" pos="5783400"/>
                <a:tab algn="l" pos="6507000"/>
                <a:tab algn="l" pos="7230960"/>
                <a:tab algn="l" pos="795492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fi-FI" sz="6000" spc="-1" strike="noStrike">
                <a:solidFill>
                  <a:srgbClr val="c90016"/>
                </a:solidFill>
                <a:latin typeface="Arial"/>
              </a:rPr>
              <a:t>into </a:t>
            </a: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611520"/>
                <a:tab algn="l" pos="4335480"/>
                <a:tab algn="l" pos="5059440"/>
                <a:tab algn="l" pos="5783400"/>
                <a:tab algn="l" pos="6507000"/>
                <a:tab algn="l" pos="7230960"/>
                <a:tab algn="l" pos="795492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движение внутрь чего-либ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611520"/>
                <a:tab algn="l" pos="4335480"/>
                <a:tab algn="l" pos="5059440"/>
                <a:tab algn="l" pos="5783400"/>
                <a:tab algn="l" pos="6507000"/>
                <a:tab algn="l" pos="7230960"/>
                <a:tab algn="l" pos="795492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611520"/>
                <a:tab algn="l" pos="4335480"/>
                <a:tab algn="l" pos="5059440"/>
                <a:tab algn="l" pos="5783400"/>
                <a:tab algn="l" pos="6507000"/>
                <a:tab algn="l" pos="7230960"/>
                <a:tab algn="l" pos="795492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611520"/>
                <a:tab algn="l" pos="4335480"/>
                <a:tab algn="l" pos="5059440"/>
                <a:tab algn="l" pos="5783400"/>
                <a:tab algn="l" pos="6507000"/>
                <a:tab algn="l" pos="7230960"/>
                <a:tab algn="l" pos="795492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611520"/>
                <a:tab algn="l" pos="4335480"/>
                <a:tab algn="l" pos="5059440"/>
                <a:tab algn="l" pos="5783400"/>
                <a:tab algn="l" pos="6507000"/>
                <a:tab algn="l" pos="7230960"/>
                <a:tab algn="l" pos="795492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go into the 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611520"/>
                <a:tab algn="l" pos="4335480"/>
                <a:tab algn="l" pos="5059440"/>
                <a:tab algn="l" pos="5783400"/>
                <a:tab algn="l" pos="6507000"/>
                <a:tab algn="l" pos="7230960"/>
                <a:tab algn="l" pos="795492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(войти в д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17880" y="2879640"/>
            <a:ext cx="5802480" cy="38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740880" y="1201680"/>
            <a:ext cx="4838760" cy="3299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78760"/>
                <a:tab algn="l" pos="9428040"/>
                <a:tab algn="l" pos="987732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6000" spc="-1" strike="noStrike">
                <a:solidFill>
                  <a:srgbClr val="c90016"/>
                </a:solidFill>
                <a:latin typeface="Arial"/>
              </a:rPr>
              <a:t>from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78760"/>
                <a:tab algn="l" pos="9428040"/>
                <a:tab algn="l" pos="987732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ходная точка, откуда-либо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78760"/>
                <a:tab algn="l" pos="9428040"/>
                <a:tab algn="l" pos="987732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78760"/>
                <a:tab algn="l" pos="9428040"/>
                <a:tab algn="l" pos="987732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78760"/>
                <a:tab algn="l" pos="9428040"/>
                <a:tab algn="l" pos="987732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a flower from the gard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668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78760"/>
                <a:tab algn="l" pos="9428040"/>
                <a:tab algn="l" pos="987732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цветок из са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59280" y="2879640"/>
            <a:ext cx="5643360" cy="41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4400" spc="-1" strike="noStrike">
                <a:solidFill>
                  <a:srgbClr val="333333"/>
                </a:solidFill>
                <a:latin typeface="Arial"/>
              </a:rPr>
              <a:t>Ресурсы: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60000" y="2160720"/>
            <a:ext cx="89996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t">
            <a:normAutofit/>
          </a:bodyPr>
          <a:p>
            <a:pPr marL="423720" indent="-3189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372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grammarmindmaps.com/wp-content/uploads/2011/05/Mind_Map_Prep_of_Place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372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http://images.esellerpro.com/2149/I/289/7/medscale4458%20Grand%20Coupe.g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372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osoznanie.org/uploads/posts/2011-07/1311071816_peyzazh-v-interere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372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inetauto.ru/uploads/posts/2012-01/thumbs/1327952318_auto-009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372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img0.liveinternet.ru/images/attach/b/0/22338/22338913_Okun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372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i1.i.ua/prikol/pic/9/3/351339_337828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372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http://hq-wallpapers.ru/wallpapers/5/hq-wallpapers_ru_nature_20327_1440x900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372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http://pix.com.ua/db/landscapes/asia/india/b-71095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372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http://topok.com.ua/images/4/15089/sumka_ninel___s_1210_9_32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372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http://900igr.net/data/kosmos-gorod-transport/Poezda.files/0008-028-Tonnel-i-most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372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http://pics.livejournal.com/yesda/pic/00006hg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372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6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http://img.thesun.co.uk/multimedia/archive/00722/SNN3004A_682_722226a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2372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http://img-2004-09.photosight.ru/28/631399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buNone/>
              <a:tabLst>
                <a:tab algn="l" pos="0"/>
                <a:tab algn="l" pos="42372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buNone/>
              <a:tabLst>
                <a:tab algn="l" pos="0"/>
                <a:tab algn="l" pos="423720"/>
                <a:tab algn="l" pos="5284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40880" y="1079640"/>
            <a:ext cx="411804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c90016"/>
                </a:solidFill>
                <a:latin typeface="Arial"/>
              </a:rPr>
              <a:t>in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ределах какого-либо пространства, объекта или предм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in the kitchen (на кухн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in London (в Лондон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in the book (в книг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in the car (в машин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in the world (в мир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00720" y="2879640"/>
            <a:ext cx="517500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80880" y="1079640"/>
            <a:ext cx="4119840" cy="574200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6000" spc="-1" strike="noStrike">
                <a:solidFill>
                  <a:srgbClr val="c90016"/>
                </a:solidFill>
                <a:latin typeface="Arial"/>
              </a:rPr>
              <a:t>at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нахождение (у чего-либо, в, при, на, за и т.п.). Также может означать близость объекта (рядом с, недалеко от, и т.п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0720" y="4046400"/>
            <a:ext cx="378000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at the station (на вокзал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at the table (за стол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at the party (на вечер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at the cinema (в кинотеатр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at the door (у двери, рядом с дверью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859280" y="3060720"/>
            <a:ext cx="4859280" cy="37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20720" y="1079280"/>
            <a:ext cx="429912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6115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560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fi-FI" sz="6000" spc="-1" strike="noStrike">
                <a:solidFill>
                  <a:srgbClr val="c90016"/>
                </a:solidFill>
                <a:latin typeface="Arial"/>
              </a:rPr>
              <a:t>on</a:t>
            </a:r>
            <a:r>
              <a:rPr b="0" lang="fi-FI" sz="6000" spc="-1" strike="noStrike">
                <a:solidFill>
                  <a:srgbClr val="c90016"/>
                </a:solidFill>
                <a:latin typeface="Arial"/>
              </a:rPr>
              <a:t> 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на какой-либо поверхности, на чем-либо 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6115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560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для обозначения стороны (левая, правая)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6115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560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на каком-либо этаже здания - со словами радио, телеви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00000" y="4500720"/>
            <a:ext cx="378000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the picture on the wall (картина на стен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on the left (слева, на левой сторон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on the first floor (на первом этаж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on TV (по телевизор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040360" y="3060720"/>
            <a:ext cx="4680000" cy="40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0360" y="720360"/>
            <a:ext cx="393876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6000" spc="-1" strike="noStrike">
                <a:solidFill>
                  <a:srgbClr val="c90016"/>
                </a:solidFill>
                <a:latin typeface="Arial"/>
              </a:rPr>
              <a:t>by, next to, beside</a:t>
            </a:r>
            <a:r>
              <a:rPr b="1" lang="fi-FI" sz="4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fi-FI" sz="2000" spc="-1" strike="noStrike">
                <a:solidFill>
                  <a:srgbClr val="333333"/>
                </a:solidFill>
                <a:latin typeface="Arial"/>
              </a:rPr>
              <a:t>- в непосредственной близости от кого-либо или чего-либо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60360" y="4680000"/>
            <a:ext cx="3929040" cy="22003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Jane is standing by / next to / beside the car. (Джейн стоит рядом с машиной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0000" y="3240000"/>
            <a:ext cx="5219640" cy="37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41240" y="1079280"/>
            <a:ext cx="41198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6115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560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fi-FI" sz="6000" spc="-1" strike="noStrike">
                <a:solidFill>
                  <a:srgbClr val="c90016"/>
                </a:solidFill>
                <a:latin typeface="Arial"/>
              </a:rPr>
              <a:t>under </a:t>
            </a: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расположенный под чем-либо или ниже чего-либ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60360" y="3600360"/>
            <a:ext cx="37800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the bag is under the table (сумка под стол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040360" y="2700360"/>
            <a:ext cx="4560840" cy="3600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659640" y="4140360"/>
            <a:ext cx="1439640" cy="12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20360" y="1079280"/>
            <a:ext cx="321948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6000" spc="-1" strike="noStrike">
                <a:solidFill>
                  <a:srgbClr val="c5000b"/>
                </a:solidFill>
                <a:latin typeface="Arial"/>
              </a:rPr>
              <a:t>over -</a:t>
            </a: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движение поверх чего-либ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поверх и через что-либ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00720" y="3060720"/>
            <a:ext cx="5219640" cy="3959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00000" y="4319640"/>
            <a:ext cx="2700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fly over the ocean (лететь над океан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climb over the wall (перелезть через стен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20720" y="979200"/>
            <a:ext cx="324000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560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fi-FI" sz="6000" spc="-1" strike="noStrike">
                <a:solidFill>
                  <a:srgbClr val="c90016"/>
                </a:solidFill>
                <a:latin typeface="Arial"/>
              </a:rPr>
              <a:t>below - 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расположенный ниже уровня чего-либ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79640" y="3959280"/>
            <a:ext cx="324000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the fish are below the surface (рыба под водо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319640" y="2340000"/>
            <a:ext cx="5400720" cy="425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41240" y="1079640"/>
            <a:ext cx="537840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t">
            <a:normAutofit/>
          </a:bodyPr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611520"/>
                <a:tab algn="l" pos="4335480"/>
                <a:tab algn="l" pos="5059440"/>
                <a:tab algn="l" pos="5383080"/>
                <a:tab algn="l" pos="5832360"/>
                <a:tab algn="l" pos="6281640"/>
                <a:tab algn="l" pos="673560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fi-FI" sz="6000" spc="-1" strike="noStrike">
                <a:solidFill>
                  <a:srgbClr val="c90016"/>
                </a:solidFill>
                <a:latin typeface="Arial"/>
              </a:rPr>
              <a:t>above </a:t>
            </a: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716040"/>
                <a:tab algn="l" pos="1440000"/>
                <a:tab algn="l" pos="2163600"/>
                <a:tab algn="l" pos="2887560"/>
                <a:tab algn="l" pos="3611520"/>
                <a:tab algn="l" pos="4335480"/>
                <a:tab algn="l" pos="5059440"/>
                <a:tab algn="l" pos="5383080"/>
                <a:tab algn="l" pos="5832360"/>
                <a:tab algn="l" pos="6281640"/>
                <a:tab algn="l" pos="673560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426600"/>
                <a:tab algn="l" pos="9875880"/>
                <a:tab algn="l" pos="1032516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выше чего-либ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3780000"/>
            <a:ext cx="431964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- a path above the l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(тропа над озер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00720" y="3419640"/>
            <a:ext cx="5219640" cy="360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8T16:05:58Z</dcterms:created>
  <dc:creator/>
  <dc:description/>
  <dc:language>en-US</dc:language>
  <cp:lastModifiedBy/>
  <cp:revision>1</cp:revision>
  <dc:subject/>
  <dc:title/>
</cp:coreProperties>
</file>