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6A54-492A-4816-98C6-B59467756E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к слайду ): Какие числа записаны на первой строчке? (Обыкновенные дроб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дроби записаны на второй строчке? (Правильные и неправи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охарактеризовать дроби, записанные на третьей строчке? (Сократимые и несократимые, смешан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называются числа, записанные на четвёртой строчке? (Взаимно обрат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A1F5-BCC2-4B96-96CC-1D021632E1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6F76-C997-4E19-9D2E-230901CBC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3F7-240F-46E5-9A24-FBD31904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3F5-9405-4C2C-842C-4BD767DF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A2B-BFA0-4A1E-AF5D-8D282934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52F-5D61-46DB-8A75-6277B608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C76C-B32C-47BA-8A25-504A9841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11DF-2EDD-4948-82FF-D619048B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064F-9E55-47C5-AE81-53EE61DC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F0E2-2B3B-41F3-9787-765FAF8E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F72B-FDE9-4894-AA70-1F3F99F5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39AE-5E9E-4688-973C-657308E0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E642-E94C-4E3D-ACD4-CD2C89BA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8E5-BDCE-4459-B798-005E4B80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1FA6-7620-419E-9C8B-8B60C65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9EEC-F9B9-4655-A225-E92ACC64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8E83-BEAF-412C-801C-504324CA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1378-5109-4D99-8FF2-D246A699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6EEB-4EB0-4639-BC34-680AD29D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8C87-C365-4F77-8B73-B11133E6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2162-B914-40DB-9DA3-347A159F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B50A-6A20-49F2-8AFC-BCE7BDA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D309-C1F3-4F96-81D9-8FCADA0A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53B0-A0A5-4D5B-B06A-67630B2F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798-A46B-4DF3-9A74-36472C3C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A801-F818-451B-A796-93825D9C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5F27-F2B7-4644-A5B3-0868F245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66CE-4093-4D0C-8919-5179D60B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E85D-15DF-4A8C-A6B2-D9328501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BA6D-4610-4B78-A601-3E6BF3AA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860F8-A7F4-4308-9AB5-212FDE2F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6A51-D08D-4654-981C-0C6E2027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B4478-C316-4899-BE30-D8D70573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6AF1-B8A0-4AFD-9315-C9C4067A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649C-A874-414C-BC31-60B7051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9FC-219B-4E96-A593-C6816384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3D7FC-8EFA-436B-AB63-90BEB24A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5CBA5-4BAA-4F57-BB99-AF6E9A06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4CC8A-0F10-4DFD-B512-5A519A4F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B3BF-3307-402D-B56B-924E15DB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7A4F9-598C-44BE-AF45-4B8CB04F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E96E1-71D6-41A0-BBD6-C8B0C708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2786-849F-41F2-BA88-1CFF0D9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14131-7CF1-4A44-B968-D9AA285F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243DD-A1EC-4247-9AB7-B3FFB5FE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E87-66FA-4EC3-B5BE-4FBF5462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DFB-15E7-4CA1-BC8A-B69D649C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987-6854-4519-9928-F7D0BB07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E12-16BD-404A-BAD6-3DC1C0D9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405-DEB4-4C0A-A107-7346074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5506-9A25-49AF-95A4-EC7F1B335BC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E5EB-03D9-49A5-921B-82EC67D7279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BA95-B147-4715-AFB1-D0872068BBD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8BD4-7377-499F-9554-B71AB42B5F8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781200" y="938160"/>
            <a:ext cx="8319960" cy="1805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00120" y="4786200"/>
            <a:ext cx="6400800" cy="1043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 Unicode MS"/>
                <a:ea typeface="Arial Unicode MS"/>
              </a:rPr>
              <a:t>Учитель: Мацюк С.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2"/>
          <p:cNvSpPr/>
          <p:nvPr/>
        </p:nvSpPr>
        <p:spPr>
          <a:xfrm>
            <a:off x="1714680" y="4714920"/>
            <a:ext cx="5715000" cy="1359000"/>
          </a:xfrm>
          <a:prstGeom prst="cube">
            <a:avLst>
              <a:gd name="adj" fmla="val 7936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2143080" y="2786040"/>
            <a:ext cx="4857840" cy="2898720"/>
          </a:xfrm>
          <a:prstGeom prst="cube">
            <a:avLst>
              <a:gd name="adj" fmla="val 3302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AutoShape 4"/>
          <p:cNvGrpSpPr/>
          <p:nvPr/>
        </p:nvGrpSpPr>
        <p:grpSpPr>
          <a:xfrm>
            <a:off x="1676520" y="3981600"/>
            <a:ext cx="1268280" cy="468000"/>
            <a:chOff x="1676520" y="3981600"/>
            <a:chExt cx="1268280" cy="468000"/>
          </a:xfrm>
        </p:grpSpPr>
        <p:pic>
          <p:nvPicPr>
            <p:cNvPr id="311" name="AutoShape 4" descr=""/>
            <p:cNvPicPr/>
            <p:nvPr/>
          </p:nvPicPr>
          <p:blipFill>
            <a:blip r:embed="rId1"/>
            <a:stretch/>
          </p:blipFill>
          <p:spPr>
            <a:xfrm>
              <a:off x="1676520" y="3981600"/>
              <a:ext cx="126828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20678400">
              <a:off x="1974960" y="4132080"/>
              <a:ext cx="6188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Группа 2"/>
          <p:cNvGrpSpPr/>
          <p:nvPr/>
        </p:nvGrpSpPr>
        <p:grpSpPr>
          <a:xfrm>
            <a:off x="1714680" y="3071880"/>
            <a:ext cx="5715000" cy="3287520"/>
            <a:chOff x="1714680" y="3071880"/>
            <a:chExt cx="5715000" cy="3287520"/>
          </a:xfrm>
        </p:grpSpPr>
        <p:sp>
          <p:nvSpPr>
            <p:cNvPr id="314" name="AutoShape 2"/>
            <p:cNvSpPr/>
            <p:nvPr/>
          </p:nvSpPr>
          <p:spPr>
            <a:xfrm>
              <a:off x="1714680" y="5000760"/>
              <a:ext cx="5715000" cy="1358640"/>
            </a:xfrm>
            <a:prstGeom prst="cube">
              <a:avLst>
                <a:gd name="adj" fmla="val 79365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3"/>
            <p:cNvSpPr/>
            <p:nvPr/>
          </p:nvSpPr>
          <p:spPr>
            <a:xfrm>
              <a:off x="2143080" y="3071880"/>
              <a:ext cx="4857840" cy="2898720"/>
            </a:xfrm>
            <a:prstGeom prst="cube">
              <a:avLst>
                <a:gd name="adj" fmla="val 3302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Группа 11" descr=""/>
          <p:cNvPicPr/>
          <p:nvPr/>
        </p:nvPicPr>
        <p:blipFill>
          <a:blip r:embed="rId4"/>
          <a:stretch/>
        </p:blipFill>
        <p:spPr>
          <a:xfrm>
            <a:off x="2114640" y="792000"/>
            <a:ext cx="5359320" cy="359748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7"/>
          <p:cNvSpPr/>
          <p:nvPr/>
        </p:nvSpPr>
        <p:spPr>
          <a:xfrm>
            <a:off x="3143160" y="4357800"/>
            <a:ext cx="1785960" cy="1622160"/>
          </a:xfrm>
          <a:prstGeom prst="flowChartPredefinedProcess">
            <a:avLst/>
          </a:prstGeom>
          <a:solidFill>
            <a:srgbClr val="fab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000240" y="3143160"/>
            <a:ext cx="2000520" cy="1852560"/>
          </a:xfrm>
          <a:prstGeom prst="pie">
            <a:avLst/>
          </a:prstGeom>
          <a:solidFill>
            <a:srgbClr val="b8cc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90440" y="2000160"/>
                <a:ext cx="864864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6" descr=""/>
          <p:cNvPicPr/>
          <p:nvPr/>
        </p:nvPicPr>
        <p:blipFill>
          <a:blip r:embed="rId1"/>
          <a:stretch/>
        </p:blipFill>
        <p:spPr>
          <a:xfrm>
            <a:off x="1500120" y="1428840"/>
            <a:ext cx="6286680" cy="46004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2286000" y="428760"/>
            <a:ext cx="44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e6d"/>
                </a:solidFill>
                <a:latin typeface="Arial Narrow"/>
              </a:rPr>
              <a:t>Уст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Группа 13"/>
          <p:cNvGrpSpPr/>
          <p:nvPr/>
        </p:nvGrpSpPr>
        <p:grpSpPr>
          <a:xfrm>
            <a:off x="1657440" y="900000"/>
            <a:ext cx="5772240" cy="5459400"/>
            <a:chOff x="1657440" y="900000"/>
            <a:chExt cx="5772240" cy="5459400"/>
          </a:xfrm>
        </p:grpSpPr>
        <p:grpSp>
          <p:nvGrpSpPr>
            <p:cNvPr id="207" name="AutoShape 4"/>
            <p:cNvGrpSpPr/>
            <p:nvPr/>
          </p:nvGrpSpPr>
          <p:grpSpPr>
            <a:xfrm>
              <a:off x="1657440" y="4026600"/>
              <a:ext cx="1262520" cy="460080"/>
              <a:chOff x="1657440" y="4026600"/>
              <a:chExt cx="1262520" cy="460080"/>
            </a:xfrm>
          </p:grpSpPr>
          <p:pic>
            <p:nvPicPr>
              <p:cNvPr id="208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57440" y="4026600"/>
                <a:ext cx="126252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0678400">
                <a:off x="1954800" y="4174920"/>
                <a:ext cx="61596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Группа 2"/>
            <p:cNvGrpSpPr/>
            <p:nvPr/>
          </p:nvGrpSpPr>
          <p:grpSpPr>
            <a:xfrm>
              <a:off x="1694880" y="3135240"/>
              <a:ext cx="5690520" cy="3224160"/>
              <a:chOff x="1694880" y="3135240"/>
              <a:chExt cx="5690520" cy="3224160"/>
            </a:xfrm>
          </p:grpSpPr>
          <p:sp>
            <p:nvSpPr>
              <p:cNvPr id="211" name="AutoShape 2"/>
              <p:cNvSpPr/>
              <p:nvPr/>
            </p:nvSpPr>
            <p:spPr>
              <a:xfrm>
                <a:off x="1694880" y="5026680"/>
                <a:ext cx="5690520" cy="1332720"/>
              </a:xfrm>
              <a:prstGeom prst="cube">
                <a:avLst>
                  <a:gd name="adj" fmla="val 7936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3"/>
              <p:cNvSpPr/>
              <p:nvPr/>
            </p:nvSpPr>
            <p:spPr>
              <a:xfrm>
                <a:off x="2121480" y="3135240"/>
                <a:ext cx="4836960" cy="2842920"/>
              </a:xfrm>
              <a:prstGeom prst="cube">
                <a:avLst>
                  <a:gd name="adj" fmla="val 33023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3" name="Группа 11" descr=""/>
            <p:cNvPicPr/>
            <p:nvPr/>
          </p:nvPicPr>
          <p:blipFill>
            <a:blip r:embed="rId4"/>
            <a:stretch/>
          </p:blipFill>
          <p:spPr>
            <a:xfrm>
              <a:off x="2094480" y="900000"/>
              <a:ext cx="53352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AutoShape 7"/>
            <p:cNvSpPr/>
            <p:nvPr/>
          </p:nvSpPr>
          <p:spPr>
            <a:xfrm>
              <a:off x="3117600" y="4396320"/>
              <a:ext cx="1778040" cy="1590840"/>
            </a:xfrm>
            <a:prstGeom prst="flowChartPredefinedProcess">
              <a:avLst/>
            </a:prstGeom>
            <a:solidFill>
              <a:srgbClr val="fab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"/>
            <p:cNvSpPr/>
            <p:nvPr/>
          </p:nvSpPr>
          <p:spPr>
            <a:xfrm>
              <a:off x="2975400" y="3205440"/>
              <a:ext cx="1991520" cy="1816560"/>
            </a:xfrm>
            <a:prstGeom prst="pie">
              <a:avLst/>
            </a:prstGeom>
            <a:solidFill>
              <a:srgbClr val="b8cce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84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76a3"/>
                </a:solidFill>
                <a:latin typeface="Arial Narrow"/>
              </a:rPr>
              <a:t>Математический диктан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Содержимое 3"/>
              <p:cNvSpPr txBox="1"/>
              <p:nvPr/>
            </p:nvSpPr>
            <p:spPr>
              <a:xfrm>
                <a:off x="1584360" y="1285920"/>
                <a:ext cx="779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928800" y="2357280"/>
                <a:ext cx="21463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785880" y="3500280"/>
                <a:ext cx="2322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5429160" y="1428840"/>
                <a:ext cx="21718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5429160" y="2428920"/>
                <a:ext cx="21733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5214960" y="3643200"/>
                <a:ext cx="2921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5072040" y="4714920"/>
                <a:ext cx="26971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357120" y="4643280"/>
                <a:ext cx="28479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444600" y="5643720"/>
                <a:ext cx="27734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1"/>
              <p:cNvSpPr txBox="1"/>
              <p:nvPr/>
            </p:nvSpPr>
            <p:spPr>
              <a:xfrm>
                <a:off x="5143680" y="5643720"/>
                <a:ext cx="28461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TextBox 15"/>
          <p:cNvSpPr/>
          <p:nvPr/>
        </p:nvSpPr>
        <p:spPr>
          <a:xfrm>
            <a:off x="1365840" y="1000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 Narrow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5866560" y="10717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5395"/>
                </a:solidFill>
                <a:latin typeface="Arial Narrow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2"/>
              <p:cNvSpPr txBox="1"/>
              <p:nvPr/>
            </p:nvSpPr>
            <p:spPr>
              <a:xfrm>
                <a:off x="3143160" y="1357200"/>
                <a:ext cx="5540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3"/>
              <p:cNvSpPr txBox="1"/>
              <p:nvPr/>
            </p:nvSpPr>
            <p:spPr>
              <a:xfrm>
                <a:off x="3000240" y="2428920"/>
                <a:ext cx="679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4"/>
              <p:cNvSpPr txBox="1"/>
              <p:nvPr/>
            </p:nvSpPr>
            <p:spPr>
              <a:xfrm>
                <a:off x="3143160" y="3616200"/>
                <a:ext cx="5716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5"/>
              <p:cNvSpPr txBox="1"/>
              <p:nvPr/>
            </p:nvSpPr>
            <p:spPr>
              <a:xfrm>
                <a:off x="3286080" y="4857840"/>
                <a:ext cx="503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16"/>
              <p:cNvSpPr txBox="1"/>
              <p:nvPr/>
            </p:nvSpPr>
            <p:spPr>
              <a:xfrm>
                <a:off x="3214800" y="5929200"/>
                <a:ext cx="4698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7"/>
              <p:cNvSpPr txBox="1"/>
              <p:nvPr/>
            </p:nvSpPr>
            <p:spPr>
              <a:xfrm>
                <a:off x="7786800" y="1428840"/>
                <a:ext cx="822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8"/>
              <p:cNvSpPr txBox="1"/>
              <p:nvPr/>
            </p:nvSpPr>
            <p:spPr>
              <a:xfrm>
                <a:off x="7724880" y="2571840"/>
                <a:ext cx="776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9"/>
              <p:cNvSpPr txBox="1"/>
              <p:nvPr/>
            </p:nvSpPr>
            <p:spPr>
              <a:xfrm>
                <a:off x="8088480" y="3857760"/>
                <a:ext cx="50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0"/>
              <p:cNvSpPr txBox="1"/>
              <p:nvPr/>
            </p:nvSpPr>
            <p:spPr>
              <a:xfrm>
                <a:off x="8072280" y="4781520"/>
                <a:ext cx="439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21"/>
              <p:cNvSpPr txBox="1"/>
              <p:nvPr/>
            </p:nvSpPr>
            <p:spPr>
              <a:xfrm>
                <a:off x="7978680" y="5643720"/>
                <a:ext cx="630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3143160" y="3229920"/>
            <a:ext cx="25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2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нас в стране оши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частливчики жив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3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м правила не уч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ик не бер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2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м двоечки и трое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пальмами сидя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3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шибки собираю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ся не хот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3260880" cy="2643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6215040" y="2563920"/>
            <a:ext cx="2725920" cy="39290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4" descr=""/>
          <p:cNvPicPr/>
          <p:nvPr/>
        </p:nvPicPr>
        <p:blipFill>
          <a:blip r:embed="rId3"/>
          <a:stretch/>
        </p:blipFill>
        <p:spPr>
          <a:xfrm>
            <a:off x="5214960" y="642960"/>
            <a:ext cx="235728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"/>
          <p:cNvPicPr/>
          <p:nvPr/>
        </p:nvPicPr>
        <p:blipFill>
          <a:blip r:embed="rId4"/>
          <a:stretch/>
        </p:blipFill>
        <p:spPr>
          <a:xfrm>
            <a:off x="642960" y="3714840"/>
            <a:ext cx="214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b5395"/>
                </a:solidFill>
                <a:latin typeface="Arial Narrow"/>
              </a:rPr>
              <a:t>Найди ошибку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Содержимое 3"/>
              <p:cNvSpPr txBox="1"/>
              <p:nvPr/>
            </p:nvSpPr>
            <p:spPr>
              <a:xfrm>
                <a:off x="946080" y="1428840"/>
                <a:ext cx="26272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571680" y="3000240"/>
                <a:ext cx="31510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501480" y="4714920"/>
                <a:ext cx="35928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5"/>
              <p:cNvSpPr txBox="1"/>
              <p:nvPr/>
            </p:nvSpPr>
            <p:spPr>
              <a:xfrm>
                <a:off x="4371840" y="1500120"/>
                <a:ext cx="373536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6"/>
              <p:cNvSpPr txBox="1"/>
              <p:nvPr/>
            </p:nvSpPr>
            <p:spPr>
              <a:xfrm>
                <a:off x="4572000" y="2928960"/>
                <a:ext cx="33764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7"/>
              <p:cNvSpPr txBox="1"/>
              <p:nvPr/>
            </p:nvSpPr>
            <p:spPr>
              <a:xfrm>
                <a:off x="4786200" y="4637160"/>
                <a:ext cx="3222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1428840" y="4429080"/>
            <a:ext cx="6215040" cy="1359000"/>
          </a:xfrm>
          <a:prstGeom prst="cube">
            <a:avLst>
              <a:gd name="adj" fmla="val 7936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395280" y="333360"/>
            <a:ext cx="8424720" cy="581400"/>
          </a:xfrm>
          <a:prstGeom prst="rect">
            <a:avLst/>
          </a:prstGeom>
          <a:solidFill>
            <a:srgbClr val="c4e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Назовите число, обратное дан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2195640" y="1557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fbed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5435640" y="1484280"/>
            <a:ext cx="1440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99ff66"/>
              </a:gs>
            </a:gsLst>
            <a:lin ang="189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2556000" y="1628640"/>
            <a:ext cx="720720" cy="1039680"/>
            <a:chOff x="2556000" y="1628640"/>
            <a:chExt cx="720720" cy="1039680"/>
          </a:xfrm>
        </p:grpSpPr>
        <p:sp>
          <p:nvSpPr>
            <p:cNvPr id="256" name="Text Box 9"/>
            <p:cNvSpPr/>
            <p:nvPr/>
          </p:nvSpPr>
          <p:spPr>
            <a:xfrm>
              <a:off x="2556000" y="1628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0"/>
            <p:cNvSpPr/>
            <p:nvPr/>
          </p:nvSpPr>
          <p:spPr>
            <a:xfrm>
              <a:off x="2556000" y="2147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>
              <a:off x="2556000" y="2154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2"/>
          <p:cNvGrpSpPr/>
          <p:nvPr/>
        </p:nvGrpSpPr>
        <p:grpSpPr>
          <a:xfrm>
            <a:off x="5796000" y="1628640"/>
            <a:ext cx="720720" cy="1039680"/>
            <a:chOff x="5796000" y="1628640"/>
            <a:chExt cx="720720" cy="1039680"/>
          </a:xfrm>
        </p:grpSpPr>
        <p:sp>
          <p:nvSpPr>
            <p:cNvPr id="260" name="Text Box 13"/>
            <p:cNvSpPr/>
            <p:nvPr/>
          </p:nvSpPr>
          <p:spPr>
            <a:xfrm>
              <a:off x="5796000" y="1628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4"/>
            <p:cNvSpPr/>
            <p:nvPr/>
          </p:nvSpPr>
          <p:spPr>
            <a:xfrm>
              <a:off x="5796000" y="2147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>
              <a:off x="5796000" y="2154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16"/>
          <p:cNvSpPr/>
          <p:nvPr/>
        </p:nvSpPr>
        <p:spPr>
          <a:xfrm>
            <a:off x="2214720" y="27147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fbed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5435640" y="2781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c6f7"/>
              </a:gs>
              <a:gs pos="100000">
                <a:srgbClr val="99ff66"/>
              </a:gs>
            </a:gsLst>
            <a:lin ang="27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2195640" y="4005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fbed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5435640" y="4005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9aaf2"/>
              </a:gs>
              <a:gs pos="100000">
                <a:srgbClr val="99ff66"/>
              </a:gs>
            </a:gsLst>
            <a:lin ang="18900000"/>
          </a:gra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2195640" y="5229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fbed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>
            <a:off x="5435640" y="5229360"/>
            <a:ext cx="151272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9aaf2"/>
              </a:gs>
              <a:gs pos="100000">
                <a:srgbClr val="99ff66"/>
              </a:gs>
            </a:gsLst>
            <a:lin ang="2700000"/>
          </a:gra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2" descr="CRCTR027"/>
          <p:cNvPicPr/>
          <p:nvPr/>
        </p:nvPicPr>
        <p:blipFill>
          <a:blip r:embed="rId1"/>
          <a:stretch/>
        </p:blipFill>
        <p:spPr>
          <a:xfrm>
            <a:off x="324000" y="112536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4"/>
          <p:cNvGrpSpPr/>
          <p:nvPr/>
        </p:nvGrpSpPr>
        <p:grpSpPr>
          <a:xfrm>
            <a:off x="2556000" y="2852640"/>
            <a:ext cx="720720" cy="1039680"/>
            <a:chOff x="2556000" y="2852640"/>
            <a:chExt cx="720720" cy="1039680"/>
          </a:xfrm>
        </p:grpSpPr>
        <p:sp>
          <p:nvSpPr>
            <p:cNvPr id="272" name="Text Box 25"/>
            <p:cNvSpPr/>
            <p:nvPr/>
          </p:nvSpPr>
          <p:spPr>
            <a:xfrm>
              <a:off x="2556000" y="2852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6"/>
            <p:cNvSpPr/>
            <p:nvPr/>
          </p:nvSpPr>
          <p:spPr>
            <a:xfrm>
              <a:off x="2556000" y="3371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7"/>
            <p:cNvSpPr/>
            <p:nvPr/>
          </p:nvSpPr>
          <p:spPr>
            <a:xfrm>
              <a:off x="2556000" y="3378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28"/>
          <p:cNvGrpSpPr/>
          <p:nvPr/>
        </p:nvGrpSpPr>
        <p:grpSpPr>
          <a:xfrm>
            <a:off x="5867280" y="2852640"/>
            <a:ext cx="720720" cy="1039680"/>
            <a:chOff x="5867280" y="2852640"/>
            <a:chExt cx="720720" cy="1039680"/>
          </a:xfrm>
        </p:grpSpPr>
        <p:sp>
          <p:nvSpPr>
            <p:cNvPr id="276" name="Text Box 29"/>
            <p:cNvSpPr/>
            <p:nvPr/>
          </p:nvSpPr>
          <p:spPr>
            <a:xfrm>
              <a:off x="5867280" y="2852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30"/>
            <p:cNvSpPr/>
            <p:nvPr/>
          </p:nvSpPr>
          <p:spPr>
            <a:xfrm>
              <a:off x="5867280" y="3371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>
              <a:off x="5867280" y="3378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32"/>
          <p:cNvGrpSpPr/>
          <p:nvPr/>
        </p:nvGrpSpPr>
        <p:grpSpPr>
          <a:xfrm>
            <a:off x="2556000" y="4076640"/>
            <a:ext cx="720720" cy="1039680"/>
            <a:chOff x="2556000" y="4076640"/>
            <a:chExt cx="720720" cy="1039680"/>
          </a:xfrm>
        </p:grpSpPr>
        <p:sp>
          <p:nvSpPr>
            <p:cNvPr id="280" name="Text Box 33"/>
            <p:cNvSpPr/>
            <p:nvPr/>
          </p:nvSpPr>
          <p:spPr>
            <a:xfrm>
              <a:off x="2556000" y="4076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34"/>
            <p:cNvSpPr/>
            <p:nvPr/>
          </p:nvSpPr>
          <p:spPr>
            <a:xfrm>
              <a:off x="2556000" y="4595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35"/>
            <p:cNvSpPr/>
            <p:nvPr/>
          </p:nvSpPr>
          <p:spPr>
            <a:xfrm>
              <a:off x="2556000" y="4602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36"/>
          <p:cNvGrpSpPr/>
          <p:nvPr/>
        </p:nvGrpSpPr>
        <p:grpSpPr>
          <a:xfrm>
            <a:off x="5867280" y="4076640"/>
            <a:ext cx="720720" cy="1039680"/>
            <a:chOff x="5867280" y="4076640"/>
            <a:chExt cx="720720" cy="1039680"/>
          </a:xfrm>
        </p:grpSpPr>
        <p:sp>
          <p:nvSpPr>
            <p:cNvPr id="284" name="Text Box 37"/>
            <p:cNvSpPr/>
            <p:nvPr/>
          </p:nvSpPr>
          <p:spPr>
            <a:xfrm>
              <a:off x="5867280" y="4076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8"/>
            <p:cNvSpPr/>
            <p:nvPr/>
          </p:nvSpPr>
          <p:spPr>
            <a:xfrm>
              <a:off x="5867280" y="4595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39"/>
            <p:cNvSpPr/>
            <p:nvPr/>
          </p:nvSpPr>
          <p:spPr>
            <a:xfrm>
              <a:off x="5867280" y="4602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40"/>
          <p:cNvGrpSpPr/>
          <p:nvPr/>
        </p:nvGrpSpPr>
        <p:grpSpPr>
          <a:xfrm>
            <a:off x="2556000" y="5300640"/>
            <a:ext cx="720720" cy="1039680"/>
            <a:chOff x="2556000" y="5300640"/>
            <a:chExt cx="720720" cy="1039680"/>
          </a:xfrm>
        </p:grpSpPr>
        <p:sp>
          <p:nvSpPr>
            <p:cNvPr id="288" name="Text Box 41"/>
            <p:cNvSpPr/>
            <p:nvPr/>
          </p:nvSpPr>
          <p:spPr>
            <a:xfrm>
              <a:off x="2556000" y="5300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42"/>
            <p:cNvSpPr/>
            <p:nvPr/>
          </p:nvSpPr>
          <p:spPr>
            <a:xfrm>
              <a:off x="2556000" y="5819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43"/>
            <p:cNvSpPr/>
            <p:nvPr/>
          </p:nvSpPr>
          <p:spPr>
            <a:xfrm>
              <a:off x="2556000" y="5826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44"/>
          <p:cNvGrpSpPr/>
          <p:nvPr/>
        </p:nvGrpSpPr>
        <p:grpSpPr>
          <a:xfrm>
            <a:off x="5867280" y="5300640"/>
            <a:ext cx="720720" cy="1039680"/>
            <a:chOff x="5867280" y="5300640"/>
            <a:chExt cx="720720" cy="1039680"/>
          </a:xfrm>
        </p:grpSpPr>
        <p:sp>
          <p:nvSpPr>
            <p:cNvPr id="292" name="Text Box 45"/>
            <p:cNvSpPr/>
            <p:nvPr/>
          </p:nvSpPr>
          <p:spPr>
            <a:xfrm>
              <a:off x="5867280" y="53006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6"/>
            <p:cNvSpPr/>
            <p:nvPr/>
          </p:nvSpPr>
          <p:spPr>
            <a:xfrm>
              <a:off x="5867280" y="58197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7"/>
            <p:cNvSpPr/>
            <p:nvPr/>
          </p:nvSpPr>
          <p:spPr>
            <a:xfrm>
              <a:off x="5867280" y="582624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61"/>
          <p:cNvSpPr/>
          <p:nvPr/>
        </p:nvSpPr>
        <p:spPr>
          <a:xfrm>
            <a:off x="3187800" y="1889280"/>
            <a:ext cx="2539800" cy="4935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62"/>
          <p:cNvSpPr/>
          <p:nvPr/>
        </p:nvSpPr>
        <p:spPr>
          <a:xfrm>
            <a:off x="3247920" y="1913040"/>
            <a:ext cx="2479680" cy="49356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85840" y="1356840"/>
            <a:ext cx="85723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e6d"/>
                </a:solidFill>
                <a:latin typeface="Constantia"/>
              </a:rPr>
              <a:t>Являются ли взаимно обратными дроб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e6d"/>
                </a:solidFill>
                <a:latin typeface="Constantia"/>
              </a:rPr>
              <a:t>Найдите  число,  обратное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357120" y="5072040"/>
                <a:ext cx="84042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,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,4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642960" y="2286000"/>
                <a:ext cx="12430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8"/>
              <p:cNvSpPr txBox="1"/>
              <p:nvPr/>
            </p:nvSpPr>
            <p:spPr>
              <a:xfrm>
                <a:off x="2143080" y="2500200"/>
                <a:ext cx="1500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9"/>
              <p:cNvSpPr txBox="1"/>
              <p:nvPr/>
            </p:nvSpPr>
            <p:spPr>
              <a:xfrm>
                <a:off x="6000840" y="2214720"/>
                <a:ext cx="15573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4000680" y="2214720"/>
                <a:ext cx="13683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4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6313320" y="3857760"/>
                <a:ext cx="123372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355680" y="4071960"/>
                <a:ext cx="2119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3"/>
              <p:cNvSpPr txBox="1"/>
              <p:nvPr/>
            </p:nvSpPr>
            <p:spPr>
              <a:xfrm>
                <a:off x="4537080" y="4000680"/>
                <a:ext cx="1571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0,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14"/>
              <p:cNvSpPr txBox="1"/>
              <p:nvPr/>
            </p:nvSpPr>
            <p:spPr>
              <a:xfrm>
                <a:off x="2427120" y="3929040"/>
                <a:ext cx="2146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1:38:32Z</dcterms:created>
  <dc:creator>Admin</dc:creator>
  <dc:description/>
  <dc:language>en-US</dc:language>
  <cp:lastModifiedBy>Admin</cp:lastModifiedBy>
  <dcterms:modified xsi:type="dcterms:W3CDTF">2010-12-05T14:24:21Z</dcterms:modified>
  <cp:revision>36</cp:revision>
  <dc:subject/>
  <dc:title> </dc:title>
</cp:coreProperties>
</file>