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400B-D5BA-48F2-BC66-AB6F26426A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слайду ): Какие числа записаны на первой строчке? (Обыкновенные дроб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роби записаны на второй строчке? (Правильные и неправи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охарактеризовать дроби, записанные на третьей строчке? (Сократимые и несократимые, смешан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ся числа, записанные на четвёртой строчке? (Взаимно обрат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55A1-A981-414F-83A4-0DADDE284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95A4-A471-41AB-A529-CAFEEFD1CD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A66-45F2-45EE-A55B-4E6E7F4A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800-FDE8-492F-932A-B612CF24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7D4-1AAD-403B-922C-210EB3C4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3DB-49F1-44B5-84CD-060D603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11D9-E61C-4A4D-8E3D-A5281E43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4364-5AED-4346-BFD2-294698C2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1ED-9F26-4CBF-913C-4D41567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B1A-3414-4532-8798-BB082BF6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EC16-41D0-4883-8769-C2B0F446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E13F-E7F2-447C-A52D-9721A650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973E-5310-41C3-9366-A691742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019-B80C-461A-83EB-197F5F61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BCF-3541-4168-8F04-6A0B463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3BA-2086-4F86-B8C6-188C391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CF98-CF89-4944-869B-05AB2BF5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0657-5CF6-4682-BB74-5432900C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0935-8D20-4CF6-ADAE-9CF41C14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5262-F224-4E2F-B515-9EE3A46D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64AA-7D3F-454A-98D5-9EB08A1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8CA8-04EE-441D-83EB-5B4EF6F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4ABA6-B2A0-49C2-830E-BEE7E17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56EF-2D13-499A-BADC-B6D29DC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7BC-55E2-43C8-ACC2-B826620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FBC1-B207-489E-956F-1B4F3BC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AA0E-DB10-47AD-826E-E968403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F6D3-0957-45D3-9738-B4AF6AC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ECF0-5D39-4355-9C92-E98EA832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95D0-50E4-49D2-843B-7F44FAEB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26E0-F784-44BF-81F8-B28E70AF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4D10-4840-44B5-8631-14052ED8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9643-655F-4159-890E-D3896C2E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63A0-EAD4-4B1D-9F56-A1F41DB2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C236-849E-4A1C-8859-62CEC8A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0EA-A415-4FA6-9D7C-5DF0371D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0E58-6D7F-4400-B255-075BEF8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997B-8231-4079-A2C5-30839C2C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2C651-24E8-41C6-9712-3091F5E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9F02-1DCD-4558-8F48-0BADD73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958F-8EFE-43B3-80A6-4077DBC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3EB8-7EF2-4A4A-AFB9-293C536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0313-D5D7-492C-8D30-FA3DE58E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C2C6-5FB9-4DCF-9F1B-9E9D9940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28EF-5813-4E2F-98AD-AFA15ACF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E50-190D-4787-8328-C6E13B10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1A2-BACB-426B-8BC5-5A50621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F89-1314-43EB-88B7-48ABFAB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E3C-E209-4049-8F1E-88292E0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AC7-93CE-486A-A89A-DC3B9E3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39C5-74B8-4764-9829-C88AAA17C3A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3CB-08BE-48F4-9D65-11B9D921E52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A22F-8592-4D80-BC1C-2028E973E33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DA6-2859-4696-976D-63A973FB4DE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81200" y="938160"/>
            <a:ext cx="8319960" cy="1805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00120" y="4786200"/>
            <a:ext cx="6400800" cy="104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 Unicode MS"/>
                <a:ea typeface="Arial Unicode MS"/>
              </a:rPr>
              <a:t>Учитель: Мацюк С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1714680" y="4714920"/>
            <a:ext cx="5715000" cy="1359000"/>
          </a:xfrm>
          <a:prstGeom prst="cube">
            <a:avLst>
              <a:gd name="adj" fmla="val 793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143080" y="2786040"/>
            <a:ext cx="4857840" cy="2898720"/>
          </a:xfrm>
          <a:prstGeom prst="cube">
            <a:avLst>
              <a:gd name="adj" fmla="val 3302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AutoShape 4"/>
          <p:cNvGrpSpPr/>
          <p:nvPr/>
        </p:nvGrpSpPr>
        <p:grpSpPr>
          <a:xfrm>
            <a:off x="1676520" y="3981600"/>
            <a:ext cx="1268280" cy="468000"/>
            <a:chOff x="1676520" y="3981600"/>
            <a:chExt cx="1268280" cy="468000"/>
          </a:xfrm>
        </p:grpSpPr>
        <p:pic>
          <p:nvPicPr>
            <p:cNvPr id="311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3981600"/>
              <a:ext cx="126828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20678400">
              <a:off x="1974960" y="4132080"/>
              <a:ext cx="6188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2"/>
          <p:cNvGrpSpPr/>
          <p:nvPr/>
        </p:nvGrpSpPr>
        <p:grpSpPr>
          <a:xfrm>
            <a:off x="1714680" y="3071880"/>
            <a:ext cx="5715000" cy="3287520"/>
            <a:chOff x="1714680" y="3071880"/>
            <a:chExt cx="5715000" cy="3287520"/>
          </a:xfrm>
        </p:grpSpPr>
        <p:sp>
          <p:nvSpPr>
            <p:cNvPr id="314" name="AutoShape 2"/>
            <p:cNvSpPr/>
            <p:nvPr/>
          </p:nvSpPr>
          <p:spPr>
            <a:xfrm>
              <a:off x="1714680" y="5000760"/>
              <a:ext cx="5715000" cy="1358640"/>
            </a:xfrm>
            <a:prstGeom prst="cube">
              <a:avLst>
                <a:gd name="adj" fmla="val 7936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3"/>
            <p:cNvSpPr/>
            <p:nvPr/>
          </p:nvSpPr>
          <p:spPr>
            <a:xfrm>
              <a:off x="2143080" y="3071880"/>
              <a:ext cx="4857840" cy="2898720"/>
            </a:xfrm>
            <a:prstGeom prst="cube">
              <a:avLst>
                <a:gd name="adj" fmla="val 3302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Группа 11" descr=""/>
          <p:cNvPicPr/>
          <p:nvPr/>
        </p:nvPicPr>
        <p:blipFill>
          <a:blip r:embed="rId4"/>
          <a:stretch/>
        </p:blipFill>
        <p:spPr>
          <a:xfrm>
            <a:off x="2114640" y="792000"/>
            <a:ext cx="5359320" cy="359748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7"/>
          <p:cNvSpPr/>
          <p:nvPr/>
        </p:nvSpPr>
        <p:spPr>
          <a:xfrm>
            <a:off x="3143160" y="4357800"/>
            <a:ext cx="1785960" cy="1622160"/>
          </a:xfrm>
          <a:prstGeom prst="flowChartPredefinedProcess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000240" y="3143160"/>
            <a:ext cx="2000520" cy="1852560"/>
          </a:xfrm>
          <a:prstGeom prst="pie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90440" y="2000160"/>
                <a:ext cx="86486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6" descr=""/>
          <p:cNvPicPr/>
          <p:nvPr/>
        </p:nvPicPr>
        <p:blipFill>
          <a:blip r:embed="rId1"/>
          <a:stretch/>
        </p:blipFill>
        <p:spPr>
          <a:xfrm>
            <a:off x="1500120" y="1428840"/>
            <a:ext cx="6286680" cy="4600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286000" y="42876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e6d"/>
                </a:solidFill>
                <a:latin typeface="Arial Narrow"/>
              </a:rPr>
              <a:t>Уст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Группа 13"/>
          <p:cNvGrpSpPr/>
          <p:nvPr/>
        </p:nvGrpSpPr>
        <p:grpSpPr>
          <a:xfrm>
            <a:off x="1657440" y="900000"/>
            <a:ext cx="5772240" cy="5459400"/>
            <a:chOff x="1657440" y="900000"/>
            <a:chExt cx="5772240" cy="5459400"/>
          </a:xfrm>
        </p:grpSpPr>
        <p:grpSp>
          <p:nvGrpSpPr>
            <p:cNvPr id="207" name="AutoShape 4"/>
            <p:cNvGrpSpPr/>
            <p:nvPr/>
          </p:nvGrpSpPr>
          <p:grpSpPr>
            <a:xfrm>
              <a:off x="1657440" y="4026600"/>
              <a:ext cx="1262520" cy="460080"/>
              <a:chOff x="1657440" y="4026600"/>
              <a:chExt cx="1262520" cy="460080"/>
            </a:xfrm>
          </p:grpSpPr>
          <p:pic>
            <p:nvPicPr>
              <p:cNvPr id="208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57440" y="4026600"/>
                <a:ext cx="126252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0678400">
                <a:off x="1954800" y="4174920"/>
                <a:ext cx="61596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Группа 2"/>
            <p:cNvGrpSpPr/>
            <p:nvPr/>
          </p:nvGrpSpPr>
          <p:grpSpPr>
            <a:xfrm>
              <a:off x="1694880" y="3135240"/>
              <a:ext cx="5690520" cy="3224160"/>
              <a:chOff x="1694880" y="3135240"/>
              <a:chExt cx="5690520" cy="3224160"/>
            </a:xfrm>
          </p:grpSpPr>
          <p:sp>
            <p:nvSpPr>
              <p:cNvPr id="211" name="AutoShape 2"/>
              <p:cNvSpPr/>
              <p:nvPr/>
            </p:nvSpPr>
            <p:spPr>
              <a:xfrm>
                <a:off x="1694880" y="5026680"/>
                <a:ext cx="5690520" cy="1332720"/>
              </a:xfrm>
              <a:prstGeom prst="cube">
                <a:avLst>
                  <a:gd name="adj" fmla="val 7936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3"/>
              <p:cNvSpPr/>
              <p:nvPr/>
            </p:nvSpPr>
            <p:spPr>
              <a:xfrm>
                <a:off x="2121480" y="3135240"/>
                <a:ext cx="4836960" cy="2842920"/>
              </a:xfrm>
              <a:prstGeom prst="cube">
                <a:avLst>
                  <a:gd name="adj" fmla="val 33023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3" name="Группа 11" descr=""/>
            <p:cNvPicPr/>
            <p:nvPr/>
          </p:nvPicPr>
          <p:blipFill>
            <a:blip r:embed="rId4"/>
            <a:stretch/>
          </p:blipFill>
          <p:spPr>
            <a:xfrm>
              <a:off x="2094480" y="900000"/>
              <a:ext cx="53352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AutoShape 7"/>
            <p:cNvSpPr/>
            <p:nvPr/>
          </p:nvSpPr>
          <p:spPr>
            <a:xfrm>
              <a:off x="3117600" y="4396320"/>
              <a:ext cx="1778040" cy="1590840"/>
            </a:xfrm>
            <a:prstGeom prst="flowChartPredefinedProcess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2975400" y="3205440"/>
              <a:ext cx="1991520" cy="1816560"/>
            </a:xfrm>
            <a:prstGeom prst="pie">
              <a:avLst/>
            </a:prstGeom>
            <a:solidFill>
              <a:srgbClr val="b8cc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Arial Narrow"/>
              </a:rPr>
              <a:t>Математический диктан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Содержимое 3"/>
              <p:cNvSpPr txBox="1"/>
              <p:nvPr/>
            </p:nvSpPr>
            <p:spPr>
              <a:xfrm>
                <a:off x="1584360" y="1285920"/>
                <a:ext cx="779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928800" y="2357280"/>
                <a:ext cx="2146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785880" y="3500280"/>
                <a:ext cx="232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5429160" y="1428840"/>
                <a:ext cx="21718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5429160" y="2428920"/>
                <a:ext cx="2173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5214960" y="3643200"/>
                <a:ext cx="292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5072040" y="4714920"/>
                <a:ext cx="269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357120" y="4643280"/>
                <a:ext cx="28479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444600" y="5643720"/>
                <a:ext cx="27734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5143680" y="5643720"/>
                <a:ext cx="28461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Box 15"/>
          <p:cNvSpPr/>
          <p:nvPr/>
        </p:nvSpPr>
        <p:spPr>
          <a:xfrm>
            <a:off x="1365840" y="1000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 Narrow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5866560" y="10717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 Narrow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2"/>
              <p:cNvSpPr txBox="1"/>
              <p:nvPr/>
            </p:nvSpPr>
            <p:spPr>
              <a:xfrm>
                <a:off x="3143160" y="1357200"/>
                <a:ext cx="554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3000240" y="2428920"/>
                <a:ext cx="679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3143160" y="3616200"/>
                <a:ext cx="5716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5"/>
              <p:cNvSpPr txBox="1"/>
              <p:nvPr/>
            </p:nvSpPr>
            <p:spPr>
              <a:xfrm>
                <a:off x="3286080" y="4857840"/>
                <a:ext cx="503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3214800" y="5929200"/>
                <a:ext cx="4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7"/>
              <p:cNvSpPr txBox="1"/>
              <p:nvPr/>
            </p:nvSpPr>
            <p:spPr>
              <a:xfrm>
                <a:off x="7786800" y="1428840"/>
                <a:ext cx="822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8"/>
              <p:cNvSpPr txBox="1"/>
              <p:nvPr/>
            </p:nvSpPr>
            <p:spPr>
              <a:xfrm>
                <a:off x="7724880" y="2571840"/>
                <a:ext cx="776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9"/>
              <p:cNvSpPr txBox="1"/>
              <p:nvPr/>
            </p:nvSpPr>
            <p:spPr>
              <a:xfrm>
                <a:off x="8088480" y="3857760"/>
                <a:ext cx="50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8072280" y="4781520"/>
                <a:ext cx="439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1"/>
              <p:cNvSpPr txBox="1"/>
              <p:nvPr/>
            </p:nvSpPr>
            <p:spPr>
              <a:xfrm>
                <a:off x="7978680" y="5643720"/>
                <a:ext cx="630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3143160" y="3229920"/>
            <a:ext cx="25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2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с в стране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астливчики жи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3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правила не уч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ик не бе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2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двоечки и тро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пальмами сид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3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шибки собир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ся не хо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3260880" cy="26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6215040" y="2563920"/>
            <a:ext cx="2725920" cy="39290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3"/>
          <a:stretch/>
        </p:blipFill>
        <p:spPr>
          <a:xfrm>
            <a:off x="5214960" y="64296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4"/>
          <a:stretch/>
        </p:blipFill>
        <p:spPr>
          <a:xfrm>
            <a:off x="642960" y="371484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b5395"/>
                </a:solidFill>
                <a:latin typeface="Arial Narrow"/>
              </a:rPr>
              <a:t>Найди ошибку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Содержимое 3"/>
              <p:cNvSpPr txBox="1"/>
              <p:nvPr/>
            </p:nvSpPr>
            <p:spPr>
              <a:xfrm>
                <a:off x="946080" y="1428840"/>
                <a:ext cx="2627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571680" y="3000240"/>
                <a:ext cx="31510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501480" y="4714920"/>
                <a:ext cx="35928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4371840" y="1500120"/>
                <a:ext cx="37353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4572000" y="2928960"/>
                <a:ext cx="3376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786200" y="4637160"/>
                <a:ext cx="3222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1428840" y="4429080"/>
            <a:ext cx="6215040" cy="1359000"/>
          </a:xfrm>
          <a:prstGeom prst="cube">
            <a:avLst>
              <a:gd name="adj" fmla="val 793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solidFill>
            <a:srgbClr val="c4e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Назовите число, обратное дан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2195640" y="1557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5435640" y="1484280"/>
            <a:ext cx="144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99ff66"/>
              </a:gs>
            </a:gsLst>
            <a:lin ang="189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2556000" y="1628640"/>
            <a:ext cx="720720" cy="1039680"/>
            <a:chOff x="2556000" y="1628640"/>
            <a:chExt cx="720720" cy="1039680"/>
          </a:xfrm>
        </p:grpSpPr>
        <p:sp>
          <p:nvSpPr>
            <p:cNvPr id="256" name="Text Box 9"/>
            <p:cNvSpPr/>
            <p:nvPr/>
          </p:nvSpPr>
          <p:spPr>
            <a:xfrm>
              <a:off x="2556000" y="1628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2556000" y="2147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2556000" y="2154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2"/>
          <p:cNvGrpSpPr/>
          <p:nvPr/>
        </p:nvGrpSpPr>
        <p:grpSpPr>
          <a:xfrm>
            <a:off x="5796000" y="1628640"/>
            <a:ext cx="720720" cy="1039680"/>
            <a:chOff x="5796000" y="1628640"/>
            <a:chExt cx="720720" cy="1039680"/>
          </a:xfrm>
        </p:grpSpPr>
        <p:sp>
          <p:nvSpPr>
            <p:cNvPr id="260" name="Text Box 13"/>
            <p:cNvSpPr/>
            <p:nvPr/>
          </p:nvSpPr>
          <p:spPr>
            <a:xfrm>
              <a:off x="5796000" y="1628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5796000" y="2147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5796000" y="2154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6"/>
          <p:cNvSpPr/>
          <p:nvPr/>
        </p:nvSpPr>
        <p:spPr>
          <a:xfrm>
            <a:off x="2214720" y="27147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5435640" y="2781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99ff66"/>
              </a:gs>
            </a:gsLst>
            <a:lin ang="27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2195640" y="4005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5435640" y="4005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aaf2"/>
              </a:gs>
              <a:gs pos="100000">
                <a:srgbClr val="99ff66"/>
              </a:gs>
            </a:gsLst>
            <a:lin ang="189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2195640" y="5229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5435640" y="5229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aaf2"/>
              </a:gs>
              <a:gs pos="100000">
                <a:srgbClr val="99ff66"/>
              </a:gs>
            </a:gsLst>
            <a:lin ang="27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2" descr="CRCTR027"/>
          <p:cNvPicPr/>
          <p:nvPr/>
        </p:nvPicPr>
        <p:blipFill>
          <a:blip r:embed="rId1"/>
          <a:stretch/>
        </p:blipFill>
        <p:spPr>
          <a:xfrm>
            <a:off x="324000" y="1125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4"/>
          <p:cNvGrpSpPr/>
          <p:nvPr/>
        </p:nvGrpSpPr>
        <p:grpSpPr>
          <a:xfrm>
            <a:off x="2556000" y="2852640"/>
            <a:ext cx="720720" cy="1039680"/>
            <a:chOff x="2556000" y="2852640"/>
            <a:chExt cx="720720" cy="1039680"/>
          </a:xfrm>
        </p:grpSpPr>
        <p:sp>
          <p:nvSpPr>
            <p:cNvPr id="272" name="Text Box 25"/>
            <p:cNvSpPr/>
            <p:nvPr/>
          </p:nvSpPr>
          <p:spPr>
            <a:xfrm>
              <a:off x="2556000" y="2852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6"/>
            <p:cNvSpPr/>
            <p:nvPr/>
          </p:nvSpPr>
          <p:spPr>
            <a:xfrm>
              <a:off x="2556000" y="3371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7"/>
            <p:cNvSpPr/>
            <p:nvPr/>
          </p:nvSpPr>
          <p:spPr>
            <a:xfrm>
              <a:off x="2556000" y="3378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8"/>
          <p:cNvGrpSpPr/>
          <p:nvPr/>
        </p:nvGrpSpPr>
        <p:grpSpPr>
          <a:xfrm>
            <a:off x="5867280" y="2852640"/>
            <a:ext cx="720720" cy="1039680"/>
            <a:chOff x="5867280" y="2852640"/>
            <a:chExt cx="720720" cy="1039680"/>
          </a:xfrm>
        </p:grpSpPr>
        <p:sp>
          <p:nvSpPr>
            <p:cNvPr id="276" name="Text Box 29"/>
            <p:cNvSpPr/>
            <p:nvPr/>
          </p:nvSpPr>
          <p:spPr>
            <a:xfrm>
              <a:off x="5867280" y="2852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5867280" y="3371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>
              <a:off x="5867280" y="3378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2556000" y="4076640"/>
            <a:ext cx="720720" cy="1039680"/>
            <a:chOff x="2556000" y="4076640"/>
            <a:chExt cx="720720" cy="1039680"/>
          </a:xfrm>
        </p:grpSpPr>
        <p:sp>
          <p:nvSpPr>
            <p:cNvPr id="280" name="Text Box 33"/>
            <p:cNvSpPr/>
            <p:nvPr/>
          </p:nvSpPr>
          <p:spPr>
            <a:xfrm>
              <a:off x="2556000" y="4076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4"/>
            <p:cNvSpPr/>
            <p:nvPr/>
          </p:nvSpPr>
          <p:spPr>
            <a:xfrm>
              <a:off x="2556000" y="4595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2556000" y="4602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6"/>
          <p:cNvGrpSpPr/>
          <p:nvPr/>
        </p:nvGrpSpPr>
        <p:grpSpPr>
          <a:xfrm>
            <a:off x="5867280" y="4076640"/>
            <a:ext cx="720720" cy="1039680"/>
            <a:chOff x="5867280" y="4076640"/>
            <a:chExt cx="720720" cy="1039680"/>
          </a:xfrm>
        </p:grpSpPr>
        <p:sp>
          <p:nvSpPr>
            <p:cNvPr id="284" name="Text Box 37"/>
            <p:cNvSpPr/>
            <p:nvPr/>
          </p:nvSpPr>
          <p:spPr>
            <a:xfrm>
              <a:off x="5867280" y="4076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5867280" y="4595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9"/>
            <p:cNvSpPr/>
            <p:nvPr/>
          </p:nvSpPr>
          <p:spPr>
            <a:xfrm>
              <a:off x="5867280" y="4602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0"/>
          <p:cNvGrpSpPr/>
          <p:nvPr/>
        </p:nvGrpSpPr>
        <p:grpSpPr>
          <a:xfrm>
            <a:off x="2556000" y="5300640"/>
            <a:ext cx="720720" cy="1039680"/>
            <a:chOff x="2556000" y="5300640"/>
            <a:chExt cx="720720" cy="1039680"/>
          </a:xfrm>
        </p:grpSpPr>
        <p:sp>
          <p:nvSpPr>
            <p:cNvPr id="288" name="Text Box 41"/>
            <p:cNvSpPr/>
            <p:nvPr/>
          </p:nvSpPr>
          <p:spPr>
            <a:xfrm>
              <a:off x="2556000" y="5300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42"/>
            <p:cNvSpPr/>
            <p:nvPr/>
          </p:nvSpPr>
          <p:spPr>
            <a:xfrm>
              <a:off x="2556000" y="5819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2556000" y="5826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44"/>
          <p:cNvGrpSpPr/>
          <p:nvPr/>
        </p:nvGrpSpPr>
        <p:grpSpPr>
          <a:xfrm>
            <a:off x="5867280" y="5300640"/>
            <a:ext cx="720720" cy="1039680"/>
            <a:chOff x="5867280" y="5300640"/>
            <a:chExt cx="720720" cy="1039680"/>
          </a:xfrm>
        </p:grpSpPr>
        <p:sp>
          <p:nvSpPr>
            <p:cNvPr id="292" name="Text Box 45"/>
            <p:cNvSpPr/>
            <p:nvPr/>
          </p:nvSpPr>
          <p:spPr>
            <a:xfrm>
              <a:off x="5867280" y="5300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6"/>
            <p:cNvSpPr/>
            <p:nvPr/>
          </p:nvSpPr>
          <p:spPr>
            <a:xfrm>
              <a:off x="5867280" y="5819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5867280" y="5826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61"/>
          <p:cNvSpPr/>
          <p:nvPr/>
        </p:nvSpPr>
        <p:spPr>
          <a:xfrm>
            <a:off x="3187800" y="1889280"/>
            <a:ext cx="2539800" cy="493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2"/>
          <p:cNvSpPr/>
          <p:nvPr/>
        </p:nvSpPr>
        <p:spPr>
          <a:xfrm>
            <a:off x="3247920" y="1913040"/>
            <a:ext cx="2479680" cy="493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85840" y="1356840"/>
            <a:ext cx="85723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e6d"/>
                </a:solidFill>
                <a:latin typeface="Constantia"/>
              </a:rPr>
              <a:t>Являются ли взаимно обратными дроб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e6d"/>
                </a:solidFill>
                <a:latin typeface="Constantia"/>
              </a:rPr>
              <a:t>Найдите  число,  обратное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357120" y="5072040"/>
                <a:ext cx="84042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642960" y="2286000"/>
                <a:ext cx="1243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8"/>
              <p:cNvSpPr txBox="1"/>
              <p:nvPr/>
            </p:nvSpPr>
            <p:spPr>
              <a:xfrm>
                <a:off x="2143080" y="2500200"/>
                <a:ext cx="1500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9"/>
              <p:cNvSpPr txBox="1"/>
              <p:nvPr/>
            </p:nvSpPr>
            <p:spPr>
              <a:xfrm>
                <a:off x="6000840" y="2214720"/>
                <a:ext cx="155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000680" y="2214720"/>
                <a:ext cx="1368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6313320" y="3857760"/>
                <a:ext cx="12337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355680" y="4071960"/>
                <a:ext cx="2119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3"/>
              <p:cNvSpPr txBox="1"/>
              <p:nvPr/>
            </p:nvSpPr>
            <p:spPr>
              <a:xfrm>
                <a:off x="4537080" y="4000680"/>
                <a:ext cx="1571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0,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4"/>
              <p:cNvSpPr txBox="1"/>
              <p:nvPr/>
            </p:nvSpPr>
            <p:spPr>
              <a:xfrm>
                <a:off x="2427120" y="3929040"/>
                <a:ext cx="2146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1:38:32Z</dcterms:created>
  <dc:creator>Admin</dc:creator>
  <dc:description/>
  <dc:language>en-US</dc:language>
  <cp:lastModifiedBy>Admin</cp:lastModifiedBy>
  <dcterms:modified xsi:type="dcterms:W3CDTF">2010-12-05T14:24:21Z</dcterms:modified>
  <cp:revision>36</cp:revision>
  <dc:subject/>
  <dc:title> </dc:title>
</cp:coreProperties>
</file>