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208-5EB3-47B0-8F19-9F304650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7F7-E4C6-4C52-84F5-23FAC85F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C01-4EB6-41B1-BA96-836ABF43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648-C067-48FA-A104-750AF1BA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F4D-3EA4-46D0-8084-60B320B6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BB8-F43B-4DB1-9E5F-AF40C4A2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E06-3D49-4175-8147-4472983E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AA2-8168-461A-9730-1D93EE9A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3C6-AC51-42A9-9364-28861481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2B9-A0E6-46F7-94E6-65EFC523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CC0-35CD-4187-984C-BC73074D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929-D481-4B0F-8591-C07197FE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B17C-B833-4E6F-99F2-5167C508091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58920" y="1052640"/>
            <a:ext cx="6985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ИЗ ОПЫТА РАБОТЫ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АЛЬШИНОЙ Л.В.</a:t>
            </a:r>
            <a:endParaRPr b="1" lang="en-US" sz="2800" spc="1" strike="noStrike">
              <a:ln w="255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643200" y="5786280"/>
            <a:ext cx="17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20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56760" y="114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alibri"/>
              </a:rPr>
              <a:t>Квалификация – высшая категор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alibri"/>
              </a:rPr>
              <a:t>Педагогический стаж – 24 г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2"/>
          <p:cNvPicPr/>
          <p:nvPr/>
        </p:nvPicPr>
        <p:blipFill>
          <a:blip r:embed="rId1"/>
          <a:stretch/>
        </p:blipFill>
        <p:spPr>
          <a:xfrm>
            <a:off x="4678200" y="357120"/>
            <a:ext cx="3967200" cy="26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3"/>
          <p:cNvPicPr/>
          <p:nvPr/>
        </p:nvPicPr>
        <p:blipFill>
          <a:blip r:embed="rId2"/>
          <a:stretch/>
        </p:blipFill>
        <p:spPr>
          <a:xfrm>
            <a:off x="4714920" y="3714840"/>
            <a:ext cx="3949560" cy="2633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Моя методическая пробл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1680" y="2000160"/>
            <a:ext cx="403848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alibri"/>
              </a:rPr>
              <a:t>Формирование художественной культуры учащихся как неотъемлемой части их духовной куль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5" descr="SDC11338.JPG"/>
          <p:cNvPicPr/>
          <p:nvPr/>
        </p:nvPicPr>
        <p:blipFill>
          <a:blip r:embed="rId1"/>
          <a:stretch/>
        </p:blipFill>
        <p:spPr>
          <a:xfrm>
            <a:off x="5011560" y="1571760"/>
            <a:ext cx="3375360" cy="4500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SDC11803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2928600"/>
            <a:ext cx="3429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alibri"/>
              </a:rPr>
              <a:t>Смешанная тех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8400" y="1285560"/>
            <a:ext cx="8258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600" spc="-1" strike="noStrike">
                <a:solidFill>
                  <a:srgbClr val="660066"/>
                </a:solidFill>
                <a:latin typeface="Calibri"/>
              </a:rPr>
              <a:t>(7б) – городской конкурс «Сохраним мордовские леса», номинация «Плакат» – 1 мест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600" spc="-1" strike="noStrike">
                <a:solidFill>
                  <a:srgbClr val="660066"/>
                </a:solidFill>
                <a:latin typeface="Calibri"/>
              </a:rPr>
              <a:t>(7б) – республиканский конкурс «Сохраним мордовские леса», номинация «Флористика» – 1 мест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600" spc="-1" strike="noStrike">
                <a:solidFill>
                  <a:srgbClr val="660066"/>
                </a:solidFill>
                <a:latin typeface="Calibri"/>
              </a:rPr>
              <a:t>(7б) – республиканский конкурс «Рождественская звезда» – диплом участни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600" spc="-1" strike="noStrike">
                <a:solidFill>
                  <a:srgbClr val="660066"/>
                </a:solidFill>
                <a:latin typeface="Calibri"/>
              </a:rPr>
              <a:t>(7б) – городской конкурс «Новогодняя фантазия» – приз зрительских симпат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600" spc="-1" strike="noStrike">
                <a:solidFill>
                  <a:srgbClr val="660066"/>
                </a:solidFill>
                <a:latin typeface="Calibri"/>
              </a:rPr>
              <a:t>(7б) – Московский международный форум «Одаренные дети», номинация «Народное творчество» – 2 мест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28760" y="285840"/>
            <a:ext cx="8229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Наши достижения,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14200" y="1071360"/>
            <a:ext cx="8715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100" spc="-1" strike="noStrike">
                <a:solidFill>
                  <a:srgbClr val="660066"/>
                </a:solidFill>
                <a:latin typeface="Calibri"/>
              </a:rPr>
              <a:t>(8б) – Республиканский отборочный тур Московского международного форума «Одаренные дети», номинация «Народное творчество» – 1 место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66"/>
                </a:solidFill>
                <a:latin typeface="Calibri"/>
              </a:rPr>
              <a:t>Слепова Анастасия </a:t>
            </a:r>
            <a:r>
              <a:rPr b="0" lang="ru-RU" sz="2100" spc="-1" strike="noStrike">
                <a:solidFill>
                  <a:srgbClr val="660066"/>
                </a:solidFill>
                <a:latin typeface="Calibri"/>
              </a:rPr>
              <a:t>(1б) – городской конкурс «Новогодняя фантазия» – 2 место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100" spc="-1" strike="noStrike">
                <a:solidFill>
                  <a:srgbClr val="660066"/>
                </a:solidFill>
                <a:latin typeface="Calibri"/>
              </a:rPr>
              <a:t>(8б) – Московский международный форум «Одаренные дети», номинация «Народное творчество» – 1 место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66"/>
                </a:solidFill>
                <a:latin typeface="Calibri"/>
              </a:rPr>
              <a:t>Ерочкина Вероника </a:t>
            </a:r>
            <a:r>
              <a:rPr b="0" lang="ru-RU" sz="2100" spc="-1" strike="noStrike">
                <a:solidFill>
                  <a:srgbClr val="660066"/>
                </a:solidFill>
                <a:latin typeface="Calibri"/>
              </a:rPr>
              <a:t>(4б) – Московский международный форум «Одаренные дети», номинация «Народное творчество» – Гран-пр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100" spc="-1" strike="noStrike">
                <a:solidFill>
                  <a:srgbClr val="660066"/>
                </a:solidFill>
                <a:latin typeface="Calibri"/>
              </a:rPr>
              <a:t>(8б) – Российский творческий фестиваль, посвященный 65-летию разгрома немецко-фашистских войск «Салют победителей», номинация «Декоративно-прикладное искусство» – Гран-пр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24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66"/>
                </a:solidFill>
                <a:latin typeface="Calibri"/>
              </a:rPr>
              <a:t>Ерочкина Вероника </a:t>
            </a:r>
            <a:r>
              <a:rPr b="0" lang="ru-RU" sz="2100" spc="-1" strike="noStrike">
                <a:solidFill>
                  <a:srgbClr val="660066"/>
                </a:solidFill>
                <a:latin typeface="Calibri"/>
              </a:rPr>
              <a:t>(4б) – Российский творческий фестиваль, посвященный 65-летию разгрома немецко-фашистских войск «Салют победителей», номинация «Декоративно-прикладное искусство» – Гран-пр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00040" y="214200"/>
            <a:ext cx="8229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Наши достижения,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3840" y="114300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(9б) – </a:t>
            </a:r>
            <a:r>
              <a:rPr b="0" lang="en-US" sz="2200" spc="-1" strike="noStrike">
                <a:solidFill>
                  <a:srgbClr val="660066"/>
                </a:solidFill>
                <a:latin typeface="Calibri"/>
              </a:rPr>
              <a:t>V </a:t>
            </a: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Всероссийская выставка-ярмарка народных художественных промыслов и ремесел финно-угорских народов, номинация «Народное творчество» – дипл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Calibri"/>
              </a:rPr>
              <a:t>Ерочкина Вероника </a:t>
            </a: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(4б) – </a:t>
            </a:r>
            <a:r>
              <a:rPr b="0" lang="en-US" sz="2200" spc="-1" strike="noStrike">
                <a:solidFill>
                  <a:srgbClr val="660066"/>
                </a:solidFill>
                <a:latin typeface="Calibri"/>
              </a:rPr>
              <a:t>V </a:t>
            </a: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Всероссийская выставка-ярмарка народных художественных промыслов и ремесел финно-угорских народов, номинация «Народное творчество» – дипл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Calibri"/>
              </a:rPr>
              <a:t>МОУ «Ялгинская СОШ» </a:t>
            </a: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660066"/>
                </a:solidFill>
                <a:latin typeface="Calibri"/>
              </a:rPr>
              <a:t>V </a:t>
            </a: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Всероссийская выставка-ярмарка народных художественных промыслов и ремесел финно-угорских народов, номинация «Народное творчество» – дипл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Calibri"/>
              </a:rPr>
              <a:t>Бойко Тамара </a:t>
            </a: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(9б) – Международный фестиваль детского творчества «Звезды нового века» – 1 мес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Calibri"/>
              </a:rPr>
              <a:t>Ерочкина Вероника </a:t>
            </a:r>
            <a:r>
              <a:rPr b="0" lang="ru-RU" sz="2200" spc="-1" strike="noStrike">
                <a:solidFill>
                  <a:srgbClr val="660066"/>
                </a:solidFill>
                <a:latin typeface="Calibri"/>
              </a:rPr>
              <a:t>(5б) – Республиканский отборочный тур Московского международного форума «Одаренные дети», номинация «Народное творчество» – 1 мес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28760" y="214200"/>
            <a:ext cx="8229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Наши достижения,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11:49Z</dcterms:created>
  <dc:creator>Администратор</dc:creator>
  <dc:description/>
  <dc:language>en-US</dc:language>
  <cp:lastModifiedBy>nik</cp:lastModifiedBy>
  <dcterms:modified xsi:type="dcterms:W3CDTF">2012-06-11T08:42:40Z</dcterms:modified>
  <cp:revision>22</cp:revision>
  <dc:subject/>
  <dc:title>  </dc:title>
</cp:coreProperties>
</file>