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C76-4E6B-4548-AEBB-D8F7A442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78A-DFC1-4444-98C1-BACEA57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DA3-1287-49E2-99C1-44B1F080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84B-A04C-4B70-8033-9712D082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A96-A6E6-4437-9C75-25FA11D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72D-AA9F-4B9D-8926-435910C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1E7-D4CF-4C8F-AA26-DD1F57E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B57-28C0-4BA5-98DC-9527B3DB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85A-B483-4548-B3B2-F54C826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DDA-2F64-4D1E-984B-E1BBD321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32A-732B-4560-96F7-743F6FD7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5D8-9D6C-40F7-B8B3-896A345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847-EE98-4DF8-B17E-7F8609041A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З ОПЫТА РАБОТЫ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АЛЬШИНОЙ Л.В.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643200" y="57862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2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5676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Квалификация – высшая категор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Педагогический стаж – 24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4678200" y="357120"/>
            <a:ext cx="3967200" cy="26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3"/>
          <p:cNvPicPr/>
          <p:nvPr/>
        </p:nvPicPr>
        <p:blipFill>
          <a:blip r:embed="rId2"/>
          <a:stretch/>
        </p:blipFill>
        <p:spPr>
          <a:xfrm>
            <a:off x="4714920" y="3714840"/>
            <a:ext cx="3949560" cy="2633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Моя методическая 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403848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Формирование художественной культуры учащихся как неотъемлемой части их духовной 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SDC11338.JPG"/>
          <p:cNvPicPr/>
          <p:nvPr/>
        </p:nvPicPr>
        <p:blipFill>
          <a:blip r:embed="rId1"/>
          <a:stretch/>
        </p:blipFill>
        <p:spPr>
          <a:xfrm>
            <a:off x="5011560" y="1571760"/>
            <a:ext cx="3375360" cy="45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SDC11803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3429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Смешанная тех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400" y="1285560"/>
            <a:ext cx="82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городской конкурс «Сохраним мордовские леса», номинация «Плакат» – 1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республиканский конкурс «Сохраним мордовские леса», номинация «Флористика» – 1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республиканский конкурс «Рождественская звезда» – диплом участ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городской конкурс «Новогодняя фантазия» – приз зрительских симпат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Московский международный форум «Одаренные дети», номинация «Народное творчество» – 2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2876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Республиканский отборочный тур Московского международного форума «Одаренные дети», номинация «Народное творчество» – 1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Слепова Анастасия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1б) – городской конкурс «Новогодняя фантазия» – 2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Московский международный форум «Одаренные дети», номинация «Народное творчество» – 1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4б) – Московский международный форум «Одаренные дети», номинация «Народное творче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Российский творческий фестиваль, посвященный 65-летию разгрома немецко-фашистских войск «Салют победителей», номинация «Декоративно-прикладное искус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4б) – Российский творческий фестиваль, посвященный 65-летию разгрома немецко-фашистских войск «Салют победителей», номинация «Декоративно-прикладное искус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00040" y="21420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9б) 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4б) 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МОУ «Ялгинская СОШ»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9б) – Международный фестиваль детского творчества «Звезды нового века» – 1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5б) – Республиканский отборочный тур Московского международного форума «Одаренные дети», номинация «Народное творчество» – 1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28760" y="21420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1:49Z</dcterms:created>
  <dc:creator>Администратор</dc:creator>
  <dc:description/>
  <dc:language>en-US</dc:language>
  <cp:lastModifiedBy>nik</cp:lastModifiedBy>
  <dcterms:modified xsi:type="dcterms:W3CDTF">2012-06-11T08:42:40Z</dcterms:modified>
  <cp:revision>22</cp:revision>
  <dc:subject/>
  <dc:title>  </dc:title>
</cp:coreProperties>
</file>