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609-1AC3-4F1B-A9CC-23C3F5AD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5AA-316E-44E9-8E85-96E2F89B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EDEE-1419-4F39-B9AA-7F01F049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2B3E-6540-4A07-8548-58277098F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A59-61D8-4851-8F39-8DEC98FC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475B-33B7-4FB1-825C-6965B41A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59D7-1804-4279-A090-ED41119B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FE7-D34C-4BD9-BD10-40AA9BED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8D16-5ADD-49E6-B834-DA572AA6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DDF-41AA-4D69-BA8F-7690C00D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42E-5BE1-4EE4-9599-F71661C5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01E0-2088-4BE0-B3EB-B5E4728F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20A72C-6682-4C8B-9D2F-724ED2408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ainfal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-1241640"/>
            <a:ext cx="9070920" cy="4346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r>
              <a:rPr b="0" lang="de-DE" sz="7200" spc="-1" strike="noStrike">
                <a:solidFill>
                  <a:srgbClr val="99284c"/>
                </a:solidFill>
                <a:latin typeface="Bernard MT Condensed"/>
              </a:rPr>
              <a:t>Summer in BRITAIN</a:t>
            </a:r>
            <a:endParaRPr b="1" i="1" lang="en-US" sz="7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219640" y="4824360"/>
            <a:ext cx="3780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Работу выполн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Ученики 6 класса с.Калинин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Токарев.Д.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Лукбанов.М.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0080720" y="359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683320" cy="6851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5754600" y="1065240"/>
            <a:ext cx="3683160" cy="75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ummer in England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sts from June to August 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400720" y="360360"/>
            <a:ext cx="431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mmer in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111240" y="708120"/>
            <a:ext cx="5205240" cy="6143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5400720" y="179280"/>
            <a:ext cx="450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5e11a6"/>
                </a:solidFill>
                <a:latin typeface="Arial"/>
              </a:rPr>
              <a:t>Summer is the hottest period in England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5e11a6"/>
                </a:solidFill>
                <a:latin typeface="Arial"/>
              </a:rPr>
              <a:t>Summer temperatures are  up to 28 degrees</a:t>
            </a:r>
            <a:r>
              <a:rPr b="0" lang="en-US" sz="3600" spc="-1" strike="noStrike">
                <a:solidFill>
                  <a:srgbClr val="5e11a6"/>
                </a:solidFill>
                <a:latin typeface="Arial"/>
              </a:rPr>
              <a:t>,</a:t>
            </a:r>
            <a:r>
              <a:rPr b="0" lang="de-DE" sz="3600" spc="-1" strike="noStrike">
                <a:solidFill>
                  <a:srgbClr val="5e11a6"/>
                </a:solidFill>
                <a:latin typeface="Arial"/>
              </a:rPr>
              <a:t> a single exception is the temperature at 33 degre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82520" y="565200"/>
            <a:ext cx="6010200" cy="6286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111720" y="564840"/>
            <a:ext cx="3127680" cy="633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600" spc="-1" strike="noStrike">
                <a:solidFill>
                  <a:srgbClr val="5e11a6"/>
                </a:solidFill>
                <a:latin typeface="Arial"/>
              </a:rPr>
              <a:t>The maximum number of rainfall in the second half of the summer, and the flow of rainwater is very warm and short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540040" y="1565280"/>
            <a:ext cx="3500280" cy="52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Arial"/>
              </a:rPr>
              <a:t>Summer can often be a dry season, but </a:t>
            </a:r>
            <a:r>
              <a:rPr b="0" lang="en-GB" sz="3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rainfall</a:t>
            </a:r>
            <a:r>
              <a:rPr b="0" lang="en-GB" sz="3600" spc="-1" strike="noStrike">
                <a:solidFill>
                  <a:srgbClr val="333333"/>
                </a:solidFill>
                <a:latin typeface="Arial"/>
              </a:rPr>
              <a:t> totals can have a wide local variation due to localised thunderstorms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325440" y="708120"/>
            <a:ext cx="5214960" cy="6000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3Z</dcterms:created>
  <dc:creator/>
  <dc:description/>
  <dc:language>en-US</dc:language>
  <cp:lastModifiedBy>Ванек</cp:lastModifiedBy>
  <dcterms:modified xsi:type="dcterms:W3CDTF">2012-05-16T05:26:20Z</dcterms:modified>
  <cp:revision>11</cp:revision>
  <dc:subject/>
  <dc:title>   Summer in BRITAIN</dc:title>
</cp:coreProperties>
</file>