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990-66FE-488D-94A0-E7BD2D57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0B2-F55C-48BD-9877-6C2B7C4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02E-C633-489D-9AAE-4CA4CCA7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E69-4B1C-4769-B2F7-4FE7A8C5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17B-D91F-4A55-9C92-3ABB47C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B78-1DF3-43AF-AFBA-BBD9ADC3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8E7-023F-4394-A8A5-BDFC157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AC1-0BC7-4E70-A256-CD8386E4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AEC-E361-45B4-80D1-A079133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2DB-F751-4F14-84DE-AF1E802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3E3-D6AA-431E-990B-B5BD8A0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6F5-5BEE-45F4-AA10-D50ABE0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E98557-B236-43A8-8918-B7EBD466F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nfal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-1241640"/>
            <a:ext cx="907092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de-DE" sz="7200" spc="-1" strike="noStrike">
                <a:solidFill>
                  <a:srgbClr val="99284c"/>
                </a:solidFill>
                <a:latin typeface="Bernard MT Condensed"/>
              </a:rPr>
              <a:t>Summer in BRITAIN</a:t>
            </a:r>
            <a:endParaRPr b="1" i="1" lang="en-US" sz="7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219640" y="4824360"/>
            <a:ext cx="378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ченики 6 класса с.Калини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окарев.Д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укбанов.М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0080720" y="359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83320" cy="6851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754600" y="1065240"/>
            <a:ext cx="3683160" cy="75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mmer in England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sts from June to August 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00720" y="360360"/>
            <a:ext cx="431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mmer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11240" y="708120"/>
            <a:ext cx="5205240" cy="6143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5400720" y="179280"/>
            <a:ext cx="45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Summer is the hottest period in England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Summer temperatures are  up to 28 degrees</a:t>
            </a:r>
            <a:r>
              <a:rPr b="0" lang="en-US" sz="3600" spc="-1" strike="noStrike">
                <a:solidFill>
                  <a:srgbClr val="5e11a6"/>
                </a:solidFill>
                <a:latin typeface="Arial"/>
              </a:rPr>
              <a:t>,</a:t>
            </a: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 a single exception is the temperature at 33 degre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82520" y="565200"/>
            <a:ext cx="6010200" cy="62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11720" y="564840"/>
            <a:ext cx="312768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The maximum number of rainfall in the second half of the summer, and the flow of rainwater is very warm and short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40040" y="1565280"/>
            <a:ext cx="350028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Arial"/>
              </a:rPr>
              <a:t>Summer can often be a dry season, but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ainfall</a:t>
            </a:r>
            <a:r>
              <a:rPr b="0" lang="en-GB" sz="3600" spc="-1" strike="noStrike">
                <a:solidFill>
                  <a:srgbClr val="333333"/>
                </a:solidFill>
                <a:latin typeface="Arial"/>
              </a:rPr>
              <a:t> totals can have a wide local variation due to localised thunderstorm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25440" y="708120"/>
            <a:ext cx="5214960" cy="600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Ванек</cp:lastModifiedBy>
  <dcterms:modified xsi:type="dcterms:W3CDTF">2012-05-16T05:26:20Z</dcterms:modified>
  <cp:revision>11</cp:revision>
  <dc:subject/>
  <dc:title>   Summer in BRITAIN</dc:title>
</cp:coreProperties>
</file>