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04F1-4669-4387-9BB1-64B1BCC4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A70C-4DBF-47F0-A2F2-90C47778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46B52-EE23-4E03-A718-6016497C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9BFC0-55D0-4665-A47D-CE463583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663CF-4ADA-42E4-A009-2F1AA767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04EDB-7000-4801-9BE0-6B17DB30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00DF1-ED07-49E2-AB4A-72508990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A53D1-AF55-43F7-A434-C4077F28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E5D26-6DF5-4653-9FAF-C293C7AB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CA4A0-A8D4-4CA1-84A7-63D75BF3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1349F-2BEE-4F17-A1B1-62DD8B69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492D-4678-448D-9932-8E588D40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017C-3156-4BD6-98EA-93B9E01B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E0A0-2DA3-4C83-A83B-2ED0C7F4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63F6-11B1-4443-ABAF-3C3E0F05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7761-2FCB-420E-9878-62A90E24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EF4E-F032-4FC0-97F3-2DAD964B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16F6-DC7F-420E-9248-1E0F2ED2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8C07-4C84-439B-BBC3-11BC7C10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5CB0-27C9-4FBC-837A-2833CD26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89A7-FB19-4744-AE69-0C5FD6E3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EC97-5B1C-4F10-B903-EE281FC8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623C-BC84-4F64-B897-B63E7617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B19C-7F39-442F-BD72-017271F4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7C7E-3260-463D-9879-2B0017C3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7219-B21B-4C65-8CF0-3E89FA36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ECEEB-0C58-481D-8C28-B55B621C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18A3B-FC97-4D62-A23C-DB4C387F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FF38E-245B-44E8-93B7-C5461C59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FACF0-F00D-4D91-9DCD-3FCA62FE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2BCF7-5AD3-4AF0-9B5B-5BBDAF8F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875F-0729-4C37-A43F-A2F080D5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D3F41-4D38-409B-B6AD-EB071B3A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30A4C-192E-47BD-985B-38F71B69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6F8C0-F4D8-41D1-A45B-D2469D1C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FC69E-5867-47F3-85E9-CA144D47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C049C-534B-4DE7-B071-63D29521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E453E-97BA-4C18-85A4-C86172F2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2A5C6-DF67-409E-BD2F-796E3966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E6294-D561-436E-B52D-B30A952E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F9E46-E72A-405E-BA05-2F837AC7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127B1-7634-4BE4-9411-850AF640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B595-574E-42D6-B38E-1D914E2F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48354-6C60-412E-A303-516524EB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84430-44B6-48C9-970A-F93ECCDD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B7EFB-0380-4C3D-8BC4-C7E84513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CE76C-8A81-45A6-9F71-1061FBA3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9265D-516E-4CE4-B299-2FDB0C40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DA6B6-FFDC-4FB8-8CCD-2B4D6E6F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4DF84-82FE-4954-962B-8B1FED48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36AEB-EB4D-495B-9805-8CCB85F2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F65E3-2BC4-4154-B4CA-5955090B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86494-06C6-4C33-9A14-F3C66CF0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0EC9-4779-4294-ACBC-C50FFE67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14D0D-EAF8-4E96-B751-D4186B59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F75C5-F1BB-422A-95FF-991B06C1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7D5DD-F235-4CF4-9DD7-88640656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082D3-B036-47B0-BF0E-3F9F2F23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C471B-7E33-4D54-9D66-1886C44E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1324B-9DB5-41CE-805B-E975A56F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F3C62-8A0C-4313-87BF-18B1A465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7343B-E145-47D7-B22A-CFE9903D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675FA-D2D2-47F4-B9F0-7B15582C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8599D-D8C6-4FA2-B1A1-566C2C3B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31A-1A2E-428D-8AF9-857C292D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984FD-2522-431D-9A2D-5392A433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8D1CC-AE9F-40E1-8CE3-38943C33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811CC-81AE-46AA-874D-EFAF5D45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08A8B-9E13-45D7-BD1A-5CD36A94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83C1F-7D23-41A1-AED2-44EAC7AA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9B565-E8CC-4539-BC9B-6B8F94A3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9DA6D-F26C-464E-AEFD-39605860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A9A41-5B09-4FB6-9EBE-C63C7AD8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F9968-24B8-47E3-AB20-9D00283F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22602-420C-49FD-902B-0D0DF377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3BAA-9E45-49DB-8A5B-68ED380C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A31A3-D1D1-402F-96AB-BD32C492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C4B9A-DBAC-466C-833E-D2F4D330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BF820-5B30-485F-AE8B-C6B91332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9DE05-7206-416C-909B-BA6DD692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28313-212D-45CA-9082-942FBDA2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F9F9E-9A6B-46EE-BDA0-1BB31875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C4B91-1727-42E6-87F9-04DED4EC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88260-8815-4255-804B-403993E0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7E3A5-AA14-49B4-B402-8B3F4AB7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D64BB-CBE0-4306-AF89-1A6D9027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1CFC-2469-4353-AC6E-BDDAAE02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DFAED-9E56-41CF-8D33-013E9707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3117A-AB72-4190-8A22-DC3BAF89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C7C75-A826-45CA-B587-F02FCACC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AA819-3778-49B0-AEBB-FE1CC3CC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62815-6270-4C8B-93C5-E2201191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61014-3800-4F50-BD89-78B9F390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B5BE1-5124-4A68-BCBF-5F4C3B10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C9B12-ECDD-4274-BC84-707919B8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0276C-64E7-4D50-B17B-6886A784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B324C-96D2-48E8-A967-3AA6429B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FD57-DCD4-4423-9C81-DA14173F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CB370-FDAD-488E-983C-0EED493D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2D580-CF80-49EE-AE3F-24847714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5E771-4EEF-476C-870D-3EBE539C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7ADCC-A397-4B36-B1FF-2D05DE60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CC23B-2396-48B6-9886-6C4F8C7A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DA7D8-EB3D-4C8C-979D-0926A3E9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1F845-53C1-4033-9C61-723389EA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189D0-E2DB-447D-8537-87D76A76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2BB41-8A28-4D1A-AAC6-DB2A4904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3D45B-3632-4D88-AE86-59E87167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0956-7222-4E54-9320-DF029F19C8E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8EB4-18EC-4756-926D-4F198D8F98C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7A2F-AB5C-46E4-8F7B-7D6A413AE08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53C3-0E18-4B6E-98C7-F0F402EE4E8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A004-7964-418A-96F1-B7DC29E9000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C4E3-E6AF-44B4-9C8D-48EDC05DCF5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3E84-1AE2-4FD4-8BEE-ED41B873B47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2DFD-84C1-46A3-9CCB-C7402D00553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796A-4D5D-469F-BE58-C4483FC87AA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6360" y="268200"/>
            <a:ext cx="8869680" cy="33591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1066680" y="42667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Работу выполнили ученики 6 класса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            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Бокарев Дмитрий Дмитриевич   Макеев Евгений Александрович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103320" y="298440"/>
            <a:ext cx="8437320" cy="1305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1248"/>
          <p:cNvPicPr/>
          <p:nvPr/>
        </p:nvPicPr>
        <p:blipFill>
          <a:blip r:embed="rId2"/>
          <a:stretch/>
        </p:blipFill>
        <p:spPr>
          <a:xfrm>
            <a:off x="228600" y="1143000"/>
            <a:ext cx="5638680" cy="548640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5562720" y="2514600"/>
            <a:ext cx="3581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Autumn in England is characterized by the beauty and majesty of autumn colors in Russia.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7" descr="1246"/>
          <p:cNvPicPr/>
          <p:nvPr/>
        </p:nvPicPr>
        <p:blipFill>
          <a:blip r:embed="rId1"/>
          <a:stretch/>
        </p:blipFill>
        <p:spPr>
          <a:xfrm>
            <a:off x="0" y="228600"/>
            <a:ext cx="5029200" cy="64771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952520" y="259092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However, the autumn in England has its own appeal. In the early autumn rains practically no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e3b30"/>
                </a:solidFill>
                <a:latin typeface="Franklin Gothic Book"/>
              </a:rPr>
              <a:t>Since November, fog covers England. 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6" descr="72032818"/>
          <p:cNvPicPr/>
          <p:nvPr/>
        </p:nvPicPr>
        <p:blipFill>
          <a:blip r:embed="rId1"/>
          <a:stretch/>
        </p:blipFill>
        <p:spPr>
          <a:xfrm>
            <a:off x="3733920" y="304920"/>
            <a:ext cx="5257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790960" y="2209320"/>
            <a:ext cx="2895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 heavy grey clouds "down" almost to the ground, and the sun seems to forever leave the province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Picture 2" descr="H:\reWalls.com-18039.jpg"/>
          <p:cNvPicPr/>
          <p:nvPr/>
        </p:nvPicPr>
        <p:blipFill>
          <a:blip r:embed="rId1"/>
          <a:stretch/>
        </p:blipFill>
        <p:spPr>
          <a:xfrm>
            <a:off x="457200" y="228600"/>
            <a:ext cx="54864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4T14:56:34Z</dcterms:created>
  <dc:creator>дом</dc:creator>
  <dc:description/>
  <dc:language>en-US</dc:language>
  <cp:lastModifiedBy>Ванек</cp:lastModifiedBy>
  <dcterms:modified xsi:type="dcterms:W3CDTF">2012-06-11T08:04:49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