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8515-7C5E-4173-B5C0-52DD0E2CB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0A68-90BD-4EE8-BE6A-8EE38C71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E3634-F55C-4946-89E6-A29F243C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FD7A4-BDD9-46FD-A1C5-AF0DBCC0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CA7AF-16AD-45B9-92BA-3E7720BB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756E6-2CCE-4A9E-9F9D-38E05642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9FA84C-95E3-4F86-8427-63BB1DC6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F88270-6FC9-49F4-9B5D-727B2CAB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AE5D5-5F13-48DA-8A69-D9D80C29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73DD2-3613-41FE-903A-9F2A9CD71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63DDB-AD78-4C3F-BCD0-0A4FB34A5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7D18-A4C3-4E07-8347-56858C8E5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C754-E41D-4323-9DB2-6A0DED0E2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87A8-D0A6-4C63-810F-9EB4ADBBC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8356-E46A-4B03-BB38-19CDE23B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38F1-D92B-49D3-9AC2-1131D51B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C368-9E50-45BB-AED2-C74B4F17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D03C-AAE2-4B42-880D-D99E4935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2F1D-0E75-489F-AE8A-3B4CAFEE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D708-7F40-48F8-8D85-3D1E6296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3F49-836A-4FC2-BCA7-DA3C22BE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ABC3-134F-45DF-910E-50EB9A16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1C3E-BD71-4630-897F-19DADC32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C25F-928A-44E5-B0DE-EAE21460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F87F-CA3A-45D4-9032-D6B741A73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6E14-C008-4320-999E-CB35A6CC0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984B9-78D2-41B1-B619-D1400DA57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B652B-D21D-40CF-A9C3-64CCF5D3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1E75F-B119-4812-8BDA-D54809E2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580BC-F9C3-42CD-ACF3-8854B5FA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47C1E-A50F-4D9F-B8CE-FFC7EE38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EAFE-8CB8-43B0-A05D-F655E532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42FCD-E65D-4A37-B4ED-F49032EA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1D5D4-B259-438B-9972-6620E549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093AA-E64C-46E6-BDD4-E99B6421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3351E-E5E7-4F11-9C3E-8668519F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F791A-57A8-4618-B49C-54002517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8B32E-4698-4EAB-BD88-8FE85687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4961C-8F84-4F47-9F24-B9AA1EEBB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A3337-D7B7-4816-8F72-825027C74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4891B-E55D-4D25-B888-29C328F5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5D6AB-6A76-419C-B831-CDEDEA0E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8539-9FEB-451B-BEFA-AD349964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A7C82-0EF7-4EB2-A239-08DBD6A6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11716-B0F5-4F47-85C7-708A1F26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15AEF-7392-4971-B84A-61851343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C86C2-B69E-4C6D-BE6D-FCFE02B3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364AD-AD2B-4462-96D2-AEFE0AF2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25DDB-61CF-4E64-8050-1197DC0D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F39D3-0507-4D9A-9A16-BF8D8420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35CF0-AA3C-4D2F-8BC1-876EA3136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B5547-C652-43E9-AC52-3ECF05B2D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83EB4-7588-48C1-AAF6-F7E6B1A32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25F2-54F3-4A31-87F7-32CE88BC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204FC-6983-435D-B81D-B4678E2C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7F643-ADE7-48E2-ABA0-DD29B983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3764B-6860-432D-9A4E-0CA4121F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0A465-C30E-4CFB-ADD2-507B8C43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FECEB-D368-4C29-B597-0F242DE1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62FB0-1490-415E-B891-8040FD08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B26F6-288B-4CD4-BA99-F15D558F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86C51-F9D3-4B55-BD01-B7DBC297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26641-187F-4616-91BB-86D947C9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7BFCD-750C-41BF-8ADF-5B8985754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72C3-422B-4375-B4EA-02117C20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A5147-B78A-4565-A815-D1A493040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FA16E-2FF1-4966-952D-7C3EACC2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4E244-EB8E-46A0-8E02-F0EDFF2E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A15D1-D4BB-4675-86E1-3582CE96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C54F7-F79A-4542-AF0D-8F50BB38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F9DAF-43C5-4734-AF55-6AF5ADA1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28D90-C7DB-48D7-B38A-83B4B193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9B591-345F-4BBD-BA05-76ADB6BE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627EE-EE16-4360-AAB9-A4720E6E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95B3F-ACE9-4EA1-A746-82BE2912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A082-EC3D-458D-B961-AA3CE62E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5E9E1-35F4-4F6E-9FE8-18FBC420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99785-0A6D-4108-B4A6-D2E110364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1AC30-919D-448E-8C81-5D0039212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807A1-ABFF-4457-A812-048F729D2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CDF27-B4E3-4258-882C-AE455BCE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3FC84-061D-4E17-88E8-1D6C3A15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B0B2B-D6C0-4253-8778-D1B1A6EC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3F49E-F7EC-4E9B-BA29-D72D0FDD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3C249-7D77-4225-99A5-91B18FEB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3C51F-0359-4426-BDE5-928CE5F4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390B-8C23-47CE-9ADE-C012F4D4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E6672-2D37-458B-9081-177CA408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2F987-B216-46A9-8B52-B0BC1223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85F9E-A027-48A9-979A-0CF9E145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34E7E-2408-457D-A0A5-41A860DE0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C2FCB-5E1C-4757-A58A-4876A2F1A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E6D4B-2843-4222-8DD0-63540B1AA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4757D-8806-4BDA-9E7D-84E72F07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90F7A-9466-4CB5-9337-A0826357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75463-65C1-41A5-ABCD-2CE83C1A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45EE6-E275-4BF3-8D22-A1AA535C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2281-2101-4647-9F17-0361F697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46AE2-2AAF-455E-B456-D9897508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99FCB-BF36-442F-B6BA-8192434A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FD3AA-07BA-40B1-B25A-E34D820F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88255-6C05-4ABC-A23C-7A8EEA5C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F89BF-78E9-474D-A491-A52B95BC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8E512-4D3F-4DC9-A32F-2EAC15EE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97596-3DDA-469F-899F-EB8CEF85D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CA94A-CA75-4D51-9419-256867BA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C311D-BFE2-4459-B3B3-1E4901D0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7851B-CD92-40E4-B5B7-A44CDE62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EE96-BD1D-4B70-B931-F5882D15A98D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8BE9-D2A7-4892-B0D2-231A3353E8BD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75CA-B271-4B66-9D2F-6BE51D9529BF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1289-E7F5-4EB7-AC56-CFDA0D9E3BF1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02D1-516C-4C66-B749-9E074651718C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67B5-2E68-4FD7-9120-13D52C546650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A3DB-2A1A-4E45-A354-B8FA4394E5FD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6C45-40CF-48B0-819B-939D9E5AA06C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BDB0-2CF5-4643-A52A-787CB25BB942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36360" y="268200"/>
            <a:ext cx="8869680" cy="33591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1066680" y="426672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Работу выполнили ученики 6 класса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                 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Бокарев Дмитрий Дмитриевич   Макеев Евгений Александрович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103320" y="298440"/>
            <a:ext cx="8437320" cy="1305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1248"/>
          <p:cNvPicPr/>
          <p:nvPr/>
        </p:nvPicPr>
        <p:blipFill>
          <a:blip r:embed="rId2"/>
          <a:stretch/>
        </p:blipFill>
        <p:spPr>
          <a:xfrm>
            <a:off x="228600" y="1143000"/>
            <a:ext cx="5638680" cy="548640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5562720" y="2514600"/>
            <a:ext cx="3581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Autumn in England is characterized by the beauty and majesty of autumn colors in Russia.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7" descr="1246"/>
          <p:cNvPicPr/>
          <p:nvPr/>
        </p:nvPicPr>
        <p:blipFill>
          <a:blip r:embed="rId1"/>
          <a:stretch/>
        </p:blipFill>
        <p:spPr>
          <a:xfrm>
            <a:off x="0" y="228600"/>
            <a:ext cx="5029200" cy="64771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952520" y="2590920"/>
            <a:ext cx="403884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However, the autumn in England has its own appeal. In the early autumn rains practically no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e3b30"/>
                </a:solidFill>
                <a:latin typeface="Franklin Gothic Book"/>
              </a:rPr>
              <a:t>Since November, fog covers England. 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6" descr="72032818"/>
          <p:cNvPicPr/>
          <p:nvPr/>
        </p:nvPicPr>
        <p:blipFill>
          <a:blip r:embed="rId1"/>
          <a:stretch/>
        </p:blipFill>
        <p:spPr>
          <a:xfrm>
            <a:off x="3733920" y="304920"/>
            <a:ext cx="52578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77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77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5790960" y="2209320"/>
            <a:ext cx="28954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he heavy grey clouds "down" almost to the ground, and the sun seems to forever leave the province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2" name="Picture 2" descr="H:\reWalls.com-18039.jpg"/>
          <p:cNvPicPr/>
          <p:nvPr/>
        </p:nvPicPr>
        <p:blipFill>
          <a:blip r:embed="rId1"/>
          <a:stretch/>
        </p:blipFill>
        <p:spPr>
          <a:xfrm>
            <a:off x="457200" y="228600"/>
            <a:ext cx="54864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4T14:56:34Z</dcterms:created>
  <dc:creator>дом</dc:creator>
  <dc:description/>
  <dc:language>en-US</dc:language>
  <cp:lastModifiedBy>Ванек</cp:lastModifiedBy>
  <dcterms:modified xsi:type="dcterms:W3CDTF">2012-06-11T08:04:49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