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5DD-131A-405F-81C8-2CE2CBA0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41D-7CDC-4E05-889F-26791A00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B3F-6C47-4324-8A94-7AE767EB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275-9A73-43F8-A38B-5CA93605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BA6-AF93-42A0-9FAD-A0812CF9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307-00AF-4F0E-8A7D-64D3808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14E-8384-43EF-ABD1-39FDC7A9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1CE-C5AA-4DC0-B983-0DFB1B96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464-AF74-45FB-9BF2-A14FF7F8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682-8A28-4915-ACE0-72F5486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86F-4513-40D7-A092-A30E2D45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F1F-1310-4278-B798-219C2F05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4B64-E0C8-4444-AE66-AEF57C718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bbe0e3">
                  <a:alpha val="78039"/>
                </a:srgbClr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итическое с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3400" y="4952520"/>
            <a:ext cx="457200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d8ece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еванова Н.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534520" cy="868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компоненты либерализ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371600"/>
            <a:ext cx="396216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бсолютная ценность человечес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сти и изнач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от рождения) равенство всех людей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1371600"/>
            <a:ext cx="419076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знание определ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отчуждаемых прав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раво на жизнь, свобод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сть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4760" y="10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666880"/>
            <a:ext cx="845820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486400"/>
            <a:ext cx="4114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дея гражданского общ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об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5486400"/>
            <a:ext cx="4191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дея "естественного не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дей"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9320" y="2754360"/>
            <a:ext cx="556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еория и практика правового государств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ные условия процветания государ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ство частной собств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невмешательство государства в эконом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простор для личной инициативы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020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НСЕРВАТИЗ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133720"/>
            <a:ext cx="815328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2240" y="2225520"/>
            <a:ext cx="725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итическая иде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ступающая 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традиций и усто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общественного устро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295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оположники консерват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066680" y="1371600"/>
            <a:ext cx="18288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1447920"/>
            <a:ext cx="13716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4479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048120"/>
            <a:ext cx="3352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. Берк (1729-17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3276720"/>
            <a:ext cx="3429000" cy="144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. де Местр (1754-18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4800600"/>
            <a:ext cx="38862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. де Бональд (1754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0556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ципы и установки консерват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752480"/>
            <a:ext cx="266724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752480"/>
            <a:ext cx="2514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752480"/>
            <a:ext cx="27432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360" y="18288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клонение пе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адициям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торическим прошл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65560" y="1660680"/>
            <a:ext cx="2614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с-во и правящая эли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ы не толь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ять обществ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и воплощать мудр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4080" y="1736640"/>
            <a:ext cx="3163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авдание реши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р в защи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серватив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429000"/>
            <a:ext cx="41148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429000"/>
            <a:ext cx="41148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360" y="3462480"/>
            <a:ext cx="397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держанное отношение к социаль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менениям, позитивное отношение только к тем изменениям, которые согласуются с существующим порядком и разви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контрольно, а не синхрон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61080" y="3489480"/>
            <a:ext cx="397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тическое отношение к потенциаль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можностям совершенств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а и общества с помощ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ческих средств и методов только религиозная вера может сдел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а лучше, политические зак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шь не позволяют ему поступать плох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09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ЦИАЛ-ДЕМОКРАТИЧЕСКАЯ ИДЕОЛОГ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2057400"/>
            <a:ext cx="647712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32080" y="2322360"/>
            <a:ext cx="6264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ктрина постепенного реформирования буржуаз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ства путем утверждения демократии во всех сферах жизни - политической, экономической, социально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ждународ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ные принципы социал-демократи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752480"/>
            <a:ext cx="403884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24280" y="1752480"/>
            <a:ext cx="411480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114800"/>
            <a:ext cx="83818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360" y="1824120"/>
            <a:ext cx="3978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бода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ый человек имеет право быть свободным от политического принуждения, действовать в силу своих личных целей и индивидуальных возможносте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84760" y="1811160"/>
            <a:ext cx="3978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ве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о предполагает равную ценность всех людей и служит условием свободного развития личности и социального прогрес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419720"/>
            <a:ext cx="815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лидарность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а носит всеобъемлющий глобальный характ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о выражение общности человечества и чувства сострадания к жертвам несправедливости, моральная и материальная поддерж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МОКРАТИЧЕСКИЙ СОЦИАЛИЗ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752480"/>
            <a:ext cx="6934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ны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590920"/>
            <a:ext cx="4114800" cy="3962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90920"/>
            <a:ext cx="4114800" cy="3962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1360" y="2624040"/>
            <a:ext cx="4054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итическая демократ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личие свободных выб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ставление гражданам действительного выбора между различными политическими альтернатив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зможность смены правительства мирными средств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арантия прав личности и меньшин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уществование независимой судебной системы, основанной на верховенстве зако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2725560"/>
            <a:ext cx="40388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номическая демокра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плюралистическая экономика, основанная на началах самоуправления, предполагающая элементы планирования и сохранение рынка, как регулятора производства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ударство регулирует рынок в интересах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тие "соучастия" представителей трудящихся в управлении капиталистическими фирмами, а также развитие "самоуправления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07696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МОКРАТИЧЕСКИЙ СОЦИ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981080"/>
            <a:ext cx="3809880" cy="426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1981080"/>
            <a:ext cx="4190760" cy="426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41640"/>
            <a:ext cx="358128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ая демократ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орьба за социальную демократию - это борьба за более высо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чество жизни, которое характеризует степень социальной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а, условия и содержание его труда, доступность системы образования и духовных ценностей, состояние окружающей среды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08440" y="2133720"/>
            <a:ext cx="35784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ждународная демокра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р и сотрудничество государст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итическое с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a0c0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Сфера общественного сознания, образуемая совокупностью социальных чувств, представлений, взглядов, отражающих реальные политически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ункции политического с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e5f2f4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в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цен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гр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а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ровни политического со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1600200"/>
          <a:ext cx="8763120" cy="495288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точки зрения субъ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e7f3f4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глубине от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be0e3"/>
                        </a:gs>
                        <a:gs pos="100000">
                          <a:srgbClr val="e7f3f4"/>
                        </a:gs>
                      </a:gsLst>
                      <a:lin ang="8100000"/>
                    </a:gradFill>
                  </a:tcPr>
                </a:tc>
              </a:tr>
              <a:tr h="433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ассовое (реально действующее политическое сознание  массовой общност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Групповое (сознание больших и малых групп: классов, политической элиты, связанных с политик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Индивидуальное ( система мотивации и ценностных компонентов, обеспечивающих познание личностью полити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df6f7"/>
                        </a:gs>
                        <a:gs pos="100000">
                          <a:srgbClr val="bbe0e3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денное (формируется на базе жизненного опыта челове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учное (формируется социальными группами на основе исследования политических процессо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df6f7"/>
                        </a:gs>
                        <a:gs pos="100000">
                          <a:srgbClr val="bbe0e3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итические иде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итическая идеолог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а политического сознания, определенная доктрина, содержащая теоретическое осмысление политического бытия с точки зрения интересов, целей и идеалов определенных социальных групп и слоев, национальных образова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Функции политической идеолог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bfcfc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гитимация власти определенных политических сил и режи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билизующая и интеграцион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тическ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ни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рматив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енсато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временные политические иде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523520" y="14479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1371600"/>
            <a:ext cx="1295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13716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286000"/>
            <a:ext cx="26668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3d8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бер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2362320"/>
            <a:ext cx="28954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ис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3124080"/>
            <a:ext cx="31240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сервати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1447920"/>
            <a:ext cx="220968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5520" y="1447920"/>
            <a:ext cx="167616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267080"/>
            <a:ext cx="34290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циал-демокра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4267080"/>
            <a:ext cx="33526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мунис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5257800"/>
            <a:ext cx="3581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ш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бер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e7f3f4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йно-политическое движение, объединяющее сторонников буржуазно-парламентского строя, выступающих против любых форм контроля за его экономической и духовной деятельностью со стороны светской и церковной вл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d8d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дущие идеологи классического либера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142640" y="1447920"/>
            <a:ext cx="15238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44792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362320"/>
            <a:ext cx="266688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.Локк (1632-170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2286000"/>
            <a:ext cx="29718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Кант (1724-180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133720" y="1523880"/>
            <a:ext cx="17524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447920"/>
            <a:ext cx="175248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191120"/>
            <a:ext cx="30481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Ш.Монтескье (1689-17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4267080"/>
            <a:ext cx="32767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де Токвиль (1805-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447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2895480"/>
            <a:ext cx="281952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Смитт (172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4114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181480"/>
            <a:ext cx="335268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Джефферсон (174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22T14:56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