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CAF-12B4-49D4-B72F-4D22EC5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E74-8FA5-4A56-9B35-580ABFF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1CC-5090-4B68-B9CF-AB9D71E7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CA0-C997-474F-8DBA-005A6D3C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E73-E562-4FAB-AC77-22710EF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83D-E76A-4CC3-A60B-177496BD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D69-EC7A-4AFC-93CC-A0B4D6D3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199-6E85-4243-8CF6-E9D8152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AB3-C747-42F9-A881-6CB8923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D01-F89A-4967-9255-3C18219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179-758C-4699-BD36-C06612C8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167-1990-4C8F-8A18-DAA8677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026-BBCC-44BD-90A1-FA6565CF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bbe0e3">
                  <a:alpha val="78039"/>
                </a:srgbClr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ое с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400" y="4952520"/>
            <a:ext cx="45720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d8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еванова Н.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компоненты либерализ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371600"/>
            <a:ext cx="39621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бсолютная ценность челове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сти и изнач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от рождения) равенство всех людей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1371600"/>
            <a:ext cx="4190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знание опреде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отчуждаемых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раво на жизнь, свобо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с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4760" y="10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666880"/>
            <a:ext cx="845820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486400"/>
            <a:ext cx="4114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я гражданского общ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486400"/>
            <a:ext cx="4191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я "естественного 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ей"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9320" y="2754360"/>
            <a:ext cx="556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еория и практика правового госуда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е условия процветания государ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о частной соб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евмешательство государства в эконом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простор для личной инициативы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020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15328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240" y="2225520"/>
            <a:ext cx="725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ая иде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тупающая 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традиций и уст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общественного устро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295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оположники консерва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66680" y="137160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447920"/>
            <a:ext cx="13716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4479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48120"/>
            <a:ext cx="3352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. Берк (1729-17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3276720"/>
            <a:ext cx="342900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. де Местр (1754-18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00600"/>
            <a:ext cx="3886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 де Бональд (175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и установки консерва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752480"/>
            <a:ext cx="26672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75248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752480"/>
            <a:ext cx="2743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1828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клонение 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адиция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торическим прошл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65560" y="1660680"/>
            <a:ext cx="261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-во и правящая эл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ы не 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обществ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и воплощать мудр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4080" y="1736640"/>
            <a:ext cx="316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авдание реши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р в защи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серватив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29000"/>
            <a:ext cx="41148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429000"/>
            <a:ext cx="41148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360" y="3462480"/>
            <a:ext cx="397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ржанное отношение к социа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менениям, позитивное отношение только к тем изменениям, которые согласуются с существующим порядком и разви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контрольно, а не синхро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61080" y="3489480"/>
            <a:ext cx="397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тическое отношение к потенциаль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ям совершенств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и общества с помощ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ческих средств и методов только религиозная вера может сдел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лучше, политические зак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шь не позволяют ему поступать плох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9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-ДЕМОКРАТИЧЕСКАЯ ИДЕОЛОГ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057400"/>
            <a:ext cx="647712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2322360"/>
            <a:ext cx="6264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трина постепенного реформирования буржуаз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а путем утверждения демократии во всех сферах жизни - политической, экономической, социальн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народ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нципы социал-демократи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752480"/>
            <a:ext cx="403884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752480"/>
            <a:ext cx="41148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3818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360" y="1824120"/>
            <a:ext cx="397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бод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быть свободным от политического принуждения, действовать в силу своих личных целей и индивидуальных возможност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4760" y="1811160"/>
            <a:ext cx="397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ве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о предполагает равную ценность всех людей и служит условием свободного развития личности и социального прогрес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419720"/>
            <a:ext cx="815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идарност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носит всеобъемлющий глобальный характ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 выражение общности человечества и чувства сострадания к жертвам несправедливости, моральная и материальная поддерж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МОКРАТИЧЕСКИЙ СОЦИАЛИЗ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752480"/>
            <a:ext cx="6934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ы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90920"/>
            <a:ext cx="41148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90920"/>
            <a:ext cx="41148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2624040"/>
            <a:ext cx="4054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итическая демократ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личие свободных выб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ление гражданам действительного выбора между различными политическими альтернатив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ь смены правительства мирными средств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арантия прав личности и меньшин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ществование независимой судебной системы, основанной на верховенстве зак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725560"/>
            <a:ext cx="4038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номическая демокра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плюралистическая экономика, основанная на началах самоуправления, предполагающая элементы планирования и сохранение рынка, как регулятора производства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ударство регулирует рынок в интересах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"соучастия" представителей трудящихся в управлении капиталистическими фирмами, а также развитие "самоуправления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МОКРАТИЧЕСКИЙ СОЦИ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81080"/>
            <a:ext cx="3809880" cy="426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981080"/>
            <a:ext cx="4190760" cy="426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41640"/>
            <a:ext cx="35812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ая демократ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орьба за социальную демократию - это борьба за более высо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чество жизни, которое характеризует степень социальной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, условия и содержание его труда, доступность системы образования и духовных ценностей, состояние окружающей сред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8440" y="2133720"/>
            <a:ext cx="3578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ждународная демокра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р и сотрудничество государст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ое с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a0c0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фера общественного сознания, образуемая совокупностью социальных чувств, представлений, взглядов, отражающих реальные полит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политического с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5f2f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гр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ровни политического с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600200"/>
          <a:ext cx="8763120" cy="495288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точки зрения субъ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7f3f4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лубине от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7f3f4"/>
                        </a:gs>
                      </a:gsLst>
                      <a:lin ang="8100000"/>
                    </a:gradFill>
                  </a:tcPr>
                </a:tc>
              </a:tr>
              <a:tr h="433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ассовое (реально действующее политическое сознание  массовой общ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Групповое (сознание больших и малых групп: классов, политической элиты, связанных с политик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ндивидуальное ( система мотивации и ценностных компонентов, обеспечивающих познание личностью полити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6f7"/>
                        </a:gs>
                        <a:gs pos="100000">
                          <a:srgbClr val="bbe0e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 (формируется на базе жизненного опыта челове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 (формируется социальными группами на основе исследования политических процесс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6f7"/>
                        </a:gs>
                        <a:gs pos="100000">
                          <a:srgbClr val="bbe0e3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ие иде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ая идеолог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политического сознания, определенная доктрина, содержащая теоретическое осмысление политического бытия с точки зрения интересов, целей и идеалов определенных социальных групп и слоев, национальных образ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политической идеолог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bfcf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итимация власти определенных политических сил и режи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билизующая и интеграцио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ни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енсато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ые политические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23520" y="14479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37160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1371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0"/>
            <a:ext cx="26668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3d8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бе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2362320"/>
            <a:ext cx="28954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с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124080"/>
            <a:ext cx="3124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ерв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1447920"/>
            <a:ext cx="2209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1447920"/>
            <a:ext cx="167616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267080"/>
            <a:ext cx="34290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-демокра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267080"/>
            <a:ext cx="33526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с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2578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ш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бер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йно-политическое движение, объединяющее сторонников буржуазно-парламентского строя, выступающих против любых форм контроля за его экономической и духовной деятельностью со стороны светской и церковной в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е идеологи классического либера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42640" y="1447920"/>
            <a:ext cx="1523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44792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26668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.Локк (1632-170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286000"/>
            <a:ext cx="29718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Кант (1724-180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33720" y="1523880"/>
            <a:ext cx="17524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447920"/>
            <a:ext cx="175248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191120"/>
            <a:ext cx="3048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.Монтескье (1689-17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267080"/>
            <a:ext cx="32767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де Токвиль (1805-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44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2895480"/>
            <a:ext cx="28195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митт (172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181480"/>
            <a:ext cx="335268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Джефферсон (174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2T14:56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