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1D8-1C15-48CA-BA34-73FBC66A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FF3-0359-4CFF-8DFE-0C206E5F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0A9-30CC-42B5-A099-C3D3078B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0B0-AEDA-44D0-ABB8-1DA96D3A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797A-B060-44CF-B7AA-3F6544FA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6729-C579-4188-A5EB-7D6F038D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62CD-DE93-47E8-849B-0A1D1672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F32C-C3AC-41E4-9D64-84943BEE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CBDF-0C5C-462B-AFFA-C5B68DEA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882E-EBEF-4263-BC9C-981BCE65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456A-1551-44A7-B5CB-6361BA15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2E5-70DD-4912-A116-651F56DD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CAE3-014A-4AA9-8263-D8637714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A87F-7793-4541-A663-65842C85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D864-3A46-4116-A27E-0A81473E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4CB7-3DD5-4482-BD2E-528FBB85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D584-B2CD-4878-A500-1CA2BD93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EE1-B4C1-4524-97A0-B9256C7D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430-2A08-4713-94A0-C996209A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D910-8A82-450F-9DDD-0FC65D98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D16-B8A6-4B09-83AE-DF3DDA53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D0C-CEB6-4C1E-8A01-A562D56C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035-9E20-4BA2-9B3B-974EA9A4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EB2-2CF1-4C5F-968E-727C13B3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0301-8A0D-4307-B852-4FF63A5B6B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B865-25A1-481B-81B2-FF6D37B6A51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Дидактический материал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«Семейство кошачьих» для внеклассного занятия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3 класс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343040" y="4952880"/>
            <a:ext cx="4419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боту выполни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 ГБОУ школа №9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машева Л. 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09480" y="380880"/>
            <a:ext cx="8001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ьв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единственные кошки, самцы которых внешне легко отличаются от самок:у них есть грива. И это единственные кошки, живущие семьями – прайдами, которые включают одного-двух самцов, несколько самок и детёнышей разного возраста. Большие прайды состоят из 20 или даже 30 зверей. Африканские львы сохранились в основном на охраняемых территориях Африки. Лишь около двухсот азиатских львов населяют небольшой заповедник «Гирский лес» в Инд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57200" y="304920"/>
            <a:ext cx="83059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г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Самые крупные и свирепые кошки на Земле. Полосатая окраска  служит тигру маскировкой – она делает его менее заметным среди высокой травы. У тигрицы рождается, как правило, 2 – 3 малыша. С ними мать не расстаётся 2 – 3 года, пока они не станут совершенно самостоятельными. На нашей планете сохранились подвиды: бенгальский тигр, амурский, китайский южный, индо-китайский и суматранский тиг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419112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09480" y="762120"/>
            <a:ext cx="8153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епард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– самые быстрые звери на планете. На коротких дистанциях развивает скорость до 115 км/ч. Всё в нём приспособлено для скорости: сердце и лёгкие необычно большие, широкие дыхательные пути, его когти обеспечивают отличное сцепление с почвой. Гепарды кротки и легко приручаются, но практически не размножаются в нево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04920" y="228600"/>
            <a:ext cx="8381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нул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– самые пушистые кошки, обитающие в монгольских степях и предгорьях. Охотятся они в основном на грызунов и пти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809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09480" y="60948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мышовые коты хаус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распространены в Южной и Восточной Азии. Живут в густых кустарниках и камышах по берегам рек, охотятся на птиц… и переняли у них умение строить гнёзда. Из сухих стеблей тростника мастерит хаус круглое гнездо прямо на земле, да ещё выстилают его собственной шер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09480" y="7621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ые «вегетарианские» кошки – это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гуарунд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Ягуарунди напоминает выдру – круглая голова, маленькие ушки, короткие ноги, длинное гибкое тело. Распространены они в Центральной Америке. Любят забираться на деревья и поедать фиги и другие фрук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7720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опросы для внимательных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дикие кошки являются самыми пушистыми кошк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из семейства кошачьих живут прайд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представители кошачьих самые быстрые на планет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овите самых крупных и свирепых диких коше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дикие кошки являются самыми «вегетарианскими» кошка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из семейства кошачьих мастерит гнёзда на земл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роверьте себ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ану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ь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епар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г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гуарун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мышовые коты хау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йдите информацию о других представителях семейства кошачь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07:58:43Z</dcterms:created>
  <dc:creator>володя</dc:creator>
  <dc:description/>
  <dc:language>en-US</dc:language>
  <cp:lastModifiedBy>володя</cp:lastModifiedBy>
  <dcterms:modified xsi:type="dcterms:W3CDTF">2012-06-11T14:17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