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F48-FBC3-4BF3-8EA6-EE37B788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02E-DF12-4154-BAA7-F4C5ED70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D77-B91D-4758-9980-A79AE206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A2D-71FA-45AF-97E0-D03D165B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FADF-8AF2-4365-B028-F2BBB8E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F5E-C91F-4C91-A190-199DC6F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03C3-71D2-407C-A863-36E7F0B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45BA-BB6C-4BBB-BFF5-5D7DD16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518-B061-4AE5-B7BD-84C16F3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FDB-09C0-4880-9415-94945AB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171-0BFA-4740-B4A7-6A9A585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E1C-B7D1-4A46-B65F-E34F96D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188-E678-480D-A40B-DCF8CE84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F4F-92FA-4F4C-9B43-BC30D32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DEC4-E901-448F-9953-B2E43888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2ABF-2CAB-4D93-B776-EF7B48D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106-A4C0-4423-95F8-460299BB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265-DABF-4217-9228-440B5852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AFE-F6C4-4FE2-A0FE-684BFED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DFF-00E2-4C06-8836-35B4DA5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C43-543A-48E2-B57E-993F0D26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322-1867-4BF3-A80E-469CEF3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FD7-A56E-4853-9D21-45B9DB4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5C1-9477-4A8E-91B7-8600389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4C6-8973-4FE8-9B7F-953BFE31E0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620-0933-4C0D-9501-98E5DF01A6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идактический материал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Семейство кошачьих» для внеклассного занятия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3 класс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343040" y="49528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ГБОУ школа №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машева Л.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80880"/>
            <a:ext cx="8001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единственные кошки, самцы которых внешне легко отличаются от самок:у них есть грива. И это единственные кошки, живущие семьями – прайдами, которые включают одного-двух самцов, несколько самок и детёнышей разного возраста. Большие прайды состоят из 20 или даже 30 зверей. Африканские львы сохранились в основном на охраняемых территориях Африки. Лишь около двухсот азиатских львов населяют небольшой заповедник «Гирский лес» в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7200" y="304920"/>
            <a:ext cx="8305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г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Самые крупные и свирепые кошки на Земле. Полосатая окраска  служит тигру маскировкой – она делает его менее заметным среди высокой травы. У тигрицы рождается, как правило, 2 – 3 малыша. С ними мать не расстаётся 2 – 3 года, пока они не станут совершенно самостоятельными. На нашей планете сохранились подвиды: бенгальский тигр, амурский, китайский южный, индо-китайский и суматранский т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911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09480" y="762120"/>
            <a:ext cx="815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пард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самые быстрые звери на планете. На коротких дистанциях развивает скорость до 115 км/ч. Всё в нём приспособлено для скорости: сердце и лёгкие необычно большие, широкие дыхательные пути, его когти обеспечивают отличное сцепление с почвой. Гепарды кротки и легко приручаются, но практически не размножаются в нев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28600"/>
            <a:ext cx="838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нул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самые пушистые кошки, обитающие в монгольских степях и предгорьях. Охотятся они в основном на грызунов и п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09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9480" y="6094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мышовые коты хаус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аспространены в Южной и Восточной Азии. Живут в густых кустарниках и камышах по берегам рек, охотятся на птиц… и переняли у них умение строить гнёзда. Из сухих стеблей тростника мастерит хаус круглое гнездо прямо на земле, да ещё выстилают его собственной шер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09480" y="762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е «вегетарианские» кошки – эт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уарунд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Ягуарунди напоминает выдру – круглая голова, маленькие ушки, короткие ноги, длинное гибкое тело. Распространены они в Центральной Америке. Любят забираться на деревья и поедать фиги и другие фрук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7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опросы для внимательны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икие кошки являются самыми пушистыми кош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семейства кошачьих живут прайд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представители кошачьих самые быстрые на плане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овите самых крупных и свирепых диких коше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икие кошки являются самыми «вегетарианскими» кош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семейства кошачьих мастерит гнёзда на зем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роверьте себ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н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г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уарун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мышовые коты хау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йдите информацию о других представителях семейства кошачь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7:58:43Z</dcterms:created>
  <dc:creator>володя</dc:creator>
  <dc:description/>
  <dc:language>en-US</dc:language>
  <cp:lastModifiedBy>володя</cp:lastModifiedBy>
  <dcterms:modified xsi:type="dcterms:W3CDTF">2012-06-11T14:17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