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ECF-7A33-4D71-B108-163FA7A7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880-635E-4C74-BF82-6953819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329-4F3B-4BEB-93C3-13E756F7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3DE-41F8-4F09-B62A-A8BC204D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2AA-3548-4723-A878-5AFAC5F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136-B119-4A6F-98DB-CAEE2938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524-0A9C-4C17-93A0-855C009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3CF-7081-433E-A3B2-4033135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18F-32A4-4065-9207-039069A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F32-E985-472C-A651-A7F96D3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392-163E-4132-861B-0A35911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8F2-7DFA-47BD-B3F1-7373ECB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8F7-2B99-4B9C-A184-0838665E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Древние системы счисления 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оническая система первоначально не сильно потеснила уже установившуюся аттическую или акрофоническую (по начальным буквам слов, означавших числительные) системы исчисл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ость сохранять порядок букв, ради сохранения их числовых значений, привела к относительно ранней (4 век до н.э.) стабилизации греческого алфавита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- 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10 - 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100 - 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- 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20 - κ      200 - 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- 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30 - 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300 -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- 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40 - μ     400 - 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- 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50 - 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500 -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- 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60 - 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600 - 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- 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70 - 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700 -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- 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80 - π     800 - 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- 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90 - Ϙ     900 – 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имволы позволяют записать числа лишь от 1 до 999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 — 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32 — χλ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70 — Ϡ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м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мские обозначения чисел известны ныне лучше, чем любая другая древняя система счисления. Объясняется это не столько какими-то особыми достоинствами римской системы, сколько тем огромным влиянием, которым пользовалась римская империя в сравнительно недавнем прошлом. Этруски, завоевавшие Римскую империю в 7 в. до н.э., испытали на себе влияние восточно-средиземноморских культур. Этим отчасти объясняется сходство основных принципов Римской и аттической систем счис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мский симв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00                         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00                        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закрепления в памяти буквенных обозначений цифр в порядке убывания существует мнемоническое прави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е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е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ш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ош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питанны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дивидуу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, D, C, L, X, V,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а счисления май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ыми важными элементами в системе счисления майя были использование позиционного принципа и символа нуля. В схеме майя точка означала единицу, а повторяющиеся точки – числа до четырех; пятерку обозначала горизонтальная черта, а две и три горизонтальные черты обозначали, соответственно, числа десять и пятнадц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709800" cy="41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тай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а система возникла как результат оперирования с палочками, выкладываемыми для счета на стол или доску. Числа от единицы до пяти обозначались, соответственно, одной, двумя и т.д. палочками, выкладываемыми вертикально, а одна, две, три или четыре вертикальные палочки, над которыми помещалась одна поперечная палочка, означали числа шесть, семь, восемь и девя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 второй китайской системе счисления для обозначения первых девяти целых чисел или символов используют девять различных знаков и одиннадцать дополнительных символов для обозначения первых одиннадцати степеней числа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йская система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, самая распространенная на сегодняшний день нумерация. Название "арабская" для нее не совсем верно, поскольку хоть и завезли ее в Европу из арабских стран, но там она тоже была не родной. Настоящая родина этой нумерации - Ин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различных районах Индии существовали разнообразные системы нумерации, но в какой-то момент среди них выделилась одна. В ней цифры имели вид начальных букв соответствующих числительных на древнеиндийском языке - санскрите, использующем алфавит "Деванагари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1 2 3 4 5 6 7 8 9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а индийских цифр претерпевала многообразные изменения. Та форма, которой мы сейчас пользуемся установилась в XVI в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0" y="4941360"/>
            <a:ext cx="882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евнее изображение десятичных цифр не случайно: каждая цифра обозначает число по количеству углов в ней. Например, 0 — углов нет, 1 — один угол, 2 — два уг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80360" cy="83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авян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369576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жные и восточные славянские народы для записи чисел пользовались алфавитной нумерацией. У одних славянских народов числовые значения букв установились в порядке славянского алфавита, у других же (в том числе у русских) роль цифр играли не все буквы, а только те, которые имеются в греческом алфавите. Над буквой, обозначавшей цифру, ставился специальный значок ( "титло" ), изображаемый в приводимой здесь таблице. При этом числовые значения букв возрастали в том же порядке, в каком следовали буквы в греческом алфавите (порядок букв славянского алфавита был несколько ино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чно, разные системы не могли жить долго во всем мире в разных места по разным причинам, поэтому рано или поздно в мире распространились те или иные системы. Сейчас мир пользуется одним времяисчислением – современный циферблат – римская система, а вот современные часовые пояса – вавилонская.  Наиболее распространенные и известные цифры, взяты из арабской системы. Римские цифры так же распространены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843360" cy="514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езность однородности систем в мире заключается в том, что при путешествии, при внешней политики государств, при счете в целом, в государствах выгодно иметь одну и ту же систему летоисчисления, времяисчисления и т.д. К примеру меры веса, роста и расстояния выгодно иметь одно и тоже, а так же меры денежной мас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87280" y="156528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такое система счис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пособ записи (изображения)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а не могут быть без цифр. Но мало кто знает откуда появились используемые в современном мире цифры. Как распространились именно эти цифры, каким способом они получили признание у все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еще были цифры и системы в целом? Почему они не распространились и не были признан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971800" cy="4525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8144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счете, цифрах, измерении времени была всегда. С самого возникновения человечества, люди стремились познать больше в математики. Это было нужно для разметки территории, счете дней. Конечно, трудные схемы и цифры были очень громоздкие и люди всегда стремились к более простому и понят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нужно 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29240" cy="37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52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изучить и определить, как системы счисления повлияли на современ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Раскрыть особенности счисления разных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Найти сходства и отличия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Определить какие системы используются в современном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168720" cy="23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езы распространения различны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еза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 систем были распространены насильствен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римеру – арабская и рим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2306520"/>
            <a:ext cx="4038480" cy="311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еза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у нужна была определенность для более удобной внешней политики и жизни. Поэтому были выбраны наиболее простые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371760" cy="290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еегипет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снове как палочной, так и древнеегипетской системы счисления лежал простой принцип сложения, согласно которому значение числа равно сумме значений цифр, участвующих в его записи. Учёные относят древнеегипетскую систему счисления к десятичной непозицио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697800" cy="395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вилон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вилонская 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ась за две тысячи лет до н. э. Для записи чисел использовались всего два знака: прямой клин ↓ для обозначения единиц и лежачий клин ← для обозначения десятков внутри шестидесятиричного разряда. Для определения значения числа надо было изображение числа разбить на разряды справа налево. Новый разряд начинался с появления прямого клина после лежачего, если рассматривать число справа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Число 32 записывали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5327640" cy="19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е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ревней Греции имели хождение две основных системы счисления – аттическая (или геродианова) и ионическая (она же александрийская или алфавитна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тическая система счисления использовалась греками, по-видимому, уже к 5 в. до н.э. По существу это была десятичная система (хотя в ней также было выделено и число пять), но аттические обозначения чисел использовали повторы коллективных символ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1936440" cy="51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48:04Z</dcterms:created>
  <dc:creator>1</dc:creator>
  <dc:description/>
  <dc:language>en-US</dc:language>
  <cp:lastModifiedBy>Пользователь</cp:lastModifiedBy>
  <dcterms:modified xsi:type="dcterms:W3CDTF">2011-01-24T16:10:34Z</dcterms:modified>
  <cp:revision>5</cp:revision>
  <dc:subject/>
  <dc:title>Системы счисления</dc:title>
</cp:coreProperties>
</file>