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20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9C03-5CDD-4BC5-8E78-5B0EF856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B60A-D1A8-46E4-BE56-DC84ECF8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6E61-7C7A-4154-8711-C24D26402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78E2-4984-4795-B793-AD99537DB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8C38A-D8DB-45FC-AB07-C8CFBA7E9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9A1E9-8CF4-4A71-BFEC-44DF41C6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783B6-0963-47D4-A333-570C04FD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B804A-6F8A-4048-AC5C-4C700F33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C2516-5674-409B-9B6F-AC606E4E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CC536-1490-482E-A0F0-611B64F0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CA04F-7D3C-4F68-B268-25E71BAA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21EB-4C61-4A83-B8B2-7A62313D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FA8C6-4289-4B9A-A219-127A3F48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CB812-CD85-47E7-A143-0B0AE280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89AF5-11A5-43D8-B0CF-84642614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D4B83-84F2-4BC3-BEEF-D4A7D9097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EEF77-1D7C-4DC9-B3D2-275F031D2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FD06-A5D2-406C-BDB9-3799B15D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D407-57E7-4024-881C-40889DCD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071E-E775-4C90-989B-4AE336D6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ADBF-332A-46EE-A148-41C7A484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ED52-D640-48FE-A7B1-B94FA5FA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C43B-BBFA-4BC3-9C90-A658D300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8FCB-3FC6-4E65-BA26-CCBE2B96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359D-6B8A-4778-8783-6927826565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38A4-18BB-4FD9-B018-32A7529C2CC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 </a:t>
            </a:r>
            <a:br>
              <a:rPr sz="4000"/>
            </a:br>
            <a:r>
              <a:rPr b="1" lang="ru-RU" sz="4400" spc="-1" strike="noStrike">
                <a:solidFill>
                  <a:srgbClr val="ff0066"/>
                </a:solidFill>
                <a:latin typeface="Tahoma"/>
              </a:rPr>
              <a:t>“</a:t>
            </a:r>
            <a:r>
              <a:rPr b="1" lang="ru-RU" sz="4400" spc="-1" strike="noStrike">
                <a:solidFill>
                  <a:srgbClr val="ff0066"/>
                </a:solidFill>
                <a:latin typeface="Tahoma"/>
              </a:rPr>
              <a:t>Здоровье нации</a:t>
            </a: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0066"/>
                </a:solidFill>
                <a:latin typeface="Tahoma"/>
              </a:rPr>
              <a:t>"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971640" y="2454120"/>
            <a:ext cx="6994440" cy="44038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кровь не поступает к   ногам,  и развивается гангрена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404352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5076720" y="1916280"/>
          <a:ext cx="3456000" cy="4249440"/>
        </p:xfrm>
        <a:graphic>
          <a:graphicData uri="http://schemas.openxmlformats.org/drawingml/2006/table">
            <a:tbl>
              <a:tblPr/>
              <a:tblGrid>
                <a:gridCol w="3456000"/>
              </a:tblGrid>
              <a:tr h="42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ногие инвалиды с ампутированными ногами расплачиваются за выкуренные в юности сигареты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74872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Курить во время беременности   просто недопустимо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гаретный дым вызывает генные мутации у эмбриона, если беременная женщина курит.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Например « заячья губ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заячья губа"/>
          <p:cNvPicPr/>
          <p:nvPr/>
        </p:nvPicPr>
        <p:blipFill>
          <a:blip r:embed="rId1"/>
          <a:stretch/>
        </p:blipFill>
        <p:spPr>
          <a:xfrm>
            <a:off x="2124000" y="2538360"/>
            <a:ext cx="6624720" cy="4319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Задымить табачным чад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Можно все на свет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Только жизнь свою не над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Дарить сигарет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1187280" y="2708280"/>
            <a:ext cx="6913800" cy="3960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пиво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920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600"/>
                </a:solidFill>
                <a:latin typeface="Tahoma"/>
              </a:rPr>
              <a:t>90% людей регулярно выпивают после рабочего дня, по праздника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280" y="3212640"/>
            <a:ext cx="8147160" cy="28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Мы пьём для удовольствия или для здоровь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845480" cy="2374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C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индром  «пивного сердца»</a:t>
            </a:r>
            <a:br>
              <a:rPr sz="4000"/>
            </a:b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  Когда сердце сильно увеличивается в размерах, провисает, становится дряблым и плохо качает кровь</a:t>
            </a: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0" y="2708280"/>
            <a:ext cx="6400800" cy="414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6804000" y="3141720"/>
          <a:ext cx="1944720" cy="143964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ормально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 пивно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рдц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Пивной живо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3610080" cy="454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4427640" y="1700280"/>
          <a:ext cx="4392360" cy="4897440"/>
        </p:xfrm>
        <a:graphic>
          <a:graphicData uri="http://schemas.openxmlformats.org/drawingml/2006/table">
            <a:tbl>
              <a:tblPr/>
              <a:tblGrid>
                <a:gridCol w="4392360"/>
              </a:tblGrid>
              <a:tr h="489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У пьющих пиво мужчин начинает откладываться жир по женскому типу - на бедрах и боках - разрастаются грудные железы, становится шире таз, они становятся женоподобными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20 лет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 пивного стажа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   и импотенция гарантирова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rcRect l="0" t="0" r="0" b="17637"/>
          <a:stretch/>
        </p:blipFill>
        <p:spPr>
          <a:xfrm>
            <a:off x="1619280" y="1916280"/>
            <a:ext cx="5267160" cy="4941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ahoma"/>
              </a:rPr>
              <a:t>Пьющая молодежь превращается в родителей-пьяниц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108000" y="2190600"/>
            <a:ext cx="5616360" cy="39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6012000" y="1341360"/>
          <a:ext cx="2736720" cy="5456160"/>
        </p:xfrm>
        <a:graphic>
          <a:graphicData uri="http://schemas.openxmlformats.org/drawingml/2006/table">
            <a:tbl>
              <a:tblPr/>
              <a:tblGrid>
                <a:gridCol w="2736720"/>
              </a:tblGrid>
              <a:tr h="59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32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Пивная субкультура - это начало  наркотизма, ведущего к деградации поколений, а в конце концов - к гибели всего народа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в РФ существует 296 пивоваренных заводо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"Невское"  - Дани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"Холстер" -  Германи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"Миллер" -  Америк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"Старый мельник" - Турци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"Толстяк" -  Бельги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"Балтика - Скандинав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Tahoma"/>
              </a:rPr>
              <a:t>Платить за их бизнес мы будем своим будущи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44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Цель: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- рассмотреть  влияние алкоголя и никотина на организм человека;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-воспитывать чувство ответственности за свое здоровье и здоровье близких люде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0" y="950040"/>
            <a:ext cx="6372360" cy="49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«Не СПИД, не туберкулез погубят Россию,</a:t>
            </a: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а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пивной алкоголизм</a:t>
            </a:r>
            <a:br>
              <a:rPr sz="3600"/>
            </a:b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среди юного поколения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главный санитарный врач РФ Геннадий Онищенк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5435640" y="1373040"/>
            <a:ext cx="3708360" cy="2781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Энергетические напит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0" y="2565360"/>
            <a:ext cx="3132000" cy="410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4067280" y="2492280"/>
          <a:ext cx="4968720" cy="3384720"/>
        </p:xfrm>
        <a:graphic>
          <a:graphicData uri="http://schemas.openxmlformats.org/drawingml/2006/table">
            <a:tbl>
              <a:tblPr/>
              <a:tblGrid>
                <a:gridCol w="4968720"/>
              </a:tblGrid>
              <a:tr h="33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Кофеин приводит к повышению кислотности желудочного сока (язве желудка), нарушению сердечного ритма и повышению артериального давлени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Энергетические напитки не дают энергию, они высасывают ее из тебя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ловек использует свои собственные ресурсы, а проще говоря, берет их у себя взаймы. Долг, разумеется, рано или поздно приходится возвращать, расплачиваясь </a:t>
            </a: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усталостью, бессонницей, раздражительностью и депресси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291960"/>
            <a:ext cx="8362800" cy="22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По данным   до 70 % преступлений подростки совершают в состоянии опьянения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280" y="2923920"/>
            <a:ext cx="814716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Почему подростки начинают пить и курить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6 мотиваций</a:t>
            </a: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к употреблению  алкоголя и сигаре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858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0000"/>
                </a:solidFill>
                <a:latin typeface="Tahoma"/>
              </a:rPr>
              <a:t>1. 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жажда удовольствия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21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0000"/>
                </a:solidFill>
                <a:latin typeface="Tahoma"/>
              </a:rPr>
              <a:t>2. 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состояние эмоционального напряжения, тревоги, беспокойства, неуверенности</a:t>
            </a:r>
            <a:r>
              <a:rPr b="0" i="1" lang="ru-RU" sz="21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66"/>
                </a:solidFill>
                <a:latin typeface="Tahoma"/>
              </a:rPr>
              <a:t>3.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безволие , неспособность противостоять окружению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.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1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4.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 допинг, для того, чтобы поднять тонус, повысить активность и улучшить работоспособность. </a:t>
            </a:r>
            <a:r>
              <a:rPr b="1" i="1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i="1" lang="ru-RU" sz="2100" spc="-1" strike="noStrike">
                <a:solidFill>
                  <a:srgbClr val="ff0000"/>
                </a:solidFill>
                <a:latin typeface="Tahoma"/>
              </a:rPr>
              <a:t>5.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привлечь внимание окружающих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2100" spc="-1" strike="noStrike">
                <a:solidFill>
                  <a:srgbClr val="ff0066"/>
                </a:solidFill>
                <a:latin typeface="Tahoma"/>
              </a:rPr>
              <a:t>6.</a:t>
            </a:r>
            <a:r>
              <a:rPr b="0" lang="ru-RU" sz="21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2100" spc="-1" strike="noStrike">
                <a:solidFill>
                  <a:srgbClr val="ffcc00"/>
                </a:solidFill>
                <a:latin typeface="Tahoma"/>
              </a:rPr>
              <a:t>праздники и другие поводы</a:t>
            </a:r>
            <a:r>
              <a:rPr b="0" lang="ru-RU" sz="21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Tahoma"/>
              </a:rPr>
              <a:t>По результатам анкетирования  в нашем классе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Курят автоматически не задумываясь-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46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Закуривают когда злятся-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 5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ыпивают в компаниях-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6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Употребляют наркотики-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 26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Tahoma"/>
              </a:rPr>
              <a:t>И все знают о вреде алкоголя и никотин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Так что пора освободится россиянам от иллюзий и вспомнить наставление столетней давности царского генерала А.Нечволодова: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6560" y="2636640"/>
            <a:ext cx="78598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00c600"/>
                </a:solidFill>
                <a:latin typeface="Tahoma"/>
              </a:rPr>
              <a:t>"Путь России от разорения к достатку - это путь трезвой России"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1692360" y="4653000"/>
            <a:ext cx="3816360" cy="2205000"/>
          </a:xfrm>
          <a:prstGeom prst="rect">
            <a:avLst/>
          </a:prstGeom>
          <a:ln w="0">
            <a:noFill/>
          </a:ln>
        </p:spPr>
      </p:pic>
      <p:pic>
        <p:nvPicPr>
          <p:cNvPr id="143" name="98 DJ DADO - X-FILES.mp3" descr=""/>
          <p:cNvPicPr/>
          <p:nvPr/>
        </p:nvPicPr>
        <p:blipFill>
          <a:blip r:embed="rId2"/>
          <a:stretch/>
        </p:blipFill>
        <p:spPr>
          <a:xfrm>
            <a:off x="774072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35483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Сохранение здоровья – это основная задача в жизни любого человека и целой наци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000" y="3240000"/>
            <a:ext cx="8002440" cy="27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9900"/>
                </a:solidFill>
                <a:latin typeface="Tahoma"/>
              </a:rPr>
              <a:t>«Беречь здоровье, не вредить здоровью, укреплять свое здоровье»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Курить – это хорошо, или плохо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1280" y="3284640"/>
            <a:ext cx="807552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Почему плохо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tabak3"/>
          <p:cNvPicPr/>
          <p:nvPr/>
        </p:nvPicPr>
        <p:blipFill>
          <a:blip r:embed="rId1"/>
          <a:srcRect l="0" t="731" r="0" b="0"/>
          <a:stretch/>
        </p:blipFill>
        <p:spPr>
          <a:xfrm>
            <a:off x="0" y="279360"/>
            <a:ext cx="9144000" cy="5886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Tahoma"/>
              </a:rPr>
              <a:t>Нервные клетки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эритроциты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                                       кров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rcRect l="0" t="1432" r="2527" b="1432"/>
          <a:stretch/>
        </p:blipFill>
        <p:spPr>
          <a:xfrm>
            <a:off x="0" y="1989000"/>
            <a:ext cx="3635280" cy="367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Redbloodcells"/>
          <p:cNvPicPr/>
          <p:nvPr/>
        </p:nvPicPr>
        <p:blipFill>
          <a:blip r:embed="rId2"/>
          <a:stretch/>
        </p:blipFill>
        <p:spPr>
          <a:xfrm>
            <a:off x="4716360" y="2205000"/>
            <a:ext cx="4427640" cy="4110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71280" y="4709520"/>
            <a:ext cx="435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Лёгк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урильщ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356000" y="4709520"/>
            <a:ext cx="464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Лёгкие челове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некурящег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rcRect l="1119" t="0" r="0" b="0"/>
          <a:stretch/>
        </p:blipFill>
        <p:spPr>
          <a:xfrm>
            <a:off x="4067280" y="668160"/>
            <a:ext cx="5118120" cy="3984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-17640" y="658800"/>
            <a:ext cx="4084920" cy="3986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Отдышка, кашель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Курящие заболевают раком легкого в 30 раз чаще, чем некурящие люд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Инфаркт миокарда у курящих встречается в 12 раза чаще, чем у некурящих.</a:t>
            </a:r>
            <a:r>
              <a:rPr b="0" lang="ru-RU" sz="4400" spc="-1" strike="noStrike">
                <a:solidFill>
                  <a:srgbClr val="a50021"/>
                </a:solidFill>
                <a:latin typeface="Tahoma"/>
              </a:rPr>
              <a:t> </a:t>
            </a:r>
            <a:br>
              <a:rPr sz="4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46-летний телеведущий шоумен Владимир Турчинский,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погиб от инфаркта миокард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611280" y="2965320"/>
            <a:ext cx="4619520" cy="389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5435640" y="2276640"/>
          <a:ext cx="3457440" cy="4359240"/>
        </p:xfrm>
        <a:graphic>
          <a:graphicData uri="http://schemas.openxmlformats.org/drawingml/2006/table">
            <a:tbl>
              <a:tblPr/>
              <a:tblGrid>
                <a:gridCol w="3457440"/>
              </a:tblGrid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орвавшийся тромб — сгусток крови перекрыл левую коронарную артерию, снабжающую кровью сердце. Смерть наступила за считанные минуты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08:16:57Z</dcterms:created>
  <dc:creator>Admin</dc:creator>
  <dc:description/>
  <dc:language>en-US</dc:language>
  <cp:lastModifiedBy>12</cp:lastModifiedBy>
  <dcterms:modified xsi:type="dcterms:W3CDTF">2012-06-11T05:36:11Z</dcterms:modified>
  <cp:revision>15</cp:revision>
  <dc:subject/>
  <dc:title>Нормальное и пивное сердце.  Cиндром "пивного сердца" когда сердце сильно увеличивается в размерах, провисает, становится дряблым и плохо качает кровь. </dc:title>
</cp:coreProperties>
</file>