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3AB-9BD8-4C24-A8E4-04245F04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DF4-A0CA-4B19-9B7F-BFA1E7F8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AE4-6D2F-44F3-BB41-FC8E45B0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2A4-B007-4A9C-9A93-D64289FD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25BB9-8E0E-4260-ACBC-76466711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E3684-4248-45A6-BACF-2B247079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47D92-A489-426A-A2AC-2105C043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8F181-39ED-4C41-896F-26DFB00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338FB-1684-4139-BE42-389A074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B63E4-96F7-4789-AC8F-41F85186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06EE6-B887-4C61-A153-9F7FD34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F16-9E4D-4F0A-B547-2699B471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DD073-8AF1-42AE-B3B8-FE5A79A1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00386-3A00-47C6-9184-82F7CB7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9D519-4486-4D20-B893-C9D4FD88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8B178-2F11-425E-B2D9-33170424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EEDFA-9600-4EAA-B51D-90E6799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DE6-CC1B-48F5-A6A5-01B1CC7B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A8E-B489-42CE-8CC6-F3858606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C765-0A24-4778-BA80-7CA3ABD2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B53-BBEC-433D-B691-DFD3BFAE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D47-574C-46EE-A3F2-85E839E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0C8-1566-4E86-9972-CB96C3D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A3E-8B35-4049-B884-7741D4C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31E-60DE-4BC5-B28F-67B29DFA1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C304-572D-4E00-BB8F-D1BFD9714F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000"/>
            </a:b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Здоровье нации</a:t>
            </a:r>
            <a:r>
              <a:rPr b="1" lang="en-US" sz="4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971640" y="2454120"/>
            <a:ext cx="6994440" cy="4403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ровь не поступает к   ногам,  и развивается гангрен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4352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076720" y="1916280"/>
          <a:ext cx="3456000" cy="424944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42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огие инвалиды с ампутированными ногами расплачиваются за выкуренные в юности сигарет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Курить во время беременности   просто недопустимо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гаретный дым вызывает генные мутации у эмбриона, если беременная женщина курит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апример « заячья губ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заячья губа"/>
          <p:cNvPicPr/>
          <p:nvPr/>
        </p:nvPicPr>
        <p:blipFill>
          <a:blip r:embed="rId1"/>
          <a:stretch/>
        </p:blipFill>
        <p:spPr>
          <a:xfrm>
            <a:off x="2124000" y="2538360"/>
            <a:ext cx="6624720" cy="431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Задымить табачным чадо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Можно все на свет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Только жизнь свою не над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Дарить сигарет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6913800" cy="396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пиво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2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90% людей регулярно выпивают после рабочего дня, по праздника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3212640"/>
            <a:ext cx="8147160" cy="28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Мы пьём для удовольствия или для здоровь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5480" cy="23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ндром  «пивного сердца»</a:t>
            </a:r>
            <a:br>
              <a:rPr sz="4000"/>
            </a:b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  Когда сердце сильно увеличивается в размерах, провисает, становится дряблым и плохо качает кровь</a:t>
            </a: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2708280"/>
            <a:ext cx="640080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6804000" y="3141720"/>
          <a:ext cx="1944720" cy="143964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рмаль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 пив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ердц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Пивной живо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10080" cy="45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4427640" y="1700280"/>
          <a:ext cx="4392360" cy="4897440"/>
        </p:xfrm>
        <a:graphic>
          <a:graphicData uri="http://schemas.openxmlformats.org/drawingml/2006/table">
            <a:tbl>
              <a:tblPr/>
              <a:tblGrid>
                <a:gridCol w="4392360"/>
              </a:tblGrid>
              <a:tr h="48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У пьющих пиво мужчин начинает откладываться жир по женскому типу - на бедрах и боках - разрастаются грудные железы, становится шире таз, они становятся женоподобными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 лет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пивного стажа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  и импотенция гарантиров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rcRect l="0" t="0" r="0" b="17637"/>
          <a:stretch/>
        </p:blipFill>
        <p:spPr>
          <a:xfrm>
            <a:off x="1619280" y="1916280"/>
            <a:ext cx="5267160" cy="4941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ahoma"/>
              </a:rPr>
              <a:t>Пьющая молодежь превращается в родителей-пьяниц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08000" y="2190600"/>
            <a:ext cx="5616360" cy="393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012000" y="1341360"/>
          <a:ext cx="2736720" cy="545616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59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Пивная субкультура - это начало  наркотизма, ведущего к деградации поколений, а в конце концов - к гибели всего народа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в РФ существует 296 пивоваренных завод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Невское"  - Да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Холстер" -  Герман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Миллер" -  Амери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Старый мельник" - Турц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Толстяк" -  Бельг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"Балтика - Скандина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латить за их бизнес мы будем своим будущи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Цель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- рассмотреть  влияние алкоголя и никотина на организм человека;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-воспитывать чувство ответственности за свое здоровье и здоровье близких люде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950040"/>
            <a:ext cx="637236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«Не СПИД, не туберкулез погубят Россию,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ивной алкоголизм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среди юного поколени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главный санитарный врач РФ Геннадий Онищенко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5435640" y="137304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Энергетические напит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3132000" cy="41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067280" y="2492280"/>
          <a:ext cx="4968720" cy="3384720"/>
        </p:xfrm>
        <a:graphic>
          <a:graphicData uri="http://schemas.openxmlformats.org/drawingml/2006/table">
            <a:tbl>
              <a:tblPr/>
              <a:tblGrid>
                <a:gridCol w="4968720"/>
              </a:tblGrid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Кофеин приводит к повышению кислотности желудочного сока (язве желудка), нарушению сердечного ритма и повышению артериального давле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Энергетические напитки не дают энергию, они высасывают ее из теб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овек использует свои собственные ресурсы, а проще говоря, берет их у себя взаймы. Долг, разумеется, рано или поздно приходится возвращать, расплачиваясь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усталостью, бессонницей, раздражительностью и депресс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91960"/>
            <a:ext cx="836280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 данным   до 70 % преступлений подростки совершают в состоянии опьяне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2923920"/>
            <a:ext cx="81471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Почему подростки начинают пить и курить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6 мотиваций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к употреблению  алкоголя и сигар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858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1.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жажда удовольствия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2.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состояние эмоционального напряжения, тревоги, беспокойства, неуверенности</a:t>
            </a: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66"/>
                </a:solidFill>
                <a:latin typeface="Tahoma"/>
              </a:rPr>
              <a:t>3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безволие , неспособность противостоять окружению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.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4.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допинг, для того, чтобы поднять тонус, повысить активность и улучшить работоспособность. </a:t>
            </a: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ru-RU" sz="21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ривлечь внимание окружающих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0066"/>
                </a:solidFill>
                <a:latin typeface="Tahoma"/>
              </a:rPr>
              <a:t>6.</a:t>
            </a: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100" spc="-1" strike="noStrike">
                <a:solidFill>
                  <a:srgbClr val="ffcc00"/>
                </a:solidFill>
                <a:latin typeface="Tahoma"/>
              </a:rPr>
              <a:t>праздники и другие поводы</a:t>
            </a:r>
            <a:r>
              <a:rPr b="0" lang="ru-RU" sz="21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По результатам анкетирования  в нашем класс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Курят автоматически не задумываясь-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4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Закуривают когда злятся-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5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пивают в компаниях-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Употребляют наркотики-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2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И все знают о вреде алкоголя и никот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Так что пора освободится россиянам от иллюзий и вспомнить наставление столетней давности царского генерала А.Нечволодова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560" y="2636640"/>
            <a:ext cx="7859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00c600"/>
                </a:solidFill>
                <a:latin typeface="Tahoma"/>
              </a:rPr>
              <a:t>"Путь России от разорения к достатку - это путь трезвой России"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92360" y="4653000"/>
            <a:ext cx="3816360" cy="2205000"/>
          </a:xfrm>
          <a:prstGeom prst="rect">
            <a:avLst/>
          </a:prstGeom>
          <a:ln w="0">
            <a:noFill/>
          </a:ln>
        </p:spPr>
      </p:pic>
      <p:pic>
        <p:nvPicPr>
          <p:cNvPr id="143" name="98 DJ DADO - X-FILES.mp3" descr=""/>
          <p:cNvPicPr/>
          <p:nvPr/>
        </p:nvPicPr>
        <p:blipFill>
          <a:blip r:embed="rId2"/>
          <a:stretch/>
        </p:blipFill>
        <p:spPr>
          <a:xfrm>
            <a:off x="77407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3548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охранение здоровья – это основная задача в жизни любого человека и целой н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3240000"/>
            <a:ext cx="800244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«Беречь здоровье, не вредить здоровью, укреплять свое здоровье»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урить – это хорошо, или плохо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1280" y="3284640"/>
            <a:ext cx="8075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чему плох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tabak3"/>
          <p:cNvPicPr/>
          <p:nvPr/>
        </p:nvPicPr>
        <p:blipFill>
          <a:blip r:embed="rId1"/>
          <a:srcRect l="0" t="731" r="0" b="0"/>
          <a:stretch/>
        </p:blipFill>
        <p:spPr>
          <a:xfrm>
            <a:off x="0" y="279360"/>
            <a:ext cx="9144000" cy="588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Нервные клетк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эритроциты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                                      кр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0" t="1432" r="2527" b="1432"/>
          <a:stretch/>
        </p:blipFill>
        <p:spPr>
          <a:xfrm>
            <a:off x="0" y="1989000"/>
            <a:ext cx="3635280" cy="36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Redbloodcells"/>
          <p:cNvPicPr/>
          <p:nvPr/>
        </p:nvPicPr>
        <p:blipFill>
          <a:blip r:embed="rId2"/>
          <a:stretch/>
        </p:blipFill>
        <p:spPr>
          <a:xfrm>
            <a:off x="4716360" y="2205000"/>
            <a:ext cx="4427640" cy="4110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1280" y="4709520"/>
            <a:ext cx="43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ёг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урильщ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356000" y="4709520"/>
            <a:ext cx="46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Лёгкие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некуряще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1119" t="0" r="0" b="0"/>
          <a:stretch/>
        </p:blipFill>
        <p:spPr>
          <a:xfrm>
            <a:off x="4067280" y="668160"/>
            <a:ext cx="5118120" cy="3984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-17640" y="658800"/>
            <a:ext cx="4084920" cy="3986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Отдышка, кашель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урящие заболевают раком легкого в 30 раз чаще, чем некурящие люд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Инфаркт миокарда у курящих встречается в 12 раза чаще, чем у некурящих.</a:t>
            </a: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46-летний телеведущий шоумен Владимир Турчинский,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погиб от инфаркта миокард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11280" y="2965320"/>
            <a:ext cx="4619520" cy="389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5435640" y="2276640"/>
          <a:ext cx="3457440" cy="4359240"/>
        </p:xfrm>
        <a:graphic>
          <a:graphicData uri="http://schemas.openxmlformats.org/drawingml/2006/table">
            <a:tbl>
              <a:tblPr/>
              <a:tblGrid>
                <a:gridCol w="345744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орвавшийся тромб — сгусток крови перекрыл левую коронарную артерию, снабжающую кровью сердце. Смерть наступила за считанные минуты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8:16:57Z</dcterms:created>
  <dc:creator>Admin</dc:creator>
  <dc:description/>
  <dc:language>en-US</dc:language>
  <cp:lastModifiedBy>12</cp:lastModifiedBy>
  <dcterms:modified xsi:type="dcterms:W3CDTF">2012-06-11T05:36:11Z</dcterms:modified>
  <cp:revision>15</cp:revision>
  <dc:subject/>
  <dc:title>Нормальное и пивное сердце.  Cиндром "пивного сердца" когда сердце сильно увеличивается в размерах, провисает, становится дряблым и плохо качает кровь. </dc:title>
</cp:coreProperties>
</file>