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7F4-1C75-4C80-80AF-8F51F398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009-16F1-4285-A904-A8DE7C4B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88E-BD7D-4C2C-BFB1-506F4CE8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6C3-94E1-48B3-92B2-1782038F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40C-3D49-4364-92A0-7BAA95BA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AD9-CD08-471F-9ECB-AC9E86A0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765-5336-4F2E-8F32-B187E3E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616-9F2B-45EC-8640-7DBDD7CB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527-9942-4F4B-A914-3538D71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921-DE40-4052-B64F-D72FBD5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65D-B4A2-4103-BEAC-DBD2325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A25-FE67-4D8C-ACFA-4F97D38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29C-89FD-407C-A80C-9612656BE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ter in Eng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"/>
              </a:rPr>
              <a:t>Презентацию выполнила ученица Брандукова улья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nokey.jpg"/>
          <p:cNvPicPr/>
          <p:nvPr/>
        </p:nvPicPr>
        <p:blipFill>
          <a:blip r:embed="rId1"/>
          <a:stretch/>
        </p:blipFill>
        <p:spPr>
          <a:xfrm>
            <a:off x="1600200" y="990720"/>
            <a:ext cx="556272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7575d1"/>
                </a:solidFill>
                <a:latin typeface="Calibri"/>
                <a:ea typeface="Times New Roman"/>
              </a:rPr>
              <a:t>Winter of England as a rule, damp and soft. In January the average temperature is from +4 to +6.</a:t>
            </a:r>
            <a:r>
              <a:rPr b="0" lang="ru-RU" sz="3200" spc="-1" strike="noStrike">
                <a:solidFill>
                  <a:srgbClr val="7575d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53537412_1263026856_103.jpg"/>
          <p:cNvPicPr/>
          <p:nvPr/>
        </p:nvPicPr>
        <p:blipFill>
          <a:blip r:embed="rId1"/>
          <a:stretch/>
        </p:blipFill>
        <p:spPr>
          <a:xfrm>
            <a:off x="990720" y="1981080"/>
            <a:ext cx="6989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6705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The wind blowing from the southwest, promotes increase of winter temperature, but together with it brings rains and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rubric_issue_173169.jpg"/>
          <p:cNvPicPr/>
          <p:nvPr/>
        </p:nvPicPr>
        <p:blipFill>
          <a:blip r:embed="rId1"/>
          <a:stretch/>
        </p:blipFill>
        <p:spPr>
          <a:xfrm>
            <a:off x="914400" y="2666880"/>
            <a:ext cx="769608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2bfc5"/>
                </a:solidFill>
                <a:latin typeface="Calibri"/>
                <a:ea typeface="Times New Roman"/>
              </a:rPr>
              <a:t>The winds blowing from the East and from the northeast bring frosty weather to England. In the southern part   of England snow is considered an unusual occurr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8.jpg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4:47:32Z</dcterms:created>
  <dc:creator>Пользователь</dc:creator>
  <dc:description/>
  <dc:language>en-US</dc:language>
  <cp:lastModifiedBy>Ванек</cp:lastModifiedBy>
  <dcterms:modified xsi:type="dcterms:W3CDTF">2012-05-15T05:46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