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F52-E668-4B83-B334-E40898EA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6E3-5B68-4047-9ED0-333F0B25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173-6E3F-4106-B81C-83C0A20D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3A7-5F21-4687-8CB5-254BB96B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6BF-0B14-4335-A90E-214BDF6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5A9-CBE4-45AE-B4D2-69951BE2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607-FC7B-4893-AE56-E917A9C0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BAE-4EA9-476F-B62B-EC99A9C6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75C-748E-48E8-A13E-0A2E0FB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EFB-E721-4D22-A525-E75C3EE4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556-1EDA-4B9C-8880-8792B88A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ABD-5B5E-4239-B12E-D5E77637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DE7-DB17-4997-B93C-FA75B6F506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ter in Eng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Презентацию выполнила ученица Брандукова улья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nokey.jpg"/>
          <p:cNvPicPr/>
          <p:nvPr/>
        </p:nvPicPr>
        <p:blipFill>
          <a:blip r:embed="rId1"/>
          <a:stretch/>
        </p:blipFill>
        <p:spPr>
          <a:xfrm>
            <a:off x="1600200" y="990720"/>
            <a:ext cx="5562720" cy="3970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7575d1"/>
                </a:solidFill>
                <a:latin typeface="Calibri"/>
                <a:ea typeface="Times New Roman"/>
              </a:rPr>
              <a:t>Winter of England as a rule, damp and soft. In January the average temperature is from +4 to +6.</a:t>
            </a: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5" descr="53537412_1263026856_103.jpg"/>
          <p:cNvPicPr/>
          <p:nvPr/>
        </p:nvPicPr>
        <p:blipFill>
          <a:blip r:embed="rId1"/>
          <a:stretch/>
        </p:blipFill>
        <p:spPr>
          <a:xfrm>
            <a:off x="990720" y="1981080"/>
            <a:ext cx="6989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6705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The wind blowing from the southwest, promotes increase of winter temperature, but together with it brings rains and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3" descr="rubric_issue_173169.jpg"/>
          <p:cNvPicPr/>
          <p:nvPr/>
        </p:nvPicPr>
        <p:blipFill>
          <a:blip r:embed="rId1"/>
          <a:stretch/>
        </p:blipFill>
        <p:spPr>
          <a:xfrm>
            <a:off x="914400" y="2666880"/>
            <a:ext cx="769608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532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2bfc5"/>
                </a:solidFill>
                <a:latin typeface="Calibri"/>
                <a:ea typeface="Times New Roman"/>
              </a:rPr>
              <a:t>The winds blowing from the East and from the northeast bring frosty weather to England. In the southern part   of England snow is considered an unusual occurr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8.jpg"/>
          <p:cNvPicPr/>
          <p:nvPr/>
        </p:nvPicPr>
        <p:blipFill>
          <a:blip r:embed="rId1"/>
          <a:stretch/>
        </p:blipFill>
        <p:spPr>
          <a:xfrm>
            <a:off x="609480" y="2209680"/>
            <a:ext cx="80773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4:47:32Z</dcterms:created>
  <dc:creator>Пользователь</dc:creator>
  <dc:description/>
  <dc:language>en-US</dc:language>
  <cp:lastModifiedBy>Ванек</cp:lastModifiedBy>
  <dcterms:modified xsi:type="dcterms:W3CDTF">2012-05-15T05:46:5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