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B59-80CF-4937-9E76-7C4B5680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71760" y="396432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136-D898-48C5-839E-0DF2C4EF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748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6FC-E48E-416C-B2BC-6531BA24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728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280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7176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728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280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CB4-5200-43EB-A3CB-D8E4115C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3E6E-891E-436B-B85A-E5A0DD91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4D0C-6AA6-466D-93AB-7E2A1390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F72B-D584-460C-9F04-67295072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9243-36CF-4148-994E-654869B7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2B65-5CF3-4E2A-9615-E21C1A81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71760" y="274320"/>
            <a:ext cx="711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433E-239F-4FE0-BAB5-C85F3C13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5274-0E72-4F62-A700-F12ED876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62D-9B63-445E-B772-C1067BF2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1748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0975-882C-4E1F-B562-6EAD076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F6D0-8271-4D60-880B-30EDC14F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71760" y="396432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87FB-016B-41DD-A410-EE0BFC70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1748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90B4-BCA2-4000-B573-1E52D185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728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2800" y="160020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7176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728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2800" y="3964320"/>
            <a:ext cx="229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9E97-DB25-42C6-8472-F92AD417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57B-71A1-4BF3-A659-8A9C474A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B90-FE30-4BF2-8D35-1A726DC8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0BE-9A3F-4C3E-9603-E9CBEEB1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71760" y="274320"/>
            <a:ext cx="711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BDE-284E-410F-9417-9254528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2CB-DB0E-4A76-B397-8A4F514B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7480" y="396432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1E9-61ED-4505-9267-9C4FEEBD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176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7480" y="1600200"/>
            <a:ext cx="347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1760" y="3964320"/>
            <a:ext cx="711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2B4-4C56-41F9-AAF5-4B3B9AB7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1" marL="735480" indent="-2829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2" marL="1131480" indent="-226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3" marL="1584000" indent="-22608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4" marL="2036520" indent="-22608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71F1-7221-4604-8EDD-004632640D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760" y="274320"/>
            <a:ext cx="711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Segoe Print"/>
              </a:rPr>
              <a:t>Click to edit the title text format</a:t>
            </a:r>
            <a:endParaRPr b="0" lang="en-US" sz="3600" spc="-1" strike="noStrike">
              <a:solidFill>
                <a:srgbClr val="953735"/>
              </a:solidFill>
              <a:latin typeface="Segoe Prin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7176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1" marL="735480" indent="-28296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2" marL="1131480" indent="-226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3" marL="1584000" indent="-22608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4" marL="2036520" indent="-22608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Sego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CED2-96A9-43CB-AF8F-40467610C3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0792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504d"/>
                </a:solidFill>
                <a:latin typeface="Georgia"/>
              </a:rPr>
              <a:t>СЛОВАРНЫЙ ДИКТАНТ №</a:t>
            </a:r>
            <a:r>
              <a:rPr b="1" lang="en-US" sz="5400" spc="-1" strike="noStrike">
                <a:solidFill>
                  <a:srgbClr val="c0504d"/>
                </a:solidFill>
                <a:latin typeface="Georgia"/>
              </a:rPr>
              <a:t>5</a:t>
            </a:r>
            <a:r>
              <a:rPr b="1" lang="ru-RU" sz="5400" spc="-1" strike="noStrike">
                <a:solidFill>
                  <a:srgbClr val="c0504d"/>
                </a:solidFill>
                <a:latin typeface="Georgia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c0504d"/>
                </a:solidFill>
                <a:latin typeface="Georgia"/>
              </a:rPr>
              <a:t>«РАСТ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6674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Выполнила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учитель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начальных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классов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МОУ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СОШ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22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.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Заречный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Пензенской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обл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Сазнова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Татьяна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</a:rPr>
              <a:t>Евген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916360" y="436572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ВЕТ   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6763E-006 L 0.2599 0.32 E">
                                      <p:cBhvr>
                                        <p:cTn id="456" dur="1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738440" y="1844640"/>
            <a:ext cx="6937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4f81bd"/>
                    </a:gs>
                    <a:gs pos="100000">
                      <a:srgbClr val="669900"/>
                    </a:gs>
                  </a:gsLst>
                  <a:path path="rect">
                    <a:fillToRect l="50000" t="50000" r="50000" b="50000"/>
                  </a:path>
                </a:gradFill>
                <a:latin typeface="Georgia"/>
              </a:rPr>
              <a:t>Молодцы!</a:t>
            </a:r>
            <a:endParaRPr b="1" lang="en-US" sz="8000" spc="1" strike="noStrike">
              <a:ln w="936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4f81bd"/>
                  </a:gs>
                  <a:gs pos="100000">
                    <a:srgbClr val="669900"/>
                  </a:gs>
                </a:gsLst>
                <a:path path="rect">
                  <a:fillToRect l="50000" t="50000" r="50000" b="50000"/>
                </a:path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24000" y="2637000"/>
            <a:ext cx="64087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Использованные 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Диск. Большая энциклопедия Кирилла и Мефодия, 2000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исунки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http: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27280" y="4221000"/>
            <a:ext cx="367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Д   РЕВ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0243 0.29882 E">
                                      <p:cBhvr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1f497d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1f497d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987640" y="4508640"/>
            <a:ext cx="2952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ЯГ   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39358 0.53565 E">
                                      <p:cBhvr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1f497d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1f497d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59280" y="4365720"/>
            <a:ext cx="3025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УР   ЖА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40139 0.54607 E">
                                      <p:cBhvr>
                                        <p:cTn id="114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600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6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27280" y="465300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Р  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70326E-006 L -0.29132 0.58193 E">
                                      <p:cBhvr>
                                        <p:cTn id="180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67640" y="90792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68360" y="4508640"/>
            <a:ext cx="403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ябл   к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1.15607E-007 L -0.35417 0.53572 E">
                                      <p:cBhvr>
                                        <p:cTn id="222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627280" y="4508640"/>
            <a:ext cx="4105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Л   ПА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85185E-006 L -0.45659 0.5618 E">
                                      <p:cBhvr>
                                        <p:cTn id="324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27640" y="83664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67640" y="83664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00360" y="2133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24360" y="4508640"/>
            <a:ext cx="3456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гур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13200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Я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5607E-007 L -0.49601 0.50335 E">
                                      <p:cBhvr>
                                        <p:cTn id="330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6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loud"/>
          <p:cNvSpPr/>
          <p:nvPr/>
        </p:nvSpPr>
        <p:spPr>
          <a:xfrm>
            <a:off x="539640" y="549360"/>
            <a:ext cx="4176720" cy="279864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loud"/>
          <p:cNvSpPr/>
          <p:nvPr/>
        </p:nvSpPr>
        <p:spPr>
          <a:xfrm>
            <a:off x="4356000" y="404640"/>
            <a:ext cx="4392720" cy="294336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66ff"/>
            </a:solidFill>
            <a:miter/>
          </a:ln>
          <a:effectLst>
            <a:outerShdw dist="107932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84720" y="692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596360" y="620640"/>
            <a:ext cx="57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2920" y="148428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79640" y="981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59280" y="105264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380360" y="170028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68360" y="2205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076720" y="141300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27640" y="1989000"/>
            <a:ext cx="5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0504d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Ь</a:t>
            </a:r>
            <a:endParaRPr b="1" lang="en-US" sz="1800" spc="1" strike="noStrike">
              <a:ln w="28440">
                <a:solidFill>
                  <a:srgbClr val="c0504d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627280" y="443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Arial"/>
              </a:rPr>
              <a:t>Б   РЁЗ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27016E-006 L 0.11806 0.35129 E">
                                      <p:cBhvr>
                                        <p:cTn id="402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2:47:41Z</dcterms:created>
  <dc:creator>Admin</dc:creator>
  <dc:description/>
  <cp:keywords/>
  <dc:language>en-US</dc:language>
  <cp:lastModifiedBy>Admin</cp:lastModifiedBy>
  <dcterms:modified xsi:type="dcterms:W3CDTF">2011-08-11T14:59:16Z</dcterms:modified>
  <cp:revision>4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99619990</vt:lpwstr>
  </property>
</Properties>
</file>