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222-42A6-449A-A9AC-CF99786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86F-588C-4291-B1F2-9B53341C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AB1-000A-4CAB-A9FC-824FACB1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728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280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7176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728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280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050-D425-4105-9191-4BAF7BC7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33AD-E869-4378-A9D0-A59D7A8D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7070-708B-4E72-B6AD-68971F7E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8DA-1597-4C22-A2FD-81110BA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1B6-FE69-4DE9-93D1-2AC031B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295-A1DB-4C7C-B329-A2109B33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27432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33EB-2B4E-4916-ADDC-2C15EAE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E3B-3D37-4805-9DE4-6089EEF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C22-9DED-45FF-BF4F-3C2F748F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5673-ED14-47ED-B278-0AB8964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0151-461D-4090-8B6A-C4FEF26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AAC-E25A-44B5-84D6-FDAFEFD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F66-72F2-47C1-92ED-11B6B2CA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728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280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7176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728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280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048-36F0-4F8A-B13F-8C43D4C2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A58-F7B3-48BC-BDA6-E8D68CA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D9D-A417-429D-AB2D-5E74720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30C-3CC6-4A9B-9D6B-D4745FB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760" y="27432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8BC-A50C-4BF1-BCE8-44743732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F88-1682-477C-A1FB-D521C44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52D-870E-40CC-A644-9B2A1A4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2A0-83EF-4D3A-B4BD-1D3BC7D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1" marL="735480" indent="-2829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2" marL="1131480" indent="-226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3" marL="1584000" indent="-22608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4" marL="2036520" indent="-22608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10D-062C-4275-AB69-747B7595EF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1" marL="735480" indent="-2829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2" marL="1131480" indent="-226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3" marL="1584000" indent="-22608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4" marL="2036520" indent="-22608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2CD-1F5D-48F0-97CE-ED3FDC9207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0792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СЛОВАРНЫЙ ДИКТАНТ №</a:t>
            </a:r>
            <a:r>
              <a:rPr b="1" lang="en-US" sz="5400" spc="-1" strike="noStrike">
                <a:solidFill>
                  <a:srgbClr val="c0504d"/>
                </a:solidFill>
                <a:latin typeface="Georgia"/>
              </a:rPr>
              <a:t>5</a:t>
            </a: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«РАСТ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Выполнил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учитель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начальных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классов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МОУ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СОШ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2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.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Заречный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Пензенской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обл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Сазнов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Татьян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16360" y="436572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ЕТ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63E-006 L 0.2599 0.32 E">
                                      <p:cBhvr>
                                        <p:cTn id="45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38440" y="1844640"/>
            <a:ext cx="6937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4f81bd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8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4f81bd"/>
                  </a:gs>
                  <a:gs pos="100000">
                    <a:srgbClr val="6699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24000" y="2637000"/>
            <a:ext cx="64087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Использованные 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Диск. Большая энциклопедия Кирилла и Мефодия, 200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исунки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ttp: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27280" y="4221000"/>
            <a:ext cx="367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РЕВ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29882 E">
                                      <p:cBhvr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87640" y="450864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Г   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39358 0.53565 E">
                                      <p:cBhvr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59280" y="4365720"/>
            <a:ext cx="302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Р   Ж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40139 0.54607 E">
                                      <p:cBhvr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27280" y="4653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9132 0.58193 E">
                                      <p:cBhvr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6764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68360" y="4508640"/>
            <a:ext cx="403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бл   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1.15607E-007 L -0.35417 0.53572 E">
                                      <p:cBhvr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27280" y="4508640"/>
            <a:ext cx="41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   ПА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45659 0.5618 E">
                                      <p:cBhvr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24360" y="4508640"/>
            <a:ext cx="345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ур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5607E-007 L -0.49601 0.50335 E">
                                      <p:cBhvr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27280" y="443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РЁ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1806 0.35129 E">
                                      <p:cBhvr>
                                        <p:cTn id="40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2:47:41Z</dcterms:created>
  <dc:creator>Admin</dc:creator>
  <dc:description/>
  <cp:keywords/>
  <dc:language>en-US</dc:language>
  <cp:lastModifiedBy>Admin</cp:lastModifiedBy>
  <dcterms:modified xsi:type="dcterms:W3CDTF">2011-08-11T14:59:16Z</dcterms:modified>
  <cp:revision>4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19990</vt:lpwstr>
  </property>
</Properties>
</file>