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51C4-BE17-4C06-AACB-2325BC17A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127A-6BF8-476A-B801-FC4682397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8084-0CBE-4E72-A12E-BE8F8C0B1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E00B-174B-4059-9854-61813C2D5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A588-719B-4E80-9F00-2AAE2B99A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5F79-871B-4E59-846A-CDC7E6869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783E-3244-4864-8122-19B5E7C76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5A5C-8D99-47A1-ADC2-19AFF0CCD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06CA-862F-46FD-985D-6A8B3A6B4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B70E-31FC-4DAA-BD53-8A6DEB1F7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0F3F-844D-4AEF-8428-40140446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17B6-FA50-47BD-ABFC-4FF977459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a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2362320" y="645768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57200" y="6460920"/>
            <a:ext cx="1752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4648320" y="647676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D5207-FFC0-481D-81C2-89935A96FB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5f0c"/>
              </a:buClr>
              <a:buSzPct val="7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3a71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720a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c4598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"/>
          <p:cNvSpPr/>
          <p:nvPr/>
        </p:nvSpPr>
        <p:spPr>
          <a:xfrm>
            <a:off x="179280" y="115920"/>
            <a:ext cx="8785440" cy="6553080"/>
          </a:xfrm>
          <a:prstGeom prst="roundRect">
            <a:avLst>
              <a:gd name="adj" fmla="val 3986"/>
            </a:avLst>
          </a:prstGeom>
          <a:solidFill>
            <a:srgbClr val="e7ffe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rcRect l="22412" t="16378" r="0" b="27484"/>
          <a:stretch/>
        </p:blipFill>
        <p:spPr>
          <a:xfrm>
            <a:off x="108000" y="0"/>
            <a:ext cx="1368360" cy="1187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a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1981080"/>
            <a:ext cx="4257720" cy="2068560"/>
          </a:xfrm>
          <a:custGeom>
            <a:avLst/>
            <a:gdLst/>
            <a:ahLst/>
            <a:rect l="l" t="t" r="r" b="b"/>
            <a:pathLst>
              <a:path w="2682" h="1303">
                <a:moveTo>
                  <a:pt x="0" y="0"/>
                </a:moveTo>
                <a:cubicBezTo>
                  <a:pt x="185" y="34"/>
                  <a:pt x="775" y="34"/>
                  <a:pt x="1109" y="196"/>
                </a:cubicBezTo>
                <a:cubicBezTo>
                  <a:pt x="1443" y="358"/>
                  <a:pt x="1747" y="792"/>
                  <a:pt x="2006" y="975"/>
                </a:cubicBezTo>
                <a:cubicBezTo>
                  <a:pt x="2265" y="1158"/>
                  <a:pt x="2682" y="1289"/>
                  <a:pt x="2666" y="1296"/>
                </a:cubicBezTo>
                <a:cubicBezTo>
                  <a:pt x="2650" y="1303"/>
                  <a:pt x="2170" y="1154"/>
                  <a:pt x="1911" y="1015"/>
                </a:cubicBezTo>
                <a:cubicBezTo>
                  <a:pt x="1652" y="876"/>
                  <a:pt x="1428" y="555"/>
                  <a:pt x="1111" y="460"/>
                </a:cubicBezTo>
                <a:cubicBezTo>
                  <a:pt x="794" y="365"/>
                  <a:pt x="238" y="449"/>
                  <a:pt x="9" y="446"/>
                </a:cubicBezTo>
              </a:path>
            </a:pathLst>
          </a:cu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c9c9c9">
                  <a:alpha val="627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-11160" y="0"/>
            <a:ext cx="5145120" cy="4338720"/>
          </a:xfrm>
          <a:custGeom>
            <a:avLst/>
            <a:gdLst/>
            <a:ahLst/>
            <a:rect l="l" t="t" r="r" b="b"/>
            <a:pathLst>
              <a:path w="3241" h="2733">
                <a:moveTo>
                  <a:pt x="7" y="0"/>
                </a:moveTo>
                <a:cubicBezTo>
                  <a:pt x="265" y="141"/>
                  <a:pt x="1159" y="489"/>
                  <a:pt x="1552" y="847"/>
                </a:cubicBezTo>
                <a:cubicBezTo>
                  <a:pt x="1945" y="1205"/>
                  <a:pt x="2107" y="1845"/>
                  <a:pt x="2365" y="2148"/>
                </a:cubicBezTo>
                <a:cubicBezTo>
                  <a:pt x="2623" y="2451"/>
                  <a:pt x="3126" y="2648"/>
                  <a:pt x="3098" y="2664"/>
                </a:cubicBezTo>
                <a:cubicBezTo>
                  <a:pt x="3241" y="2733"/>
                  <a:pt x="2487" y="2487"/>
                  <a:pt x="2197" y="2247"/>
                </a:cubicBezTo>
                <a:cubicBezTo>
                  <a:pt x="1893" y="2018"/>
                  <a:pt x="1640" y="1512"/>
                  <a:pt x="1274" y="1288"/>
                </a:cubicBezTo>
                <a:cubicBezTo>
                  <a:pt x="927" y="1034"/>
                  <a:pt x="265" y="982"/>
                  <a:pt x="0" y="901"/>
                </a:cubicBezTo>
              </a:path>
            </a:pathLst>
          </a:custGeom>
          <a:gradFill rotWithShape="0">
            <a:gsLst>
              <a:gs pos="0">
                <a:srgbClr val="c9c9c9">
                  <a:alpha val="6274"/>
                </a:srgbClr>
              </a:gs>
              <a:gs pos="100000">
                <a:srgbClr val="ffffff">
                  <a:alpha val="2117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81280" y="0"/>
            <a:ext cx="2522520" cy="4613400"/>
          </a:xfrm>
          <a:custGeom>
            <a:avLst/>
            <a:gdLst/>
            <a:ahLst/>
            <a:rect l="l" t="t" r="r" b="b"/>
            <a:pathLst>
              <a:path w="1589" h="2906">
                <a:moveTo>
                  <a:pt x="0" y="12"/>
                </a:moveTo>
                <a:cubicBezTo>
                  <a:pt x="160" y="181"/>
                  <a:pt x="767" y="660"/>
                  <a:pt x="959" y="1027"/>
                </a:cubicBezTo>
                <a:cubicBezTo>
                  <a:pt x="1151" y="1394"/>
                  <a:pt x="1048" y="1903"/>
                  <a:pt x="1153" y="2216"/>
                </a:cubicBezTo>
                <a:cubicBezTo>
                  <a:pt x="1258" y="2529"/>
                  <a:pt x="1564" y="2906"/>
                  <a:pt x="1589" y="2905"/>
                </a:cubicBezTo>
                <a:cubicBezTo>
                  <a:pt x="1554" y="2859"/>
                  <a:pt x="1334" y="2527"/>
                  <a:pt x="1302" y="2209"/>
                </a:cubicBezTo>
                <a:cubicBezTo>
                  <a:pt x="1270" y="1891"/>
                  <a:pt x="1470" y="1362"/>
                  <a:pt x="1399" y="994"/>
                </a:cubicBezTo>
                <a:cubicBezTo>
                  <a:pt x="1328" y="626"/>
                  <a:pt x="985" y="207"/>
                  <a:pt x="876" y="0"/>
                </a:cubicBezTo>
              </a:path>
            </a:pathLst>
          </a:cu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c9c9c9">
                  <a:alpha val="627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294600" y="1366920"/>
            <a:ext cx="2849400" cy="3324240"/>
          </a:xfrm>
          <a:custGeom>
            <a:avLst/>
            <a:gdLst/>
            <a:ahLst/>
            <a:rect l="l" t="t" r="r" b="b"/>
            <a:pathLst>
              <a:path w="1795" h="2094">
                <a:moveTo>
                  <a:pt x="1788" y="0"/>
                </a:moveTo>
                <a:lnTo>
                  <a:pt x="1795" y="1185"/>
                </a:lnTo>
                <a:cubicBezTo>
                  <a:pt x="1504" y="1538"/>
                  <a:pt x="746" y="1250"/>
                  <a:pt x="453" y="1409"/>
                </a:cubicBezTo>
                <a:cubicBezTo>
                  <a:pt x="156" y="1558"/>
                  <a:pt x="13" y="2094"/>
                  <a:pt x="13" y="2080"/>
                </a:cubicBezTo>
                <a:cubicBezTo>
                  <a:pt x="13" y="2066"/>
                  <a:pt x="0" y="1389"/>
                  <a:pt x="501" y="1145"/>
                </a:cubicBezTo>
                <a:cubicBezTo>
                  <a:pt x="1002" y="901"/>
                  <a:pt x="1619" y="860"/>
                  <a:pt x="1781" y="13"/>
                </a:cubicBezTo>
              </a:path>
            </a:pathLst>
          </a:cu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c9c9c9">
                  <a:alpha val="627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562720" y="-22320"/>
            <a:ext cx="3290760" cy="4702320"/>
          </a:xfrm>
          <a:custGeom>
            <a:avLst/>
            <a:gdLst/>
            <a:ahLst/>
            <a:rect l="l" t="t" r="r" b="b"/>
            <a:pathLst>
              <a:path w="2073" h="2962">
                <a:moveTo>
                  <a:pt x="0" y="8"/>
                </a:moveTo>
                <a:cubicBezTo>
                  <a:pt x="65" y="173"/>
                  <a:pt x="358" y="640"/>
                  <a:pt x="392" y="997"/>
                </a:cubicBezTo>
                <a:cubicBezTo>
                  <a:pt x="426" y="1354"/>
                  <a:pt x="202" y="1823"/>
                  <a:pt x="203" y="2149"/>
                </a:cubicBezTo>
                <a:cubicBezTo>
                  <a:pt x="204" y="2475"/>
                  <a:pt x="347" y="2962"/>
                  <a:pt x="399" y="2955"/>
                </a:cubicBezTo>
                <a:cubicBezTo>
                  <a:pt x="399" y="2962"/>
                  <a:pt x="389" y="2371"/>
                  <a:pt x="514" y="2108"/>
                </a:cubicBezTo>
                <a:cubicBezTo>
                  <a:pt x="660" y="1851"/>
                  <a:pt x="901" y="1728"/>
                  <a:pt x="1273" y="1410"/>
                </a:cubicBezTo>
                <a:cubicBezTo>
                  <a:pt x="1645" y="1092"/>
                  <a:pt x="1750" y="974"/>
                  <a:pt x="1883" y="739"/>
                </a:cubicBezTo>
                <a:cubicBezTo>
                  <a:pt x="2016" y="504"/>
                  <a:pt x="2034" y="154"/>
                  <a:pt x="2073" y="0"/>
                </a:cubicBezTo>
              </a:path>
            </a:pathLst>
          </a:custGeom>
          <a:gradFill rotWithShape="0">
            <a:gsLst>
              <a:gs pos="0">
                <a:srgbClr val="ffffff">
                  <a:alpha val="17254"/>
                </a:srgbClr>
              </a:gs>
              <a:gs pos="100000">
                <a:srgbClr val="c9c9c9">
                  <a:alpha val="627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26920" y="14839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1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178920" y="65242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55640" y="3645000"/>
            <a:ext cx="2771640" cy="2771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rcRect l="22412" t="16378" r="0" b="27484"/>
          <a:stretch/>
        </p:blipFill>
        <p:spPr>
          <a:xfrm>
            <a:off x="755640" y="3933720"/>
            <a:ext cx="2664000" cy="21970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720a0"/>
              </a:buClr>
              <a:buFont typeface="Arial"/>
              <a:buChar char="●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c4598"/>
              </a:buClr>
              <a:buFont typeface="Arial"/>
              <a:buChar char="●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●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a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34280" y="1125360"/>
            <a:ext cx="7848000" cy="1556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93a7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66"/>
                </a:solidFill>
                <a:latin typeface="Georgia"/>
              </a:rPr>
              <a:t>Словарный диктант №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66"/>
                </a:solidFill>
                <a:latin typeface="Georgia"/>
              </a:rPr>
              <a:t> </a:t>
            </a:r>
            <a:r>
              <a:rPr b="1" lang="ru-RU" sz="4800" spc="-1" strike="noStrike">
                <a:solidFill>
                  <a:srgbClr val="ffff66"/>
                </a:solidFill>
                <a:latin typeface="Georgia"/>
              </a:rPr>
              <a:t>«Родина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216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Выполнила учитель начальных классов  МОУ СОШ №222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г. Заречный Пензенской обл.  Сазнова Татьяна Евгень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a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59280" y="981000"/>
            <a:ext cx="792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995640" y="4508640"/>
            <a:ext cx="3313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СК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443640" y="692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508720" y="90792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076720" y="177336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995640" y="1197000"/>
            <a:ext cx="5749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cover dir="rd"/>
  </p:transition>
  <p:timing>
    <p:tnLst>
      <p:par>
        <p:cTn id="488" dur="indefinite" restart="never" nodeType="tmRoot">
          <p:childTnLst>
            <p:seq>
              <p:cTn id="489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490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7.40741E-007 L -0.12969 0.42523 E">
                                      <p:cBhvr>
                                        <p:cTn id="493" dur="1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6" dur="2000" fill="hold"/>
                                        <p:tgtEl>
                                          <p:spTgt spid="1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7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498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0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3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504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4.81481E-006 L -0.35417 0.51991 E">
                                      <p:cBhvr>
                                        <p:cTn id="507" dur="1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000"/>
                            </p:stCondLst>
                            <p:childTnLst>
                              <p:par>
                                <p:cTn id="50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0" dur="2000" fill="hold"/>
                                        <p:tgtEl>
                                          <p:spTgt spid="1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1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512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1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7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518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52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3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524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2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9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530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3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5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536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54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1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542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4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7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548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55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a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084720" y="692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7451640" y="76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59280" y="1052640"/>
            <a:ext cx="7905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2843280" y="4437000"/>
            <a:ext cx="40338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ГОР    Д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</p:spTree>
  </p:cSld>
  <p:transition>
    <p:cover dir="rd"/>
  </p:transition>
  <p:timing>
    <p:tnLst>
      <p:par>
        <p:cTn id="553" dur="indefinite" restart="never" nodeType="tmRoot">
          <p:childTnLst>
            <p:seq>
              <p:cTn id="554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555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96296E-006 L -0.24392 0.49885 E">
                                      <p:cBhvr>
                                        <p:cTn id="558" dur="10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000"/>
                            </p:stCondLst>
                            <p:childTnLst>
                              <p:par>
                                <p:cTn id="56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1" dur="2000" fill="hold"/>
                                        <p:tgtEl>
                                          <p:spTgt spid="2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2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563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6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8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569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7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4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575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7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0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581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8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6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587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9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2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593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9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8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599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0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4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605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0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a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755640" y="1844640"/>
            <a:ext cx="799164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80"/>
                  </a:solidFill>
                  <a:miter/>
                </a:ln>
                <a:gradFill rotWithShape="0">
                  <a:gsLst>
                    <a:gs pos="0">
                      <a:srgbClr val="99ffcc"/>
                    </a:gs>
                    <a:gs pos="100000">
                      <a:srgbClr val="019eaf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МОЛОДЦЫ!</a:t>
            </a:r>
            <a:endParaRPr b="1" lang="en-US" sz="1800" spc="1" strike="noStrike">
              <a:ln w="9360">
                <a:solidFill>
                  <a:srgbClr val="008080"/>
                </a:solidFill>
                <a:miter/>
              </a:ln>
              <a:gradFill rotWithShape="0">
                <a:gsLst>
                  <a:gs pos="0">
                    <a:srgbClr val="99ffcc"/>
                  </a:gs>
                  <a:gs pos="100000">
                    <a:srgbClr val="019eaf"/>
                  </a:gs>
                </a:gsLst>
                <a:path path="rect">
                  <a:fillToRect l="50000" t="50000" r="50000" b="50000"/>
                </a:path>
              </a:gradFill>
              <a:latin typeface="Georgia"/>
              <a:ea typeface="Georgia"/>
            </a:endParaRPr>
          </a:p>
        </p:txBody>
      </p:sp>
    </p:spTree>
  </p:cSld>
  <p:transition>
    <p:cover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a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227640" y="83664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7667640" y="836640"/>
            <a:ext cx="576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700360" y="213372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32000" y="4365720"/>
            <a:ext cx="6192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Ф    МИЛ    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13200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cover dir="rd"/>
  </p:transition>
  <p:timing>
    <p:tnLst>
      <p:par>
        <p:cTn id="8" dur="indefinite" restart="never" nodeType="tmRoot">
          <p:childTnLst>
            <p:seq>
              <p:cTn id="9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3.7037E-006 L -0.57466 0.50394 E">
                                      <p:cBhvr>
                                        <p:cTn id="13" dur="1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2000" fill="hold"/>
                                        <p:tgtEl>
                                          <p:spTgt spid="9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4.44444E-006 L -0.15746 0.38333 E">
                                      <p:cBhvr>
                                        <p:cTn id="21" dur="1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2000" fill="hold"/>
                                        <p:tgtEl>
                                          <p:spTgt spid="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a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3366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084720" y="692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7596360" y="62064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11600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340000" y="90792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492360" y="112536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076720" y="90792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900000" y="1916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484360" y="4365720"/>
            <a:ext cx="4392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О      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411280" y="2133720"/>
            <a:ext cx="1224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С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692360" y="1557360"/>
            <a:ext cx="6476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</a:t>
            </a:r>
            <a:endParaRPr b="1" lang="en-US" sz="60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219640" y="213372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15636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cover dir="rd"/>
  </p:transition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0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1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0 L 0.14583 0.33079 E">
                                      <p:cBhvr>
                                        <p:cTn id="120" dur="1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3" dur="2000" fill="hold"/>
                                        <p:tgtEl>
                                          <p:spTgt spid="11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25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1.85185E-006 L 0.0118 0.30972 E">
                                      <p:cBhvr>
                                        <p:cTn id="128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1" dur="2000" fill="hold"/>
                                        <p:tgtEl>
                                          <p:spTgt spid="11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3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39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4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a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blipFill rotWithShape="0">
            <a:blip r:embed="rId1">
              <a:alphaModFix amt="40000"/>
            </a:blip>
            <a:srcRect/>
            <a:stretch/>
          </a:blipFill>
          <a:ln w="9360">
            <a:solidFill>
              <a:srgbClr val="3366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gradFill rotWithShape="0">
            <a:gsLst>
              <a:gs pos="0">
                <a:srgbClr val="6699ff">
                  <a:alpha val="40000"/>
                </a:srgbClr>
              </a:gs>
              <a:gs pos="100000">
                <a:srgbClr val="0066ff">
                  <a:alpha val="38039"/>
                </a:srgbClr>
              </a:gs>
            </a:gsLst>
            <a:lin ang="5400000"/>
          </a:gradFill>
          <a:ln w="9360">
            <a:solidFill>
              <a:srgbClr val="3366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227640" y="83664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667640" y="836640"/>
            <a:ext cx="576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700360" y="213372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564000" y="4653000"/>
            <a:ext cx="2087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ЗЫ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13200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cover dir="rd"/>
  </p:transition>
  <p:timing>
    <p:tnLst>
      <p:par>
        <p:cTn id="144" dur="indefinite" restart="never" nodeType="tmRoot">
          <p:childTnLst>
            <p:seq>
              <p:cTn id="145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46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5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152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5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158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6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64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6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170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176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82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8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188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9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194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4.44444E-006 L -0.03941 0.49885 E">
                                      <p:cBhvr>
                                        <p:cTn id="197" dur="1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0" dur="2000" fill="hold"/>
                                        <p:tgtEl>
                                          <p:spTgt spid="12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a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3366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084720" y="692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596360" y="62064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340000" y="90792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92360" y="112536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124000" y="4365720"/>
            <a:ext cx="4392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РУС    КИ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2411280" y="1916280"/>
            <a:ext cx="505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cover dir="rd"/>
  </p:transition>
  <p:timing>
    <p:tnLst>
      <p:par>
        <p:cTn id="201" dur="indefinite" restart="never" nodeType="tmRoot">
          <p:childTnLst>
            <p:seq>
              <p:cTn id="202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203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0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209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1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215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1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2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227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3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233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3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239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4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245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4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0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251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96296E-006 L 0.16927 0.3625 E">
                                      <p:cBhvr>
                                        <p:cTn id="254" dur="1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7" dur="2000" fill="hold"/>
                                        <p:tgtEl>
                                          <p:spTgt spid="1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a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227640" y="83664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164360" y="692280"/>
            <a:ext cx="576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700360" y="213372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987640" y="4365720"/>
            <a:ext cx="3745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СТ    ЛИЦ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13200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cover dir="rd"/>
  </p:transition>
  <p:timing>
    <p:tnLst>
      <p:par>
        <p:cTn id="258" dur="indefinite" restart="never" nodeType="tmRoot">
          <p:childTnLst>
            <p:seq>
              <p:cTn id="259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260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1.11111E-006 L -0.34635 0.50417 E">
                                      <p:cBhvr>
                                        <p:cTn id="263" dur="1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6" dur="2000" fill="hold"/>
                                        <p:tgtEl>
                                          <p:spTgt spid="1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268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7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3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274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7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9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280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8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5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286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9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1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292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7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298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3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304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0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9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310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1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a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227640" y="83664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7667640" y="836640"/>
            <a:ext cx="576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700360" y="213372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124000" y="4292640"/>
            <a:ext cx="4680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Т    ВАР    Щ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13200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cover dir="rd"/>
  </p:transition>
  <p:timing>
    <p:tnLst>
      <p:par>
        <p:cTn id="315" dur="indefinite" restart="never" nodeType="tmRoot">
          <p:childTnLst>
            <p:seq>
              <p:cTn id="316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317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3.7037E-006 L -0.53542 0.48311 E">
                                      <p:cBhvr>
                                        <p:cTn id="320" dur="1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3" dur="2000" fill="hold"/>
                                        <p:tgtEl>
                                          <p:spTgt spid="1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4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325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4.44444E-006 L -0.23611 0.35185 E">
                                      <p:cBhvr>
                                        <p:cTn id="328" dur="1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1" dur="2000" fill="hold"/>
                                        <p:tgtEl>
                                          <p:spTgt spid="1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2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333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3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8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339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4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4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345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4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0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351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5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6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357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6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2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363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6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8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369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7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a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227640" y="83664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667640" y="836640"/>
            <a:ext cx="649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195640" y="4292640"/>
            <a:ext cx="4392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РОД    Н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13200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cover dir="rd"/>
  </p:transition>
  <p:timing>
    <p:tnLst>
      <p:par>
        <p:cTn id="374" dur="indefinite" restart="never" nodeType="tmRoot">
          <p:childTnLst>
            <p:seq>
              <p:cTn id="375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376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8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1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382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4.44444E-006 L -0.32274 0.3625 E">
                                      <p:cBhvr>
                                        <p:cTn id="385" dur="1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8" dur="2000" fill="hold"/>
                                        <p:tgtEl>
                                          <p:spTgt spid="1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9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390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9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5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396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0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1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402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0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7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408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1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3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414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1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9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420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2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5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426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3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a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7596360" y="62064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59280" y="1052640"/>
            <a:ext cx="7905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76720" y="177336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2340000" y="4221000"/>
            <a:ext cx="4753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Н   РОД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292720" y="76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3a71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93a71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cover dir="rd"/>
  </p:transition>
  <p:timing>
    <p:tnLst>
      <p:par>
        <p:cTn id="431" dur="indefinite" restart="never" nodeType="tmRoot">
          <p:childTnLst>
            <p:seq>
              <p:cTn id="432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433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3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8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439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4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4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445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4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0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451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5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6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457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6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2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463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6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8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469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4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475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0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481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2.96296E-006 L -0.19687 0.50926 E">
                                      <p:cBhvr>
                                        <p:cTn id="484" dur="1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1000"/>
                            </p:stCondLst>
                            <p:childTnLst>
                              <p:par>
                                <p:cTn id="48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7" dur="2000" fill="hold"/>
                                        <p:tgtEl>
                                          <p:spTgt spid="1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4T09:02:05Z</dcterms:created>
  <dc:creator>1</dc:creator>
  <dc:description/>
  <dc:language>en-US</dc:language>
  <cp:lastModifiedBy>Admin</cp:lastModifiedBy>
  <dcterms:modified xsi:type="dcterms:W3CDTF">2011-07-30T13:11:36Z</dcterms:modified>
  <cp:revision>6</cp:revision>
  <dc:subject/>
  <dc:title>Themegallery PowerTemplate</dc:title>
</cp:coreProperties>
</file>