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68B-366E-4605-802A-3D532368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5FC-A1CB-4297-AD06-981B9EA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6D5-3DEB-40EC-AA6E-2104785D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176-1B29-455F-93A6-DA204454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B68-B85B-4AE8-9E96-5F633B68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79F-5824-4F44-9F83-79477638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46F-0E8F-48AC-91A4-42BE789C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B9C-E857-4449-87C8-EAE82A1B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3F2-7A8D-4AD6-8005-8B063DD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DEB-E569-4312-BB30-A458C7C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EEE-0E1A-4D25-92D3-122E416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A8C-8F67-4FAC-BFE8-8550485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42F5-6760-4997-A690-93B2F62C0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c9c9c9">
                  <a:alpha val="6274"/>
                </a:srgbClr>
              </a:gs>
              <a:gs pos="100000">
                <a:srgbClr val="ffffff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720a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4598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280" y="1125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93a7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Словарный диктант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ыполнила учитель начальных классов  МОУ СОШ №22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г. Заречный Пензенской обл.  Сазнова Татьяна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9280" y="98100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5640" y="4508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К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-0.12969 0.42523 E">
                                      <p:cBhvr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5417 0.51991 E">
                                      <p:cBhvr>
                                        <p:cTn id="507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43280" y="4437000"/>
            <a:ext cx="403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ОР   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392 0.49885 E">
                                      <p:cBhvr>
                                        <p:cTn id="558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5640" y="1844640"/>
            <a:ext cx="7991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99ffcc"/>
                    </a:gs>
                    <a:gs pos="100000">
                      <a:srgbClr val="019eaf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99ffcc"/>
                  </a:gs>
                  <a:gs pos="100000">
                    <a:srgbClr val="019eaf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32000" y="436572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Ф    МИЛ   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57466 0.50394 E">
                                      <p:cBhvr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15746 0.38333 E">
                                      <p:cBhvr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6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7672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84360" y="436572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О      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11280" y="2133720"/>
            <a:ext cx="12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92360" y="1557360"/>
            <a:ext cx="64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60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19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5636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14583 0.33079 E">
                                      <p:cBhvr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0118 0.30972 E">
                                      <p:cBhvr>
                                        <p:cTn id="12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4000" y="4653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Ы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3941 0.49885 E">
                                      <p:cBhvr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24000" y="436572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    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11280" y="1916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16927 0.3625 E">
                                      <p:cBhvr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64360" y="69228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987640" y="436572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Т    Л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0.34635 0.50417 E">
                                      <p:cBhvr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24000" y="429264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 ВАР    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53542 0.48311 E">
                                      <p:cBhvr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3611 0.35185 E">
                                      <p:cBhvr>
                                        <p:cTn id="32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67640" y="836640"/>
            <a:ext cx="64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95640" y="429264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ОД    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374" dur="indefinite" restart="never" nodeType="tmRoot">
          <p:childTnLst>
            <p:seq>
              <p:cTn id="37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32274 0.3625 E">
                                      <p:cBhvr>
                                        <p:cTn id="38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40000" y="422100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Н   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19687 0.50926 E">
                                      <p:cBhvr>
                                        <p:cTn id="484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Admin</cp:lastModifiedBy>
  <dcterms:modified xsi:type="dcterms:W3CDTF">2011-07-30T13:11:36Z</dcterms:modified>
  <cp:revision>6</cp:revision>
  <dc:subject/>
  <dc:title>Themegallery PowerTemplate</dc:title>
</cp:coreProperties>
</file>