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A04-DD90-4856-B467-EA3DCB32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59D-0EC2-41E7-A7DA-E3442F8F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6B3-157C-41AD-972A-A2CEE774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C29-B795-42B4-84CB-723F323B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E32-7D34-4BDF-AB89-F8AA10E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35D-3653-459D-AC44-6585707D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A21-A180-404F-AC7A-AE0FEC15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BF2B-A4E0-4256-9340-8EF65A89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E861-9822-48D2-9605-818D088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4FE3-B0B6-4E79-9833-2704349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08B7-5587-463A-B045-1E1E06D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6A6-F3DB-44E2-BCD4-0868A058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CED-1C2A-422F-B017-8EDC97D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F9E-53E7-4A41-9BC2-402CABE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B59-D36A-447A-BBF5-382FA7C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71A-F21C-43DA-BB40-34490348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F34-5F20-450A-BCE2-974ED28E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D4E-2277-4717-9893-EF102247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986-2F54-4314-A143-2F593ED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958-D0F2-4CCF-B55C-9F89D796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8ED-348B-42D6-BABA-5170479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F02-307D-4CF4-8DCF-E462760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EFA-6C67-4717-A683-1664370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C05-D62E-42B9-B871-9483FBD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Box 6" descr=""/>
          <p:cNvPicPr/>
          <p:nvPr/>
        </p:nvPicPr>
        <p:blipFill>
          <a:blip r:embed="rId2"/>
          <a:stretch/>
        </p:blipFill>
        <p:spPr>
          <a:xfrm>
            <a:off x="4029120" y="-3780000"/>
            <a:ext cx="7772400" cy="1419876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7"/>
          <p:cNvSpPr/>
          <p:nvPr/>
        </p:nvSpPr>
        <p:spPr>
          <a:xfrm>
            <a:off x="-19080" y="0"/>
            <a:ext cx="9144000" cy="6858000"/>
          </a:xfrm>
          <a:prstGeom prst="rect">
            <a:avLst/>
          </a:prstGeom>
          <a:solidFill>
            <a:srgbClr val="ffffff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8AD6-1FD0-45C2-B434-5ADE7BD7C6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8" descr=""/>
          <p:cNvPicPr/>
          <p:nvPr/>
        </p:nvPicPr>
        <p:blipFill>
          <a:blip r:embed="rId2"/>
          <a:stretch/>
        </p:blipFill>
        <p:spPr>
          <a:xfrm>
            <a:off x="4029120" y="-3780000"/>
            <a:ext cx="7772400" cy="14198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B45C-20A4-4CF0-BB17-92B8A5F072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4280" y="1125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Словарный диктант №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«Школ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465300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   ТРА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3785 0.34653 E">
                                      <p:cBhvr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2728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Я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09063 0.35637 E">
                                      <p:cBhvr>
                                        <p:cTn id="562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43280" y="4508640"/>
            <a:ext cx="324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   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948E-006 L 0.13386 0.33549 E">
                                      <p:cBhvr>
                                        <p:cTn id="616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35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450864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   БЛ       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27640" y="1844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32274 0.41438 E">
                                      <p:cBhvr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26771 0.57153 E">
                                      <p:cBhvr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98059E-006 L -0.39358 0.39335 E">
                                      <p:cBhvr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16360" y="4221000"/>
            <a:ext cx="35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   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34635 0.52946 E">
                                      <p:cBhvr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27280" y="42926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ЖУ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33026 E">
                                      <p:cBhvr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79640" y="407664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 Р  НД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8800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36997 0.49803 E">
                                      <p:cBhvr>
                                        <p:cTn id="19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81142E-007 L -0.34635 0.4874 E">
                                      <p:cBhvr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92360" y="450864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Л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0364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8764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3682E-007 L 0.29931 0.49804 E">
                                      <p:cBhvr>
                                        <p:cTn id="292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7726 0.34653 E">
                                      <p:cBhvr>
                                        <p:cTn id="322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ИТ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26389 0.34653 E">
                                      <p:cBhvr>
                                        <p:cTn id="38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ЛЬЧ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691 0.34653 E">
                                      <p:cBhvr>
                                        <p:cTn id="44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47:35Z</dcterms:created>
  <dc:creator>Admin</dc:creator>
  <dc:description/>
  <cp:keywords/>
  <dc:language>en-US</dc:language>
  <cp:lastModifiedBy>Admin</cp:lastModifiedBy>
  <dcterms:modified xsi:type="dcterms:W3CDTF">2011-07-03T06:51:42Z</dcterms:modified>
  <cp:revision>3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64291</vt:lpwstr>
  </property>
</Properties>
</file>