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4B2-E770-4469-8D30-7ACADE98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893-16B2-460E-AFF2-5D2E00A0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6EF-B193-4D7C-810E-B6FAC991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EB3-671D-400A-917E-8663390A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59F7-583F-4614-B1E1-9ABF1546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F32-6396-4A21-A578-800E6499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C554-605B-4383-9D1C-62C7CF0A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E6AD-EF8D-4C69-B4F2-D1E4DFA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F5DD-C8F5-4502-B809-BA56170C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A40-618B-44B9-8D18-093669C2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CE2-368B-4BAB-AAEC-E575467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FA5-E523-4906-BC8F-B2E5ED3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7FA0-EBF5-4036-B9A0-C738A2BD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3B1-3CC5-4F5D-87F2-AB4C629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FB69-9F21-4160-9C66-934A5B61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2A5-8EA9-451C-9544-25EDDC0D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293E-32E2-4E09-BAAF-EA53DB65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78D-B078-4F64-8E68-9EAE8C79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B31-2DDA-40D4-8889-5472EE57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C82-C54C-41CB-8113-F02E8748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185-82B8-4587-9B0A-354E2A12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867-6E72-4BD8-B858-22CFF326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DF0-45DF-4FEE-B974-A227CAE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C03-8560-4311-816A-48201859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Box 6" descr=""/>
          <p:cNvPicPr/>
          <p:nvPr/>
        </p:nvPicPr>
        <p:blipFill>
          <a:blip r:embed="rId2"/>
          <a:stretch/>
        </p:blipFill>
        <p:spPr>
          <a:xfrm>
            <a:off x="4029120" y="-3780000"/>
            <a:ext cx="7772400" cy="1419876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7"/>
          <p:cNvSpPr/>
          <p:nvPr/>
        </p:nvSpPr>
        <p:spPr>
          <a:xfrm>
            <a:off x="-19080" y="0"/>
            <a:ext cx="9144000" cy="6858000"/>
          </a:xfrm>
          <a:prstGeom prst="rect">
            <a:avLst/>
          </a:prstGeom>
          <a:solidFill>
            <a:srgbClr val="ffffff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E4A9-147F-48D6-9DB9-0A6107CE189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8" descr=""/>
          <p:cNvPicPr/>
          <p:nvPr/>
        </p:nvPicPr>
        <p:blipFill>
          <a:blip r:embed="rId2"/>
          <a:stretch/>
        </p:blipFill>
        <p:spPr>
          <a:xfrm>
            <a:off x="4029120" y="-3780000"/>
            <a:ext cx="7772400" cy="14198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3814-4EF7-488C-9A86-98683715FD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4280" y="1125360"/>
            <a:ext cx="7848000" cy="1556280"/>
          </a:xfrm>
          <a:prstGeom prst="rect">
            <a:avLst/>
          </a:prstGeom>
          <a:noFill/>
          <a:ln w="0">
            <a:noFill/>
          </a:ln>
          <a:effectLst>
            <a:outerShdw dist="38160" dir="10800000" blurRad="0" rotWithShape="0">
              <a:srgbClr val="c050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Словарный диктант №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«Школ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59280" y="465300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   ТРА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79" dur="indefinite" restart="never" nodeType="tmRoot">
          <p:childTnLst>
            <p:seq>
              <p:cTn id="480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3785 0.34653 E">
                                      <p:cBhvr>
                                        <p:cTn id="502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627280" y="4724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  БЯ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26878E-006 L 0.09063 0.35637 E">
                                      <p:cBhvr>
                                        <p:cTn id="562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76720" y="177336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843280" y="4508640"/>
            <a:ext cx="324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   Н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29272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948E-006 L 0.13386 0.33549 E">
                                      <p:cBhvr>
                                        <p:cTn id="616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3564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450864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   БЛ       ТЕ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27640" y="184464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24336E-006 L -0.32274 0.41438 E">
                                      <p:cBhvr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26771 0.57153 E">
                                      <p:cBhvr>
                                        <p:cTn id="60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98059E-006 L -0.39358 0.39335 E">
                                      <p:cBhvr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916360" y="4221000"/>
            <a:ext cx="3527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ЕВ   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1837E-006 L -0.34635 0.52946 E">
                                      <p:cBhvr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27280" y="429264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   ЖУ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33026 E">
                                      <p:cBhvr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79640" y="407664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  Р  НДА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588000" y="76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36997 0.49803 E">
                                      <p:cBhvr>
                                        <p:cTn id="19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81142E-007 L -0.34635 0.4874 E">
                                      <p:cBhvr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92360" y="4508640"/>
            <a:ext cx="23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Л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03640" y="1052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87640" y="1916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13682E-007 L 0.29931 0.49804 E">
                                      <p:cBhvr>
                                        <p:cTn id="292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   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17726 0.34653 E">
                                      <p:cBhvr>
                                        <p:cTn id="322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ЧИТ   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26389 0.34653 E">
                                      <p:cBhvr>
                                        <p:cTn id="38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gradFill rotWithShape="0">
            <a:gsLst>
              <a:gs pos="0">
                <a:srgbClr val="6699ff">
                  <a:alpha val="40000"/>
                </a:srgbClr>
              </a:gs>
              <a:gs pos="100000">
                <a:srgbClr val="0066ff">
                  <a:alpha val="38039"/>
                </a:srgbClr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73272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227664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700360" y="4653000"/>
            <a:ext cx="35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ЛЬЧ   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59280" y="836640"/>
            <a:ext cx="57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Й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7.40741E-007 L 0.32691 0.34653 E">
                                      <p:cBhvr>
                                        <p:cTn id="442" dur="1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9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47:35Z</dcterms:created>
  <dc:creator>Admin</dc:creator>
  <dc:description/>
  <cp:keywords/>
  <dc:language>en-US</dc:language>
  <cp:lastModifiedBy>Admin</cp:lastModifiedBy>
  <dcterms:modified xsi:type="dcterms:W3CDTF">2011-07-03T06:51:42Z</dcterms:modified>
  <cp:revision>3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64291</vt:lpwstr>
  </property>
</Properties>
</file>