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561-A0AC-4E8A-B7BD-7D70147A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EFB-2BA4-49AF-8D0B-A71C853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BFB-74A1-43F3-8461-15FA46BD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4CB-7CF1-4FB0-A969-30DE6F0C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434-B61E-47D2-B3DC-07452BC2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875-6865-46CC-AF33-54931255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545-A1A2-43F0-A9F0-BA8513A3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226-4061-4489-B08F-ECE443E1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8EF-A7D2-4A0E-AB85-A62D9F31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29D-CFFF-4ECC-811D-9EC042BE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A08-01E3-49A4-8F4C-B57E6B1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AB8-F3D9-4EE6-8384-B82606F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505-573F-4430-BEC5-2A6FE9DF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5.png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4160" y="476280"/>
            <a:ext cx="798984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ЛОВАРНЫЙ ДИКТАНТ №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«РОДИ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29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2852640"/>
            <a:ext cx="75610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т   вар   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5640" y="414972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2852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85264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24360" y="2852640"/>
            <a:ext cx="21600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3640" y="414972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907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115920"/>
            <a:ext cx="24271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7636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2852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3280" y="285264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2852640"/>
            <a:ext cx="3095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99"/>
                </a:solidFill>
                <a:latin typeface="Georgia"/>
              </a:rPr>
              <a:t>скв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7280" y="3068640"/>
            <a:ext cx="144720" cy="316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4"/>
          </p:cNvPr>
          <p:cNvPicPr/>
          <p:nvPr/>
        </p:nvPicPr>
        <p:blipFill>
          <a:blip r:embed="rId5"/>
          <a:srcRect l="0" t="0" r="-402" b="-161"/>
          <a:stretch/>
        </p:blipFill>
        <p:spPr>
          <a:xfrm>
            <a:off x="4427640" y="260280"/>
            <a:ext cx="4500360" cy="280692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852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2852640"/>
            <a:ext cx="251928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и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852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85264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32400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4149720"/>
            <a:ext cx="50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24000" y="2997360"/>
            <a:ext cx="360360" cy="38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54936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149720"/>
            <a:ext cx="10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414972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31989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05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450864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4508640"/>
            <a:ext cx="1282680" cy="838080"/>
          </a:xfrm>
          <a:custGeom>
            <a:avLst/>
            <a:gdLst>
              <a:gd name="textAreaLeft" fmla="*/ 54000 w 1282680"/>
              <a:gd name="textAreaRight" fmla="*/ 1228680 w 1282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054" h="21600">
                <a:moveTo>
                  <a:pt x="0" y="0"/>
                </a:moveTo>
                <a:lnTo>
                  <a:pt x="33054" y="0"/>
                </a:lnTo>
                <a:lnTo>
                  <a:pt x="33054" y="21600"/>
                </a:lnTo>
                <a:lnTo>
                  <a:pt x="0" y="21600"/>
                </a:lnTo>
                <a:close/>
              </a:path>
              <a:path fill="lightenLess" w="33054" h="21600">
                <a:moveTo>
                  <a:pt x="0" y="0"/>
                </a:moveTo>
                <a:lnTo>
                  <a:pt x="33054" y="0"/>
                </a:lnTo>
                <a:lnTo>
                  <a:pt x="31654" y="1400"/>
                </a:lnTo>
                <a:lnTo>
                  <a:pt x="1400" y="1400"/>
                </a:lnTo>
                <a:close/>
              </a:path>
              <a:path fill="darken" w="33054" h="21600">
                <a:moveTo>
                  <a:pt x="33054" y="0"/>
                </a:moveTo>
                <a:lnTo>
                  <a:pt x="33054" y="21600"/>
                </a:lnTo>
                <a:lnTo>
                  <a:pt x="31654" y="20200"/>
                </a:lnTo>
                <a:lnTo>
                  <a:pt x="31654" y="1400"/>
                </a:lnTo>
                <a:close/>
              </a:path>
              <a:path fill="darkenLess" w="33054" h="21600">
                <a:moveTo>
                  <a:pt x="33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54" y="20200"/>
                </a:lnTo>
                <a:close/>
              </a:path>
              <a:path fill="lighten" w="33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260280"/>
            <a:ext cx="4600440" cy="260676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58920" y="314172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ст   лиц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56000" y="3141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513480" y="479736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85080" y="479736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508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59280" y="3357720"/>
            <a:ext cx="217440" cy="287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159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26920" y="1197000"/>
            <a:ext cx="2988000" cy="200808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211640" y="620640"/>
            <a:ext cx="1862280" cy="271008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1979640" y="4653000"/>
            <a:ext cx="3060720" cy="205560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  <p:pic>
        <p:nvPicPr>
          <p:cNvPr id="15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189000"/>
            <a:ext cx="2743200" cy="2057400"/>
          </a:xfrm>
          <a:prstGeom prst="rect">
            <a:avLst/>
          </a:prstGeom>
          <a:ln w="76320">
            <a:solidFill>
              <a:srgbClr val="7ecbfa"/>
            </a:solidFill>
            <a:miter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1640" y="3141720"/>
            <a:ext cx="712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ф   мил   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4000" y="32130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314172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508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2764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112536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95640" y="4508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4512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51640" y="189000"/>
            <a:ext cx="3244680" cy="3357000"/>
            <a:chOff x="5651640" y="189000"/>
            <a:chExt cx="3244680" cy="335700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rcRect l="0" t="0" r="-1391" b="56060"/>
            <a:stretch/>
          </p:blipFill>
          <p:spPr>
            <a:xfrm>
              <a:off x="5651640" y="189000"/>
              <a:ext cx="3244680" cy="181152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  <p:pic>
          <p:nvPicPr>
            <p:cNvPr id="168" name="" descr="">
              <a:hlinkClick r:id="rId3"/>
            </p:cNvPr>
            <p:cNvPicPr/>
            <p:nvPr/>
          </p:nvPicPr>
          <p:blipFill>
            <a:blip r:embed="rId4"/>
            <a:srcRect l="0" t="56060" r="0" b="6453"/>
            <a:stretch/>
          </p:blipFill>
          <p:spPr>
            <a:xfrm>
              <a:off x="5654880" y="2000520"/>
              <a:ext cx="3199680" cy="1545480"/>
            </a:xfrm>
            <a:prstGeom prst="rect">
              <a:avLst/>
            </a:prstGeom>
            <a:ln w="76320">
              <a:solidFill>
                <a:srgbClr val="00cc99"/>
              </a:solidFill>
              <a:miter/>
            </a:ln>
          </p:spPr>
        </p:pic>
      </p:grp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42920" y="3357720"/>
            <a:ext cx="5867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н   ро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4067280" y="3213000"/>
            <a:ext cx="304560" cy="609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979640" y="4724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276720" y="5334120"/>
            <a:ext cx="990360" cy="99036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752480" y="5334120"/>
            <a:ext cx="1019160" cy="990360"/>
          </a:xfrm>
          <a:custGeom>
            <a:avLst/>
            <a:gdLst>
              <a:gd name="textAreaLeft" fmla="*/ 64080 w 1019160"/>
              <a:gd name="textAreaRight" fmla="*/ 955080 w 10191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2228" h="21600">
                <a:moveTo>
                  <a:pt x="0" y="0"/>
                </a:moveTo>
                <a:lnTo>
                  <a:pt x="22228" y="0"/>
                </a:lnTo>
                <a:lnTo>
                  <a:pt x="22228" y="21600"/>
                </a:lnTo>
                <a:lnTo>
                  <a:pt x="0" y="21600"/>
                </a:lnTo>
                <a:close/>
              </a:path>
              <a:path fill="lightenLess" w="22228" h="21600">
                <a:moveTo>
                  <a:pt x="0" y="0"/>
                </a:moveTo>
                <a:lnTo>
                  <a:pt x="22228" y="0"/>
                </a:lnTo>
                <a:lnTo>
                  <a:pt x="20828" y="1400"/>
                </a:lnTo>
                <a:lnTo>
                  <a:pt x="1400" y="1400"/>
                </a:lnTo>
                <a:close/>
              </a:path>
              <a:path fill="darken" w="22228" h="21600">
                <a:moveTo>
                  <a:pt x="22228" y="0"/>
                </a:moveTo>
                <a:lnTo>
                  <a:pt x="22228" y="21600"/>
                </a:lnTo>
                <a:lnTo>
                  <a:pt x="20828" y="20200"/>
                </a:lnTo>
                <a:lnTo>
                  <a:pt x="20828" y="1400"/>
                </a:lnTo>
                <a:close/>
              </a:path>
              <a:path fill="darkenLess" w="22228" h="21600">
                <a:moveTo>
                  <a:pt x="22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28" y="20200"/>
                </a:lnTo>
                <a:close/>
              </a:path>
              <a:path fill="lighten" w="22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2050920" y="3357720"/>
            <a:ext cx="121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1219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260280"/>
            <a:ext cx="4308480" cy="32562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84360" y="3141720"/>
            <a:ext cx="5688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cc99"/>
                </a:solidFill>
                <a:latin typeface="Georgia"/>
              </a:rPr>
              <a:t>РУ     КИЙ</a:t>
            </a:r>
            <a:r>
              <a:rPr b="1" lang="en-US" sz="7200" spc="-1" strike="noStrike">
                <a:solidFill>
                  <a:srgbClr val="00cc99"/>
                </a:solidFill>
                <a:latin typeface="Georgia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494172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285264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41497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724360" y="260280"/>
            <a:ext cx="3051360" cy="2881440"/>
            <a:chOff x="5724360" y="260280"/>
            <a:chExt cx="3051360" cy="2881440"/>
          </a:xfrm>
        </p:grpSpPr>
        <p:grpSp>
          <p:nvGrpSpPr>
            <p:cNvPr id="178" name=""/>
            <p:cNvGrpSpPr/>
            <p:nvPr/>
          </p:nvGrpSpPr>
          <p:grpSpPr>
            <a:xfrm>
              <a:off x="5724360" y="260280"/>
              <a:ext cx="3051360" cy="2881440"/>
              <a:chOff x="5724360" y="260280"/>
              <a:chExt cx="3051360" cy="2881440"/>
            </a:xfrm>
          </p:grpSpPr>
          <p:pic>
            <p:nvPicPr>
              <p:cNvPr id="1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8720" y="1125360"/>
                <a:ext cx="1467000" cy="201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24360" y="260280"/>
                <a:ext cx="1524240" cy="2036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1" name=""/>
            <p:cNvSpPr/>
            <p:nvPr/>
          </p:nvSpPr>
          <p:spPr>
            <a:xfrm>
              <a:off x="5796000" y="549360"/>
              <a:ext cx="863640" cy="1443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8720" y="1341360"/>
              <a:ext cx="863640" cy="14472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3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62064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1120" y="112536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1341360"/>
            <a:ext cx="85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557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8680" y="2060640"/>
            <a:ext cx="52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6520" y="2276640"/>
            <a:ext cx="71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49228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5800" y="3213000"/>
            <a:ext cx="60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760" y="3429000"/>
            <a:ext cx="53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7240" y="3645000"/>
            <a:ext cx="56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5080" y="3860640"/>
            <a:ext cx="645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9880" y="2997360"/>
            <a:ext cx="85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1054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1.liveinternet.ru/images/attach/b/3/22/409/22409102_CapitolBuilding.jpg - Вашинг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720" y="4581360"/>
            <a:ext cx="62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100dorog.ru/upload/contents/434/1895-1.jpg -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5364000" y="907920"/>
            <a:ext cx="3429000" cy="3905280"/>
            <a:chOff x="5364000" y="907920"/>
            <a:chExt cx="3429000" cy="3905280"/>
          </a:xfrm>
        </p:grpSpPr>
        <p:sp>
          <p:nvSpPr>
            <p:cNvPr id="54" name=""/>
            <p:cNvSpPr/>
            <p:nvPr/>
          </p:nvSpPr>
          <p:spPr>
            <a:xfrm rot="1387800">
              <a:off x="5866920" y="2276640"/>
              <a:ext cx="505080" cy="1800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837800">
              <a:off x="6962400" y="2336400"/>
              <a:ext cx="504720" cy="208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5364000" y="907920"/>
              <a:ext cx="3429000" cy="3905280"/>
              <a:chOff x="5364000" y="907920"/>
              <a:chExt cx="3429000" cy="3905280"/>
            </a:xfrm>
          </p:grpSpPr>
          <p:sp>
            <p:nvSpPr>
              <p:cNvPr id="57" name=""/>
              <p:cNvSpPr/>
              <p:nvPr/>
            </p:nvSpPr>
            <p:spPr>
              <a:xfrm>
                <a:off x="6300720" y="1557360"/>
                <a:ext cx="360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7640" y="1773360"/>
                <a:ext cx="360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588000" y="1700280"/>
                <a:ext cx="576360" cy="50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93080" y="1628640"/>
                <a:ext cx="647640" cy="64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5364000" y="907920"/>
                <a:ext cx="3429000" cy="3905280"/>
                <a:chOff x="5364000" y="907920"/>
                <a:chExt cx="3429000" cy="3905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6516720" y="1125360"/>
                  <a:ext cx="576360" cy="358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451640" y="1197000"/>
                  <a:ext cx="576360" cy="358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4" name="" descr="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000" y="907920"/>
                  <a:ext cx="3429000" cy="3905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65" name=""/>
          <p:cNvSpPr/>
          <p:nvPr/>
        </p:nvSpPr>
        <p:spPr>
          <a:xfrm>
            <a:off x="2124000" y="2421000"/>
            <a:ext cx="3311640" cy="1557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зы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2421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510552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3059280" y="508464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19640" y="2276640"/>
            <a:ext cx="45720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371628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7650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4356000" y="5084640"/>
            <a:ext cx="965160" cy="914400"/>
          </a:xfrm>
          <a:custGeom>
            <a:avLst/>
            <a:gdLst>
              <a:gd name="textAreaLeft" fmla="*/ 59040 w 965160"/>
              <a:gd name="textAreaRight" fmla="*/ 906120 w 965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2799" h="21600">
                <a:moveTo>
                  <a:pt x="0" y="0"/>
                </a:moveTo>
                <a:lnTo>
                  <a:pt x="22799" y="0"/>
                </a:lnTo>
                <a:lnTo>
                  <a:pt x="22799" y="21600"/>
                </a:lnTo>
                <a:lnTo>
                  <a:pt x="0" y="21600"/>
                </a:lnTo>
                <a:close/>
              </a:path>
              <a:path fill="lightenLess" w="22799" h="21600">
                <a:moveTo>
                  <a:pt x="0" y="0"/>
                </a:moveTo>
                <a:lnTo>
                  <a:pt x="22799" y="0"/>
                </a:lnTo>
                <a:lnTo>
                  <a:pt x="21399" y="1400"/>
                </a:lnTo>
                <a:lnTo>
                  <a:pt x="1400" y="1400"/>
                </a:lnTo>
                <a:close/>
              </a:path>
              <a:path fill="darken" w="22799" h="21600">
                <a:moveTo>
                  <a:pt x="22799" y="0"/>
                </a:moveTo>
                <a:lnTo>
                  <a:pt x="22799" y="21600"/>
                </a:lnTo>
                <a:lnTo>
                  <a:pt x="21399" y="20200"/>
                </a:lnTo>
                <a:lnTo>
                  <a:pt x="21399" y="1400"/>
                </a:lnTo>
                <a:close/>
              </a:path>
              <a:path fill="darkenLess" w="22799" h="21600">
                <a:moveTo>
                  <a:pt x="22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9" y="20200"/>
                </a:lnTo>
                <a:close/>
              </a:path>
              <a:path fill="lighten" w="22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2924280"/>
            <a:ext cx="5545080" cy="1434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99"/>
                </a:solidFill>
                <a:latin typeface="Georgia"/>
              </a:rPr>
              <a:t>гор   д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2781360"/>
            <a:ext cx="10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653000"/>
            <a:ext cx="865080" cy="91440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14400"/>
              <a:gd name="textAreaBottom" fmla="*/ 858600 h 914400"/>
            </a:gdLst>
            <a:ahLst/>
            <a:rect l="textAreaLeft" t="textAreaTop" r="textAreaRight" b="textAreaBottom"/>
            <a:pathLst>
              <a:path w="21600" h="22831">
                <a:moveTo>
                  <a:pt x="0" y="0"/>
                </a:moveTo>
                <a:lnTo>
                  <a:pt x="21600" y="0"/>
                </a:lnTo>
                <a:lnTo>
                  <a:pt x="21600" y="22831"/>
                </a:lnTo>
                <a:lnTo>
                  <a:pt x="0" y="22831"/>
                </a:lnTo>
                <a:close/>
              </a:path>
              <a:path fill="lightenLess" w="21600" h="228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31">
                <a:moveTo>
                  <a:pt x="21600" y="0"/>
                </a:moveTo>
                <a:lnTo>
                  <a:pt x="21600" y="22831"/>
                </a:lnTo>
                <a:lnTo>
                  <a:pt x="20200" y="21431"/>
                </a:lnTo>
                <a:lnTo>
                  <a:pt x="20200" y="1400"/>
                </a:lnTo>
                <a:close/>
              </a:path>
              <a:path fill="darkenLess" w="21600" h="22831">
                <a:moveTo>
                  <a:pt x="21600" y="22831"/>
                </a:moveTo>
                <a:lnTo>
                  <a:pt x="0" y="22831"/>
                </a:lnTo>
                <a:lnTo>
                  <a:pt x="1400" y="21431"/>
                </a:lnTo>
                <a:lnTo>
                  <a:pt x="20200" y="21431"/>
                </a:lnTo>
                <a:close/>
              </a:path>
              <a:path fill="lighten" w="21600" h="22831">
                <a:moveTo>
                  <a:pt x="0" y="228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924360" y="4581360"/>
            <a:ext cx="865080" cy="91440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14400"/>
              <a:gd name="textAreaBottom" fmla="*/ 858600 h 914400"/>
            </a:gdLst>
            <a:ahLst/>
            <a:rect l="textAreaLeft" t="textAreaTop" r="textAreaRight" b="textAreaBottom"/>
            <a:pathLst>
              <a:path w="21600" h="22831">
                <a:moveTo>
                  <a:pt x="0" y="0"/>
                </a:moveTo>
                <a:lnTo>
                  <a:pt x="21600" y="0"/>
                </a:lnTo>
                <a:lnTo>
                  <a:pt x="21600" y="22831"/>
                </a:lnTo>
                <a:lnTo>
                  <a:pt x="0" y="22831"/>
                </a:lnTo>
                <a:close/>
              </a:path>
              <a:path fill="lightenLess" w="21600" h="228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31">
                <a:moveTo>
                  <a:pt x="21600" y="0"/>
                </a:moveTo>
                <a:lnTo>
                  <a:pt x="21600" y="22831"/>
                </a:lnTo>
                <a:lnTo>
                  <a:pt x="20200" y="21431"/>
                </a:lnTo>
                <a:lnTo>
                  <a:pt x="20200" y="1400"/>
                </a:lnTo>
                <a:close/>
              </a:path>
              <a:path fill="darkenLess" w="21600" h="22831">
                <a:moveTo>
                  <a:pt x="21600" y="22831"/>
                </a:moveTo>
                <a:lnTo>
                  <a:pt x="0" y="22831"/>
                </a:lnTo>
                <a:lnTo>
                  <a:pt x="1400" y="21431"/>
                </a:lnTo>
                <a:lnTo>
                  <a:pt x="20200" y="21431"/>
                </a:lnTo>
                <a:close/>
              </a:path>
              <a:path fill="lighten" w="21600" h="22831">
                <a:moveTo>
                  <a:pt x="0" y="228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4076640"/>
            <a:ext cx="77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76500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115920"/>
            <a:ext cx="4680000" cy="311940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08360" y="306864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3068640"/>
            <a:ext cx="60195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cc99"/>
                </a:solidFill>
                <a:latin typeface="Georgia"/>
              </a:rPr>
              <a:t>род   н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203640" y="515772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5240" y="515772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ec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443700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70036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83664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4140360" cy="2690640"/>
          </a:xfrm>
          <a:prstGeom prst="rect">
            <a:avLst/>
          </a:prstGeom>
          <a:ln w="76320">
            <a:solidFill>
              <a:srgbClr val="00cc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211640" y="765000"/>
            <a:ext cx="900000" cy="10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8:18:01Z</dcterms:created>
  <dc:creator>Admin</dc:creator>
  <dc:description/>
  <dc:language>en-US</dc:language>
  <cp:lastModifiedBy>Admin</cp:lastModifiedBy>
  <dcterms:modified xsi:type="dcterms:W3CDTF">2012-06-12T14:56:42Z</dcterms:modified>
  <cp:revision>9</cp:revision>
  <dc:subject/>
  <dc:title>Слайд 1</dc:title>
</cp:coreProperties>
</file>