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A3A-6E03-4BBA-98E2-F900DAF6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57F-6293-45E4-BFD8-1BC3AD95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CC1-4486-4684-B3C8-672C41EF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216E-113D-4637-B0DD-06255CB2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A67-B5C7-43EA-9EE5-1443A8EA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1E8-6A1B-46F7-9410-AA704386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E1AF-2ADD-44F5-86FA-CD4E432B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A85-4B67-48BC-B3CB-D182E7E8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2224-53DA-4746-841A-94B8361A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AF06-8D33-464B-9E9D-D76F92C0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7FC2-B043-4C81-8DD1-1217F3B1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A13-EAAD-4199-BC91-1B86C473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F62F-16BA-4EE2-93E0-5795F59F1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astavki.com/pictures/1280x800/2009/World_Russia_Symbol_of_Moscow_018440_.jpg" TargetMode="External"/><Relationship Id="rId3" Type="http://schemas.openxmlformats.org/officeDocument/2006/relationships/hyperlink" Target="http://my-shop.ru/_files/product/2/36/353376.jpg" TargetMode="External"/><Relationship Id="rId4" Type="http://schemas.openxmlformats.org/officeDocument/2006/relationships/hyperlink" Target="http://www.ruslania.com/pictures/big/9785358084865.jpg" TargetMode="External"/><Relationship Id="rId5" Type="http://schemas.openxmlformats.org/officeDocument/2006/relationships/hyperlink" Target="http://img0.liveinternet.ru/images/attach/c/2/73/359/73359774_TOLPA___1000.jpg" TargetMode="External"/><Relationship Id="rId6" Type="http://schemas.openxmlformats.org/officeDocument/2006/relationships/hyperlink" Target="http://www.stihi.ru/pics/2010/10/25/8031.jpg" TargetMode="External"/><Relationship Id="rId7" Type="http://schemas.openxmlformats.org/officeDocument/2006/relationships/hyperlink" Target="http://visarun.net/uploads/posts/2011-03/1299157635_35.jpg" TargetMode="External"/><Relationship Id="rId8" Type="http://schemas.openxmlformats.org/officeDocument/2006/relationships/hyperlink" Target="http://kaifolog.ru/uploads/posts/2009-12/thumbs/1260790122_005_2.jpg" TargetMode="External"/><Relationship Id="rId9" Type="http://schemas.openxmlformats.org/officeDocument/2006/relationships/hyperlink" Target="http://ngrad.ru/wp-content/uploads/2010/10/65.jpeg" TargetMode="External"/><Relationship Id="rId10" Type="http://schemas.openxmlformats.org/officeDocument/2006/relationships/hyperlink" Target="http://www.artsides.ru/big/item_2624.jpg" TargetMode="External"/><Relationship Id="rId11" Type="http://schemas.openxmlformats.org/officeDocument/2006/relationships/hyperlink" Target="http://r.foto.radikal.ru/0703/330f8657e901.jpg" TargetMode="External"/><Relationship Id="rId12" Type="http://schemas.openxmlformats.org/officeDocument/2006/relationships/hyperlink" Target="http://murmansk.kp.ru/f/12/image/75/90/2379075.jpg" TargetMode="External"/><Relationship Id="rId13" Type="http://schemas.openxmlformats.org/officeDocument/2006/relationships/hyperlink" Target="http://albertgeist.com/uploads/posts/2010-05/1273700946_rossiy.jpg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5.png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4160" y="476280"/>
            <a:ext cx="7989840" cy="14698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СЛОВАРНЫЙ ДИКТАНТ №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«РОДИН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22936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Georgia"/>
              </a:rPr>
              <a:t>Выполнила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Georgia"/>
              </a:rPr>
              <a:t>МОУ СОШ №22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Georgia"/>
              </a:rPr>
              <a:t>г. Заречный Пензенской обл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Georgia"/>
              </a:rPr>
              <a:t>Сазнова Татьяна Евгень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2852640"/>
            <a:ext cx="756108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Georgia"/>
              </a:rPr>
              <a:t>т   вар   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414972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32360" y="285264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285264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924360" y="2852640"/>
            <a:ext cx="216000" cy="50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4149720"/>
            <a:ext cx="719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35640" y="4941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6732720" y="4941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501336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3059280" y="501336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90792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72360" y="115920"/>
            <a:ext cx="2427120" cy="367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76360" y="407664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285264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285264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Georgia"/>
              </a:rPr>
              <a:t>М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2852640"/>
            <a:ext cx="30956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cc99"/>
                </a:solidFill>
                <a:latin typeface="Georgia"/>
              </a:rPr>
              <a:t>скв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867280" y="3068640"/>
            <a:ext cx="144720" cy="316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00360" y="4076640"/>
            <a:ext cx="719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4941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6732720" y="4941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501336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3059280" y="501336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907920"/>
            <a:ext cx="36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rId4"/>
          </p:cNvPr>
          <p:cNvPicPr/>
          <p:nvPr/>
        </p:nvPicPr>
        <p:blipFill>
          <a:blip r:embed="rId5"/>
          <a:srcRect l="0" t="0" r="-402" b="-161"/>
          <a:stretch/>
        </p:blipFill>
        <p:spPr>
          <a:xfrm>
            <a:off x="4427640" y="260280"/>
            <a:ext cx="4500360" cy="2806920"/>
          </a:xfrm>
          <a:prstGeom prst="rect">
            <a:avLst/>
          </a:prstGeom>
          <a:ln w="76320">
            <a:solidFill>
              <a:srgbClr val="00cc99"/>
            </a:solidFill>
            <a:miter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51280" y="285264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с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2852640"/>
            <a:ext cx="251928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Georgia"/>
              </a:rPr>
              <a:t>ия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285264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285264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324000" y="4437000"/>
            <a:ext cx="990360" cy="838440"/>
          </a:xfrm>
          <a:custGeom>
            <a:avLst/>
            <a:gdLst>
              <a:gd name="textAreaLeft" fmla="*/ 54360 w 990360"/>
              <a:gd name="textAreaRight" fmla="*/ 936000 w 9903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12" h="21600">
                <a:moveTo>
                  <a:pt x="0" y="0"/>
                </a:moveTo>
                <a:lnTo>
                  <a:pt x="25512" y="0"/>
                </a:lnTo>
                <a:lnTo>
                  <a:pt x="25512" y="21600"/>
                </a:lnTo>
                <a:lnTo>
                  <a:pt x="0" y="21600"/>
                </a:lnTo>
                <a:close/>
              </a:path>
              <a:path fill="lightenLess" w="25512" h="21600">
                <a:moveTo>
                  <a:pt x="0" y="0"/>
                </a:moveTo>
                <a:lnTo>
                  <a:pt x="25512" y="0"/>
                </a:lnTo>
                <a:lnTo>
                  <a:pt x="24112" y="1400"/>
                </a:lnTo>
                <a:lnTo>
                  <a:pt x="1400" y="1400"/>
                </a:lnTo>
                <a:close/>
              </a:path>
              <a:path fill="darken" w="25512" h="21600">
                <a:moveTo>
                  <a:pt x="25512" y="0"/>
                </a:moveTo>
                <a:lnTo>
                  <a:pt x="25512" y="21600"/>
                </a:lnTo>
                <a:lnTo>
                  <a:pt x="24112" y="20200"/>
                </a:lnTo>
                <a:lnTo>
                  <a:pt x="24112" y="1400"/>
                </a:lnTo>
                <a:close/>
              </a:path>
              <a:path fill="darkenLess" w="25512" h="21600">
                <a:moveTo>
                  <a:pt x="25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2" y="20200"/>
                </a:lnTo>
                <a:close/>
              </a:path>
              <a:path fill="lighten" w="25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4437000"/>
            <a:ext cx="990360" cy="838440"/>
          </a:xfrm>
          <a:custGeom>
            <a:avLst/>
            <a:gdLst>
              <a:gd name="textAreaLeft" fmla="*/ 54360 w 990360"/>
              <a:gd name="textAreaRight" fmla="*/ 936000 w 9903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12" h="21600">
                <a:moveTo>
                  <a:pt x="0" y="0"/>
                </a:moveTo>
                <a:lnTo>
                  <a:pt x="25512" y="0"/>
                </a:lnTo>
                <a:lnTo>
                  <a:pt x="25512" y="21600"/>
                </a:lnTo>
                <a:lnTo>
                  <a:pt x="0" y="21600"/>
                </a:lnTo>
                <a:close/>
              </a:path>
              <a:path fill="lightenLess" w="25512" h="21600">
                <a:moveTo>
                  <a:pt x="0" y="0"/>
                </a:moveTo>
                <a:lnTo>
                  <a:pt x="25512" y="0"/>
                </a:lnTo>
                <a:lnTo>
                  <a:pt x="24112" y="1400"/>
                </a:lnTo>
                <a:lnTo>
                  <a:pt x="1400" y="1400"/>
                </a:lnTo>
                <a:close/>
              </a:path>
              <a:path fill="darken" w="25512" h="21600">
                <a:moveTo>
                  <a:pt x="25512" y="0"/>
                </a:moveTo>
                <a:lnTo>
                  <a:pt x="25512" y="21600"/>
                </a:lnTo>
                <a:lnTo>
                  <a:pt x="24112" y="20200"/>
                </a:lnTo>
                <a:lnTo>
                  <a:pt x="24112" y="1400"/>
                </a:lnTo>
                <a:close/>
              </a:path>
              <a:path fill="darkenLess" w="25512" h="21600">
                <a:moveTo>
                  <a:pt x="25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2" y="20200"/>
                </a:lnTo>
                <a:close/>
              </a:path>
              <a:path fill="lighten" w="25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4149720"/>
            <a:ext cx="504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724000" y="2997360"/>
            <a:ext cx="360360" cy="38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549360"/>
            <a:ext cx="487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67280" y="4149720"/>
            <a:ext cx="10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8360" y="4149720"/>
            <a:ext cx="7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3198960" y="5373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0560" y="5373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450864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67640" y="4508640"/>
            <a:ext cx="1282680" cy="838080"/>
          </a:xfrm>
          <a:custGeom>
            <a:avLst/>
            <a:gdLst>
              <a:gd name="textAreaLeft" fmla="*/ 54000 w 1282680"/>
              <a:gd name="textAreaRight" fmla="*/ 1228680 w 1282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054" h="21600">
                <a:moveTo>
                  <a:pt x="0" y="0"/>
                </a:moveTo>
                <a:lnTo>
                  <a:pt x="33054" y="0"/>
                </a:lnTo>
                <a:lnTo>
                  <a:pt x="33054" y="21600"/>
                </a:lnTo>
                <a:lnTo>
                  <a:pt x="0" y="21600"/>
                </a:lnTo>
                <a:close/>
              </a:path>
              <a:path fill="lightenLess" w="33054" h="21600">
                <a:moveTo>
                  <a:pt x="0" y="0"/>
                </a:moveTo>
                <a:lnTo>
                  <a:pt x="33054" y="0"/>
                </a:lnTo>
                <a:lnTo>
                  <a:pt x="31654" y="1400"/>
                </a:lnTo>
                <a:lnTo>
                  <a:pt x="1400" y="1400"/>
                </a:lnTo>
                <a:close/>
              </a:path>
              <a:path fill="darken" w="33054" h="21600">
                <a:moveTo>
                  <a:pt x="33054" y="0"/>
                </a:moveTo>
                <a:lnTo>
                  <a:pt x="33054" y="21600"/>
                </a:lnTo>
                <a:lnTo>
                  <a:pt x="31654" y="20200"/>
                </a:lnTo>
                <a:lnTo>
                  <a:pt x="31654" y="1400"/>
                </a:lnTo>
                <a:close/>
              </a:path>
              <a:path fill="darkenLess" w="33054" h="21600">
                <a:moveTo>
                  <a:pt x="33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54" y="20200"/>
                </a:lnTo>
                <a:close/>
              </a:path>
              <a:path fill="lighten" w="33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С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4720" y="260280"/>
            <a:ext cx="4600440" cy="2606760"/>
          </a:xfrm>
          <a:prstGeom prst="rect">
            <a:avLst/>
          </a:prstGeom>
          <a:ln w="76320">
            <a:solidFill>
              <a:srgbClr val="7ecbfa"/>
            </a:solidFill>
            <a:miter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58920" y="314172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Georgia"/>
              </a:rPr>
              <a:t>ст   лиц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56000" y="314172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6513480" y="479736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85080" y="479736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4508640"/>
            <a:ext cx="792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859280" y="3357720"/>
            <a:ext cx="217440" cy="287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115920"/>
            <a:ext cx="487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826920" y="1197000"/>
            <a:ext cx="2988000" cy="2008080"/>
          </a:xfrm>
          <a:prstGeom prst="rect">
            <a:avLst/>
          </a:prstGeom>
          <a:ln w="76320">
            <a:solidFill>
              <a:srgbClr val="7ecbfa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211640" y="620640"/>
            <a:ext cx="1862280" cy="2710080"/>
          </a:xfrm>
          <a:prstGeom prst="rect">
            <a:avLst/>
          </a:prstGeom>
          <a:ln w="76320">
            <a:solidFill>
              <a:srgbClr val="7ecbfa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1979640" y="4653000"/>
            <a:ext cx="3060720" cy="2055600"/>
          </a:xfrm>
          <a:prstGeom prst="rect">
            <a:avLst/>
          </a:prstGeom>
          <a:ln w="76320">
            <a:solidFill>
              <a:srgbClr val="7ecbfa"/>
            </a:solidFill>
            <a:miter/>
          </a:ln>
        </p:spPr>
      </p:pic>
      <p:pic>
        <p:nvPicPr>
          <p:cNvPr id="15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27640" y="189000"/>
            <a:ext cx="2743200" cy="2057400"/>
          </a:xfrm>
          <a:prstGeom prst="rect">
            <a:avLst/>
          </a:prstGeom>
          <a:ln w="76320">
            <a:solidFill>
              <a:srgbClr val="7ecbfa"/>
            </a:solidFill>
            <a:miter/>
          </a:ln>
        </p:spPr>
      </p:pic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71640" y="3141720"/>
            <a:ext cx="71294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Georgia"/>
              </a:rPr>
              <a:t>ф   мил   я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24000" y="32130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51640" y="314172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63640" y="4941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941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508640"/>
            <a:ext cx="7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427640" y="306864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112536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95640" y="4508640"/>
            <a:ext cx="792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45120" y="4941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4941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651640" y="189000"/>
            <a:ext cx="3244680" cy="3357000"/>
            <a:chOff x="5651640" y="189000"/>
            <a:chExt cx="3244680" cy="3357000"/>
          </a:xfrm>
        </p:grpSpPr>
        <p:pic>
          <p:nvPicPr>
            <p:cNvPr id="167" name="" descr=""/>
            <p:cNvPicPr/>
            <p:nvPr/>
          </p:nvPicPr>
          <p:blipFill>
            <a:blip r:embed="rId2"/>
            <a:srcRect l="0" t="0" r="-1391" b="56060"/>
            <a:stretch/>
          </p:blipFill>
          <p:spPr>
            <a:xfrm>
              <a:off x="5651640" y="189000"/>
              <a:ext cx="3244680" cy="1811520"/>
            </a:xfrm>
            <a:prstGeom prst="rect">
              <a:avLst/>
            </a:prstGeom>
            <a:ln w="76320">
              <a:solidFill>
                <a:srgbClr val="00cc99"/>
              </a:solidFill>
              <a:miter/>
            </a:ln>
          </p:spPr>
        </p:pic>
        <p:pic>
          <p:nvPicPr>
            <p:cNvPr id="168" name="" descr="">
              <a:hlinkClick r:id="rId3"/>
            </p:cNvPr>
            <p:cNvPicPr/>
            <p:nvPr/>
          </p:nvPicPr>
          <p:blipFill>
            <a:blip r:embed="rId4"/>
            <a:srcRect l="0" t="56060" r="0" b="6453"/>
            <a:stretch/>
          </p:blipFill>
          <p:spPr>
            <a:xfrm>
              <a:off x="5654880" y="2000520"/>
              <a:ext cx="3199680" cy="1545480"/>
            </a:xfrm>
            <a:prstGeom prst="rect">
              <a:avLst/>
            </a:prstGeom>
            <a:ln w="76320">
              <a:solidFill>
                <a:srgbClr val="00cc99"/>
              </a:solidFill>
              <a:miter/>
            </a:ln>
          </p:spPr>
        </p:pic>
      </p:grp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1042920" y="3357720"/>
            <a:ext cx="58676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Georgia"/>
              </a:rPr>
              <a:t>н   ро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4"/>
          <p:cNvSpPr/>
          <p:nvPr/>
        </p:nvSpPr>
        <p:spPr>
          <a:xfrm flipH="1">
            <a:off x="4067280" y="3213000"/>
            <a:ext cx="304560" cy="609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5"/>
          <p:cNvSpPr/>
          <p:nvPr/>
        </p:nvSpPr>
        <p:spPr>
          <a:xfrm>
            <a:off x="1979640" y="472428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8">
            <a:hlinkClick r:id="rId2" action="ppaction://hlinksldjump"/>
          </p:cNvPr>
          <p:cNvSpPr/>
          <p:nvPr/>
        </p:nvSpPr>
        <p:spPr>
          <a:xfrm>
            <a:off x="3276720" y="5334120"/>
            <a:ext cx="990360" cy="990360"/>
          </a:xfrm>
          <a:custGeom>
            <a:avLst/>
            <a:gdLst>
              <a:gd name="textAreaLeft" fmla="*/ 64080 w 990360"/>
              <a:gd name="textAreaRight" fmla="*/ 926280 w 9903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1752480" y="5334120"/>
            <a:ext cx="1019160" cy="990360"/>
          </a:xfrm>
          <a:custGeom>
            <a:avLst/>
            <a:gdLst>
              <a:gd name="textAreaLeft" fmla="*/ 64080 w 1019160"/>
              <a:gd name="textAreaRight" fmla="*/ 955080 w 10191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2228" h="21600">
                <a:moveTo>
                  <a:pt x="0" y="0"/>
                </a:moveTo>
                <a:lnTo>
                  <a:pt x="22228" y="0"/>
                </a:lnTo>
                <a:lnTo>
                  <a:pt x="22228" y="21600"/>
                </a:lnTo>
                <a:lnTo>
                  <a:pt x="0" y="21600"/>
                </a:lnTo>
                <a:close/>
              </a:path>
              <a:path fill="lightenLess" w="22228" h="21600">
                <a:moveTo>
                  <a:pt x="0" y="0"/>
                </a:moveTo>
                <a:lnTo>
                  <a:pt x="22228" y="0"/>
                </a:lnTo>
                <a:lnTo>
                  <a:pt x="20828" y="1400"/>
                </a:lnTo>
                <a:lnTo>
                  <a:pt x="1400" y="1400"/>
                </a:lnTo>
                <a:close/>
              </a:path>
              <a:path fill="darken" w="22228" h="21600">
                <a:moveTo>
                  <a:pt x="22228" y="0"/>
                </a:moveTo>
                <a:lnTo>
                  <a:pt x="22228" y="21600"/>
                </a:lnTo>
                <a:lnTo>
                  <a:pt x="20828" y="20200"/>
                </a:lnTo>
                <a:lnTo>
                  <a:pt x="20828" y="1400"/>
                </a:lnTo>
                <a:close/>
              </a:path>
              <a:path fill="darkenLess" w="22228" h="21600">
                <a:moveTo>
                  <a:pt x="22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28" y="20200"/>
                </a:lnTo>
                <a:close/>
              </a:path>
              <a:path fill="lighten" w="22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2050920" y="335772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80880" y="121932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260280"/>
            <a:ext cx="4308480" cy="3256200"/>
          </a:xfrm>
          <a:prstGeom prst="rect">
            <a:avLst/>
          </a:prstGeom>
          <a:ln w="76320">
            <a:solidFill>
              <a:srgbClr val="00cc99"/>
            </a:solidFill>
            <a:miter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484360" y="3141720"/>
            <a:ext cx="568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cc99"/>
                </a:solidFill>
                <a:latin typeface="Georgia"/>
              </a:rPr>
              <a:t>РУ     КИЙ</a:t>
            </a:r>
            <a:r>
              <a:rPr b="1" lang="en-US" sz="7200" spc="-1" strike="noStrike">
                <a:solidFill>
                  <a:srgbClr val="00cc99"/>
                </a:solidFill>
                <a:latin typeface="Georgia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1763640" y="4941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494172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С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285264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с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83808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41497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724360" y="260280"/>
            <a:ext cx="3051360" cy="2881440"/>
            <a:chOff x="5724360" y="260280"/>
            <a:chExt cx="3051360" cy="2881440"/>
          </a:xfrm>
        </p:grpSpPr>
        <p:grpSp>
          <p:nvGrpSpPr>
            <p:cNvPr id="178" name=""/>
            <p:cNvGrpSpPr/>
            <p:nvPr/>
          </p:nvGrpSpPr>
          <p:grpSpPr>
            <a:xfrm>
              <a:off x="5724360" y="260280"/>
              <a:ext cx="3051360" cy="2881440"/>
              <a:chOff x="5724360" y="260280"/>
              <a:chExt cx="3051360" cy="2881440"/>
            </a:xfrm>
          </p:grpSpPr>
          <p:pic>
            <p:nvPicPr>
              <p:cNvPr id="1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08720" y="1125360"/>
                <a:ext cx="1467000" cy="201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360" y="260280"/>
                <a:ext cx="1524240" cy="2036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1" name=""/>
            <p:cNvSpPr/>
            <p:nvPr/>
          </p:nvSpPr>
          <p:spPr>
            <a:xfrm>
              <a:off x="5796000" y="549360"/>
              <a:ext cx="863640" cy="144360"/>
            </a:xfrm>
            <a:prstGeom prst="rect">
              <a:avLst/>
            </a:prstGeom>
            <a:solidFill>
              <a:srgbClr val="401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8720" y="1341360"/>
              <a:ext cx="863640" cy="144720"/>
            </a:xfrm>
            <a:prstGeom prst="rect">
              <a:avLst/>
            </a:prstGeom>
            <a:solidFill>
              <a:srgbClr val="000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116000" y="2133720"/>
            <a:ext cx="748980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МОЛОДЦЫ!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960200" y="58680"/>
            <a:ext cx="44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62064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zastavki.com/pictures/1280x800/2009/World_Russia_Symbol_of_Moscow_018440_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Моск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1120" y="1125360"/>
            <a:ext cx="64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my-shop.ru/_files/product/2/36/353376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учебник 2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134136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ruslania.com/pictures/big/978535808486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учебник 1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557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img0.liveinternet.ru/images/attach/c/2/73/359/73359774_TOLPA___1000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р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8680" y="2060640"/>
            <a:ext cx="52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www.stihi.ru/pics/2010/10/25/803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язы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6520" y="2276640"/>
            <a:ext cx="71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visarun.net/uploads/posts/2011-03/1299157635_3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гор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249228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kaifolog.ru/uploads/posts/2009-12/thumbs/1260790122_005_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амил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5800" y="3213000"/>
            <a:ext cx="60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ngrad.ru/wp-content/uploads/2010/10/65.jpe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гер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760" y="3429000"/>
            <a:ext cx="53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www.artsides.ru/big/item_262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товари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7240" y="3645000"/>
            <a:ext cx="56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http://r.foto.radikal.ru/0703/330f8657e90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ари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5080" y="3860640"/>
            <a:ext cx="64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://murmansk.kp.ru/f/12/image/75/90/237907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Моск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9880" y="2997360"/>
            <a:ext cx="85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http://albertgeist.com/uploads/posts/2010-05/1273700946_rossiy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осс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410544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1.liveinternet.ru/images/attach/b/3/22/409/22409102_CapitolBuilding.jpg - Вашингт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720" y="4581360"/>
            <a:ext cx="62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100dorog.ru/upload/contents/434/1895-1.jpg - Лонд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5364000" y="907920"/>
            <a:ext cx="3429000" cy="3905280"/>
            <a:chOff x="5364000" y="907920"/>
            <a:chExt cx="3429000" cy="3905280"/>
          </a:xfrm>
        </p:grpSpPr>
        <p:sp>
          <p:nvSpPr>
            <p:cNvPr id="54" name=""/>
            <p:cNvSpPr/>
            <p:nvPr/>
          </p:nvSpPr>
          <p:spPr>
            <a:xfrm rot="1387800">
              <a:off x="5866920" y="2276640"/>
              <a:ext cx="505080" cy="1800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837800">
              <a:off x="6962400" y="2336400"/>
              <a:ext cx="504720" cy="208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5364000" y="907920"/>
              <a:ext cx="3429000" cy="3905280"/>
              <a:chOff x="5364000" y="907920"/>
              <a:chExt cx="3429000" cy="3905280"/>
            </a:xfrm>
          </p:grpSpPr>
          <p:sp>
            <p:nvSpPr>
              <p:cNvPr id="57" name=""/>
              <p:cNvSpPr/>
              <p:nvPr/>
            </p:nvSpPr>
            <p:spPr>
              <a:xfrm>
                <a:off x="6300720" y="1557360"/>
                <a:ext cx="360360" cy="50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7640" y="1773360"/>
                <a:ext cx="360360" cy="50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588000" y="1700280"/>
                <a:ext cx="576360" cy="50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93080" y="1628640"/>
                <a:ext cx="647640" cy="64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5364000" y="907920"/>
                <a:ext cx="3429000" cy="3905280"/>
                <a:chOff x="5364000" y="907920"/>
                <a:chExt cx="3429000" cy="390528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6516720" y="1125360"/>
                  <a:ext cx="576360" cy="358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451640" y="1197000"/>
                  <a:ext cx="576360" cy="358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4" name="" descr="">
                  <a:hlinkClick r:id="rId2"/>
                </p:cNvPr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64000" y="907920"/>
                  <a:ext cx="3429000" cy="3905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65" name=""/>
          <p:cNvSpPr/>
          <p:nvPr/>
        </p:nvSpPr>
        <p:spPr>
          <a:xfrm>
            <a:off x="2124000" y="2421000"/>
            <a:ext cx="3311640" cy="1557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Georgia"/>
              </a:rPr>
              <a:t>зы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24210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5105520"/>
            <a:ext cx="965160" cy="914400"/>
          </a:xfrm>
          <a:custGeom>
            <a:avLst/>
            <a:gdLst>
              <a:gd name="textAreaLeft" fmla="*/ 59040 w 965160"/>
              <a:gd name="textAreaRight" fmla="*/ 906120 w 965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2799" h="21600">
                <a:moveTo>
                  <a:pt x="0" y="0"/>
                </a:moveTo>
                <a:lnTo>
                  <a:pt x="22799" y="0"/>
                </a:lnTo>
                <a:lnTo>
                  <a:pt x="22799" y="21600"/>
                </a:lnTo>
                <a:lnTo>
                  <a:pt x="0" y="21600"/>
                </a:lnTo>
                <a:close/>
              </a:path>
              <a:path fill="lightenLess" w="22799" h="21600">
                <a:moveTo>
                  <a:pt x="0" y="0"/>
                </a:moveTo>
                <a:lnTo>
                  <a:pt x="22799" y="0"/>
                </a:lnTo>
                <a:lnTo>
                  <a:pt x="21399" y="1400"/>
                </a:lnTo>
                <a:lnTo>
                  <a:pt x="1400" y="1400"/>
                </a:lnTo>
                <a:close/>
              </a:path>
              <a:path fill="darken" w="22799" h="21600">
                <a:moveTo>
                  <a:pt x="22799" y="0"/>
                </a:moveTo>
                <a:lnTo>
                  <a:pt x="22799" y="21600"/>
                </a:lnTo>
                <a:lnTo>
                  <a:pt x="21399" y="20200"/>
                </a:lnTo>
                <a:lnTo>
                  <a:pt x="21399" y="1400"/>
                </a:lnTo>
                <a:close/>
              </a:path>
              <a:path fill="darkenLess" w="22799" h="21600">
                <a:moveTo>
                  <a:pt x="22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99" y="20200"/>
                </a:lnTo>
                <a:close/>
              </a:path>
              <a:path fill="lighten" w="22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3059280" y="5084640"/>
            <a:ext cx="965160" cy="914400"/>
          </a:xfrm>
          <a:custGeom>
            <a:avLst/>
            <a:gdLst>
              <a:gd name="textAreaLeft" fmla="*/ 59040 w 965160"/>
              <a:gd name="textAreaRight" fmla="*/ 906120 w 965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2799" h="21600">
                <a:moveTo>
                  <a:pt x="0" y="0"/>
                </a:moveTo>
                <a:lnTo>
                  <a:pt x="22799" y="0"/>
                </a:lnTo>
                <a:lnTo>
                  <a:pt x="22799" y="21600"/>
                </a:lnTo>
                <a:lnTo>
                  <a:pt x="0" y="21600"/>
                </a:lnTo>
                <a:close/>
              </a:path>
              <a:path fill="lightenLess" w="22799" h="21600">
                <a:moveTo>
                  <a:pt x="0" y="0"/>
                </a:moveTo>
                <a:lnTo>
                  <a:pt x="22799" y="0"/>
                </a:lnTo>
                <a:lnTo>
                  <a:pt x="21399" y="1400"/>
                </a:lnTo>
                <a:lnTo>
                  <a:pt x="1400" y="1400"/>
                </a:lnTo>
                <a:close/>
              </a:path>
              <a:path fill="darken" w="22799" h="21600">
                <a:moveTo>
                  <a:pt x="22799" y="0"/>
                </a:moveTo>
                <a:lnTo>
                  <a:pt x="22799" y="21600"/>
                </a:lnTo>
                <a:lnTo>
                  <a:pt x="21399" y="20200"/>
                </a:lnTo>
                <a:lnTo>
                  <a:pt x="21399" y="1400"/>
                </a:lnTo>
                <a:close/>
              </a:path>
              <a:path fill="darkenLess" w="22799" h="21600">
                <a:moveTo>
                  <a:pt x="22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99" y="20200"/>
                </a:lnTo>
                <a:close/>
              </a:path>
              <a:path fill="lighten" w="22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419640" y="2276640"/>
            <a:ext cx="45720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371628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765000"/>
            <a:ext cx="36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5" action="ppaction://hlinksldjump"/>
          </p:cNvPr>
          <p:cNvSpPr/>
          <p:nvPr/>
        </p:nvSpPr>
        <p:spPr>
          <a:xfrm>
            <a:off x="4356000" y="5084640"/>
            <a:ext cx="965160" cy="914400"/>
          </a:xfrm>
          <a:custGeom>
            <a:avLst/>
            <a:gdLst>
              <a:gd name="textAreaLeft" fmla="*/ 59040 w 965160"/>
              <a:gd name="textAreaRight" fmla="*/ 906120 w 965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2799" h="21600">
                <a:moveTo>
                  <a:pt x="0" y="0"/>
                </a:moveTo>
                <a:lnTo>
                  <a:pt x="22799" y="0"/>
                </a:lnTo>
                <a:lnTo>
                  <a:pt x="22799" y="21600"/>
                </a:lnTo>
                <a:lnTo>
                  <a:pt x="0" y="21600"/>
                </a:lnTo>
                <a:close/>
              </a:path>
              <a:path fill="lightenLess" w="22799" h="21600">
                <a:moveTo>
                  <a:pt x="0" y="0"/>
                </a:moveTo>
                <a:lnTo>
                  <a:pt x="22799" y="0"/>
                </a:lnTo>
                <a:lnTo>
                  <a:pt x="21399" y="1400"/>
                </a:lnTo>
                <a:lnTo>
                  <a:pt x="1400" y="1400"/>
                </a:lnTo>
                <a:close/>
              </a:path>
              <a:path fill="darken" w="22799" h="21600">
                <a:moveTo>
                  <a:pt x="22799" y="0"/>
                </a:moveTo>
                <a:lnTo>
                  <a:pt x="22799" y="21600"/>
                </a:lnTo>
                <a:lnTo>
                  <a:pt x="21399" y="20200"/>
                </a:lnTo>
                <a:lnTo>
                  <a:pt x="21399" y="1400"/>
                </a:lnTo>
                <a:close/>
              </a:path>
              <a:path fill="darkenLess" w="22799" h="21600">
                <a:moveTo>
                  <a:pt x="22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99" y="20200"/>
                </a:lnTo>
                <a:close/>
              </a:path>
              <a:path fill="lighten" w="22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2924280"/>
            <a:ext cx="5545080" cy="14346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cc99"/>
                </a:solidFill>
                <a:latin typeface="Georgia"/>
              </a:rPr>
              <a:t>гор   д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2781360"/>
            <a:ext cx="10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4653000"/>
            <a:ext cx="865080" cy="914400"/>
          </a:xfrm>
          <a:custGeom>
            <a:avLst/>
            <a:gdLst>
              <a:gd name="textAreaLeft" fmla="*/ 55800 w 865080"/>
              <a:gd name="textAreaRight" fmla="*/ 809280 w 865080"/>
              <a:gd name="textAreaTop" fmla="*/ 55800 h 914400"/>
              <a:gd name="textAreaBottom" fmla="*/ 858600 h 914400"/>
            </a:gdLst>
            <a:ahLst/>
            <a:rect l="textAreaLeft" t="textAreaTop" r="textAreaRight" b="textAreaBottom"/>
            <a:pathLst>
              <a:path w="21600" h="22831">
                <a:moveTo>
                  <a:pt x="0" y="0"/>
                </a:moveTo>
                <a:lnTo>
                  <a:pt x="21600" y="0"/>
                </a:lnTo>
                <a:lnTo>
                  <a:pt x="21600" y="22831"/>
                </a:lnTo>
                <a:lnTo>
                  <a:pt x="0" y="22831"/>
                </a:lnTo>
                <a:close/>
              </a:path>
              <a:path fill="lightenLess" w="21600" h="228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31">
                <a:moveTo>
                  <a:pt x="21600" y="0"/>
                </a:moveTo>
                <a:lnTo>
                  <a:pt x="21600" y="22831"/>
                </a:lnTo>
                <a:lnTo>
                  <a:pt x="20200" y="21431"/>
                </a:lnTo>
                <a:lnTo>
                  <a:pt x="20200" y="1400"/>
                </a:lnTo>
                <a:close/>
              </a:path>
              <a:path fill="darkenLess" w="21600" h="22831">
                <a:moveTo>
                  <a:pt x="21600" y="22831"/>
                </a:moveTo>
                <a:lnTo>
                  <a:pt x="0" y="22831"/>
                </a:lnTo>
                <a:lnTo>
                  <a:pt x="1400" y="21431"/>
                </a:lnTo>
                <a:lnTo>
                  <a:pt x="20200" y="21431"/>
                </a:lnTo>
                <a:close/>
              </a:path>
              <a:path fill="lighten" w="21600" h="22831">
                <a:moveTo>
                  <a:pt x="0" y="228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3924360" y="4581360"/>
            <a:ext cx="865080" cy="914400"/>
          </a:xfrm>
          <a:custGeom>
            <a:avLst/>
            <a:gdLst>
              <a:gd name="textAreaLeft" fmla="*/ 55800 w 865080"/>
              <a:gd name="textAreaRight" fmla="*/ 809280 w 865080"/>
              <a:gd name="textAreaTop" fmla="*/ 55800 h 914400"/>
              <a:gd name="textAreaBottom" fmla="*/ 858600 h 914400"/>
            </a:gdLst>
            <a:ahLst/>
            <a:rect l="textAreaLeft" t="textAreaTop" r="textAreaRight" b="textAreaBottom"/>
            <a:pathLst>
              <a:path w="21600" h="22831">
                <a:moveTo>
                  <a:pt x="0" y="0"/>
                </a:moveTo>
                <a:lnTo>
                  <a:pt x="21600" y="0"/>
                </a:lnTo>
                <a:lnTo>
                  <a:pt x="21600" y="22831"/>
                </a:lnTo>
                <a:lnTo>
                  <a:pt x="0" y="22831"/>
                </a:lnTo>
                <a:close/>
              </a:path>
              <a:path fill="lightenLess" w="21600" h="228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31">
                <a:moveTo>
                  <a:pt x="21600" y="0"/>
                </a:moveTo>
                <a:lnTo>
                  <a:pt x="21600" y="22831"/>
                </a:lnTo>
                <a:lnTo>
                  <a:pt x="20200" y="21431"/>
                </a:lnTo>
                <a:lnTo>
                  <a:pt x="20200" y="1400"/>
                </a:lnTo>
                <a:close/>
              </a:path>
              <a:path fill="darkenLess" w="21600" h="22831">
                <a:moveTo>
                  <a:pt x="21600" y="22831"/>
                </a:moveTo>
                <a:lnTo>
                  <a:pt x="0" y="22831"/>
                </a:lnTo>
                <a:lnTo>
                  <a:pt x="1400" y="21431"/>
                </a:lnTo>
                <a:lnTo>
                  <a:pt x="20200" y="21431"/>
                </a:lnTo>
                <a:close/>
              </a:path>
              <a:path fill="lighten" w="21600" h="22831">
                <a:moveTo>
                  <a:pt x="0" y="228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278136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4076640"/>
            <a:ext cx="774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765000"/>
            <a:ext cx="38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4720" y="115920"/>
            <a:ext cx="4680000" cy="3119400"/>
          </a:xfrm>
          <a:prstGeom prst="rect">
            <a:avLst/>
          </a:prstGeom>
          <a:ln w="76320">
            <a:solidFill>
              <a:srgbClr val="00cc99"/>
            </a:solidFill>
            <a:miter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708360" y="306864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3068640"/>
            <a:ext cx="60195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Georgia"/>
              </a:rPr>
              <a:t>род   н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3203640" y="5157720"/>
            <a:ext cx="990360" cy="838440"/>
          </a:xfrm>
          <a:custGeom>
            <a:avLst/>
            <a:gdLst>
              <a:gd name="textAreaLeft" fmla="*/ 54360 w 990360"/>
              <a:gd name="textAreaRight" fmla="*/ 936000 w 9903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12" h="21600">
                <a:moveTo>
                  <a:pt x="0" y="0"/>
                </a:moveTo>
                <a:lnTo>
                  <a:pt x="25512" y="0"/>
                </a:lnTo>
                <a:lnTo>
                  <a:pt x="25512" y="21600"/>
                </a:lnTo>
                <a:lnTo>
                  <a:pt x="0" y="21600"/>
                </a:lnTo>
                <a:close/>
              </a:path>
              <a:path fill="lightenLess" w="25512" h="21600">
                <a:moveTo>
                  <a:pt x="0" y="0"/>
                </a:moveTo>
                <a:lnTo>
                  <a:pt x="25512" y="0"/>
                </a:lnTo>
                <a:lnTo>
                  <a:pt x="24112" y="1400"/>
                </a:lnTo>
                <a:lnTo>
                  <a:pt x="1400" y="1400"/>
                </a:lnTo>
                <a:close/>
              </a:path>
              <a:path fill="darken" w="25512" h="21600">
                <a:moveTo>
                  <a:pt x="25512" y="0"/>
                </a:moveTo>
                <a:lnTo>
                  <a:pt x="25512" y="21600"/>
                </a:lnTo>
                <a:lnTo>
                  <a:pt x="24112" y="20200"/>
                </a:lnTo>
                <a:lnTo>
                  <a:pt x="24112" y="1400"/>
                </a:lnTo>
                <a:close/>
              </a:path>
              <a:path fill="darkenLess" w="25512" h="21600">
                <a:moveTo>
                  <a:pt x="25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2" y="20200"/>
                </a:lnTo>
                <a:close/>
              </a:path>
              <a:path fill="lighten" w="25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5240" y="5157720"/>
            <a:ext cx="990360" cy="838440"/>
          </a:xfrm>
          <a:custGeom>
            <a:avLst/>
            <a:gdLst>
              <a:gd name="textAreaLeft" fmla="*/ 54360 w 990360"/>
              <a:gd name="textAreaRight" fmla="*/ 936000 w 9903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12" h="21600">
                <a:moveTo>
                  <a:pt x="0" y="0"/>
                </a:moveTo>
                <a:lnTo>
                  <a:pt x="25512" y="0"/>
                </a:lnTo>
                <a:lnTo>
                  <a:pt x="25512" y="21600"/>
                </a:lnTo>
                <a:lnTo>
                  <a:pt x="0" y="21600"/>
                </a:lnTo>
                <a:close/>
              </a:path>
              <a:path fill="lightenLess" w="25512" h="21600">
                <a:moveTo>
                  <a:pt x="0" y="0"/>
                </a:moveTo>
                <a:lnTo>
                  <a:pt x="25512" y="0"/>
                </a:lnTo>
                <a:lnTo>
                  <a:pt x="24112" y="1400"/>
                </a:lnTo>
                <a:lnTo>
                  <a:pt x="1400" y="1400"/>
                </a:lnTo>
                <a:close/>
              </a:path>
              <a:path fill="darken" w="25512" h="21600">
                <a:moveTo>
                  <a:pt x="25512" y="0"/>
                </a:moveTo>
                <a:lnTo>
                  <a:pt x="25512" y="21600"/>
                </a:lnTo>
                <a:lnTo>
                  <a:pt x="24112" y="20200"/>
                </a:lnTo>
                <a:lnTo>
                  <a:pt x="24112" y="1400"/>
                </a:lnTo>
                <a:close/>
              </a:path>
              <a:path fill="darkenLess" w="25512" h="21600">
                <a:moveTo>
                  <a:pt x="25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2" y="20200"/>
                </a:lnTo>
                <a:close/>
              </a:path>
              <a:path fill="lighten" w="25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4437000"/>
            <a:ext cx="792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700360" y="2997360"/>
            <a:ext cx="45720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836640"/>
            <a:ext cx="487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89000"/>
            <a:ext cx="4140360" cy="2690640"/>
          </a:xfrm>
          <a:prstGeom prst="rect">
            <a:avLst/>
          </a:prstGeom>
          <a:ln w="76320">
            <a:solidFill>
              <a:srgbClr val="00cc99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211640" y="765000"/>
            <a:ext cx="900000" cy="10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08:18:01Z</dcterms:created>
  <dc:creator>Admin</dc:creator>
  <dc:description/>
  <dc:language>en-US</dc:language>
  <cp:lastModifiedBy>Admin</cp:lastModifiedBy>
  <dcterms:modified xsi:type="dcterms:W3CDTF">2012-06-12T14:56:42Z</dcterms:modified>
  <cp:revision>9</cp:revision>
  <dc:subject/>
  <dc:title>Слайд 1</dc:title>
</cp:coreProperties>
</file>