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4.jpeg" ContentType="image/jpeg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13.png" ContentType="image/png"/>
  <Override PartName="/ppt/media/image12.jpeg" ContentType="image/jpeg"/>
  <Override PartName="/ppt/media/image7.gif" ContentType="image/gif"/>
  <Override PartName="/ppt/media/image8.gif" ContentType="image/gif"/>
  <Override PartName="/ppt/media/image9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A344B-E64E-45A3-B70D-0A591F0D8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165C3-BE03-4BA3-BA11-C006FFD35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93D68-071F-4F98-A133-AEB59135D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9FD87-F971-448D-AA57-FF1F4B16B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D1456-ACE9-468C-A0CD-EF349A554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DE9AE-95EB-4F59-A534-F163A0DFB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57303-1AAB-43E9-BF84-D6BC634B4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955BB-43E1-4713-A872-A5293180D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0CF4B-87D0-4599-9D1A-C30D223D9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BD8EE-73D3-4FB7-B5B4-3F1FCD563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AE81C-43FC-4034-996E-AB613235B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2F587-1C7B-4E5D-9395-0B8D4E8EF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8A311-9AAE-4C10-AAEB-4BB28FE157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1.xml"/><Relationship Id="rId3" Type="http://schemas.openxmlformats.org/officeDocument/2006/relationships/image" Target="../media/image8.gif"/><Relationship Id="rId4" Type="http://schemas.openxmlformats.org/officeDocument/2006/relationships/hyperlink" Target="file:///2%20&#1057;&#1083;&#1086;&#1074;&#1072;&#1088;&#1100;%20&#1064;&#1082;&#1086;&#1083;&#1072;%202&#1082;&#1083;%20-&#1048;&#1083;&#1080;-&#1080;&#1083;&#1080;.ppt" TargetMode="External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2%20&#1057;&#1083;&#1086;&#1074;&#1072;&#1088;&#1100;%20&#1064;&#1082;&#1086;&#1083;&#1072;%202&#1082;&#1083;%20-&#1048;&#1083;&#1080;-&#1080;&#1083;&#1080;.ppt" TargetMode="Externa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3.xml"/><Relationship Id="rId3" Type="http://schemas.openxmlformats.org/officeDocument/2006/relationships/slide" Target="slide13.xml"/><Relationship Id="rId4" Type="http://schemas.openxmlformats.org/officeDocument/2006/relationships/image" Target="../media/image9.gif"/><Relationship Id="rId5" Type="http://schemas.openxmlformats.org/officeDocument/2006/relationships/hyperlink" Target="file:///2%20&#1057;&#1083;&#1086;&#1074;&#1072;&#1088;&#1100;%20&#1064;&#1082;&#1086;&#1083;&#1072;%202&#1082;&#1083;%20-&#1048;&#1083;&#1080;-&#1080;&#1083;&#1080;.ppt" TargetMode="External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2%20&#1057;&#1083;&#1086;&#1074;&#1072;&#1088;&#1100;%20&#1064;&#1082;&#1086;&#1083;&#1072;%202&#1082;&#1083;%20-&#1048;&#1083;&#1080;-&#1080;&#1083;&#1080;.ppt" TargetMode="Externa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5.xml"/><Relationship Id="rId3" Type="http://schemas.openxmlformats.org/officeDocument/2006/relationships/image" Target="../media/image10.png"/><Relationship Id="rId4" Type="http://schemas.openxmlformats.org/officeDocument/2006/relationships/hyperlink" Target="file:///2%20&#1057;&#1083;&#1086;&#1074;&#1072;&#1088;&#1100;%20&#1064;&#1082;&#1086;&#1083;&#1072;%202&#1082;&#1083;%20-&#1048;&#1083;&#1080;-&#1080;&#1083;&#1080;.ppt" TargetMode="External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2%20&#1057;&#1083;&#1086;&#1074;&#1072;&#1088;&#1100;%20&#1064;&#1082;&#1086;&#1083;&#1072;%202&#1082;&#1083;%20-&#1048;&#1083;&#1080;-&#1080;&#1083;&#1080;.ppt" TargetMode="Externa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" Target="slide17.xml"/><Relationship Id="rId4" Type="http://schemas.openxmlformats.org/officeDocument/2006/relationships/hyperlink" Target="file:///2%20&#1057;&#1083;&#1086;&#1074;&#1072;&#1088;&#1100;%20&#1064;&#1082;&#1086;&#1083;&#1072;%202&#1082;&#1083;%20-&#1048;&#1083;&#1080;-&#1080;&#1083;&#1080;.ppt" TargetMode="External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2%20&#1057;&#1083;&#1086;&#1074;&#1072;&#1088;&#1100;%20&#1064;&#1082;&#1086;&#1083;&#1072;%202&#1082;&#1083;%20-&#1048;&#1083;&#1080;-&#1080;&#1083;&#1080;.ppt" TargetMode="Externa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9.xml"/><Relationship Id="rId3" Type="http://schemas.openxmlformats.org/officeDocument/2006/relationships/slide" Target="slide19.xml"/><Relationship Id="rId4" Type="http://schemas.openxmlformats.org/officeDocument/2006/relationships/image" Target="../media/image12.jpeg"/><Relationship Id="rId5" Type="http://schemas.openxmlformats.org/officeDocument/2006/relationships/image" Target="../media/image4.png"/><Relationship Id="rId6" Type="http://schemas.openxmlformats.org/officeDocument/2006/relationships/slide" Target="slide19.xml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image" Target="../media/image3.jpeg"/><Relationship Id="rId4" Type="http://schemas.openxmlformats.org/officeDocument/2006/relationships/hyperlink" Target="file:///2%20&#1057;&#1083;&#1086;&#1074;&#1072;&#1088;&#1100;%20&#1064;&#1082;&#1086;&#1083;&#1072;%202&#1082;&#1083;%20-&#1048;&#1083;&#1080;-&#1080;&#1083;&#1080;.ppt" TargetMode="External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1.xml"/><Relationship Id="rId3" Type="http://schemas.openxmlformats.org/officeDocument/2006/relationships/image" Target="../media/image1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3.xml"/><Relationship Id="rId3" Type="http://schemas.openxmlformats.org/officeDocument/2006/relationships/image" Target="../media/image14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gra-anekdot.ru/ris/uchitel6/uchitel6-0003.jpg" TargetMode="External"/><Relationship Id="rId3" Type="http://schemas.openxmlformats.org/officeDocument/2006/relationships/hyperlink" Target="http://www.animashki.net/uploads/cat-1141612970/c5d63049d389.gif" TargetMode="External"/><Relationship Id="rId4" Type="http://schemas.openxmlformats.org/officeDocument/2006/relationships/hyperlink" Target="http://www.hymn.ru/anthem-russia-2000-%20exercise_book_rus_school_doublelined_12pages_2006-cover-with-anthem.jpg" TargetMode="External"/><Relationship Id="rId5" Type="http://schemas.openxmlformats.org/officeDocument/2006/relationships/hyperlink" Target="http://img.o-kidworld.ru/img/cover_penal-odnostvorchatyi-dyn_350_350_4040187.jpg" TargetMode="External"/><Relationship Id="rId6" Type="http://schemas.openxmlformats.org/officeDocument/2006/relationships/hyperlink" Target="http://www.koipkro.kostroma.ru/Kostroma_EDU/Kos_sch_36/DocLib/&#1091;&#1095;&#1077;&#1085;&#1080;&#1082;%20&#1079;&#1072;%20&#1087;&#1072;&#1088;&#1090;&#1086;&#1081;.gif" TargetMode="External"/><Relationship Id="rId7" Type="http://schemas.openxmlformats.org/officeDocument/2006/relationships/hyperlink" Target="http://smayli.ru/data/smiles/detia-741.gif" TargetMode="External"/><Relationship Id="rId8" Type="http://schemas.openxmlformats.org/officeDocument/2006/relationships/hyperlink" Target="http://smayli.ru/data/smiles/detia-569.gif" TargetMode="External"/><Relationship Id="rId9" Type="http://schemas.openxmlformats.org/officeDocument/2006/relationships/hyperlink" Target="http://www.lipetsktime.ru/photo/news/1_2437.jpg" TargetMode="External"/><Relationship Id="rId10" Type="http://schemas.openxmlformats.org/officeDocument/2006/relationships/hyperlink" Target="http://funforkids.ru/pictures/school23/school2311.gif" TargetMode="External"/><Relationship Id="rId11" Type="http://schemas.openxmlformats.org/officeDocument/2006/relationships/hyperlink" Target="http://gazeta.a42.ru/images/lenta/3727.jpg" TargetMode="External"/><Relationship Id="rId12" Type="http://schemas.openxmlformats.org/officeDocument/2006/relationships/hyperlink" Target="http://funforkids.ru/pictures/school3/school0301.png" TargetMode="External"/><Relationship Id="rId1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2%20&#1057;&#1083;&#1086;&#1074;&#1072;&#1088;&#1100;%20&#1064;&#1082;&#1086;&#1083;&#1072;%202&#1082;&#1083;%20-&#1048;&#1083;&#1080;-&#1080;&#1083;&#1080;.ppt" TargetMode="Externa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5.xml"/><Relationship Id="rId3" Type="http://schemas.openxmlformats.org/officeDocument/2006/relationships/image" Target="../media/image5.png"/><Relationship Id="rId4" Type="http://schemas.openxmlformats.org/officeDocument/2006/relationships/hyperlink" Target="file:///2%20&#1057;&#1083;&#1086;&#1074;&#1072;&#1088;&#1100;%20&#1064;&#1082;&#1086;&#1083;&#1072;%202&#1082;&#1083;%20-&#1048;&#1083;&#1080;-&#1080;&#1083;&#1080;.ppt" TargetMode="External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2%20&#1057;&#1083;&#1086;&#1074;&#1072;&#1088;&#1100;%20&#1064;&#1082;&#1086;&#1083;&#1072;%202&#1082;&#1083;%20-&#1048;&#1083;&#1080;-&#1080;&#1083;&#1080;.ppt" TargetMode="Externa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7.xml"/><Relationship Id="rId3" Type="http://schemas.openxmlformats.org/officeDocument/2006/relationships/image" Target="../media/image6.png"/><Relationship Id="rId4" Type="http://schemas.openxmlformats.org/officeDocument/2006/relationships/hyperlink" Target="file:///2%20&#1057;&#1083;&#1086;&#1074;&#1072;&#1088;&#1100;%20&#1064;&#1082;&#1086;&#1083;&#1072;%202&#1082;&#1083;%20-&#1048;&#1083;&#1080;-&#1080;&#1083;&#1080;.ppt" TargetMode="External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2%20&#1057;&#1083;&#1086;&#1074;&#1072;&#1088;&#1100;%20&#1064;&#1082;&#1086;&#1083;&#1072;%202&#1082;&#1083;%20-&#1048;&#1083;&#1080;-&#1080;&#1083;&#1080;.ppt" TargetMode="Externa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9.xml"/><Relationship Id="rId3" Type="http://schemas.openxmlformats.org/officeDocument/2006/relationships/image" Target="../media/image7.gif"/><Relationship Id="rId4" Type="http://schemas.openxmlformats.org/officeDocument/2006/relationships/hyperlink" Target="file:///2%20&#1057;&#1083;&#1086;&#1074;&#1072;&#1088;&#1100;%20&#1064;&#1082;&#1086;&#1083;&#1072;%202&#1082;&#1083;%20-&#1048;&#1083;&#1080;-&#1080;&#1083;&#1080;.ppt" TargetMode="External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2%20&#1057;&#1083;&#1086;&#1074;&#1072;&#1088;&#1100;%20&#1064;&#1082;&#1086;&#1083;&#1072;%202&#1082;&#1083;%20-&#1048;&#1083;&#1080;-&#1080;&#1083;&#1080;.ppt" TargetMode="Externa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68360" y="2130480"/>
            <a:ext cx="7989840" cy="1469880"/>
          </a:xfrm>
          <a:prstGeom prst="rect">
            <a:avLst/>
          </a:prstGeom>
          <a:noFill/>
          <a:ln w="0">
            <a:noFill/>
          </a:ln>
          <a:effectLst>
            <a:outerShdw dist="40186" dir="20503642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СЛОВАРНЫЙ ДИКТАНТ №2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«ШКОЛА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5229360"/>
            <a:ext cx="9144000" cy="1191240"/>
          </a:xfrm>
          <a:prstGeom prst="rect">
            <a:avLst/>
          </a:prstGeom>
          <a:noFill/>
          <a:ln w="0">
            <a:noFill/>
          </a:ln>
          <a:effectLst>
            <a:outerShdw dist="40186" dir="20503642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eorgia"/>
              </a:rPr>
              <a:t>Выполнила учитель начальных класс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eorgia"/>
              </a:rPr>
              <a:t>МОУ СОШ №22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eorgia"/>
              </a:rPr>
              <a:t>г. Заречный Пензенской обл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eorgia"/>
              </a:rPr>
              <a:t>Сазнова Татьяна Евгень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5003640" y="3068640"/>
            <a:ext cx="990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Arial"/>
              </a:rPr>
              <a:t>и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63640" y="3141720"/>
            <a:ext cx="601992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bbe0e3"/>
                </a:solidFill>
                <a:latin typeface="Arial"/>
              </a:rPr>
              <a:t>Мальч  к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>
            <a:hlinkClick r:id="rId2" action="ppaction://hlinksldjump"/>
          </p:cNvPr>
          <p:cNvSpPr/>
          <p:nvPr/>
        </p:nvSpPr>
        <p:spPr>
          <a:xfrm>
            <a:off x="3200400" y="5157720"/>
            <a:ext cx="990720" cy="838440"/>
          </a:xfrm>
          <a:custGeom>
            <a:avLst/>
            <a:gdLst>
              <a:gd name="textAreaLeft" fmla="*/ 54360 w 990720"/>
              <a:gd name="textAreaRight" fmla="*/ 936360 w 9907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25521" h="21600">
                <a:moveTo>
                  <a:pt x="0" y="0"/>
                </a:moveTo>
                <a:lnTo>
                  <a:pt x="25521" y="0"/>
                </a:lnTo>
                <a:lnTo>
                  <a:pt x="25521" y="21600"/>
                </a:lnTo>
                <a:lnTo>
                  <a:pt x="0" y="21600"/>
                </a:lnTo>
                <a:close/>
              </a:path>
              <a:path fill="lightenLess" w="25521" h="21600">
                <a:moveTo>
                  <a:pt x="0" y="0"/>
                </a:moveTo>
                <a:lnTo>
                  <a:pt x="25521" y="0"/>
                </a:lnTo>
                <a:lnTo>
                  <a:pt x="24121" y="1400"/>
                </a:lnTo>
                <a:lnTo>
                  <a:pt x="1400" y="1400"/>
                </a:lnTo>
                <a:close/>
              </a:path>
              <a:path fill="darken" w="25521" h="21600">
                <a:moveTo>
                  <a:pt x="25521" y="0"/>
                </a:moveTo>
                <a:lnTo>
                  <a:pt x="25521" y="21600"/>
                </a:lnTo>
                <a:lnTo>
                  <a:pt x="24121" y="20200"/>
                </a:lnTo>
                <a:lnTo>
                  <a:pt x="24121" y="1400"/>
                </a:lnTo>
                <a:close/>
              </a:path>
              <a:path fill="darkenLess" w="25521" h="21600">
                <a:moveTo>
                  <a:pt x="255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21" y="20200"/>
                </a:lnTo>
                <a:close/>
              </a:path>
              <a:path fill="lighten" w="255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572000" y="5157720"/>
            <a:ext cx="990720" cy="838440"/>
          </a:xfrm>
          <a:custGeom>
            <a:avLst/>
            <a:gdLst>
              <a:gd name="textAreaLeft" fmla="*/ 54360 w 990720"/>
              <a:gd name="textAreaRight" fmla="*/ 936360 w 9907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25521" h="21600">
                <a:moveTo>
                  <a:pt x="0" y="0"/>
                </a:moveTo>
                <a:lnTo>
                  <a:pt x="25521" y="0"/>
                </a:lnTo>
                <a:lnTo>
                  <a:pt x="25521" y="21600"/>
                </a:lnTo>
                <a:lnTo>
                  <a:pt x="0" y="21600"/>
                </a:lnTo>
                <a:close/>
              </a:path>
              <a:path fill="lightenLess" w="25521" h="21600">
                <a:moveTo>
                  <a:pt x="0" y="0"/>
                </a:moveTo>
                <a:lnTo>
                  <a:pt x="25521" y="0"/>
                </a:lnTo>
                <a:lnTo>
                  <a:pt x="24121" y="1400"/>
                </a:lnTo>
                <a:lnTo>
                  <a:pt x="1400" y="1400"/>
                </a:lnTo>
                <a:close/>
              </a:path>
              <a:path fill="darken" w="25521" h="21600">
                <a:moveTo>
                  <a:pt x="25521" y="0"/>
                </a:moveTo>
                <a:lnTo>
                  <a:pt x="25521" y="21600"/>
                </a:lnTo>
                <a:lnTo>
                  <a:pt x="24121" y="20200"/>
                </a:lnTo>
                <a:lnTo>
                  <a:pt x="24121" y="1400"/>
                </a:lnTo>
                <a:close/>
              </a:path>
              <a:path fill="darkenLess" w="25521" h="21600">
                <a:moveTo>
                  <a:pt x="255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21" y="20200"/>
                </a:lnTo>
                <a:close/>
              </a:path>
              <a:path fill="lighten" w="255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003640" y="4292640"/>
            <a:ext cx="79236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987640" y="2997360"/>
            <a:ext cx="457200" cy="5331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556000" y="907920"/>
            <a:ext cx="4876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omic"/>
              </a:rPr>
              <a:t>Молодец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6372360" y="404640"/>
            <a:ext cx="1549440" cy="25210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8567640" y="6291360"/>
            <a:ext cx="576360" cy="56664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0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7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4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245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"/>
                            </p:stCondLst>
                            <p:childTnLst>
                              <p:par>
                                <p:cTn id="2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1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11280" y="1413000"/>
            <a:ext cx="4751280" cy="467676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4065480" y="907920"/>
            <a:ext cx="4928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Придётся ещё поучит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</p:transition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476360" y="4076640"/>
            <a:ext cx="9907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132000" y="2852640"/>
            <a:ext cx="990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Arial"/>
              </a:rPr>
              <a:t>а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547640" y="2852640"/>
            <a:ext cx="1219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Arial"/>
              </a:rPr>
              <a:t>а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71640" y="3068640"/>
            <a:ext cx="746748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bbe0e3"/>
                </a:solidFill>
                <a:latin typeface="Arial"/>
              </a:rPr>
              <a:t>к    р    ндаши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6876720" y="2852640"/>
            <a:ext cx="228600" cy="5335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059280" y="4149720"/>
            <a:ext cx="99036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435640" y="4941720"/>
            <a:ext cx="914400" cy="91440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>
            <a:hlinkClick r:id="rId2" action="ppaction://hlinksldjump"/>
          </p:cNvPr>
          <p:cNvSpPr/>
          <p:nvPr/>
        </p:nvSpPr>
        <p:spPr>
          <a:xfrm>
            <a:off x="6732720" y="4941720"/>
            <a:ext cx="914400" cy="91440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О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547640" y="5013360"/>
            <a:ext cx="914400" cy="91440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>
            <a:hlinkClick r:id="rId3" action="ppaction://hlinksldjump"/>
          </p:cNvPr>
          <p:cNvSpPr/>
          <p:nvPr/>
        </p:nvSpPr>
        <p:spPr>
          <a:xfrm>
            <a:off x="3059280" y="5013360"/>
            <a:ext cx="914400" cy="91440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О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71640" y="907920"/>
            <a:ext cx="5943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omic"/>
              </a:rPr>
              <a:t>Молодец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4716360" y="476280"/>
            <a:ext cx="3924360" cy="195264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567640" y="6291360"/>
            <a:ext cx="576360" cy="56664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0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9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1000"/>
                            </p:stCondLst>
                            <p:childTnLst>
                              <p:par>
                                <p:cTn id="28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6" restart="whenNotActive" nodeType="interactiveSeq" fill="hold">
                <p:stCondLst>
                  <p:cond evt="onClick">
                    <p:tgtEl>
                      <p:spTgt spid="106"/>
                    </p:tgtEl>
                  </p:cond>
                </p:stCondLst>
                <p:childTnLst>
                  <p:par>
                    <p:cTn id="307" fill="hold">
                      <p:stCondLst>
                        <p:cond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4" restart="whenNotActive" nodeType="interactiveSeq" fill="hold">
                <p:stCondLst>
                  <p:cond evt="onClick">
                    <p:tgtEl>
                      <p:spTgt spid="104"/>
                    </p:tgtEl>
                  </p:cond>
                </p:stCondLst>
                <p:childTnLst>
                  <p:par>
                    <p:cTn id="315" fill="hold">
                      <p:stCondLst>
                        <p:cond evt="onClick">
                          <p:tgtEl>
                            <p:spTgt spid="104"/>
                          </p:tgtEl>
                        </p:cond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500"/>
                            </p:stCondLst>
                            <p:childTnLst>
                              <p:par>
                                <p:cTn id="3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1000"/>
                            </p:stCondLst>
                            <p:childTnLst>
                              <p:par>
                                <p:cTn id="3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1500"/>
                            </p:stCondLst>
                            <p:childTnLst>
                              <p:par>
                                <p:cTn id="33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11280" y="1413000"/>
            <a:ext cx="4751280" cy="467676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4065480" y="907920"/>
            <a:ext cx="4928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Придётся ещё поучит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</p:transition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2484360" y="3068640"/>
            <a:ext cx="990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Arial"/>
              </a:rPr>
              <a:t>е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979640" y="3213000"/>
            <a:ext cx="601992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bbe0e3"/>
                </a:solidFill>
                <a:latin typeface="Arial"/>
              </a:rPr>
              <a:t>т   традь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>
            <a:hlinkClick r:id="rId2" action="ppaction://hlinksldjump"/>
          </p:cNvPr>
          <p:cNvSpPr/>
          <p:nvPr/>
        </p:nvSpPr>
        <p:spPr>
          <a:xfrm>
            <a:off x="3200400" y="5157720"/>
            <a:ext cx="990720" cy="838440"/>
          </a:xfrm>
          <a:custGeom>
            <a:avLst/>
            <a:gdLst>
              <a:gd name="textAreaLeft" fmla="*/ 54360 w 990720"/>
              <a:gd name="textAreaRight" fmla="*/ 936360 w 9907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25521" h="21600">
                <a:moveTo>
                  <a:pt x="0" y="0"/>
                </a:moveTo>
                <a:lnTo>
                  <a:pt x="25521" y="0"/>
                </a:lnTo>
                <a:lnTo>
                  <a:pt x="25521" y="21600"/>
                </a:lnTo>
                <a:lnTo>
                  <a:pt x="0" y="21600"/>
                </a:lnTo>
                <a:close/>
              </a:path>
              <a:path fill="lightenLess" w="25521" h="21600">
                <a:moveTo>
                  <a:pt x="0" y="0"/>
                </a:moveTo>
                <a:lnTo>
                  <a:pt x="25521" y="0"/>
                </a:lnTo>
                <a:lnTo>
                  <a:pt x="24121" y="1400"/>
                </a:lnTo>
                <a:lnTo>
                  <a:pt x="1400" y="1400"/>
                </a:lnTo>
                <a:close/>
              </a:path>
              <a:path fill="darken" w="25521" h="21600">
                <a:moveTo>
                  <a:pt x="25521" y="0"/>
                </a:moveTo>
                <a:lnTo>
                  <a:pt x="25521" y="21600"/>
                </a:lnTo>
                <a:lnTo>
                  <a:pt x="24121" y="20200"/>
                </a:lnTo>
                <a:lnTo>
                  <a:pt x="24121" y="1400"/>
                </a:lnTo>
                <a:close/>
              </a:path>
              <a:path fill="darkenLess" w="25521" h="21600">
                <a:moveTo>
                  <a:pt x="255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21" y="20200"/>
                </a:lnTo>
                <a:close/>
              </a:path>
              <a:path fill="lighten" w="255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572000" y="5157720"/>
            <a:ext cx="990720" cy="838440"/>
          </a:xfrm>
          <a:custGeom>
            <a:avLst/>
            <a:gdLst>
              <a:gd name="textAreaLeft" fmla="*/ 54360 w 990720"/>
              <a:gd name="textAreaRight" fmla="*/ 936360 w 9907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25521" h="21600">
                <a:moveTo>
                  <a:pt x="0" y="0"/>
                </a:moveTo>
                <a:lnTo>
                  <a:pt x="25521" y="0"/>
                </a:lnTo>
                <a:lnTo>
                  <a:pt x="25521" y="21600"/>
                </a:lnTo>
                <a:lnTo>
                  <a:pt x="0" y="21600"/>
                </a:lnTo>
                <a:close/>
              </a:path>
              <a:path fill="lightenLess" w="25521" h="21600">
                <a:moveTo>
                  <a:pt x="0" y="0"/>
                </a:moveTo>
                <a:lnTo>
                  <a:pt x="25521" y="0"/>
                </a:lnTo>
                <a:lnTo>
                  <a:pt x="24121" y="1400"/>
                </a:lnTo>
                <a:lnTo>
                  <a:pt x="1400" y="1400"/>
                </a:lnTo>
                <a:close/>
              </a:path>
              <a:path fill="darken" w="25521" h="21600">
                <a:moveTo>
                  <a:pt x="25521" y="0"/>
                </a:moveTo>
                <a:lnTo>
                  <a:pt x="25521" y="21600"/>
                </a:lnTo>
                <a:lnTo>
                  <a:pt x="24121" y="20200"/>
                </a:lnTo>
                <a:lnTo>
                  <a:pt x="24121" y="1400"/>
                </a:lnTo>
                <a:close/>
              </a:path>
              <a:path fill="darkenLess" w="25521" h="21600">
                <a:moveTo>
                  <a:pt x="255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21" y="20200"/>
                </a:lnTo>
                <a:close/>
              </a:path>
              <a:path fill="lighten" w="255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484360" y="4221000"/>
            <a:ext cx="79236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4500720" y="3068640"/>
            <a:ext cx="457200" cy="5335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295280" y="838080"/>
            <a:ext cx="4876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omic"/>
              </a:rPr>
              <a:t>Молодец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3"/>
          <a:srcRect l="5778" t="22783" r="4627" b="22755"/>
          <a:stretch/>
        </p:blipFill>
        <p:spPr>
          <a:xfrm>
            <a:off x="4643280" y="333360"/>
            <a:ext cx="4248360" cy="25830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8567640" y="6291360"/>
            <a:ext cx="576360" cy="56664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3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8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1000"/>
                            </p:stCondLst>
                            <p:childTnLst>
                              <p:par>
                                <p:cTn id="36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0" restart="whenNotActive" nodeType="interactiveSeq" fill="hold">
                <p:stCondLst>
                  <p:cond evt="onClick">
                    <p:tgtEl>
                      <p:spTgt spid="116"/>
                    </p:tgtEl>
                  </p:cond>
                </p:stCondLst>
                <p:childTnLst>
                  <p:par>
                    <p:cTn id="371" fill="hold">
                      <p:stCondLst>
                        <p:cond evt="onClick">
                          <p:tgtEl>
                            <p:spTgt spid="116"/>
                          </p:tgtEl>
                        </p:cond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500"/>
                            </p:stCondLst>
                            <p:childTnLst>
                              <p:par>
                                <p:cTn id="3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1000"/>
                            </p:stCondLst>
                            <p:childTnLst>
                              <p:par>
                                <p:cTn id="3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11280" y="1413000"/>
            <a:ext cx="4751280" cy="467676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065480" y="907920"/>
            <a:ext cx="4928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Придётся ещё поучит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</p:transition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0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2484360" y="3068640"/>
            <a:ext cx="990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Arial"/>
              </a:rPr>
              <a:t>е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rcRect l="0" t="0" r="0" b="4606"/>
          <a:stretch/>
        </p:blipFill>
        <p:spPr>
          <a:xfrm>
            <a:off x="4356000" y="260280"/>
            <a:ext cx="4502160" cy="2664000"/>
          </a:xfrm>
          <a:prstGeom prst="rect">
            <a:avLst/>
          </a:prstGeom>
          <a:ln w="76320">
            <a:solidFill>
              <a:srgbClr val="bbe0e3"/>
            </a:solidFill>
            <a:miter/>
          </a:ln>
        </p:spPr>
      </p:pic>
      <p:sp>
        <p:nvSpPr>
          <p:cNvPr id="126" name=""/>
          <p:cNvSpPr/>
          <p:nvPr/>
        </p:nvSpPr>
        <p:spPr>
          <a:xfrm>
            <a:off x="1692360" y="3213000"/>
            <a:ext cx="601956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bbe0e3"/>
                </a:solidFill>
                <a:latin typeface="Arial"/>
              </a:rPr>
              <a:t>Д   журный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>
            <a:hlinkClick r:id="rId3" action="ppaction://hlinksldjump"/>
          </p:cNvPr>
          <p:cNvSpPr/>
          <p:nvPr/>
        </p:nvSpPr>
        <p:spPr>
          <a:xfrm>
            <a:off x="3200400" y="5157720"/>
            <a:ext cx="990720" cy="838440"/>
          </a:xfrm>
          <a:custGeom>
            <a:avLst/>
            <a:gdLst>
              <a:gd name="textAreaLeft" fmla="*/ 54360 w 990720"/>
              <a:gd name="textAreaRight" fmla="*/ 936360 w 9907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25521" h="21600">
                <a:moveTo>
                  <a:pt x="0" y="0"/>
                </a:moveTo>
                <a:lnTo>
                  <a:pt x="25521" y="0"/>
                </a:lnTo>
                <a:lnTo>
                  <a:pt x="25521" y="21600"/>
                </a:lnTo>
                <a:lnTo>
                  <a:pt x="0" y="21600"/>
                </a:lnTo>
                <a:close/>
              </a:path>
              <a:path fill="lightenLess" w="25521" h="21600">
                <a:moveTo>
                  <a:pt x="0" y="0"/>
                </a:moveTo>
                <a:lnTo>
                  <a:pt x="25521" y="0"/>
                </a:lnTo>
                <a:lnTo>
                  <a:pt x="24121" y="1400"/>
                </a:lnTo>
                <a:lnTo>
                  <a:pt x="1400" y="1400"/>
                </a:lnTo>
                <a:close/>
              </a:path>
              <a:path fill="darken" w="25521" h="21600">
                <a:moveTo>
                  <a:pt x="25521" y="0"/>
                </a:moveTo>
                <a:lnTo>
                  <a:pt x="25521" y="21600"/>
                </a:lnTo>
                <a:lnTo>
                  <a:pt x="24121" y="20200"/>
                </a:lnTo>
                <a:lnTo>
                  <a:pt x="24121" y="1400"/>
                </a:lnTo>
                <a:close/>
              </a:path>
              <a:path fill="darkenLess" w="25521" h="21600">
                <a:moveTo>
                  <a:pt x="255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21" y="20200"/>
                </a:lnTo>
                <a:close/>
              </a:path>
              <a:path fill="lighten" w="255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572000" y="5157720"/>
            <a:ext cx="990720" cy="838440"/>
          </a:xfrm>
          <a:custGeom>
            <a:avLst/>
            <a:gdLst>
              <a:gd name="textAreaLeft" fmla="*/ 54360 w 990720"/>
              <a:gd name="textAreaRight" fmla="*/ 936360 w 9907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25521" h="21600">
                <a:moveTo>
                  <a:pt x="0" y="0"/>
                </a:moveTo>
                <a:lnTo>
                  <a:pt x="25521" y="0"/>
                </a:lnTo>
                <a:lnTo>
                  <a:pt x="25521" y="21600"/>
                </a:lnTo>
                <a:lnTo>
                  <a:pt x="0" y="21600"/>
                </a:lnTo>
                <a:close/>
              </a:path>
              <a:path fill="lightenLess" w="25521" h="21600">
                <a:moveTo>
                  <a:pt x="0" y="0"/>
                </a:moveTo>
                <a:lnTo>
                  <a:pt x="25521" y="0"/>
                </a:lnTo>
                <a:lnTo>
                  <a:pt x="24121" y="1400"/>
                </a:lnTo>
                <a:lnTo>
                  <a:pt x="1400" y="1400"/>
                </a:lnTo>
                <a:close/>
              </a:path>
              <a:path fill="darken" w="25521" h="21600">
                <a:moveTo>
                  <a:pt x="25521" y="0"/>
                </a:moveTo>
                <a:lnTo>
                  <a:pt x="25521" y="21600"/>
                </a:lnTo>
                <a:lnTo>
                  <a:pt x="24121" y="20200"/>
                </a:lnTo>
                <a:lnTo>
                  <a:pt x="24121" y="1400"/>
                </a:lnTo>
                <a:close/>
              </a:path>
              <a:path fill="darkenLess" w="25521" h="21600">
                <a:moveTo>
                  <a:pt x="255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21" y="20200"/>
                </a:lnTo>
                <a:close/>
              </a:path>
              <a:path fill="lighten" w="255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484360" y="4221000"/>
            <a:ext cx="79236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4500720" y="3068640"/>
            <a:ext cx="457200" cy="5335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84360" y="836640"/>
            <a:ext cx="4876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omic"/>
              </a:rPr>
              <a:t>Молодец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8567640" y="6291360"/>
            <a:ext cx="576360" cy="56664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0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05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0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1000"/>
                            </p:stCondLst>
                            <p:childTnLst>
                              <p:par>
                                <p:cTn id="4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2" restart="whenNotActive" nodeType="interactiveSeq" fill="hold">
                <p:stCondLst>
                  <p:cond evt="onClick">
                    <p:tgtEl>
                      <p:spTgt spid="128"/>
                    </p:tgtEl>
                  </p:cond>
                </p:stCondLst>
                <p:childTnLst>
                  <p:par>
                    <p:cTn id="423" fill="hold">
                      <p:stCondLst>
                        <p:cond evt="onClick">
                          <p:tgtEl>
                            <p:spTgt spid="128"/>
                          </p:tgtEl>
                        </p:cond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500"/>
                            </p:stCondLst>
                            <p:childTnLst>
                              <p:par>
                                <p:cTn id="43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1000"/>
                            </p:stCondLst>
                            <p:childTnLst>
                              <p:par>
                                <p:cTn id="4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11280" y="1413000"/>
            <a:ext cx="4751280" cy="467676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4065480" y="907920"/>
            <a:ext cx="4928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Придётся ещё поучит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</p:transition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fill="hold">
                      <p:stCondLst>
                        <p:cond delay="0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5364000" y="3068640"/>
            <a:ext cx="990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Arial"/>
              </a:rPr>
              <a:t>о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692360" y="3141720"/>
            <a:ext cx="712944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bbe0e3"/>
                </a:solidFill>
                <a:latin typeface="Arial"/>
              </a:rPr>
              <a:t>Б   бл     тека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56000" y="3068640"/>
            <a:ext cx="990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Arial"/>
              </a:rPr>
              <a:t>и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16360" y="3068640"/>
            <a:ext cx="990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Arial"/>
              </a:rPr>
              <a:t>и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>
            <a:hlinkClick r:id="rId2" action="ppaction://hlinksldjump"/>
          </p:cNvPr>
          <p:cNvSpPr/>
          <p:nvPr/>
        </p:nvSpPr>
        <p:spPr>
          <a:xfrm>
            <a:off x="324000" y="4437000"/>
            <a:ext cx="990360" cy="838440"/>
          </a:xfrm>
          <a:custGeom>
            <a:avLst/>
            <a:gdLst>
              <a:gd name="textAreaLeft" fmla="*/ 54360 w 990360"/>
              <a:gd name="textAreaRight" fmla="*/ 936000 w 99036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25512" h="21600">
                <a:moveTo>
                  <a:pt x="0" y="0"/>
                </a:moveTo>
                <a:lnTo>
                  <a:pt x="25512" y="0"/>
                </a:lnTo>
                <a:lnTo>
                  <a:pt x="25512" y="21600"/>
                </a:lnTo>
                <a:lnTo>
                  <a:pt x="0" y="21600"/>
                </a:lnTo>
                <a:close/>
              </a:path>
              <a:path fill="lightenLess" w="25512" h="21600">
                <a:moveTo>
                  <a:pt x="0" y="0"/>
                </a:moveTo>
                <a:lnTo>
                  <a:pt x="25512" y="0"/>
                </a:lnTo>
                <a:lnTo>
                  <a:pt x="24112" y="1400"/>
                </a:lnTo>
                <a:lnTo>
                  <a:pt x="1400" y="1400"/>
                </a:lnTo>
                <a:close/>
              </a:path>
              <a:path fill="darken" w="25512" h="21600">
                <a:moveTo>
                  <a:pt x="25512" y="0"/>
                </a:moveTo>
                <a:lnTo>
                  <a:pt x="25512" y="21600"/>
                </a:lnTo>
                <a:lnTo>
                  <a:pt x="24112" y="20200"/>
                </a:lnTo>
                <a:lnTo>
                  <a:pt x="24112" y="1400"/>
                </a:lnTo>
                <a:close/>
              </a:path>
              <a:path fill="darkenLess" w="25512" h="21600">
                <a:moveTo>
                  <a:pt x="255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12" y="20200"/>
                </a:lnTo>
                <a:close/>
              </a:path>
              <a:path fill="lighten" w="255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692360" y="4437000"/>
            <a:ext cx="990360" cy="838440"/>
          </a:xfrm>
          <a:custGeom>
            <a:avLst/>
            <a:gdLst>
              <a:gd name="textAreaLeft" fmla="*/ 54360 w 990360"/>
              <a:gd name="textAreaRight" fmla="*/ 936000 w 99036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25512" h="21600">
                <a:moveTo>
                  <a:pt x="0" y="0"/>
                </a:moveTo>
                <a:lnTo>
                  <a:pt x="25512" y="0"/>
                </a:lnTo>
                <a:lnTo>
                  <a:pt x="25512" y="21600"/>
                </a:lnTo>
                <a:lnTo>
                  <a:pt x="0" y="21600"/>
                </a:lnTo>
                <a:close/>
              </a:path>
              <a:path fill="lightenLess" w="25512" h="21600">
                <a:moveTo>
                  <a:pt x="0" y="0"/>
                </a:moveTo>
                <a:lnTo>
                  <a:pt x="25512" y="0"/>
                </a:lnTo>
                <a:lnTo>
                  <a:pt x="24112" y="1400"/>
                </a:lnTo>
                <a:lnTo>
                  <a:pt x="1400" y="1400"/>
                </a:lnTo>
                <a:close/>
              </a:path>
              <a:path fill="darken" w="25512" h="21600">
                <a:moveTo>
                  <a:pt x="25512" y="0"/>
                </a:moveTo>
                <a:lnTo>
                  <a:pt x="25512" y="21600"/>
                </a:lnTo>
                <a:lnTo>
                  <a:pt x="24112" y="20200"/>
                </a:lnTo>
                <a:lnTo>
                  <a:pt x="24112" y="1400"/>
                </a:lnTo>
                <a:close/>
              </a:path>
              <a:path fill="darkenLess" w="25512" h="21600">
                <a:moveTo>
                  <a:pt x="255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12" y="20200"/>
                </a:lnTo>
                <a:close/>
              </a:path>
              <a:path fill="lighten" w="255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859280" y="4365720"/>
            <a:ext cx="5047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6877080" y="2997360"/>
            <a:ext cx="457200" cy="5331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258920" y="1125360"/>
            <a:ext cx="4876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omic"/>
              </a:rPr>
              <a:t>Молодец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508720" y="4365720"/>
            <a:ext cx="5760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56000" y="4292640"/>
            <a:ext cx="7920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>
            <a:hlinkClick r:id="rId3" action="ppaction://hlinksldjump"/>
          </p:cNvPr>
          <p:cNvSpPr/>
          <p:nvPr/>
        </p:nvSpPr>
        <p:spPr>
          <a:xfrm>
            <a:off x="3198960" y="5373720"/>
            <a:ext cx="990360" cy="838080"/>
          </a:xfrm>
          <a:custGeom>
            <a:avLst/>
            <a:gdLst>
              <a:gd name="textAreaLeft" fmla="*/ 54000 w 990360"/>
              <a:gd name="textAreaRight" fmla="*/ 936360 w 9903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5523" h="21600">
                <a:moveTo>
                  <a:pt x="0" y="0"/>
                </a:moveTo>
                <a:lnTo>
                  <a:pt x="25523" y="0"/>
                </a:lnTo>
                <a:lnTo>
                  <a:pt x="25523" y="21600"/>
                </a:lnTo>
                <a:lnTo>
                  <a:pt x="0" y="21600"/>
                </a:lnTo>
                <a:close/>
              </a:path>
              <a:path fill="lightenLess" w="25523" h="21600">
                <a:moveTo>
                  <a:pt x="0" y="0"/>
                </a:moveTo>
                <a:lnTo>
                  <a:pt x="25523" y="0"/>
                </a:lnTo>
                <a:lnTo>
                  <a:pt x="24123" y="1400"/>
                </a:lnTo>
                <a:lnTo>
                  <a:pt x="1400" y="1400"/>
                </a:lnTo>
                <a:close/>
              </a:path>
              <a:path fill="darken" w="25523" h="21600">
                <a:moveTo>
                  <a:pt x="25523" y="0"/>
                </a:moveTo>
                <a:lnTo>
                  <a:pt x="25523" y="21600"/>
                </a:lnTo>
                <a:lnTo>
                  <a:pt x="24123" y="20200"/>
                </a:lnTo>
                <a:lnTo>
                  <a:pt x="24123" y="1400"/>
                </a:lnTo>
                <a:close/>
              </a:path>
              <a:path fill="darkenLess" w="25523" h="21600">
                <a:moveTo>
                  <a:pt x="255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23" y="20200"/>
                </a:lnTo>
                <a:close/>
              </a:path>
              <a:path fill="lighten" w="255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570560" y="5373720"/>
            <a:ext cx="990360" cy="838080"/>
          </a:xfrm>
          <a:custGeom>
            <a:avLst/>
            <a:gdLst>
              <a:gd name="textAreaLeft" fmla="*/ 54000 w 990360"/>
              <a:gd name="textAreaRight" fmla="*/ 936360 w 9903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5523" h="21600">
                <a:moveTo>
                  <a:pt x="0" y="0"/>
                </a:moveTo>
                <a:lnTo>
                  <a:pt x="25523" y="0"/>
                </a:lnTo>
                <a:lnTo>
                  <a:pt x="25523" y="21600"/>
                </a:lnTo>
                <a:lnTo>
                  <a:pt x="0" y="21600"/>
                </a:lnTo>
                <a:close/>
              </a:path>
              <a:path fill="lightenLess" w="25523" h="21600">
                <a:moveTo>
                  <a:pt x="0" y="0"/>
                </a:moveTo>
                <a:lnTo>
                  <a:pt x="25523" y="0"/>
                </a:lnTo>
                <a:lnTo>
                  <a:pt x="24123" y="1400"/>
                </a:lnTo>
                <a:lnTo>
                  <a:pt x="1400" y="1400"/>
                </a:lnTo>
                <a:close/>
              </a:path>
              <a:path fill="darken" w="25523" h="21600">
                <a:moveTo>
                  <a:pt x="25523" y="0"/>
                </a:moveTo>
                <a:lnTo>
                  <a:pt x="25523" y="21600"/>
                </a:lnTo>
                <a:lnTo>
                  <a:pt x="24123" y="20200"/>
                </a:lnTo>
                <a:lnTo>
                  <a:pt x="24123" y="1400"/>
                </a:lnTo>
                <a:close/>
              </a:path>
              <a:path fill="darkenLess" w="25523" h="21600">
                <a:moveTo>
                  <a:pt x="255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23" y="20200"/>
                </a:lnTo>
                <a:close/>
              </a:path>
              <a:path fill="lighten" w="255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4"/>
          <a:stretch/>
        </p:blipFill>
        <p:spPr>
          <a:xfrm>
            <a:off x="5219640" y="620640"/>
            <a:ext cx="2881440" cy="2157480"/>
          </a:xfrm>
          <a:prstGeom prst="rect">
            <a:avLst/>
          </a:prstGeom>
          <a:ln w="76320">
            <a:solidFill>
              <a:srgbClr val="bbe0e3"/>
            </a:solidFill>
            <a:miter/>
          </a:ln>
        </p:spPr>
      </p:pic>
      <p:pic>
        <p:nvPicPr>
          <p:cNvPr id="149" name="" descr=""/>
          <p:cNvPicPr/>
          <p:nvPr/>
        </p:nvPicPr>
        <p:blipFill>
          <a:blip r:embed="rId5"/>
          <a:stretch/>
        </p:blipFill>
        <p:spPr>
          <a:xfrm>
            <a:off x="8567640" y="6291360"/>
            <a:ext cx="576360" cy="566640"/>
          </a:xfrm>
          <a:prstGeom prst="rect">
            <a:avLst/>
          </a:prstGeom>
          <a:ln w="0">
            <a:noFill/>
          </a:ln>
        </p:spPr>
      </p:pic>
      <p:sp>
        <p:nvSpPr>
          <p:cNvPr id="150" name="">
            <a:hlinkClick r:id="rId6" action="ppaction://hlinksldjump"/>
          </p:cNvPr>
          <p:cNvSpPr/>
          <p:nvPr/>
        </p:nvSpPr>
        <p:spPr>
          <a:xfrm>
            <a:off x="6588000" y="4437000"/>
            <a:ext cx="990720" cy="838440"/>
          </a:xfrm>
          <a:custGeom>
            <a:avLst/>
            <a:gdLst>
              <a:gd name="textAreaLeft" fmla="*/ 54360 w 990720"/>
              <a:gd name="textAreaRight" fmla="*/ 936360 w 9907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25521" h="21600">
                <a:moveTo>
                  <a:pt x="0" y="0"/>
                </a:moveTo>
                <a:lnTo>
                  <a:pt x="25521" y="0"/>
                </a:lnTo>
                <a:lnTo>
                  <a:pt x="25521" y="21600"/>
                </a:lnTo>
                <a:lnTo>
                  <a:pt x="0" y="21600"/>
                </a:lnTo>
                <a:close/>
              </a:path>
              <a:path fill="lightenLess" w="25521" h="21600">
                <a:moveTo>
                  <a:pt x="0" y="0"/>
                </a:moveTo>
                <a:lnTo>
                  <a:pt x="25521" y="0"/>
                </a:lnTo>
                <a:lnTo>
                  <a:pt x="24121" y="1400"/>
                </a:lnTo>
                <a:lnTo>
                  <a:pt x="1400" y="1400"/>
                </a:lnTo>
                <a:close/>
              </a:path>
              <a:path fill="darken" w="25521" h="21600">
                <a:moveTo>
                  <a:pt x="25521" y="0"/>
                </a:moveTo>
                <a:lnTo>
                  <a:pt x="25521" y="21600"/>
                </a:lnTo>
                <a:lnTo>
                  <a:pt x="24121" y="20200"/>
                </a:lnTo>
                <a:lnTo>
                  <a:pt x="24121" y="1400"/>
                </a:lnTo>
                <a:close/>
              </a:path>
              <a:path fill="darkenLess" w="25521" h="21600">
                <a:moveTo>
                  <a:pt x="255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21" y="20200"/>
                </a:lnTo>
                <a:close/>
              </a:path>
              <a:path fill="lighten" w="255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959600" y="4437000"/>
            <a:ext cx="990720" cy="838440"/>
          </a:xfrm>
          <a:custGeom>
            <a:avLst/>
            <a:gdLst>
              <a:gd name="textAreaLeft" fmla="*/ 54360 w 990720"/>
              <a:gd name="textAreaRight" fmla="*/ 936360 w 9907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25521" h="21600">
                <a:moveTo>
                  <a:pt x="0" y="0"/>
                </a:moveTo>
                <a:lnTo>
                  <a:pt x="25521" y="0"/>
                </a:lnTo>
                <a:lnTo>
                  <a:pt x="25521" y="21600"/>
                </a:lnTo>
                <a:lnTo>
                  <a:pt x="0" y="21600"/>
                </a:lnTo>
                <a:close/>
              </a:path>
              <a:path fill="lightenLess" w="25521" h="21600">
                <a:moveTo>
                  <a:pt x="0" y="0"/>
                </a:moveTo>
                <a:lnTo>
                  <a:pt x="25521" y="0"/>
                </a:lnTo>
                <a:lnTo>
                  <a:pt x="24121" y="1400"/>
                </a:lnTo>
                <a:lnTo>
                  <a:pt x="1400" y="1400"/>
                </a:lnTo>
                <a:close/>
              </a:path>
              <a:path fill="darken" w="25521" h="21600">
                <a:moveTo>
                  <a:pt x="25521" y="0"/>
                </a:moveTo>
                <a:lnTo>
                  <a:pt x="25521" y="21600"/>
                </a:lnTo>
                <a:lnTo>
                  <a:pt x="24121" y="20200"/>
                </a:lnTo>
                <a:lnTo>
                  <a:pt x="24121" y="1400"/>
                </a:lnTo>
                <a:close/>
              </a:path>
              <a:path fill="darkenLess" w="25521" h="21600">
                <a:moveTo>
                  <a:pt x="255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21" y="20200"/>
                </a:lnTo>
                <a:close/>
              </a:path>
              <a:path fill="lighten" w="255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О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</p:transition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0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57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2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3" restart="whenNotActive" nodeType="interactiveSeq" fill="hold">
                <p:stCondLst>
                  <p:cond evt="onClick">
                    <p:tgtEl>
                      <p:spTgt spid="140"/>
                    </p:tgtEl>
                  </p:cond>
                </p:stCondLst>
                <p:childTnLst>
                  <p:par>
                    <p:cTn id="494" fill="hold">
                      <p:stCondLst>
                        <p:cond evt="onClick">
                          <p:tgtEl>
                            <p:spTgt spid="140"/>
                          </p:tgtEl>
                        </p:cond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1" restart="whenNotActive" nodeType="interactiveSeq" fill="hold">
                <p:stCondLst>
                  <p:cond evt="onClick">
                    <p:tgtEl>
                      <p:spTgt spid="147"/>
                    </p:tgtEl>
                  </p:cond>
                </p:stCondLst>
                <p:childTnLst>
                  <p:par>
                    <p:cTn id="502" fill="hold">
                      <p:stCondLst>
                        <p:cond evt="onClick">
                          <p:tgtEl>
                            <p:spTgt spid="147"/>
                          </p:tgtEl>
                        </p:cond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9" restart="whenNotActive" nodeType="interactiveSeq" fill="hold">
                <p:stCondLst>
                  <p:cond evt="onClick">
                    <p:tgtEl>
                      <p:spTgt spid="151"/>
                    </p:tgtEl>
                  </p:cond>
                </p:stCondLst>
                <p:childTnLst>
                  <p:par>
                    <p:cTn id="510" fill="hold">
                      <p:stCondLst>
                        <p:cond evt="onClick">
                          <p:tgtEl>
                            <p:spTgt spid="151"/>
                          </p:tgtEl>
                        </p:cond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fill="hold">
                            <p:stCondLst>
                              <p:cond delay="500"/>
                            </p:stCondLst>
                            <p:childTnLst>
                              <p:par>
                                <p:cTn id="5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0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1000"/>
                            </p:stCondLst>
                            <p:childTnLst>
                              <p:par>
                                <p:cTn id="5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1500"/>
                            </p:stCondLst>
                            <p:childTnLst>
                              <p:par>
                                <p:cTn id="5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2000"/>
                            </p:stCondLst>
                            <p:childTnLst>
                              <p:par>
                                <p:cTn id="5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611280" y="1413000"/>
            <a:ext cx="4751280" cy="4676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065480" y="907920"/>
            <a:ext cx="4928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Придётся ещё поучит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</p:transition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fill="hold">
                      <p:stCondLst>
                        <p:cond delay="0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3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3"/>
          <p:cNvSpPr/>
          <p:nvPr/>
        </p:nvSpPr>
        <p:spPr>
          <a:xfrm>
            <a:off x="1066680" y="3581280"/>
            <a:ext cx="586764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bbe0e3"/>
                </a:solidFill>
                <a:latin typeface="Verdana"/>
              </a:rPr>
              <a:t>р   бят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4"/>
          <p:cNvSpPr/>
          <p:nvPr/>
        </p:nvSpPr>
        <p:spPr>
          <a:xfrm flipH="1">
            <a:off x="3708000" y="3357720"/>
            <a:ext cx="304920" cy="6094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5"/>
          <p:cNvSpPr/>
          <p:nvPr/>
        </p:nvSpPr>
        <p:spPr>
          <a:xfrm>
            <a:off x="1692360" y="4724280"/>
            <a:ext cx="99036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8">
            <a:hlinkClick r:id="rId2" action="ppaction://hlinksldjump"/>
          </p:cNvPr>
          <p:cNvSpPr/>
          <p:nvPr/>
        </p:nvSpPr>
        <p:spPr>
          <a:xfrm>
            <a:off x="3352680" y="5334120"/>
            <a:ext cx="914400" cy="99036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90360"/>
              <a:gd name="textAreaBottom" fmla="*/ 931320 h 990360"/>
            </a:gdLst>
            <a:ahLst/>
            <a:rect l="textAreaLeft" t="textAreaTop" r="textAreaRight" b="textAreaBottom"/>
            <a:pathLst>
              <a:path w="21600" h="23394">
                <a:moveTo>
                  <a:pt x="0" y="0"/>
                </a:moveTo>
                <a:lnTo>
                  <a:pt x="21600" y="0"/>
                </a:lnTo>
                <a:lnTo>
                  <a:pt x="21600" y="23394"/>
                </a:lnTo>
                <a:lnTo>
                  <a:pt x="0" y="23394"/>
                </a:lnTo>
                <a:close/>
              </a:path>
              <a:path fill="lightenLess" w="21600" h="233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394">
                <a:moveTo>
                  <a:pt x="21600" y="0"/>
                </a:moveTo>
                <a:lnTo>
                  <a:pt x="21600" y="23394"/>
                </a:lnTo>
                <a:lnTo>
                  <a:pt x="20200" y="21994"/>
                </a:lnTo>
                <a:lnTo>
                  <a:pt x="20200" y="1400"/>
                </a:lnTo>
                <a:close/>
              </a:path>
              <a:path fill="darkenLess" w="21600" h="23394">
                <a:moveTo>
                  <a:pt x="21600" y="23394"/>
                </a:moveTo>
                <a:lnTo>
                  <a:pt x="0" y="23394"/>
                </a:lnTo>
                <a:lnTo>
                  <a:pt x="1400" y="21994"/>
                </a:lnTo>
                <a:lnTo>
                  <a:pt x="20200" y="21994"/>
                </a:lnTo>
                <a:close/>
              </a:path>
              <a:path fill="lighten" w="21600" h="23394">
                <a:moveTo>
                  <a:pt x="0" y="23394"/>
                </a:moveTo>
                <a:lnTo>
                  <a:pt x="0" y="0"/>
                </a:lnTo>
                <a:lnTo>
                  <a:pt x="1400" y="1400"/>
                </a:lnTo>
                <a:lnTo>
                  <a:pt x="1400" y="21994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Verdana"/>
              </a:rPr>
              <a:t>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9"/>
          <p:cNvSpPr/>
          <p:nvPr/>
        </p:nvSpPr>
        <p:spPr>
          <a:xfrm>
            <a:off x="1752480" y="5334120"/>
            <a:ext cx="838440" cy="990360"/>
          </a:xfrm>
          <a:custGeom>
            <a:avLst/>
            <a:gdLst>
              <a:gd name="textAreaLeft" fmla="*/ 54360 w 838440"/>
              <a:gd name="textAreaRight" fmla="*/ 784080 w 838440"/>
              <a:gd name="textAreaTop" fmla="*/ 54360 h 990360"/>
              <a:gd name="textAreaBottom" fmla="*/ 936000 h 990360"/>
            </a:gdLst>
            <a:ahLst/>
            <a:rect l="textAreaLeft" t="textAreaTop" r="textAreaRight" b="textAreaBottom"/>
            <a:pathLst>
              <a:path w="21600" h="25512">
                <a:moveTo>
                  <a:pt x="0" y="0"/>
                </a:moveTo>
                <a:lnTo>
                  <a:pt x="21600" y="0"/>
                </a:lnTo>
                <a:lnTo>
                  <a:pt x="21600" y="25512"/>
                </a:lnTo>
                <a:lnTo>
                  <a:pt x="0" y="25512"/>
                </a:lnTo>
                <a:close/>
              </a:path>
              <a:path fill="lightenLess" w="21600" h="2551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512">
                <a:moveTo>
                  <a:pt x="21600" y="0"/>
                </a:moveTo>
                <a:lnTo>
                  <a:pt x="21600" y="25512"/>
                </a:lnTo>
                <a:lnTo>
                  <a:pt x="20200" y="24112"/>
                </a:lnTo>
                <a:lnTo>
                  <a:pt x="20200" y="1400"/>
                </a:lnTo>
                <a:close/>
              </a:path>
              <a:path fill="darkenLess" w="21600" h="25512">
                <a:moveTo>
                  <a:pt x="21600" y="25512"/>
                </a:moveTo>
                <a:lnTo>
                  <a:pt x="0" y="25512"/>
                </a:lnTo>
                <a:lnTo>
                  <a:pt x="1400" y="24112"/>
                </a:lnTo>
                <a:lnTo>
                  <a:pt x="20200" y="24112"/>
                </a:lnTo>
                <a:close/>
              </a:path>
              <a:path fill="lighten" w="21600" h="25512">
                <a:moveTo>
                  <a:pt x="0" y="25512"/>
                </a:moveTo>
                <a:lnTo>
                  <a:pt x="0" y="0"/>
                </a:lnTo>
                <a:lnTo>
                  <a:pt x="1400" y="1400"/>
                </a:lnTo>
                <a:lnTo>
                  <a:pt x="1400" y="24112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Verdana"/>
              </a:rPr>
              <a:t>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10"/>
          <p:cNvSpPr/>
          <p:nvPr/>
        </p:nvSpPr>
        <p:spPr>
          <a:xfrm>
            <a:off x="1835280" y="3429000"/>
            <a:ext cx="1218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Verdana"/>
              </a:rPr>
              <a:t>е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380880" y="1219320"/>
            <a:ext cx="4419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omic"/>
              </a:rPr>
              <a:t>Молодец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4572000" y="836640"/>
            <a:ext cx="3529080" cy="2370240"/>
          </a:xfrm>
          <a:prstGeom prst="rect">
            <a:avLst/>
          </a:prstGeom>
          <a:ln w="76320">
            <a:solidFill>
              <a:srgbClr val="bbe0e3"/>
            </a:solidFill>
            <a:miter/>
          </a:ln>
        </p:spPr>
      </p:pic>
      <p:pic>
        <p:nvPicPr>
          <p:cNvPr id="51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8567640" y="6291360"/>
            <a:ext cx="576360" cy="56664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500"/>
                            </p:stCondLst>
                            <p:childTnLst>
                              <p:par>
                                <p:cTn id="2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" restart="whenNotActive" nodeType="interactiveSeq" fill="hold">
                <p:stCondLst>
                  <p:cond evt="onClick">
                    <p:tgtEl>
                      <p:spTgt spid="47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47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000"/>
                            </p:stCondLst>
                            <p:childTnLst>
                              <p:par>
                                <p:cTn id="4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3635280" y="2924280"/>
            <a:ext cx="510552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bbe0e3"/>
                </a:solidFill>
                <a:latin typeface="Arial"/>
              </a:rPr>
              <a:t>п   нал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>
            <a:hlinkClick r:id="rId2" action="ppaction://hlinksldjump"/>
          </p:cNvPr>
          <p:cNvSpPr/>
          <p:nvPr/>
        </p:nvSpPr>
        <p:spPr>
          <a:xfrm>
            <a:off x="3276720" y="5410080"/>
            <a:ext cx="1131840" cy="914400"/>
          </a:xfrm>
          <a:custGeom>
            <a:avLst/>
            <a:gdLst>
              <a:gd name="textAreaLeft" fmla="*/ 59040 w 1131840"/>
              <a:gd name="textAreaRight" fmla="*/ 1072800 w 113184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6734" h="21600">
                <a:moveTo>
                  <a:pt x="0" y="0"/>
                </a:moveTo>
                <a:lnTo>
                  <a:pt x="26734" y="0"/>
                </a:lnTo>
                <a:lnTo>
                  <a:pt x="26734" y="21600"/>
                </a:lnTo>
                <a:lnTo>
                  <a:pt x="0" y="21600"/>
                </a:lnTo>
                <a:close/>
              </a:path>
              <a:path fill="lightenLess" w="26734" h="21600">
                <a:moveTo>
                  <a:pt x="0" y="0"/>
                </a:moveTo>
                <a:lnTo>
                  <a:pt x="26734" y="0"/>
                </a:lnTo>
                <a:lnTo>
                  <a:pt x="25334" y="1400"/>
                </a:lnTo>
                <a:lnTo>
                  <a:pt x="1400" y="1400"/>
                </a:lnTo>
                <a:close/>
              </a:path>
              <a:path fill="darken" w="26734" h="21600">
                <a:moveTo>
                  <a:pt x="26734" y="0"/>
                </a:moveTo>
                <a:lnTo>
                  <a:pt x="26734" y="21600"/>
                </a:lnTo>
                <a:lnTo>
                  <a:pt x="25334" y="20200"/>
                </a:lnTo>
                <a:lnTo>
                  <a:pt x="25334" y="1400"/>
                </a:lnTo>
                <a:close/>
              </a:path>
              <a:path fill="darkenLess" w="26734" h="21600">
                <a:moveTo>
                  <a:pt x="26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334" y="20200"/>
                </a:lnTo>
                <a:close/>
              </a:path>
              <a:path fill="lighten" w="26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410080"/>
            <a:ext cx="990720" cy="914400"/>
          </a:xfrm>
          <a:custGeom>
            <a:avLst/>
            <a:gdLst>
              <a:gd name="textAreaLeft" fmla="*/ 59040 w 990720"/>
              <a:gd name="textAreaRight" fmla="*/ 931680 w 9907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3402" h="21600">
                <a:moveTo>
                  <a:pt x="0" y="0"/>
                </a:moveTo>
                <a:lnTo>
                  <a:pt x="23402" y="0"/>
                </a:lnTo>
                <a:lnTo>
                  <a:pt x="23402" y="21600"/>
                </a:lnTo>
                <a:lnTo>
                  <a:pt x="0" y="21600"/>
                </a:lnTo>
                <a:close/>
              </a:path>
              <a:path fill="lightenLess" w="23402" h="21600">
                <a:moveTo>
                  <a:pt x="0" y="0"/>
                </a:moveTo>
                <a:lnTo>
                  <a:pt x="23402" y="0"/>
                </a:lnTo>
                <a:lnTo>
                  <a:pt x="22002" y="1400"/>
                </a:lnTo>
                <a:lnTo>
                  <a:pt x="1400" y="1400"/>
                </a:lnTo>
                <a:close/>
              </a:path>
              <a:path fill="darken" w="23402" h="21600">
                <a:moveTo>
                  <a:pt x="23402" y="0"/>
                </a:moveTo>
                <a:lnTo>
                  <a:pt x="23402" y="21600"/>
                </a:lnTo>
                <a:lnTo>
                  <a:pt x="22002" y="20200"/>
                </a:lnTo>
                <a:lnTo>
                  <a:pt x="22002" y="1400"/>
                </a:lnTo>
                <a:close/>
              </a:path>
              <a:path fill="darkenLess" w="23402" h="21600">
                <a:moveTo>
                  <a:pt x="234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02" y="20200"/>
                </a:lnTo>
                <a:close/>
              </a:path>
              <a:path fill="lighten" w="234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211640" y="4076640"/>
            <a:ext cx="106668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6084720" y="2781360"/>
            <a:ext cx="457200" cy="5335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356000" y="2852640"/>
            <a:ext cx="10670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Arial"/>
              </a:rPr>
              <a:t>е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419720" y="990720"/>
            <a:ext cx="449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omic"/>
              </a:rPr>
              <a:t>Молодец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611280" y="549360"/>
            <a:ext cx="3333600" cy="333360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4"/>
          <a:stretch/>
        </p:blipFill>
        <p:spPr>
          <a:xfrm>
            <a:off x="8567640" y="6291360"/>
            <a:ext cx="576360" cy="56664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  <p:timing>
    <p:tnLst>
      <p:par>
        <p:cTn id="546" dur="indefinite" restart="never" nodeType="tmRoot">
          <p:childTnLst>
            <p:seq>
              <p:cTn id="547" dur="indefinite" nodeType="mainSeq">
                <p:childTnLst>
                  <p:par>
                    <p:cTn id="548" fill="hold">
                      <p:stCondLst>
                        <p:cond delay="0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52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7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fill="hold">
                            <p:stCondLst>
                              <p:cond delay="1000"/>
                            </p:stCondLst>
                            <p:childTnLst>
                              <p:par>
                                <p:cTn id="55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9" restart="whenNotActive" nodeType="interactiveSeq" fill="hold">
                <p:stCondLst>
                  <p:cond evt="onClick">
                    <p:tgtEl>
                      <p:spTgt spid="156"/>
                    </p:tgtEl>
                  </p:cond>
                </p:stCondLst>
                <p:childTnLst>
                  <p:par>
                    <p:cTn id="570" fill="hold">
                      <p:stCondLst>
                        <p:cond evt="onClick">
                          <p:tgtEl>
                            <p:spTgt spid="156"/>
                          </p:tgtEl>
                        </p:cond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fill="hold">
                            <p:stCondLst>
                              <p:cond delay="500"/>
                            </p:stCondLst>
                            <p:childTnLst>
                              <p:par>
                                <p:cTn id="5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8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1000"/>
                            </p:stCondLst>
                            <p:childTnLst>
                              <p:par>
                                <p:cTn id="5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611280" y="1413000"/>
            <a:ext cx="4751280" cy="467676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4065480" y="907920"/>
            <a:ext cx="4928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Придётся ещё поучит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</p:transition>
  <p:timing>
    <p:tnLst>
      <p:par>
        <p:cTn id="587" dur="indefinite" restart="never" nodeType="tmRoot">
          <p:childTnLst>
            <p:seq>
              <p:cTn id="588" dur="indefinite" nodeType="mainSeq">
                <p:childTnLst>
                  <p:par>
                    <p:cTn id="589" fill="hold">
                      <p:stCondLst>
                        <p:cond delay="0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979640" y="3213000"/>
            <a:ext cx="194472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bbe0e3"/>
                </a:solidFill>
                <a:latin typeface="Arial"/>
              </a:rPr>
              <a:t>Кл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>
            <a:hlinkClick r:id="rId2" action="ppaction://hlinksldjump"/>
          </p:cNvPr>
          <p:cNvSpPr/>
          <p:nvPr/>
        </p:nvSpPr>
        <p:spPr>
          <a:xfrm>
            <a:off x="1763640" y="4941720"/>
            <a:ext cx="990720" cy="838440"/>
          </a:xfrm>
          <a:custGeom>
            <a:avLst/>
            <a:gdLst>
              <a:gd name="textAreaLeft" fmla="*/ 54360 w 990720"/>
              <a:gd name="textAreaRight" fmla="*/ 936360 w 9907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25521" h="21600">
                <a:moveTo>
                  <a:pt x="0" y="0"/>
                </a:moveTo>
                <a:lnTo>
                  <a:pt x="25521" y="0"/>
                </a:lnTo>
                <a:lnTo>
                  <a:pt x="25521" y="21600"/>
                </a:lnTo>
                <a:lnTo>
                  <a:pt x="0" y="21600"/>
                </a:lnTo>
                <a:close/>
              </a:path>
              <a:path fill="lightenLess" w="25521" h="21600">
                <a:moveTo>
                  <a:pt x="0" y="0"/>
                </a:moveTo>
                <a:lnTo>
                  <a:pt x="25521" y="0"/>
                </a:lnTo>
                <a:lnTo>
                  <a:pt x="24121" y="1400"/>
                </a:lnTo>
                <a:lnTo>
                  <a:pt x="1400" y="1400"/>
                </a:lnTo>
                <a:close/>
              </a:path>
              <a:path fill="darken" w="25521" h="21600">
                <a:moveTo>
                  <a:pt x="25521" y="0"/>
                </a:moveTo>
                <a:lnTo>
                  <a:pt x="25521" y="21600"/>
                </a:lnTo>
                <a:lnTo>
                  <a:pt x="24121" y="20200"/>
                </a:lnTo>
                <a:lnTo>
                  <a:pt x="24121" y="1400"/>
                </a:lnTo>
                <a:close/>
              </a:path>
              <a:path fill="darkenLess" w="25521" h="21600">
                <a:moveTo>
                  <a:pt x="255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21" y="20200"/>
                </a:lnTo>
                <a:close/>
              </a:path>
              <a:path fill="lighten" w="255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995640" y="4941720"/>
            <a:ext cx="1295640" cy="838440"/>
          </a:xfrm>
          <a:custGeom>
            <a:avLst/>
            <a:gdLst>
              <a:gd name="textAreaLeft" fmla="*/ 54360 w 1295640"/>
              <a:gd name="textAreaRight" fmla="*/ 1241280 w 129564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3373" h="21600">
                <a:moveTo>
                  <a:pt x="0" y="0"/>
                </a:moveTo>
                <a:lnTo>
                  <a:pt x="33373" y="0"/>
                </a:lnTo>
                <a:lnTo>
                  <a:pt x="33373" y="21600"/>
                </a:lnTo>
                <a:lnTo>
                  <a:pt x="0" y="21600"/>
                </a:lnTo>
                <a:close/>
              </a:path>
              <a:path fill="lightenLess" w="33373" h="21600">
                <a:moveTo>
                  <a:pt x="0" y="0"/>
                </a:moveTo>
                <a:lnTo>
                  <a:pt x="33373" y="0"/>
                </a:lnTo>
                <a:lnTo>
                  <a:pt x="31973" y="1400"/>
                </a:lnTo>
                <a:lnTo>
                  <a:pt x="1400" y="1400"/>
                </a:lnTo>
                <a:close/>
              </a:path>
              <a:path fill="darken" w="33373" h="21600">
                <a:moveTo>
                  <a:pt x="33373" y="0"/>
                </a:moveTo>
                <a:lnTo>
                  <a:pt x="33373" y="21600"/>
                </a:lnTo>
                <a:lnTo>
                  <a:pt x="31973" y="20200"/>
                </a:lnTo>
                <a:lnTo>
                  <a:pt x="31973" y="1400"/>
                </a:lnTo>
                <a:close/>
              </a:path>
              <a:path fill="darkenLess" w="33373" h="21600">
                <a:moveTo>
                  <a:pt x="333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973" y="20200"/>
                </a:lnTo>
                <a:close/>
              </a:path>
              <a:path fill="lighten" w="333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С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708360" y="2997360"/>
            <a:ext cx="1655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0000"/>
                </a:solidFill>
                <a:latin typeface="Arial"/>
              </a:rPr>
              <a:t>сс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295280" y="838080"/>
            <a:ext cx="4876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omic"/>
              </a:rPr>
              <a:t>Молодец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51280" y="4221000"/>
            <a:ext cx="106668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3"/>
          <a:stretch/>
        </p:blipFill>
        <p:spPr>
          <a:xfrm>
            <a:off x="4932360" y="260280"/>
            <a:ext cx="3889440" cy="2595600"/>
          </a:xfrm>
          <a:prstGeom prst="rect">
            <a:avLst/>
          </a:prstGeom>
          <a:ln w="76320">
            <a:solidFill>
              <a:srgbClr val="bbe0e3"/>
            </a:solidFill>
            <a:miter/>
          </a:ln>
        </p:spPr>
      </p:pic>
      <p:pic>
        <p:nvPicPr>
          <p:cNvPr id="172" name="" descr=""/>
          <p:cNvPicPr/>
          <p:nvPr/>
        </p:nvPicPr>
        <p:blipFill>
          <a:blip r:embed="rId4"/>
          <a:stretch/>
        </p:blipFill>
        <p:spPr>
          <a:xfrm>
            <a:off x="8567640" y="6291360"/>
            <a:ext cx="576360" cy="56664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  <p:timing>
    <p:tnLst>
      <p:par>
        <p:cTn id="596" dur="indefinite" restart="never" nodeType="tmRoot">
          <p:childTnLst>
            <p:seq>
              <p:cTn id="597" dur="indefinite" nodeType="mainSeq">
                <p:childTnLst>
                  <p:par>
                    <p:cTn id="598" fill="hold">
                      <p:stCondLst>
                        <p:cond delay="0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02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7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fill="hold">
                            <p:stCondLst>
                              <p:cond delay="1000"/>
                            </p:stCondLst>
                            <p:childTnLst>
                              <p:par>
                                <p:cTn id="60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fill="hold">
                            <p:stCondLst>
                              <p:cond delay="1500"/>
                            </p:stCondLst>
                            <p:childTnLst>
                              <p:par>
                                <p:cTn id="61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0" restart="whenNotActive" nodeType="interactiveSeq" fill="hold">
                <p:stCondLst>
                  <p:cond evt="onClick">
                    <p:tgtEl>
                      <p:spTgt spid="167"/>
                    </p:tgtEl>
                  </p:cond>
                </p:stCondLst>
                <p:childTnLst>
                  <p:par>
                    <p:cTn id="621" fill="hold">
                      <p:stCondLst>
                        <p:cond evt="onClick">
                          <p:tgtEl>
                            <p:spTgt spid="167"/>
                          </p:tgtEl>
                        </p:cond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fill="hold">
                            <p:stCondLst>
                              <p:cond delay="500"/>
                            </p:stCondLst>
                            <p:childTnLst>
                              <p:par>
                                <p:cTn id="6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1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611280" y="1413000"/>
            <a:ext cx="4751280" cy="467676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4065480" y="907920"/>
            <a:ext cx="4928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Придётся ещё поучит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</p:transition>
  <p:timing>
    <p:tnLst>
      <p:par>
        <p:cTn id="636" dur="indefinite" restart="never" nodeType="tmRoot">
          <p:childTnLst>
            <p:seq>
              <p:cTn id="637" dur="indefinite" nodeType="mainSeq">
                <p:childTnLst>
                  <p:par>
                    <p:cTn id="638" fill="hold">
                      <p:stCondLst>
                        <p:cond delay="0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2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3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1116000" y="2133720"/>
            <a:ext cx="7489800" cy="184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Georgia"/>
              </a:rPr>
              <a:t>МОЛОДЦЫ!</a:t>
            </a:r>
            <a:endParaRPr b="1" lang="en-US" sz="66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Georgia"/>
              <a:ea typeface="Georgia"/>
            </a:endParaRPr>
          </a:p>
        </p:txBody>
      </p:sp>
    </p:spTree>
  </p:cSld>
  <p:transition>
    <p:comb dir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976320" y="3645000"/>
            <a:ext cx="68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igra-anekdot.ru/ris/uchitel6/uchitel6-0003.jpg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- учительни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971640" y="3933720"/>
            <a:ext cx="79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animashki.net/uploads/cat-1141612970/c5d63049d389.gif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-карандаши-котя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046160" y="4437000"/>
            <a:ext cx="809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www.hymn.ru/anthem-russia-2000- exercise_book_rus_school_doublelined_12pages_2006-cover-with-anthem.jpg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-тетрад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971640" y="2276640"/>
            <a:ext cx="62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img.o-kidworld.ru/img/cover_penal-odnostvorchatyi-dyn_350_350_4040187.jpg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- пена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116000" y="5300640"/>
            <a:ext cx="720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http://www.koipkro.kostroma.ru/Kostroma_EDU/Kos_sch_36/DocLib/%D1%83%D1%87%D0%B5%D0%BD%D0%B8%D0%BA%20%D0%B7%D0%B0%20%D0%BF%D0%B0%D1%80%D1%82%D0%BE%D0%B9.gif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учен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046520" y="1989000"/>
            <a:ext cx="52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http://smayli.ru/data/smiles/detia-741.gif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- девоч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045800" y="1700280"/>
            <a:ext cx="52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http://smayli.ru/data/smiles/detia-569.gif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-мальч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045800" y="1341360"/>
            <a:ext cx="645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http://www.lipetsktime.ru/photo/news/1_2437.jpg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-библиоте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048680" y="3284640"/>
            <a:ext cx="665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http://funforkids.ru/pictures/school23/school2311.gif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- дежур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046880" y="981000"/>
            <a:ext cx="638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http://gazeta.a42.ru/images/lenta/3727.jpg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- школьный клас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960200" y="58680"/>
            <a:ext cx="441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Интернет-ресурс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048680" y="2924280"/>
            <a:ext cx="608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http://funforkids.ru/pictures/school3/school0301.png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- с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11280" y="1413000"/>
            <a:ext cx="4751280" cy="46767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4065480" y="907920"/>
            <a:ext cx="4928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Придётся ещё поучит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95280" y="2492280"/>
            <a:ext cx="6324480" cy="1312920"/>
          </a:xfrm>
          <a:prstGeom prst="rect">
            <a:avLst/>
          </a:prstGeom>
          <a:noFill/>
          <a:ln w="0">
            <a:noFill/>
          </a:ln>
          <a:effectLst>
            <a:outerShdw dist="40186" dir="20503642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bbe0e3"/>
                </a:solidFill>
                <a:latin typeface="Arial"/>
              </a:rPr>
              <a:t>Уч   ник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63640" y="2421000"/>
            <a:ext cx="10670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Arial"/>
              </a:rPr>
              <a:t>е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5105520"/>
            <a:ext cx="762120" cy="91440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914400"/>
              <a:gd name="textAreaBottom" fmla="*/ 865080 h 914400"/>
            </a:gdLst>
            <a:ahLst/>
            <a:rect l="textAreaLeft" t="textAreaTop" r="textAreaRight" b="textAreaBottom"/>
            <a:pathLst>
              <a:path w="21600" h="25914">
                <a:moveTo>
                  <a:pt x="0" y="0"/>
                </a:moveTo>
                <a:lnTo>
                  <a:pt x="21600" y="0"/>
                </a:lnTo>
                <a:lnTo>
                  <a:pt x="21600" y="25914"/>
                </a:lnTo>
                <a:lnTo>
                  <a:pt x="0" y="25914"/>
                </a:lnTo>
                <a:close/>
              </a:path>
              <a:path fill="lightenLess" w="21600" h="2591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14">
                <a:moveTo>
                  <a:pt x="21600" y="0"/>
                </a:moveTo>
                <a:lnTo>
                  <a:pt x="21600" y="25914"/>
                </a:lnTo>
                <a:lnTo>
                  <a:pt x="20200" y="24514"/>
                </a:lnTo>
                <a:lnTo>
                  <a:pt x="20200" y="1400"/>
                </a:lnTo>
                <a:close/>
              </a:path>
              <a:path fill="darkenLess" w="21600" h="25914">
                <a:moveTo>
                  <a:pt x="21600" y="25914"/>
                </a:moveTo>
                <a:lnTo>
                  <a:pt x="0" y="25914"/>
                </a:lnTo>
                <a:lnTo>
                  <a:pt x="1400" y="24514"/>
                </a:lnTo>
                <a:lnTo>
                  <a:pt x="20200" y="24514"/>
                </a:lnTo>
                <a:close/>
              </a:path>
              <a:path fill="lighten" w="21600" h="25914">
                <a:moveTo>
                  <a:pt x="0" y="25914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14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>
            <a:hlinkClick r:id="rId2" action="ppaction://hlinksldjump"/>
          </p:cNvPr>
          <p:cNvSpPr/>
          <p:nvPr/>
        </p:nvSpPr>
        <p:spPr>
          <a:xfrm>
            <a:off x="2743200" y="5105520"/>
            <a:ext cx="762120" cy="91440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914400"/>
              <a:gd name="textAreaBottom" fmla="*/ 865080 h 914400"/>
            </a:gdLst>
            <a:ahLst/>
            <a:rect l="textAreaLeft" t="textAreaTop" r="textAreaRight" b="textAreaBottom"/>
            <a:pathLst>
              <a:path w="21600" h="25914">
                <a:moveTo>
                  <a:pt x="0" y="0"/>
                </a:moveTo>
                <a:lnTo>
                  <a:pt x="21600" y="0"/>
                </a:lnTo>
                <a:lnTo>
                  <a:pt x="21600" y="25914"/>
                </a:lnTo>
                <a:lnTo>
                  <a:pt x="0" y="25914"/>
                </a:lnTo>
                <a:close/>
              </a:path>
              <a:path fill="lightenLess" w="21600" h="2591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14">
                <a:moveTo>
                  <a:pt x="21600" y="0"/>
                </a:moveTo>
                <a:lnTo>
                  <a:pt x="21600" y="25914"/>
                </a:lnTo>
                <a:lnTo>
                  <a:pt x="20200" y="24514"/>
                </a:lnTo>
                <a:lnTo>
                  <a:pt x="20200" y="1400"/>
                </a:lnTo>
                <a:close/>
              </a:path>
              <a:path fill="darkenLess" w="21600" h="25914">
                <a:moveTo>
                  <a:pt x="21600" y="25914"/>
                </a:moveTo>
                <a:lnTo>
                  <a:pt x="0" y="25914"/>
                </a:lnTo>
                <a:lnTo>
                  <a:pt x="1400" y="24514"/>
                </a:lnTo>
                <a:lnTo>
                  <a:pt x="20200" y="24514"/>
                </a:lnTo>
                <a:close/>
              </a:path>
              <a:path fill="lighten" w="21600" h="25914">
                <a:moveTo>
                  <a:pt x="0" y="25914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14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3581280" y="2209680"/>
            <a:ext cx="457200" cy="5335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92360" y="3716280"/>
            <a:ext cx="99036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340000" y="765000"/>
            <a:ext cx="3673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omic"/>
              </a:rPr>
              <a:t>Молодец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5219640" y="765000"/>
            <a:ext cx="4067280" cy="40356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8567640" y="6291360"/>
            <a:ext cx="576360" cy="56664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1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8" restart="whenNotActive" nodeType="interactiveSeq" fill="hold">
                <p:stCondLst>
                  <p:cond evt="onClick">
                    <p:tgtEl>
                      <p:spTgt spid="56"/>
                    </p:tgtEl>
                  </p:cond>
                </p:stCondLst>
                <p:childTnLst>
                  <p:par>
                    <p:cTn id="89" fill="hold">
                      <p:stCondLst>
                        <p:cond evt="onClick">
                          <p:tgtEl>
                            <p:spTgt spid="56"/>
                          </p:tgtEl>
                        </p:cond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11280" y="1413000"/>
            <a:ext cx="4751280" cy="46767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4065480" y="907920"/>
            <a:ext cx="4928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Придётся ещё поучит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250920" y="2997360"/>
            <a:ext cx="7275240" cy="1191240"/>
          </a:xfrm>
          <a:prstGeom prst="rect">
            <a:avLst/>
          </a:prstGeom>
          <a:noFill/>
          <a:ln w="0">
            <a:noFill/>
          </a:ln>
          <a:effectLst>
            <a:outerShdw dist="40186" dir="20503642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bbe0e3"/>
                </a:solidFill>
                <a:latin typeface="Arial"/>
              </a:rPr>
              <a:t>Учит   льниц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340000" y="2852640"/>
            <a:ext cx="10666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Arial"/>
              </a:rPr>
              <a:t>е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835280" y="4653000"/>
            <a:ext cx="761760" cy="914400"/>
          </a:xfrm>
          <a:custGeom>
            <a:avLst/>
            <a:gdLst>
              <a:gd name="textAreaLeft" fmla="*/ 49320 w 761760"/>
              <a:gd name="textAreaRight" fmla="*/ 712440 w 761760"/>
              <a:gd name="textAreaTop" fmla="*/ 49320 h 914400"/>
              <a:gd name="textAreaBottom" fmla="*/ 865080 h 914400"/>
            </a:gdLst>
            <a:ahLst/>
            <a:rect l="textAreaLeft" t="textAreaTop" r="textAreaRight" b="textAreaBottom"/>
            <a:pathLst>
              <a:path w="21600" h="25926">
                <a:moveTo>
                  <a:pt x="0" y="0"/>
                </a:moveTo>
                <a:lnTo>
                  <a:pt x="21600" y="0"/>
                </a:lnTo>
                <a:lnTo>
                  <a:pt x="21600" y="25926"/>
                </a:lnTo>
                <a:lnTo>
                  <a:pt x="0" y="25926"/>
                </a:lnTo>
                <a:close/>
              </a:path>
              <a:path fill="lightenLess" w="21600" h="2592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26">
                <a:moveTo>
                  <a:pt x="21600" y="0"/>
                </a:moveTo>
                <a:lnTo>
                  <a:pt x="21600" y="25926"/>
                </a:lnTo>
                <a:lnTo>
                  <a:pt x="20200" y="24526"/>
                </a:lnTo>
                <a:lnTo>
                  <a:pt x="20200" y="1400"/>
                </a:lnTo>
                <a:close/>
              </a:path>
              <a:path fill="darkenLess" w="21600" h="25926">
                <a:moveTo>
                  <a:pt x="21600" y="25926"/>
                </a:moveTo>
                <a:lnTo>
                  <a:pt x="0" y="25926"/>
                </a:lnTo>
                <a:lnTo>
                  <a:pt x="1400" y="24526"/>
                </a:lnTo>
                <a:lnTo>
                  <a:pt x="20200" y="24526"/>
                </a:lnTo>
                <a:close/>
              </a:path>
              <a:path fill="lighten" w="21600" h="25926">
                <a:moveTo>
                  <a:pt x="0" y="25926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26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>
            <a:hlinkClick r:id="rId2" action="ppaction://hlinksldjump"/>
          </p:cNvPr>
          <p:cNvSpPr/>
          <p:nvPr/>
        </p:nvSpPr>
        <p:spPr>
          <a:xfrm>
            <a:off x="3924360" y="4581360"/>
            <a:ext cx="762120" cy="91440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914400"/>
              <a:gd name="textAreaBottom" fmla="*/ 865080 h 914400"/>
            </a:gdLst>
            <a:ahLst/>
            <a:rect l="textAreaLeft" t="textAreaTop" r="textAreaRight" b="textAreaBottom"/>
            <a:pathLst>
              <a:path w="21600" h="25914">
                <a:moveTo>
                  <a:pt x="0" y="0"/>
                </a:moveTo>
                <a:lnTo>
                  <a:pt x="21600" y="0"/>
                </a:lnTo>
                <a:lnTo>
                  <a:pt x="21600" y="25914"/>
                </a:lnTo>
                <a:lnTo>
                  <a:pt x="0" y="25914"/>
                </a:lnTo>
                <a:close/>
              </a:path>
              <a:path fill="lightenLess" w="21600" h="2591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14">
                <a:moveTo>
                  <a:pt x="21600" y="0"/>
                </a:moveTo>
                <a:lnTo>
                  <a:pt x="21600" y="25914"/>
                </a:lnTo>
                <a:lnTo>
                  <a:pt x="20200" y="24514"/>
                </a:lnTo>
                <a:lnTo>
                  <a:pt x="20200" y="1400"/>
                </a:lnTo>
                <a:close/>
              </a:path>
              <a:path fill="darkenLess" w="21600" h="25914">
                <a:moveTo>
                  <a:pt x="21600" y="25914"/>
                </a:moveTo>
                <a:lnTo>
                  <a:pt x="0" y="25914"/>
                </a:lnTo>
                <a:lnTo>
                  <a:pt x="1400" y="24514"/>
                </a:lnTo>
                <a:lnTo>
                  <a:pt x="20200" y="24514"/>
                </a:lnTo>
                <a:close/>
              </a:path>
              <a:path fill="lighten" w="21600" h="25914">
                <a:moveTo>
                  <a:pt x="0" y="25914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14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1763640" y="2781360"/>
            <a:ext cx="457200" cy="5335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340000" y="4076640"/>
            <a:ext cx="9907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195640" y="692280"/>
            <a:ext cx="3887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omic"/>
              </a:rPr>
              <a:t>Молодец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6227640" y="189000"/>
            <a:ext cx="2664000" cy="338436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8567640" y="6291360"/>
            <a:ext cx="576360" cy="56664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3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0" restart="whenNotActive" nodeType="interactiveSeq" fill="hold">
                <p:stCondLst>
                  <p:cond evt="onClick">
                    <p:tgtEl>
                      <p:spTgt spid="67"/>
                    </p:tgtEl>
                  </p:cond>
                </p:stCondLst>
                <p:childTnLst>
                  <p:par>
                    <p:cTn id="141" fill="hold">
                      <p:stCondLst>
                        <p:cond evt="onClick">
                          <p:tgtEl>
                            <p:spTgt spid="67"/>
                          </p:tgtEl>
                        </p:cond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000"/>
                            </p:stCondLst>
                            <p:childTnLst>
                              <p:par>
                                <p:cTn id="1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11280" y="1413000"/>
            <a:ext cx="4751280" cy="467676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4065480" y="907920"/>
            <a:ext cx="4928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Придётся ещё поучит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3708360" y="3068640"/>
            <a:ext cx="990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Arial"/>
              </a:rPr>
              <a:t>о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763640" y="3141720"/>
            <a:ext cx="601992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bbe0e3"/>
                </a:solidFill>
                <a:latin typeface="Arial"/>
              </a:rPr>
              <a:t>Дев  чка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>
            <a:hlinkClick r:id="rId2" action="ppaction://hlinksldjump"/>
          </p:cNvPr>
          <p:cNvSpPr/>
          <p:nvPr/>
        </p:nvSpPr>
        <p:spPr>
          <a:xfrm>
            <a:off x="3200400" y="5157720"/>
            <a:ext cx="990720" cy="838440"/>
          </a:xfrm>
          <a:custGeom>
            <a:avLst/>
            <a:gdLst>
              <a:gd name="textAreaLeft" fmla="*/ 54360 w 990720"/>
              <a:gd name="textAreaRight" fmla="*/ 936360 w 9907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25521" h="21600">
                <a:moveTo>
                  <a:pt x="0" y="0"/>
                </a:moveTo>
                <a:lnTo>
                  <a:pt x="25521" y="0"/>
                </a:lnTo>
                <a:lnTo>
                  <a:pt x="25521" y="21600"/>
                </a:lnTo>
                <a:lnTo>
                  <a:pt x="0" y="21600"/>
                </a:lnTo>
                <a:close/>
              </a:path>
              <a:path fill="lightenLess" w="25521" h="21600">
                <a:moveTo>
                  <a:pt x="0" y="0"/>
                </a:moveTo>
                <a:lnTo>
                  <a:pt x="25521" y="0"/>
                </a:lnTo>
                <a:lnTo>
                  <a:pt x="24121" y="1400"/>
                </a:lnTo>
                <a:lnTo>
                  <a:pt x="1400" y="1400"/>
                </a:lnTo>
                <a:close/>
              </a:path>
              <a:path fill="darken" w="25521" h="21600">
                <a:moveTo>
                  <a:pt x="25521" y="0"/>
                </a:moveTo>
                <a:lnTo>
                  <a:pt x="25521" y="21600"/>
                </a:lnTo>
                <a:lnTo>
                  <a:pt x="24121" y="20200"/>
                </a:lnTo>
                <a:lnTo>
                  <a:pt x="24121" y="1400"/>
                </a:lnTo>
                <a:close/>
              </a:path>
              <a:path fill="darkenLess" w="25521" h="21600">
                <a:moveTo>
                  <a:pt x="255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21" y="20200"/>
                </a:lnTo>
                <a:close/>
              </a:path>
              <a:path fill="lighten" w="255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572000" y="5157720"/>
            <a:ext cx="990720" cy="838440"/>
          </a:xfrm>
          <a:custGeom>
            <a:avLst/>
            <a:gdLst>
              <a:gd name="textAreaLeft" fmla="*/ 54360 w 990720"/>
              <a:gd name="textAreaRight" fmla="*/ 936360 w 9907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25521" h="21600">
                <a:moveTo>
                  <a:pt x="0" y="0"/>
                </a:moveTo>
                <a:lnTo>
                  <a:pt x="25521" y="0"/>
                </a:lnTo>
                <a:lnTo>
                  <a:pt x="25521" y="21600"/>
                </a:lnTo>
                <a:lnTo>
                  <a:pt x="0" y="21600"/>
                </a:lnTo>
                <a:close/>
              </a:path>
              <a:path fill="lightenLess" w="25521" h="21600">
                <a:moveTo>
                  <a:pt x="0" y="0"/>
                </a:moveTo>
                <a:lnTo>
                  <a:pt x="25521" y="0"/>
                </a:lnTo>
                <a:lnTo>
                  <a:pt x="24121" y="1400"/>
                </a:lnTo>
                <a:lnTo>
                  <a:pt x="1400" y="1400"/>
                </a:lnTo>
                <a:close/>
              </a:path>
              <a:path fill="darken" w="25521" h="21600">
                <a:moveTo>
                  <a:pt x="25521" y="0"/>
                </a:moveTo>
                <a:lnTo>
                  <a:pt x="25521" y="21600"/>
                </a:lnTo>
                <a:lnTo>
                  <a:pt x="24121" y="20200"/>
                </a:lnTo>
                <a:lnTo>
                  <a:pt x="24121" y="1400"/>
                </a:lnTo>
                <a:close/>
              </a:path>
              <a:path fill="darkenLess" w="25521" h="21600">
                <a:moveTo>
                  <a:pt x="255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21" y="20200"/>
                </a:lnTo>
                <a:close/>
              </a:path>
              <a:path fill="lighten" w="255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О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708360" y="4292640"/>
            <a:ext cx="79236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2987640" y="2997360"/>
            <a:ext cx="457200" cy="5331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295280" y="838080"/>
            <a:ext cx="4876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omic"/>
              </a:rPr>
              <a:t>Молодец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5867280" y="692280"/>
            <a:ext cx="2057400" cy="237636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8567640" y="6291360"/>
            <a:ext cx="576360" cy="56664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5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1000"/>
                            </p:stCondLst>
                            <p:childTnLst>
                              <p:par>
                                <p:cTn id="18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2" restart="whenNotActive" nodeType="interactiveSeq" fill="hold">
                <p:stCondLst>
                  <p:cond evt="onClick">
                    <p:tgtEl>
                      <p:spTgt spid="79"/>
                    </p:tgtEl>
                  </p:cond>
                </p:stCondLst>
                <p:childTnLst>
                  <p:par>
                    <p:cTn id="193" fill="hold">
                      <p:stCondLst>
                        <p:cond evt="onClick">
                          <p:tgtEl>
                            <p:spTgt spid="79"/>
                          </p:tgtEl>
                        </p:cond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500"/>
                            </p:stCondLst>
                            <p:childTnLst>
                              <p:par>
                                <p:cTn id="20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1000"/>
                            </p:stCondLst>
                            <p:childTnLst>
                              <p:par>
                                <p:cTn id="2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11280" y="1413000"/>
            <a:ext cx="4751280" cy="46767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4065480" y="907920"/>
            <a:ext cx="4928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Придётся ещё поучит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</p:transition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0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31T19:08:28Z</dcterms:created>
  <dc:creator>server</dc:creator>
  <dc:description/>
  <dc:language>en-US</dc:language>
  <cp:lastModifiedBy>Admin</cp:lastModifiedBy>
  <dcterms:modified xsi:type="dcterms:W3CDTF">2012-06-12T14:08:31Z</dcterms:modified>
  <cp:revision>8</cp:revision>
  <dc:subject/>
  <dc:title>Голубая</dc:title>
</cp:coreProperties>
</file>