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B50-8FF0-484B-94BE-5B9EF252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43F-7C24-493A-8BF7-34F8C6C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419-2145-4543-9FAB-5D702887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FD3-2A60-463D-B2C5-379BA24E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3FB-EDC2-4886-AE7E-C9F38EE6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E0D-BBBB-41C4-9A71-D1A41E39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030A-0F18-4BF6-B5DF-72DB2C89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81D-F3AC-4570-B36C-411E943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720-AA20-4670-8C2D-11013F1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DAD-93C5-4C49-950C-4EA5F78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6FC-8991-41CD-918C-22EF3CC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DBB-A325-44E7-A22C-032A524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4E31-F968-4A12-90CE-B64BF5616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8.gif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image" Target="../media/image9.gif"/><Relationship Id="rId5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0.png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17.xml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image" Target="../media/image12.jpeg"/><Relationship Id="rId5" Type="http://schemas.openxmlformats.org/officeDocument/2006/relationships/image" Target="../media/image4.png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gra-anekdot.ru/ris/uchitel6/uchitel6-0003.jpg" TargetMode="External"/><Relationship Id="rId3" Type="http://schemas.openxmlformats.org/officeDocument/2006/relationships/hyperlink" Target="http://www.animashki.net/uploads/cat-1141612970/c5d63049d389.gif" TargetMode="External"/><Relationship Id="rId4" Type="http://schemas.openxmlformats.org/officeDocument/2006/relationships/hyperlink" Target="http://www.hymn.ru/anthem-russia-2000-%20exercise_book_rus_school_doublelined_12pages_2006-cover-with-anthem.jpg" TargetMode="External"/><Relationship Id="rId5" Type="http://schemas.openxmlformats.org/officeDocument/2006/relationships/hyperlink" Target="http://img.o-kidworld.ru/img/cover_penal-odnostvorchatyi-dyn_350_350_4040187.jpg" TargetMode="External"/><Relationship Id="rId6" Type="http://schemas.openxmlformats.org/officeDocument/2006/relationships/hyperlink" Target="http://www.koipkro.kostroma.ru/Kostroma_EDU/Kos_sch_36/DocLib/&#1091;&#1095;&#1077;&#1085;&#1080;&#1082;%20&#1079;&#1072;%20&#1087;&#1072;&#1088;&#1090;&#1086;&#1081;.gif" TargetMode="External"/><Relationship Id="rId7" Type="http://schemas.openxmlformats.org/officeDocument/2006/relationships/hyperlink" Target="http://smayli.ru/data/smiles/detia-741.gif" TargetMode="External"/><Relationship Id="rId8" Type="http://schemas.openxmlformats.org/officeDocument/2006/relationships/hyperlink" Target="http://smayli.ru/data/smiles/detia-569.gif" TargetMode="External"/><Relationship Id="rId9" Type="http://schemas.openxmlformats.org/officeDocument/2006/relationships/hyperlink" Target="http://www.lipetsktime.ru/photo/news/1_2437.jpg" TargetMode="External"/><Relationship Id="rId10" Type="http://schemas.openxmlformats.org/officeDocument/2006/relationships/hyperlink" Target="http://funforkids.ru/pictures/school23/school2311.gif" TargetMode="External"/><Relationship Id="rId11" Type="http://schemas.openxmlformats.org/officeDocument/2006/relationships/hyperlink" Target="http://gazeta.a42.ru/images/lenta/3727.jpg" TargetMode="External"/><Relationship Id="rId12" Type="http://schemas.openxmlformats.org/officeDocument/2006/relationships/hyperlink" Target="http://funforkids.ru/pictures/school3/school0301.png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5.png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7.gif"/><Relationship Id="rId4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2%20&#1057;&#1083;&#1086;&#1074;&#1072;&#1088;&#1100;%20&#1064;&#1082;&#1086;&#1083;&#1072;%202&#1082;&#1083;%20-&#1048;&#1083;&#1080;-&#1080;&#1083;&#1080;.ppt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130480"/>
            <a:ext cx="798984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ЛОВАРНЫЙ ДИКТАНТ №2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ШКОЛ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2293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0364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141720"/>
            <a:ext cx="6019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Мальч  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32004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03640" y="429264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987640" y="299736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90792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72360" y="404640"/>
            <a:ext cx="1549440" cy="252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76360" y="407664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2852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85264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068640"/>
            <a:ext cx="7467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к    р    ндаш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76720" y="2852640"/>
            <a:ext cx="2286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149720"/>
            <a:ext cx="99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732720" y="4941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3059280" y="501336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9079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716360" y="476280"/>
            <a:ext cx="3924360" cy="1952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8436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3213000"/>
            <a:ext cx="6019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т   трад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32004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422100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00720" y="306864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rcRect l="5778" t="22783" r="4627" b="22755"/>
          <a:stretch/>
        </p:blipFill>
        <p:spPr>
          <a:xfrm>
            <a:off x="4643280" y="333360"/>
            <a:ext cx="4248360" cy="258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8436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0" r="0" b="4606"/>
          <a:stretch/>
        </p:blipFill>
        <p:spPr>
          <a:xfrm>
            <a:off x="4356000" y="260280"/>
            <a:ext cx="4502160" cy="2664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692360" y="3213000"/>
            <a:ext cx="60195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Д   журны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32004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422100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500720" y="306864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836640"/>
            <a:ext cx="487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6400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141720"/>
            <a:ext cx="7129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Б   бл     те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306864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324000" y="443700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4437000"/>
            <a:ext cx="990360" cy="838440"/>
          </a:xfrm>
          <a:custGeom>
            <a:avLst/>
            <a:gdLst>
              <a:gd name="textAreaLeft" fmla="*/ 54360 w 990360"/>
              <a:gd name="textAreaRight" fmla="*/ 936000 w 9903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12" h="21600">
                <a:moveTo>
                  <a:pt x="0" y="0"/>
                </a:moveTo>
                <a:lnTo>
                  <a:pt x="25512" y="0"/>
                </a:lnTo>
                <a:lnTo>
                  <a:pt x="25512" y="21600"/>
                </a:lnTo>
                <a:lnTo>
                  <a:pt x="0" y="21600"/>
                </a:lnTo>
                <a:close/>
              </a:path>
              <a:path fill="lightenLess" w="25512" h="21600">
                <a:moveTo>
                  <a:pt x="0" y="0"/>
                </a:moveTo>
                <a:lnTo>
                  <a:pt x="25512" y="0"/>
                </a:lnTo>
                <a:lnTo>
                  <a:pt x="24112" y="1400"/>
                </a:lnTo>
                <a:lnTo>
                  <a:pt x="1400" y="1400"/>
                </a:lnTo>
                <a:close/>
              </a:path>
              <a:path fill="darken" w="25512" h="21600">
                <a:moveTo>
                  <a:pt x="25512" y="0"/>
                </a:moveTo>
                <a:lnTo>
                  <a:pt x="25512" y="21600"/>
                </a:lnTo>
                <a:lnTo>
                  <a:pt x="24112" y="20200"/>
                </a:lnTo>
                <a:lnTo>
                  <a:pt x="24112" y="1400"/>
                </a:lnTo>
                <a:close/>
              </a:path>
              <a:path fill="darkenLess" w="25512" h="21600">
                <a:moveTo>
                  <a:pt x="25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12" y="20200"/>
                </a:lnTo>
                <a:close/>
              </a:path>
              <a:path fill="lighten" w="25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4365720"/>
            <a:ext cx="504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877080" y="299736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112536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4365720"/>
            <a:ext cx="57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4292640"/>
            <a:ext cx="792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3198960" y="5373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0560" y="537372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219640" y="620640"/>
            <a:ext cx="2881440" cy="215748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6588000" y="443700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9600" y="443700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66680" y="3581280"/>
            <a:ext cx="5867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Verdana"/>
              </a:rPr>
              <a:t>р   бя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 flipH="1">
            <a:off x="3708000" y="3357720"/>
            <a:ext cx="30492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692360" y="4724280"/>
            <a:ext cx="99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>
            <a:hlinkClick r:id="rId2" action="ppaction://hlinksldjump"/>
          </p:cNvPr>
          <p:cNvSpPr/>
          <p:nvPr/>
        </p:nvSpPr>
        <p:spPr>
          <a:xfrm>
            <a:off x="3352680" y="5334120"/>
            <a:ext cx="914400" cy="9903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360"/>
              <a:gd name="textAreaBottom" fmla="*/ 931320 h 990360"/>
            </a:gdLst>
            <a:ahLst/>
            <a:rect l="textAreaLeft" t="textAreaTop" r="textAreaRight" b="textAreaBottom"/>
            <a:pathLst>
              <a:path w="21600" h="23394">
                <a:moveTo>
                  <a:pt x="0" y="0"/>
                </a:moveTo>
                <a:lnTo>
                  <a:pt x="21600" y="0"/>
                </a:lnTo>
                <a:lnTo>
                  <a:pt x="21600" y="23394"/>
                </a:lnTo>
                <a:lnTo>
                  <a:pt x="0" y="23394"/>
                </a:lnTo>
                <a:close/>
              </a:path>
              <a:path fill="lightenLess" w="21600" h="23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4">
                <a:moveTo>
                  <a:pt x="21600" y="0"/>
                </a:moveTo>
                <a:lnTo>
                  <a:pt x="21600" y="23394"/>
                </a:lnTo>
                <a:lnTo>
                  <a:pt x="20200" y="21994"/>
                </a:lnTo>
                <a:lnTo>
                  <a:pt x="20200" y="1400"/>
                </a:lnTo>
                <a:close/>
              </a:path>
              <a:path fill="darkenLess" w="21600" h="23394">
                <a:moveTo>
                  <a:pt x="21600" y="23394"/>
                </a:moveTo>
                <a:lnTo>
                  <a:pt x="0" y="23394"/>
                </a:lnTo>
                <a:lnTo>
                  <a:pt x="1400" y="21994"/>
                </a:lnTo>
                <a:lnTo>
                  <a:pt x="20200" y="21994"/>
                </a:lnTo>
                <a:close/>
              </a:path>
              <a:path fill="lighten" w="21600" h="23394">
                <a:moveTo>
                  <a:pt x="0" y="23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752480" y="5334120"/>
            <a:ext cx="838440" cy="99036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90360"/>
              <a:gd name="textAreaBottom" fmla="*/ 936000 h 990360"/>
            </a:gdLst>
            <a:ahLst/>
            <a:rect l="textAreaLeft" t="textAreaTop" r="textAreaRight" b="textAreaBottom"/>
            <a:pathLst>
              <a:path w="21600" h="25512">
                <a:moveTo>
                  <a:pt x="0" y="0"/>
                </a:moveTo>
                <a:lnTo>
                  <a:pt x="21600" y="0"/>
                </a:lnTo>
                <a:lnTo>
                  <a:pt x="21600" y="25512"/>
                </a:lnTo>
                <a:lnTo>
                  <a:pt x="0" y="25512"/>
                </a:lnTo>
                <a:close/>
              </a:path>
              <a:path fill="lightenLess" w="21600" h="255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12">
                <a:moveTo>
                  <a:pt x="21600" y="0"/>
                </a:moveTo>
                <a:lnTo>
                  <a:pt x="21600" y="25512"/>
                </a:lnTo>
                <a:lnTo>
                  <a:pt x="20200" y="24112"/>
                </a:lnTo>
                <a:lnTo>
                  <a:pt x="20200" y="1400"/>
                </a:lnTo>
                <a:close/>
              </a:path>
              <a:path fill="darkenLess" w="21600" h="25512">
                <a:moveTo>
                  <a:pt x="21600" y="25512"/>
                </a:moveTo>
                <a:lnTo>
                  <a:pt x="0" y="25512"/>
                </a:lnTo>
                <a:lnTo>
                  <a:pt x="1400" y="24112"/>
                </a:lnTo>
                <a:lnTo>
                  <a:pt x="20200" y="24112"/>
                </a:lnTo>
                <a:close/>
              </a:path>
              <a:path fill="lighten" w="21600" h="25512">
                <a:moveTo>
                  <a:pt x="0" y="255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835280" y="3429000"/>
            <a:ext cx="121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12193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0" y="836640"/>
            <a:ext cx="3529080" cy="237024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5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35280" y="2924280"/>
            <a:ext cx="51055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bbe0e3"/>
                </a:solidFill>
                <a:latin typeface="Arial"/>
              </a:rPr>
              <a:t>п   на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3276720" y="5410080"/>
            <a:ext cx="1131840" cy="914400"/>
          </a:xfrm>
          <a:custGeom>
            <a:avLst/>
            <a:gdLst>
              <a:gd name="textAreaLeft" fmla="*/ 59040 w 1131840"/>
              <a:gd name="textAreaRight" fmla="*/ 1072800 w 1131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734" h="21600">
                <a:moveTo>
                  <a:pt x="0" y="0"/>
                </a:moveTo>
                <a:lnTo>
                  <a:pt x="26734" y="0"/>
                </a:lnTo>
                <a:lnTo>
                  <a:pt x="26734" y="21600"/>
                </a:lnTo>
                <a:lnTo>
                  <a:pt x="0" y="21600"/>
                </a:lnTo>
                <a:close/>
              </a:path>
              <a:path fill="lightenLess" w="26734" h="21600">
                <a:moveTo>
                  <a:pt x="0" y="0"/>
                </a:moveTo>
                <a:lnTo>
                  <a:pt x="26734" y="0"/>
                </a:lnTo>
                <a:lnTo>
                  <a:pt x="25334" y="1400"/>
                </a:lnTo>
                <a:lnTo>
                  <a:pt x="1400" y="1400"/>
                </a:lnTo>
                <a:close/>
              </a:path>
              <a:path fill="darken" w="26734" h="21600">
                <a:moveTo>
                  <a:pt x="26734" y="0"/>
                </a:moveTo>
                <a:lnTo>
                  <a:pt x="26734" y="21600"/>
                </a:lnTo>
                <a:lnTo>
                  <a:pt x="25334" y="20200"/>
                </a:lnTo>
                <a:lnTo>
                  <a:pt x="25334" y="1400"/>
                </a:lnTo>
                <a:close/>
              </a:path>
              <a:path fill="darkenLess" w="26734" h="21600">
                <a:moveTo>
                  <a:pt x="26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34" y="20200"/>
                </a:lnTo>
                <a:close/>
              </a:path>
              <a:path fill="lighten" w="26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4100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407664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084720" y="278136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285264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9907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1280" y="54936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79640" y="3213000"/>
            <a:ext cx="1944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К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1763640" y="4941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4941720"/>
            <a:ext cx="1295640" cy="838440"/>
          </a:xfrm>
          <a:custGeom>
            <a:avLst/>
            <a:gdLst>
              <a:gd name="textAreaLeft" fmla="*/ 54360 w 1295640"/>
              <a:gd name="textAreaRight" fmla="*/ 1241280 w 1295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73" h="21600">
                <a:moveTo>
                  <a:pt x="0" y="0"/>
                </a:moveTo>
                <a:lnTo>
                  <a:pt x="33373" y="0"/>
                </a:lnTo>
                <a:lnTo>
                  <a:pt x="33373" y="21600"/>
                </a:lnTo>
                <a:lnTo>
                  <a:pt x="0" y="21600"/>
                </a:lnTo>
                <a:close/>
              </a:path>
              <a:path fill="lightenLess" w="33373" h="21600">
                <a:moveTo>
                  <a:pt x="0" y="0"/>
                </a:moveTo>
                <a:lnTo>
                  <a:pt x="33373" y="0"/>
                </a:lnTo>
                <a:lnTo>
                  <a:pt x="31973" y="1400"/>
                </a:lnTo>
                <a:lnTo>
                  <a:pt x="1400" y="1400"/>
                </a:lnTo>
                <a:close/>
              </a:path>
              <a:path fill="darken" w="33373" h="21600">
                <a:moveTo>
                  <a:pt x="33373" y="0"/>
                </a:moveTo>
                <a:lnTo>
                  <a:pt x="33373" y="21600"/>
                </a:lnTo>
                <a:lnTo>
                  <a:pt x="31973" y="20200"/>
                </a:lnTo>
                <a:lnTo>
                  <a:pt x="31973" y="1400"/>
                </a:lnTo>
                <a:close/>
              </a:path>
              <a:path fill="darkenLess" w="33373" h="21600">
                <a:moveTo>
                  <a:pt x="33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3" y="20200"/>
                </a:lnTo>
                <a:close/>
              </a:path>
              <a:path fill="lighten" w="33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29973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с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422100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889440" cy="25956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16000" y="2133720"/>
            <a:ext cx="7489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МОЛОДЦЫ!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76320" y="3645000"/>
            <a:ext cx="68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gra-anekdot.ru/ris/uchitel6/uchitel6-0003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учитель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933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imashki.net/uploads/cat-1141612970/c5d63049d389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карандаши-кот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6160" y="4437000"/>
            <a:ext cx="80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hymn.ru/anthem-russia-2000- exercise_book_rus_school_doublelined_12pages_2006-cover-with-anthem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2276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.o-kidworld.ru/img/cover_penal-odnostvorchatyi-dyn_350_350_404018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пе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5300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oipkro.kostroma.ru/Kostroma_EDU/Kos_sch_36/DocLib/%D1%83%D1%87%D0%B5%D0%BD%D0%B8%D0%BA%20%D0%B7%D0%B0%20%D0%BF%D0%B0%D1%80%D1%82%D0%BE%D0%B9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6520" y="1989000"/>
            <a:ext cx="52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mayli.ru/data/smiles/detia-741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дев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5800" y="1700280"/>
            <a:ext cx="52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mayli.ru/data/smiles/detia-569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ма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5800" y="134136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lipetsktime.ru/photo/news/1_243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48680" y="3284640"/>
            <a:ext cx="66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funforkids.ru/pictures/school23/school2311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деж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6880" y="98100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gazeta.a42.ru/images/lenta/372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школьны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0200" y="58680"/>
            <a:ext cx="441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48680" y="2924280"/>
            <a:ext cx="60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unforkids.ru/pictures/school3/school0301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492280"/>
            <a:ext cx="6324480" cy="13129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Уч   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2421000"/>
            <a:ext cx="10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51055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2743200" y="510552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81280" y="22096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3716280"/>
            <a:ext cx="99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7650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765000"/>
            <a:ext cx="4067280" cy="403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2997360"/>
            <a:ext cx="7275240" cy="11912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be0e3"/>
                </a:solidFill>
                <a:latin typeface="Arial"/>
              </a:rPr>
              <a:t>Учит   льниц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85264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4653000"/>
            <a:ext cx="761760" cy="9144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26">
                <a:moveTo>
                  <a:pt x="0" y="0"/>
                </a:moveTo>
                <a:lnTo>
                  <a:pt x="21600" y="0"/>
                </a:lnTo>
                <a:lnTo>
                  <a:pt x="21600" y="25926"/>
                </a:lnTo>
                <a:lnTo>
                  <a:pt x="0" y="25926"/>
                </a:lnTo>
                <a:close/>
              </a:path>
              <a:path fill="lightenLess" w="21600" h="25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6">
                <a:moveTo>
                  <a:pt x="21600" y="0"/>
                </a:moveTo>
                <a:lnTo>
                  <a:pt x="21600" y="25926"/>
                </a:lnTo>
                <a:lnTo>
                  <a:pt x="20200" y="24526"/>
                </a:lnTo>
                <a:lnTo>
                  <a:pt x="20200" y="1400"/>
                </a:lnTo>
                <a:close/>
              </a:path>
              <a:path fill="darkenLess" w="21600" h="25926">
                <a:moveTo>
                  <a:pt x="21600" y="25926"/>
                </a:moveTo>
                <a:lnTo>
                  <a:pt x="0" y="25926"/>
                </a:lnTo>
                <a:lnTo>
                  <a:pt x="1400" y="24526"/>
                </a:lnTo>
                <a:lnTo>
                  <a:pt x="20200" y="24526"/>
                </a:lnTo>
                <a:close/>
              </a:path>
              <a:path fill="lighten" w="21600" h="25926">
                <a:moveTo>
                  <a:pt x="0" y="25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924360" y="458136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63640" y="278136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076640"/>
            <a:ext cx="99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69228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227640" y="189000"/>
            <a:ext cx="2664000" cy="3384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708360" y="3068640"/>
            <a:ext cx="99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3141720"/>
            <a:ext cx="60199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be0e3"/>
                </a:solidFill>
                <a:latin typeface="Arial"/>
              </a:rPr>
              <a:t>Дев  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32004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5157720"/>
            <a:ext cx="990720" cy="838440"/>
          </a:xfrm>
          <a:custGeom>
            <a:avLst/>
            <a:gdLst>
              <a:gd name="textAreaLeft" fmla="*/ 54360 w 990720"/>
              <a:gd name="textAreaRight" fmla="*/ 936360 w 9907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5521" h="21600">
                <a:moveTo>
                  <a:pt x="0" y="0"/>
                </a:moveTo>
                <a:lnTo>
                  <a:pt x="25521" y="0"/>
                </a:lnTo>
                <a:lnTo>
                  <a:pt x="25521" y="21600"/>
                </a:lnTo>
                <a:lnTo>
                  <a:pt x="0" y="21600"/>
                </a:lnTo>
                <a:close/>
              </a:path>
              <a:path fill="lightenLess" w="25521" h="21600">
                <a:moveTo>
                  <a:pt x="0" y="0"/>
                </a:moveTo>
                <a:lnTo>
                  <a:pt x="25521" y="0"/>
                </a:lnTo>
                <a:lnTo>
                  <a:pt x="24121" y="1400"/>
                </a:lnTo>
                <a:lnTo>
                  <a:pt x="1400" y="1400"/>
                </a:lnTo>
                <a:close/>
              </a:path>
              <a:path fill="darken" w="25521" h="21600">
                <a:moveTo>
                  <a:pt x="25521" y="0"/>
                </a:moveTo>
                <a:lnTo>
                  <a:pt x="25521" y="21600"/>
                </a:lnTo>
                <a:lnTo>
                  <a:pt x="24121" y="20200"/>
                </a:lnTo>
                <a:lnTo>
                  <a:pt x="24121" y="1400"/>
                </a:lnTo>
                <a:close/>
              </a:path>
              <a:path fill="darkenLess" w="25521" h="21600">
                <a:moveTo>
                  <a:pt x="255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1" y="20200"/>
                </a:lnTo>
                <a:close/>
              </a:path>
              <a:path fill="lighten" w="255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4292640"/>
            <a:ext cx="792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987640" y="299736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83808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867280" y="692280"/>
            <a:ext cx="2057400" cy="2376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67640" y="6291360"/>
            <a:ext cx="576360" cy="566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413000"/>
            <a:ext cx="4751280" cy="4676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65480" y="90792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дётся ещё поуч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08:28Z</dcterms:created>
  <dc:creator>server</dc:creator>
  <dc:description/>
  <dc:language>en-US</dc:language>
  <cp:lastModifiedBy>Admin</cp:lastModifiedBy>
  <dcterms:modified xsi:type="dcterms:W3CDTF">2012-06-12T14:08:31Z</dcterms:modified>
  <cp:revision>8</cp:revision>
  <dc:subject/>
  <dc:title>Голубая</dc:title>
</cp:coreProperties>
</file>