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A86-43D1-4D16-8E14-6AE6CF44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AD7-D465-4862-A808-41E6EB77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A02-D343-4828-A3BC-E597EC82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941-CD1A-4563-B922-889560E1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8372-9448-4E07-8BD6-77376150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99B2-B2CD-4DEB-A8E5-0EE7AE9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AB9D-F880-4F5C-BB06-A0625380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05E6-2D8F-4783-AE1C-C9675B7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E6AD-030D-4511-8D2C-49B487D1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2D8D-BCDA-44F1-91F8-5C765153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71A2-2D8F-4A27-A041-46979B7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883-9669-4BEF-8404-BD356538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9B75-1B05-4262-884F-26B00A6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FF4F-E33B-4DD5-A225-4059F4C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B3B2-8CAF-43E2-857B-B0986447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2E2B-70BA-4E80-AFE9-926FD93C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7BDA-E3AA-4E04-BE75-C0432E79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717-5847-4463-B826-44E1228E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E28-7041-494A-A624-111A2BF1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29B-7EE2-494E-ADBC-B791C0A3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DFE-4800-40AD-B680-F2F3DD3C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595-2471-4D43-97D9-9CE8F99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9F4-4486-4442-9B00-0FD084DC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7B5-494B-4FAF-9EF1-52A8C1C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AF0-950E-4A7C-9EB0-C9B17E121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87A3-C5ED-404C-881A-96AA8AE61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stavki.com/pictures/1280x800/2009/World_Russia_Symbol_of_Moscow_018440_.jpg" TargetMode="External"/><Relationship Id="rId3" Type="http://schemas.openxmlformats.org/officeDocument/2006/relationships/hyperlink" Target="http://my-shop.ru/_files/product/2/36/353376.jpg" TargetMode="External"/><Relationship Id="rId4" Type="http://schemas.openxmlformats.org/officeDocument/2006/relationships/hyperlink" Target="http://www.ruslania.com/pictures/big/9785358084865.jpg" TargetMode="External"/><Relationship Id="rId5" Type="http://schemas.openxmlformats.org/officeDocument/2006/relationships/hyperlink" Target="http://img0.liveinternet.ru/images/attach/c/2/73/359/73359774_TOLPA___1000.jpg" TargetMode="External"/><Relationship Id="rId6" Type="http://schemas.openxmlformats.org/officeDocument/2006/relationships/hyperlink" Target="http://www.stihi.ru/pics/2010/10/25/8031.jpg" TargetMode="External"/><Relationship Id="rId7" Type="http://schemas.openxmlformats.org/officeDocument/2006/relationships/hyperlink" Target="http://visarun.net/uploads/posts/2011-03/1299157635_35.jpg" TargetMode="External"/><Relationship Id="rId8" Type="http://schemas.openxmlformats.org/officeDocument/2006/relationships/hyperlink" Target="http://kaifolog.ru/uploads/posts/2009-12/thumbs/1260790122_005_2.jpg" TargetMode="External"/><Relationship Id="rId9" Type="http://schemas.openxmlformats.org/officeDocument/2006/relationships/hyperlink" Target="http://ngrad.ru/wp-content/uploads/2010/10/65.jpeg" TargetMode="External"/><Relationship Id="rId10" Type="http://schemas.openxmlformats.org/officeDocument/2006/relationships/hyperlink" Target="http://www.artsides.ru/big/item_2624.jpg" TargetMode="External"/><Relationship Id="rId11" Type="http://schemas.openxmlformats.org/officeDocument/2006/relationships/hyperlink" Target="http://r.foto.radikal.ru/0703/330f8657e901.jpg" TargetMode="External"/><Relationship Id="rId12" Type="http://schemas.openxmlformats.org/officeDocument/2006/relationships/hyperlink" Target="http://murmansk.kp.ru/f/12/image/75/90/2379075.jpg" TargetMode="External"/><Relationship Id="rId13" Type="http://schemas.openxmlformats.org/officeDocument/2006/relationships/hyperlink" Target="http://albertgeist.com/uploads/posts/2010-05/1273700946_rossiy.jpg" TargetMode="External"/><Relationship Id="rId14" Type="http://schemas.openxmlformats.org/officeDocument/2006/relationships/hyperlink" Target="http://100dorog.ru/upload/contents/434/1895-1.jpg" TargetMode="External"/><Relationship Id="rId15" Type="http://schemas.openxmlformats.org/officeDocument/2006/relationships/hyperlink" Target="http://img1.liveinternet.ru/images/attach/b/3/22/409/22409102_CapitolBuilding.jpg" TargetMode="External"/><Relationship Id="rId16" Type="http://schemas.openxmlformats.org/officeDocument/2006/relationships/hyperlink" Target="http://lib.deport.ru/slovar/bes/m/moskva.html" TargetMode="External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iskslov.com/word/&#1090;&#1086;&#1074;&#1072;&#1088;&#1080;&#1097;/" TargetMode="External"/><Relationship Id="rId3" Type="http://schemas.openxmlformats.org/officeDocument/2006/relationships/hyperlink" Target="http://poiskslov.com/word/&#1088;&#1086;&#1089;&#1089;&#1080;&#1103;/" TargetMode="External"/><Relationship Id="rId4" Type="http://schemas.openxmlformats.org/officeDocument/2006/relationships/hyperlink" Target="http://poiskslov.com/word/&#1088;&#1091;&#1089;&#1089;&#1082;&#1080;&#1081;/" TargetMode="External"/><Relationship Id="rId5" Type="http://schemas.openxmlformats.org/officeDocument/2006/relationships/hyperlink" Target="http://poiskslov.com/word/&#1092;&#1072;&#1084;&#1080;&#1083;&#1080;&#1103;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8280" y="155736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Georgia"/>
              </a:rPr>
              <a:t>Словарный диктант №</a:t>
            </a:r>
            <a:r>
              <a:rPr b="1" lang="en-US" sz="4800" spc="-1" strike="noStrike">
                <a:solidFill>
                  <a:srgbClr val="006600"/>
                </a:solidFill>
                <a:latin typeface="Georgi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006600"/>
                </a:solidFill>
                <a:latin typeface="Georgia"/>
              </a:rPr>
              <a:t>«Родин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eorgia"/>
              </a:rPr>
              <a:t>Выполнила учитель начальных классов МОУ СОШ №2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278136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43280" y="551664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00000" y="5013360"/>
            <a:ext cx="763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ру     кий 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5805360"/>
            <a:ext cx="57492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276720" y="2421000"/>
            <a:ext cx="3050640" cy="2880720"/>
            <a:chOff x="3276720" y="2421000"/>
            <a:chExt cx="3050640" cy="2880720"/>
          </a:xfrm>
        </p:grpSpPr>
        <p:grpSp>
          <p:nvGrpSpPr>
            <p:cNvPr id="164" name=""/>
            <p:cNvGrpSpPr/>
            <p:nvPr/>
          </p:nvGrpSpPr>
          <p:grpSpPr>
            <a:xfrm>
              <a:off x="3276720" y="2421000"/>
              <a:ext cx="3050640" cy="2880720"/>
              <a:chOff x="3276720" y="2421000"/>
              <a:chExt cx="3050640" cy="2880720"/>
            </a:xfrm>
          </p:grpSpPr>
          <p:pic>
            <p:nvPicPr>
              <p:cNvPr id="165" name="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4860720" y="3285720"/>
                <a:ext cx="1466640" cy="20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421000"/>
                <a:ext cx="1523880" cy="203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"/>
            <p:cNvSpPr/>
            <p:nvPr/>
          </p:nvSpPr>
          <p:spPr>
            <a:xfrm>
              <a:off x="3348000" y="2709720"/>
              <a:ext cx="863280" cy="144000"/>
            </a:xfrm>
            <a:prstGeom prst="rect">
              <a:avLst/>
            </a:prstGeom>
            <a:solidFill>
              <a:srgbClr val="401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60720" y="3501720"/>
              <a:ext cx="863280" cy="144360"/>
            </a:xfrm>
            <a:prstGeom prst="rect">
              <a:avLst/>
            </a:prstGeom>
            <a:solidFill>
              <a:srgbClr val="00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95280" y="26028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5b6b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Относящийся к Руси</a:t>
            </a:r>
            <a:r>
              <a:rPr b="1" lang="ru-RU" sz="2800" spc="-1" strike="noStrike">
                <a:solidFill>
                  <a:srgbClr val="5b6b00"/>
                </a:solidFill>
                <a:latin typeface="Georgia"/>
              </a:rPr>
              <a:t>, её языку</a:t>
            </a: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, связанный с </a:t>
            </a:r>
            <a:r>
              <a:rPr b="1" lang="ru-RU" sz="2800" spc="-1" strike="noStrike">
                <a:solidFill>
                  <a:srgbClr val="5b6b00"/>
                </a:solidFill>
                <a:latin typeface="Georgia"/>
              </a:rPr>
              <a:t>ней</a:t>
            </a: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2) Свойственный</a:t>
            </a:r>
            <a:r>
              <a:rPr b="1" lang="ru-RU" sz="2800" spc="-1" strike="noStrike">
                <a:solidFill>
                  <a:srgbClr val="5b6b00"/>
                </a:solidFill>
                <a:latin typeface="Georgia"/>
              </a:rPr>
              <a:t>…</a:t>
            </a: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, характерный для  Ру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3) Принадлежащий Руси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.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4) Созданный, выведенный на Руси</a:t>
            </a:r>
            <a:r>
              <a:rPr b="1" lang="ru-RU" sz="2800" spc="-1" strike="noStrike">
                <a:solidFill>
                  <a:srgbClr val="5b6b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050920" y="551664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5229360"/>
            <a:ext cx="7848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ф  мил  я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5950080"/>
            <a:ext cx="574560" cy="57600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48000" y="2565360"/>
            <a:ext cx="2521080" cy="2521080"/>
            <a:chOff x="3348000" y="2565360"/>
            <a:chExt cx="2521080" cy="25210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rcRect l="0" t="0" r="-1391" b="56060"/>
            <a:stretch/>
          </p:blipFill>
          <p:spPr>
            <a:xfrm>
              <a:off x="3348000" y="2565360"/>
              <a:ext cx="2521080" cy="1360440"/>
            </a:xfrm>
            <a:prstGeom prst="rect">
              <a:avLst/>
            </a:prstGeom>
            <a:ln w="76320">
              <a:solidFill>
                <a:srgbClr val="5b6b00"/>
              </a:solidFill>
              <a:miter/>
            </a:ln>
          </p:spPr>
        </p:pic>
        <p:pic>
          <p:nvPicPr>
            <p:cNvPr id="176" name="" descr="">
              <a:hlinkClick r:id="rId3"/>
            </p:cNvPr>
            <p:cNvPicPr/>
            <p:nvPr/>
          </p:nvPicPr>
          <p:blipFill>
            <a:blip r:embed="rId4"/>
            <a:srcRect l="0" t="56060" r="0" b="6453"/>
            <a:stretch/>
          </p:blipFill>
          <p:spPr>
            <a:xfrm>
              <a:off x="3350520" y="3925800"/>
              <a:ext cx="2486160" cy="1160640"/>
            </a:xfrm>
            <a:prstGeom prst="rect">
              <a:avLst/>
            </a:prstGeom>
            <a:ln w="76320">
              <a:solidFill>
                <a:srgbClr val="5b6b00"/>
              </a:solidFill>
              <a:miter/>
            </a:ln>
          </p:spPr>
        </p:pic>
      </p:grpSp>
      <p:sp>
        <p:nvSpPr>
          <p:cNvPr id="177" name=""/>
          <p:cNvSpPr/>
          <p:nvPr/>
        </p:nvSpPr>
        <p:spPr>
          <a:xfrm>
            <a:off x="250920" y="189000"/>
            <a:ext cx="88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5b6b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Наследственное семейное наименование, прибавляемое к личному имени и переходящее от отца к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Georgia"/>
              </a:rPr>
              <a:t>2) Ряд поколений, происходящих от одного предка.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88000" y="5589720"/>
            <a:ext cx="93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6732720" y="587700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68360" y="2133720"/>
            <a:ext cx="8496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595f25"/>
                  </a:solidFill>
                  <a:miter/>
                </a:ln>
                <a:solidFill>
                  <a:srgbClr val="808000"/>
                </a:solidFill>
                <a:effectLst>
                  <a:outerShdw dist="125751" dir="18900000" blurRad="0" rotWithShape="0">
                    <a:srgbClr val="cedb6b"/>
                  </a:outerShdw>
                </a:effectLst>
                <a:latin typeface="Georgia"/>
              </a:rPr>
              <a:t>МОЛОДЦЫ!</a:t>
            </a:r>
            <a:endParaRPr b="1" lang="en-US" sz="6600" spc="1" strike="noStrike">
              <a:ln w="12600">
                <a:solidFill>
                  <a:srgbClr val="595f25"/>
                </a:solidFill>
                <a:miter/>
              </a:ln>
              <a:solidFill>
                <a:srgbClr val="808000"/>
              </a:solidFill>
              <a:effectLst>
                <a:outerShdw dist="125751" dir="18900000" blurRad="0" rotWithShape="0">
                  <a:srgbClr val="cedb6b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6280"/>
            <a:ext cx="90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2"/>
              </a:rPr>
              <a:t>http://www.zastavki.com/pictures/1280x800/2009/World_Russia_Symbol_of_Moscow_018440_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052640"/>
            <a:ext cx="84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3"/>
              </a:rPr>
              <a:t>http://my-shop.ru/_files/product/2/36/35337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учебник 2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60" y="1341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4"/>
              </a:rPr>
              <a:t>http://www.ruslania.com/pictures/big/97853580848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учебник 1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60" y="1628640"/>
            <a:ext cx="91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5"/>
              </a:rPr>
              <a:t>http://img0.liveinternet.ru/images/attach/c/2/73/359/73359774_TOLPA___10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205000"/>
            <a:ext cx="70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6"/>
              </a:rPr>
              <a:t>http://www.stihi.ru/pics/2010/10/25/803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492280"/>
            <a:ext cx="92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7"/>
              </a:rPr>
              <a:t>http://visarun.net/uploads/posts/2011-03/1299157635_3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60" y="2781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8"/>
              </a:rPr>
              <a:t>http://kaifolog.ru/uploads/posts/2009-12/thumbs/1260790122_005_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фам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869000"/>
            <a:ext cx="78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9"/>
              </a:rPr>
              <a:t>http://ngrad.ru/wp-content/uploads/2010/10/6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5772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0"/>
              </a:rPr>
              <a:t>http://www.artsides.ru/big/item_26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вар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445000"/>
            <a:ext cx="74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1"/>
              </a:rPr>
              <a:t>http://r.foto.radikal.ru/0703/330f8657e9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661000"/>
            <a:ext cx="84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2"/>
              </a:rPr>
              <a:t>http://murmansk.kp.ru/f/12/image/75/90/237907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68640"/>
            <a:ext cx="91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3"/>
              </a:rPr>
              <a:t>http://albertgeist.com/uploads/posts/2010-05/1273700946_rossiy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16560" y="3860640"/>
            <a:ext cx="62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4"/>
              </a:rPr>
              <a:t>http://100dorog.ru/upload/contents/434/1895-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5"/>
              </a:rPr>
              <a:t>http://img1.liveinternet.ru/images/attach/b/3/22/409/22409102_CapitolBuilding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ашинг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" y="4122720"/>
            <a:ext cx="66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16"/>
              </a:rPr>
              <a:t>http://lib.deport.ru/slovar/bes/m/moskv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38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iskslov.com/word/%D0%BD%D0%B0%D1%80%D0%BE%D0%B4/ - значение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80" y="5950080"/>
            <a:ext cx="85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iskslov.com/word/%D1%8F%D0%B7%D1%8B%D0%BA/ - значение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iskslov.com/word/%D0%B3%D0%BE%D1%80%D0%BE%D0%B4/ - значение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2"/>
              </a:rPr>
              <a:t>http://poiskslov.com/word/%D1%82%D0%BE%D0%B2%D0%B0%D1%80%D0%B8%D1%8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товар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3"/>
              </a:rPr>
              <a:t>http://poiskslov.com/word/%D1%80%D0%BE%D1%81%D1%81%D0%B8%D1%8F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4"/>
              </a:rPr>
              <a:t>http://poiskslov.com/word/%D1%80%D1%83%D1%81%D1%81%D0%BA%D0%B8%D0%B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значение рус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5"/>
              </a:rPr>
              <a:t>http://poiskslov.com/word/%D1%84%D0%B0%D0%BC%D0%B8%D0%BB%D0%B8%D1%8F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ам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iskslov.com/word/%D1%81%D1%82%D0%BE%D0%BB%D0%B8%D1%86%D0%B0/ - значение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43280" y="537372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00000" y="553392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н   род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587700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ced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02120"/>
            <a:ext cx="8964720" cy="1922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e7efb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5b6b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Население, объединенное принадлежностью к одному государству; жители страны.</a:t>
            </a: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2) То же, что: нация, национальнос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3) Основная часть трудящегося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4) То же, что: люди</a:t>
            </a:r>
            <a:r>
              <a:rPr b="0" lang="ru-RU" sz="24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672000" cy="2774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24000" y="1844640"/>
            <a:ext cx="4967280" cy="31053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84464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5084640"/>
            <a:ext cx="18716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95640" y="5722920"/>
            <a:ext cx="43927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сква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62085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ced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62085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ced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487080"/>
            <a:ext cx="70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С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толица Российской Федерации, город-герой, 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областной центр.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700360" y="5805360"/>
            <a:ext cx="122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5805360"/>
            <a:ext cx="9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553392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Род  на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ced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627280" y="2565360"/>
            <a:ext cx="4392720" cy="28526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1012680" cy="1224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41400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Страна, в которой кто-л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ибо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родился и гражданином которой явля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34136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Место рождения, происхождения кого-чего-н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ибудь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, возникновения чего-н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ибудь.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206064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43280" y="551664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00000" y="553392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ст  лица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587700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1944720" cy="130644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003640" y="2997360"/>
            <a:ext cx="1336680" cy="194436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340000" y="2492280"/>
            <a:ext cx="2376360" cy="159696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pic>
        <p:nvPicPr>
          <p:cNvPr id="1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3573360"/>
            <a:ext cx="2311200" cy="173376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68360" y="333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Главный город государства, как правило, местопребывания правительства и правительственных учрежд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278136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40000" y="5445000"/>
            <a:ext cx="14400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51280" y="5373720"/>
            <a:ext cx="453708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зык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132000" y="2492280"/>
            <a:ext cx="2637000" cy="2880000"/>
            <a:chOff x="3132000" y="2492280"/>
            <a:chExt cx="2637000" cy="2880000"/>
          </a:xfrm>
        </p:grpSpPr>
        <p:sp>
          <p:nvSpPr>
            <p:cNvPr id="121" name=""/>
            <p:cNvSpPr/>
            <p:nvPr/>
          </p:nvSpPr>
          <p:spPr>
            <a:xfrm rot="1387800">
              <a:off x="3518640" y="3501000"/>
              <a:ext cx="388080" cy="1327320"/>
            </a:xfrm>
            <a:prstGeom prst="ellipse">
              <a:avLst/>
            </a:prstGeom>
            <a:solidFill>
              <a:srgbClr val="e7e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37800">
              <a:off x="4361040" y="3546000"/>
              <a:ext cx="388080" cy="1539360"/>
            </a:xfrm>
            <a:prstGeom prst="ellipse">
              <a:avLst/>
            </a:prstGeom>
            <a:solidFill>
              <a:srgbClr val="e7e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3132000" y="2492280"/>
              <a:ext cx="2637000" cy="2880000"/>
              <a:chOff x="3132000" y="2492280"/>
              <a:chExt cx="2637000" cy="2880000"/>
            </a:xfrm>
          </p:grpSpPr>
          <p:sp>
            <p:nvSpPr>
              <p:cNvPr id="124" name=""/>
              <p:cNvSpPr/>
              <p:nvPr/>
            </p:nvSpPr>
            <p:spPr>
              <a:xfrm>
                <a:off x="3852360" y="2971080"/>
                <a:ext cx="276840" cy="371160"/>
              </a:xfrm>
              <a:prstGeom prst="ellipse">
                <a:avLst/>
              </a:prstGeom>
              <a:solidFill>
                <a:srgbClr val="e7e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3560" y="3130200"/>
                <a:ext cx="276840" cy="371160"/>
              </a:xfrm>
              <a:prstGeom prst="ellipse">
                <a:avLst/>
              </a:prstGeom>
              <a:solidFill>
                <a:srgbClr val="e7e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73040" y="3076560"/>
                <a:ext cx="443160" cy="371160"/>
              </a:xfrm>
              <a:prstGeom prst="ellipse">
                <a:avLst/>
              </a:prstGeom>
              <a:solidFill>
                <a:srgbClr val="e7e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61480" y="3023640"/>
                <a:ext cx="497880" cy="477720"/>
              </a:xfrm>
              <a:prstGeom prst="ellipse">
                <a:avLst/>
              </a:prstGeom>
              <a:solidFill>
                <a:srgbClr val="e7e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3132000" y="2492280"/>
                <a:ext cx="2637000" cy="2880000"/>
                <a:chOff x="3132000" y="2492280"/>
                <a:chExt cx="2637000" cy="2880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018320" y="2652480"/>
                  <a:ext cx="443160" cy="264600"/>
                </a:xfrm>
                <a:prstGeom prst="ellipse">
                  <a:avLst/>
                </a:prstGeom>
                <a:solidFill>
                  <a:srgbClr val="e7e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37240" y="2705400"/>
                  <a:ext cx="443160" cy="264600"/>
                </a:xfrm>
                <a:prstGeom prst="ellipse">
                  <a:avLst/>
                </a:prstGeom>
                <a:solidFill>
                  <a:srgbClr val="e7e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31" name="" descr="">
                  <a:hlinkClick r:id="rId2"/>
                </p:cNvPr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2000" y="2492280"/>
                  <a:ext cx="2637000" cy="288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32" name=""/>
          <p:cNvSpPr/>
          <p:nvPr/>
        </p:nvSpPr>
        <p:spPr>
          <a:xfrm>
            <a:off x="250920" y="1965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eorgia"/>
              </a:rPr>
              <a:t>Орган в полости рта в виде подвижного мягкого выроста, являющийся органом вкуса, а у человека способствующий также образованию звуков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73240" y="198900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Georgia"/>
              </a:rPr>
              <a:t>Кушанье из языка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341360"/>
            <a:ext cx="86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Способность говорить, выражать словесно свои мысли</a:t>
            </a: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.</a:t>
            </a: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651640" y="5445000"/>
            <a:ext cx="936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47640" y="5533920"/>
            <a:ext cx="640908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гор  д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2"/>
          </p:cNvPr>
          <p:cNvPicPr/>
          <p:nvPr/>
        </p:nvPicPr>
        <p:blipFill>
          <a:blip r:embed="rId3"/>
          <a:srcRect l="2375" t="3450" r="2375" b="3450"/>
          <a:stretch/>
        </p:blipFill>
        <p:spPr>
          <a:xfrm>
            <a:off x="2843280" y="2492280"/>
            <a:ext cx="3960720" cy="264024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24000" y="3524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Georgia"/>
              </a:rPr>
              <a:t>Крупный населенный пункт, являющийся административным, промышленным, торговым и культурным центром района, области, округ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03280" y="551664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5533920"/>
            <a:ext cx="813744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т  вар  щ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5877000"/>
            <a:ext cx="57492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3680" y="2421000"/>
            <a:ext cx="2000160" cy="3029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200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724360" y="5589720"/>
            <a:ext cx="93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2577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Georgia"/>
              </a:rPr>
              <a:t>Тот, кто связан с кем-л. общей профессией, местом работы; колл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Georgia"/>
              </a:rPr>
              <a:t>) а) Тот, кто связан с кем-л. узами дружбы.</a:t>
            </a:r>
            <a:r>
              <a:rPr b="1" lang="en-US" sz="24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б) Тот, кто идейно связан с кем-л.; сорат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Georgia"/>
              </a:rPr>
              <a:t>) Тот, кто участвует в одном деле с кем-л.; </a:t>
            </a:r>
            <a:r>
              <a:rPr b="1" lang="en-US" sz="2000" spc="-1" strike="noStrike">
                <a:solidFill>
                  <a:srgbClr val="008000"/>
                </a:solidFill>
                <a:latin typeface="Georgia"/>
              </a:rPr>
              <a:t>компань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700360" y="5445000"/>
            <a:ext cx="9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100080"/>
            <a:ext cx="9144000" cy="288144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530064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580000" y="5533920"/>
            <a:ext cx="266400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ия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565360"/>
            <a:ext cx="4600440" cy="260676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3708360" y="5445000"/>
            <a:ext cx="180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3068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Г</a:t>
            </a: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осударство в восточной части Европы и в северной части Азии. 17 075,4 тыс. км2. Население 148,4 млн. Человек</a:t>
            </a: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. </a:t>
            </a: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Русские составляют 81,5%; проживает св. 100 народов. Большинство верующих - христиане, главным образом православные, остальные - мусульмане, буддисты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0:46:56Z</dcterms:created>
  <dc:creator>Admin</dc:creator>
  <dc:description/>
  <dc:language>en-US</dc:language>
  <cp:lastModifiedBy>Admin</cp:lastModifiedBy>
  <dcterms:modified xsi:type="dcterms:W3CDTF">2011-08-06T16:08:09Z</dcterms:modified>
  <cp:revision>7</cp:revision>
  <dc:subject/>
  <dc:title>Слайд 1</dc:title>
</cp:coreProperties>
</file>