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742B-E1B8-4D27-85D7-789717C9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8280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3BD-3493-46CE-9084-B86CC21A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696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26960" y="396432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5DEF-1AEA-45C5-92C0-E57F73FC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3720" y="160020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83800" y="160020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3720" y="396432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83800" y="396432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3941-FB71-4DE9-866D-7AECA323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23D1-9288-485D-B071-19A2CE1D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38D4-AF2A-4CEA-B4D0-ED8B7BCD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D89B-5D92-430A-BFC7-C7FE5393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404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6960" y="1600200"/>
            <a:ext cx="404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E912-75E4-4D43-BF9F-D640A782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6E75-5ABF-4993-B9A5-3E090EC5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56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2FA8-565F-4966-A675-2C082093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6960" y="1600200"/>
            <a:ext cx="404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6B53-49A6-4104-8186-E518916A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EB62-E9EF-4384-B67F-D62C11BC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404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696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26960" y="396432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63F5-87BF-46D9-8D0E-3446721F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696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8280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B955-42FE-4256-8A19-F3202519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4000" y="3964320"/>
            <a:ext cx="8280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5A6F-FD34-4ECA-B1AC-21A10360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696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26960" y="396432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8610-9C83-431F-B04B-0CF27F98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83720" y="160020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83800" y="160020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4000" y="396432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83720" y="396432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83800" y="3964320"/>
            <a:ext cx="266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8909-1B04-4A03-8004-6F3117A6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28D4-5944-4C42-9B6C-6C9CEA56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404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26960" y="1600200"/>
            <a:ext cx="404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39D-72B5-452B-99AC-28908E26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B50-3E41-4535-9BB3-9F3B30A0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03280" y="274320"/>
            <a:ext cx="7561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255-8F3E-4BD4-960A-13E4A65F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6960" y="1600200"/>
            <a:ext cx="404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1AEF-1670-4720-A1D1-5A70A0DC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404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696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26960" y="396432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2037-FEAF-4F3E-A19C-3ED4D078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6960" y="1600200"/>
            <a:ext cx="404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000" y="3964320"/>
            <a:ext cx="8280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2933-34A8-40A6-ABE3-354B7D1F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00" y="836640"/>
            <a:ext cx="8642160" cy="5832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213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70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8306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86EC-F757-4E30-94FC-423B96665CA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0000" cy="1440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4000" y="1600200"/>
            <a:ext cx="8280360" cy="452592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5283360" cy="528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3D65-E68C-4ACF-9BFF-791658705A9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zhurnal.lib.ru/img/e/elohin_p_w/constitution/copybooks.jpg" TargetMode="External"/><Relationship Id="rId2" Type="http://schemas.openxmlformats.org/officeDocument/2006/relationships/hyperlink" Target="http://school112.org.ru/u.png" TargetMode="External"/><Relationship Id="rId3" Type="http://schemas.openxmlformats.org/officeDocument/2006/relationships/hyperlink" Target="http://img.labirint.ru/images/books4/173012/scrn_big_1.jpg" TargetMode="External"/><Relationship Id="rId4" Type="http://schemas.openxmlformats.org/officeDocument/2006/relationships/hyperlink" Target="http://funforkids.ru/pictures/school5/school0558.gif" TargetMode="External"/><Relationship Id="rId5" Type="http://schemas.openxmlformats.org/officeDocument/2006/relationships/hyperlink" Target="http://funforkids.ru/pictures/school21/school2133.gif" TargetMode="External"/><Relationship Id="rId6" Type="http://schemas.openxmlformats.org/officeDocument/2006/relationships/hyperlink" Target="http://www.istockphoto.com/file_thumbview_approve/12128613/2/istockphoto_12128613-group-of-school-kids.jpg" TargetMode="External"/><Relationship Id="rId7" Type="http://schemas.openxmlformats.org/officeDocument/2006/relationships/hyperlink" Target="http://school112.org.ru/u.png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4160" y="115920"/>
            <a:ext cx="7848000" cy="1556280"/>
          </a:xfrm>
          <a:prstGeom prst="rect">
            <a:avLst/>
          </a:prstGeom>
          <a:noFill/>
          <a:ln w="0">
            <a:noFill/>
          </a:ln>
          <a:effectLst>
            <a:outerShdw dist="40186" dir="1189635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Georgia"/>
              </a:rPr>
              <a:t>Словарный диктант №</a:t>
            </a:r>
            <a:r>
              <a:rPr b="1" lang="en-US" sz="4800" spc="-1" strike="noStrike">
                <a:solidFill>
                  <a:srgbClr val="800000"/>
                </a:solidFill>
                <a:latin typeface="Georg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Georgia"/>
              </a:rPr>
              <a:t>«Школ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Georgia"/>
              </a:rPr>
              <a:t>Выполнила учитель начальных классов МОУ СОШ №2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Georgia"/>
              </a:rPr>
              <a:t>г. Заречный Пензенской обл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Georgia"/>
              </a:rPr>
              <a:t>Сазнова Татьяна Евген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908000" y="4653000"/>
            <a:ext cx="1008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16000" y="4724280"/>
            <a:ext cx="7632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3366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д   жур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3366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5373720"/>
            <a:ext cx="574920" cy="576360"/>
          </a:xfrm>
          <a:prstGeom prst="ellipse">
            <a:avLst/>
          </a:prstGeom>
          <a:solidFill>
            <a:srgbClr val="39d7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4606"/>
          <a:stretch/>
        </p:blipFill>
        <p:spPr>
          <a:xfrm>
            <a:off x="2484360" y="1700280"/>
            <a:ext cx="4861080" cy="287496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-95400"/>
            <a:ext cx="91440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Georgia"/>
              </a:rPr>
              <a:t>Тот, кто в порядке очереди выполняет служебные или общественные обязанности, требующие непременного присутствия в определенном мес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378936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5280" y="5013360"/>
            <a:ext cx="86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16000" y="4508640"/>
            <a:ext cx="7632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99"/>
                    </a:gs>
                    <a:gs pos="100000">
                      <a:srgbClr val="660033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б   бл      те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99"/>
                  </a:gs>
                  <a:gs pos="100000">
                    <a:srgbClr val="660033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5445000"/>
            <a:ext cx="432000" cy="43200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492360" y="1773360"/>
            <a:ext cx="3746520" cy="280512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500720" y="5516640"/>
            <a:ext cx="431640" cy="43164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64000" y="5516640"/>
            <a:ext cx="432000" cy="431640"/>
          </a:xfrm>
          <a:prstGeom prst="ellipse">
            <a:avLst/>
          </a:prstGeom>
          <a:gradFill rotWithShape="0">
            <a:gsLst>
              <a:gs pos="0">
                <a:srgbClr val="ff99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284720" y="5013360"/>
            <a:ext cx="86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148360" y="5013360"/>
            <a:ext cx="86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-2520"/>
            <a:ext cx="867564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Georgia"/>
              </a:rPr>
              <a:t>Учреждение, собирающее и хранящее произведения печати и письменности для общественного пользования, а также осуществляющее справочно-библиографическую рабо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77080" y="393372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651640" y="4653000"/>
            <a:ext cx="2449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16000" y="4724280"/>
            <a:ext cx="453564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к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155" name=""/>
          <p:cNvSpPr/>
          <p:nvPr/>
        </p:nvSpPr>
        <p:spPr>
          <a:xfrm>
            <a:off x="6372360" y="5373720"/>
            <a:ext cx="574560" cy="57636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3889080" cy="2595600"/>
          </a:xfrm>
          <a:prstGeom prst="rect">
            <a:avLst/>
          </a:prstGeom>
          <a:ln w="76320">
            <a:solidFill>
              <a:srgbClr val="cc0099"/>
            </a:solidFill>
            <a:miter/>
          </a:ln>
        </p:spPr>
      </p:pic>
      <p:sp>
        <p:nvSpPr>
          <p:cNvPr id="157" name=""/>
          <p:cNvSpPr/>
          <p:nvPr/>
        </p:nvSpPr>
        <p:spPr>
          <a:xfrm>
            <a:off x="1659600" y="-720"/>
            <a:ext cx="6384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Georgia"/>
              </a:rPr>
              <a:t>Школьная комната для занят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403200"/>
            <a:ext cx="7675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Группа учеников, учащихся одного и того же года обу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20400" y="1124280"/>
            <a:ext cx="6612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Georgia"/>
              </a:rPr>
              <a:t>Степень, уровень чего-нибудь, ранг N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116000" y="2133720"/>
            <a:ext cx="748980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МОЛОДЦЫ!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50120" y="1844640"/>
            <a:ext cx="76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zhurnal.lib.ru/img/e/elohin_p_w/constitution/copybooks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46160" y="213372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chool112.org.ru/u.p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пе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0120" y="2421000"/>
            <a:ext cx="69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g.labirint.ru/images/books4/173012/scrn_big_1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пе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8680" y="2708280"/>
            <a:ext cx="65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funforkids.ru/pictures/school5/school0558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каранда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47240" y="2997360"/>
            <a:ext cx="62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unforkids.ru/pictures/school21/school2133.gif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3284640"/>
            <a:ext cx="75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istockphoto.com/file_thumbview_approve/12128613/2/istockphoto_12128613-group-of-school-kids.jp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реб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5080" y="386064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school112.org.ru/u.p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- 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41497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odno-byt-rebenkom.ru/pc/catalog_item/m_689.jpg?129620063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ль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8320" y="4653000"/>
            <a:ext cx="64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kidssun.ru/wp-content/uploads/2009/06/41.jpg - дев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5800" y="4941720"/>
            <a:ext cx="64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ipetsktime.ru/photo/news/1_2437.jpg -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48680" y="5516640"/>
            <a:ext cx="66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unforkids.ru/pictures/school23/school2311.gif - дежу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46880" y="5229360"/>
            <a:ext cx="638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azeta.a42.ru/images/lenta/3727.jpg - школьный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89080" y="369720"/>
            <a:ext cx="516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Georgia"/>
              </a:rPr>
              <a:t>Интернет-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95640" y="4653000"/>
            <a:ext cx="100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4724280"/>
            <a:ext cx="7632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eorgia"/>
              </a:rPr>
              <a:t>т   трад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eorgia"/>
              <a:ea typeface="Georgia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364500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5300640"/>
            <a:ext cx="5749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168720" cy="25956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332000" y="137520"/>
            <a:ext cx="6549840" cy="1312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Georgia"/>
              </a:rPr>
              <a:t>Сшитые листы чистой бумаги в обложк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627280" y="4724280"/>
            <a:ext cx="16556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16000" y="4724280"/>
            <a:ext cx="7632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п   на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95" name=""/>
          <p:cNvSpPr/>
          <p:nvPr/>
        </p:nvSpPr>
        <p:spPr>
          <a:xfrm>
            <a:off x="3203640" y="5877000"/>
            <a:ext cx="574560" cy="576360"/>
          </a:xfrm>
          <a:prstGeom prst="ellipse">
            <a:avLst/>
          </a:prstGeom>
          <a:solidFill>
            <a:srgbClr val="99cc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971640" y="115920"/>
            <a:ext cx="7777080" cy="201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Georgia"/>
              </a:rPr>
              <a:t>Длинная коробочка, футляр для хранения  ручек, карандашей, перьев и других письменных принадлеж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Georgia"/>
              </a:rPr>
              <a:t>Вообще вместилище такой фор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3384720" cy="2481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516720" y="364500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5508720" y="4653000"/>
            <a:ext cx="100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16000" y="4724280"/>
            <a:ext cx="7632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9900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учит   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9900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101" name=""/>
          <p:cNvSpPr/>
          <p:nvPr/>
        </p:nvSpPr>
        <p:spPr>
          <a:xfrm>
            <a:off x="5796000" y="5373720"/>
            <a:ext cx="574560" cy="576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58920" y="0"/>
            <a:ext cx="69850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eorgia"/>
              </a:rPr>
              <a:t>Преподаватель в средней школе. Человек, который учит кого-нибудь чему-нибу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3816360" cy="2894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64000" y="371628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979640" y="4653000"/>
            <a:ext cx="100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16000" y="4724280"/>
            <a:ext cx="7632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100000">
                      <a:srgbClr val="660066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к   р   нда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99"/>
                  </a:gs>
                  <a:gs pos="100000">
                    <a:srgbClr val="660066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5373720"/>
            <a:ext cx="574560" cy="57636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51280" y="4653000"/>
            <a:ext cx="100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09" name=""/>
          <p:cNvSpPr/>
          <p:nvPr/>
        </p:nvSpPr>
        <p:spPr>
          <a:xfrm>
            <a:off x="3995640" y="5373720"/>
            <a:ext cx="574920" cy="576360"/>
          </a:xfrm>
          <a:prstGeom prst="ellipse">
            <a:avLst/>
          </a:prstGeom>
          <a:gradFill rotWithShape="0">
            <a:gsLst>
              <a:gs pos="0">
                <a:srgbClr val="cc0099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-100080"/>
            <a:ext cx="7669440" cy="1800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Georgia"/>
              </a:rPr>
              <a:t>Письменная принадлежность – деревянная палочка с графитовым стержнем, употребляемые для письма, рисования, чер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212400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732720" y="3645000"/>
            <a:ext cx="57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708360" y="4724280"/>
            <a:ext cx="100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16000" y="4724280"/>
            <a:ext cx="7632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Georgia"/>
              </a:rPr>
              <a:t>уч   н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3300"/>
                  </a:gs>
                  <a:gs pos="100000">
                    <a:srgbClr val="ffff00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115" name=""/>
          <p:cNvSpPr/>
          <p:nvPr/>
        </p:nvSpPr>
        <p:spPr>
          <a:xfrm>
            <a:off x="3780000" y="5445000"/>
            <a:ext cx="574560" cy="576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2768" t="2011" r="3581" b="6780"/>
          <a:stretch/>
        </p:blipFill>
        <p:spPr>
          <a:xfrm>
            <a:off x="2771640" y="1125360"/>
            <a:ext cx="2905200" cy="3673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187280" y="-62280"/>
            <a:ext cx="7299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Georgia"/>
              </a:rPr>
              <a:t>Человек, который учиться чему-нибудь у кого-нибуд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88000" y="357336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627280" y="4869000"/>
            <a:ext cx="100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5373720"/>
            <a:ext cx="574560" cy="576360"/>
          </a:xfrm>
          <a:prstGeom prst="ellipse">
            <a:avLst/>
          </a:prstGeom>
          <a:solidFill>
            <a:srgbClr val="39d7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720" y="620640"/>
            <a:ext cx="7111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Georgia"/>
              </a:rPr>
              <a:t>Группа детей или молодёж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3960720" cy="3228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796000" y="386064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16000" y="4437000"/>
            <a:ext cx="763272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>
                        <a:alpha val="91372"/>
                      </a:srgbClr>
                    </a:gs>
                    <a:gs pos="100000">
                      <a:srgbClr val="006666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р   бя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>
                      <a:alpha val="91372"/>
                    </a:srgbClr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</p:spTree>
  </p:cSld>
  <p:transition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356000" y="4653000"/>
            <a:ext cx="100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16000" y="472428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дев   ч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5373720"/>
            <a:ext cx="5745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-1080"/>
            <a:ext cx="7345440" cy="764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Georgia"/>
              </a:rPr>
              <a:t>Ребёнок женского по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43280" y="981000"/>
            <a:ext cx="3222720" cy="36306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130" name=""/>
          <p:cNvSpPr/>
          <p:nvPr/>
        </p:nvSpPr>
        <p:spPr>
          <a:xfrm rot="19433400">
            <a:off x="2411640" y="357264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588000" y="4724280"/>
            <a:ext cx="100836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16000" y="4724280"/>
            <a:ext cx="763272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fefd7"/>
                    </a:gs>
                    <a:gs pos="100000">
                      <a:srgbClr val="3366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мальч   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fefd7"/>
                  </a:gs>
                  <a:gs pos="100000">
                    <a:srgbClr val="3366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  <p:sp>
        <p:nvSpPr>
          <p:cNvPr id="133" name=""/>
          <p:cNvSpPr/>
          <p:nvPr/>
        </p:nvSpPr>
        <p:spPr>
          <a:xfrm>
            <a:off x="6877080" y="5300640"/>
            <a:ext cx="5745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8600" y="188280"/>
            <a:ext cx="688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Georgia"/>
              </a:rPr>
              <a:t>Ребенок мужского пол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76720" y="1125360"/>
            <a:ext cx="2538360" cy="3605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556000" y="3645000"/>
            <a:ext cx="57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Georgia"/>
              </a:rPr>
              <a:t>′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7:21:36Z</dcterms:created>
  <dc:creator>Admin</dc:creator>
  <dc:description/>
  <dc:language>en-US</dc:language>
  <cp:lastModifiedBy>Admin</cp:lastModifiedBy>
  <dcterms:modified xsi:type="dcterms:W3CDTF">2012-06-12T14:09:43Z</dcterms:modified>
  <cp:revision>5</cp:revision>
  <dc:subject/>
  <dc:title>Слайд 1</dc:title>
</cp:coreProperties>
</file>