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807-3EBA-4162-B41C-79BCFE63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73D-AF1D-45BB-8CAE-9B01C8F9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C76-334D-4C4B-92AF-A01C3F33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B88-C5FC-4A3D-9BFB-0E964BC3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39E3-73E4-4EC6-840B-AFEF132D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445C-F282-43C8-9696-3836A3B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8DEE-7EC5-41CB-BD73-8B75304D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C11E-EAFA-4109-B6E8-6E9A3CAF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96C7-CCD3-400C-813D-00672C93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7AEC-24B9-4974-93D4-798363F4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B257-2FF2-4CC9-8FED-0126BCF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B8E-6529-4F09-87B6-281EE564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C9A9-347B-423C-AC27-34F7673A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D670-7CBC-463A-8DB5-A43FEE11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02EC-92F9-482C-9978-4493B1A2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98F8-3AB5-4EB6-BDD6-8319C337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068D-C860-48E3-BAD3-B0DAA6E5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69A-744D-49B7-8465-6387F9AF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40F-F82F-4CC3-9B14-9C924AE0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2B8-35E3-4A09-8926-F9CA3D7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DDA-BA1E-4F26-B845-C17E1FEA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379-411F-4475-A70F-C423D741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F06-826C-4E1B-B303-2C0C1F6F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B8B-4BA4-484E-ACBA-B572C0A7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9073-E206-47B8-8733-3F7F2767CB4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613200"/>
            <a:ext cx="4952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6887-7D27-4EAA-BCDB-A73564AF2D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990F-AB67-4583-8141-BFFABCF25A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F482-92A1-42AC-827F-2EBF4E515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stavki.com/pictures/1280x800/2009/World_Russia_Symbol_of_Moscow_018440_.jpg" TargetMode="External"/><Relationship Id="rId3" Type="http://schemas.openxmlformats.org/officeDocument/2006/relationships/hyperlink" Target="http://my-shop.ru/_files/product/2/36/353376.jpg" TargetMode="External"/><Relationship Id="rId4" Type="http://schemas.openxmlformats.org/officeDocument/2006/relationships/hyperlink" Target="http://www.ruslania.com/pictures/big/9785358084865.jpg" TargetMode="External"/><Relationship Id="rId5" Type="http://schemas.openxmlformats.org/officeDocument/2006/relationships/hyperlink" Target="http://img0.liveinternet.ru/images/attach/c/2/73/359/73359774_TOLPA___1000.jpg" TargetMode="External"/><Relationship Id="rId6" Type="http://schemas.openxmlformats.org/officeDocument/2006/relationships/hyperlink" Target="http://www.stihi.ru/pics/2010/10/25/8031.jpg" TargetMode="External"/><Relationship Id="rId7" Type="http://schemas.openxmlformats.org/officeDocument/2006/relationships/hyperlink" Target="http://visarun.net/uploads/posts/2011-03/1299157635_35.jpg" TargetMode="External"/><Relationship Id="rId8" Type="http://schemas.openxmlformats.org/officeDocument/2006/relationships/hyperlink" Target="http://kaifolog.ru/uploads/posts/2009-12/thumbs/1260790122_005_2.jpg" TargetMode="External"/><Relationship Id="rId9" Type="http://schemas.openxmlformats.org/officeDocument/2006/relationships/hyperlink" Target="http://ngrad.ru/wp-content/uploads/2010/10/65.jpeg" TargetMode="External"/><Relationship Id="rId10" Type="http://schemas.openxmlformats.org/officeDocument/2006/relationships/hyperlink" Target="http://www.artsides.ru/big/item_2624.jpg" TargetMode="External"/><Relationship Id="rId11" Type="http://schemas.openxmlformats.org/officeDocument/2006/relationships/hyperlink" Target="http://murmansk.kp.ru/f/12/image/75/90/2379075.jpg" TargetMode="Externa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8280" y="155736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40186" dir="1189635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Словарный диктант №</a:t>
            </a:r>
            <a:r>
              <a:rPr b="1" lang="en-US" sz="4800" spc="-1" strike="noStrike">
                <a:solidFill>
                  <a:srgbClr val="800000"/>
                </a:solidFill>
                <a:latin typeface="Georgi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«Родин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Выполнила учитель начальных классов МОУ СОШ №2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95640" y="115920"/>
            <a:ext cx="4259160" cy="645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447-66AC-4667-97D7-37AF291924A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8173A-FEFE-4751-AFC5-4572E940F00A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2C6-0419-4523-B91E-BF0D2B4764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DD74A-111D-4D74-9D20-9E2B5A4165F6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0000"/>
                </a:solidFill>
                <a:latin typeface="Georgia"/>
              </a:rPr>
              <a:t>ПРОВЕРЬ СЕБ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Ст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лица, ру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сс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кий, н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род,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я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зык, го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д, ф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а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мил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и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я,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Росс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ия, Род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и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на, т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вар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Georgia"/>
              </a:rPr>
              <a:t>и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щ,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Мо</a:t>
            </a:r>
            <a:r>
              <a:rPr b="1" lang="ru-RU" sz="4400" spc="-1" strike="noStrike">
                <a:solidFill>
                  <a:srgbClr val="0000ff"/>
                </a:solidFill>
                <a:latin typeface="Georgia"/>
              </a:rPr>
              <a:t>скв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484000" y="155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211280" y="155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40360" y="155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834920" y="227664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03280" y="227664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227280" y="227664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10920" y="299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24000" y="299736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123640" y="3645000"/>
            <a:ext cx="14292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012000" y="3645000"/>
            <a:ext cx="142560" cy="245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778-4787-4A8C-BF0D-15D74E1A24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36534-C4C6-470D-9E5F-E21B77861012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55640" y="1844640"/>
            <a:ext cx="79916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ОЛОДЦЫ!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F8C-455D-46D8-B565-C72CC080E6D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75F626-10BA-46F6-A503-63D4BB819DB5}" type="datetime1">
              <a:rPr lang="en-US"/>
              <a:t>07/28/26</a:t>
            </a:fld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2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zastavki.com/pictures/1280x800/2009/World_Russia_Symbol_of_Moscow_018440_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41360"/>
            <a:ext cx="86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my-shop.ru/_files/product/2/36/353376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чебник 2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70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ruslania.com/pictures/big/9785358084865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чебник 1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0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img0.liveinternet.ru/images/attach/c/2/73/359/73359774_TOLPA___1000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560" y="2852640"/>
            <a:ext cx="70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stihi.ru/pics/2010/10/25/8031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11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visarun.net/uploads/posts/2011-03/1299157635_35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71920"/>
            <a:ext cx="90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kaifolog.ru/uploads/posts/2009-12/thumbs/1260790122_005_2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амил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80" y="5011560"/>
            <a:ext cx="78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ngrad.ru/wp-content/uploads/2010/10/65.jpe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е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372280"/>
            <a:ext cx="71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artsides.ru/big/item_2624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9720" y="623736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murmansk.kp.ru/f/12/image/75/90/2379075.jp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92640"/>
            <a:ext cx="90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albertgeist.com/uploads/posts/2010-05/1273700946_rossiy.jpg -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73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dreamsblog.net/wp-content/uploads/2%D0%BF%D0%B0%D1%80%D0%B8%D0%B6.jpg - 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036-5BAD-4046-9505-A09D2391014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0F5AE-4DA4-4D68-B397-0B6F4C1FF38B}" type="datetime1">
              <a:rPr lang="en-US"/>
              <a:t>07/28/26</a:t>
            </a:fld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1.liveinternet.ru/images/attach/b/3/22/409/22409102_CapitolBuilding.jpg - Вашинг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6440" y="765000"/>
            <a:ext cx="76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100dorog.ru/upload/contents/434/1895-1.jpg - Лонд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2B4-78F2-4948-B653-B4DEC675AD8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C7A4B-6C4C-410A-AB9E-0EC137B5CA48}" type="datetime1">
              <a:rPr lang="en-US"/>
              <a:t>07/28/26</a:t>
            </a:fld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3816360" cy="25657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3924360" cy="26370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3600360" cy="27018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859280" y="3429000"/>
            <a:ext cx="3913200" cy="26082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4C0-5E4F-4194-82A9-0B49FE4777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BB092-FC63-4B1E-935E-674D758BA919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19280" y="836640"/>
            <a:ext cx="5472720" cy="5039280"/>
            <a:chOff x="1619280" y="836640"/>
            <a:chExt cx="5472720" cy="5039280"/>
          </a:xfrm>
        </p:grpSpPr>
        <p:grpSp>
          <p:nvGrpSpPr>
            <p:cNvPr id="89" name=""/>
            <p:cNvGrpSpPr/>
            <p:nvPr/>
          </p:nvGrpSpPr>
          <p:grpSpPr>
            <a:xfrm>
              <a:off x="1619280" y="836640"/>
              <a:ext cx="5472720" cy="5039280"/>
              <a:chOff x="1619280" y="836640"/>
              <a:chExt cx="5472720" cy="5039280"/>
            </a:xfrm>
          </p:grpSpPr>
          <p:pic>
            <p:nvPicPr>
              <p:cNvPr id="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60760" y="2349360"/>
                <a:ext cx="2631240" cy="352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19280" y="836640"/>
                <a:ext cx="2733840" cy="3562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747440" y="1342080"/>
              <a:ext cx="1549080" cy="252360"/>
            </a:xfrm>
            <a:prstGeom prst="rect">
              <a:avLst/>
            </a:prstGeom>
            <a:solidFill>
              <a:srgbClr val="401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61120" y="2727360"/>
              <a:ext cx="1549080" cy="253080"/>
            </a:xfrm>
            <a:prstGeom prst="rect">
              <a:avLst/>
            </a:prstGeom>
            <a:solidFill>
              <a:srgbClr val="00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B58-A869-4DDC-BD80-FEB97867BDE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FADFA-6A34-46BE-A79A-50E768F67B40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192720" cy="46800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9AF-7F1F-4C81-8C66-5A64929DA4D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06877-A9B6-4FAF-B9A5-71DC04BD43B9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124000" y="692280"/>
            <a:ext cx="4462920" cy="5544000"/>
            <a:chOff x="2124000" y="692280"/>
            <a:chExt cx="4462920" cy="5544000"/>
          </a:xfrm>
        </p:grpSpPr>
        <p:sp>
          <p:nvSpPr>
            <p:cNvPr id="96" name=""/>
            <p:cNvSpPr/>
            <p:nvPr/>
          </p:nvSpPr>
          <p:spPr>
            <a:xfrm rot="1387800">
              <a:off x="2778840" y="2635560"/>
              <a:ext cx="657360" cy="255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37800">
              <a:off x="4204800" y="2720880"/>
              <a:ext cx="657000" cy="2963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124000" y="692280"/>
              <a:ext cx="4462920" cy="5544000"/>
              <a:chOff x="2124000" y="692280"/>
              <a:chExt cx="4462920" cy="5544000"/>
            </a:xfrm>
          </p:grpSpPr>
          <p:sp>
            <p:nvSpPr>
              <p:cNvPr id="99" name=""/>
              <p:cNvSpPr/>
              <p:nvPr/>
            </p:nvSpPr>
            <p:spPr>
              <a:xfrm>
                <a:off x="3343320" y="1614240"/>
                <a:ext cx="469080" cy="714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22440" y="1920960"/>
                <a:ext cx="469080" cy="714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17000" y="1816920"/>
                <a:ext cx="750240" cy="714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74720" y="1715400"/>
                <a:ext cx="842760" cy="91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124000" y="692280"/>
                <a:ext cx="4462920" cy="5544000"/>
                <a:chOff x="2124000" y="692280"/>
                <a:chExt cx="4462920" cy="5544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624120" y="1000800"/>
                  <a:ext cx="749880" cy="509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840920" y="1102320"/>
                  <a:ext cx="749880" cy="509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24000" y="692280"/>
                  <a:ext cx="4462920" cy="554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0AB-8F98-4D5F-9AC5-CC6BFBE3DFF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3635D-96AD-4A09-ABE8-7A8471239605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488000" cy="51069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853-3FF1-4B7C-80A5-46D1A86AA79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15624-52A9-40AC-9C8A-3C767E4C366A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835280" y="404640"/>
            <a:ext cx="4824360" cy="5748480"/>
            <a:chOff x="1835280" y="404640"/>
            <a:chExt cx="4824360" cy="574848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rcRect l="0" t="0" r="113" b="56060"/>
            <a:stretch/>
          </p:blipFill>
          <p:spPr>
            <a:xfrm>
              <a:off x="1835280" y="404640"/>
              <a:ext cx="4824360" cy="3108600"/>
            </a:xfrm>
            <a:prstGeom prst="rect">
              <a:avLst/>
            </a:prstGeom>
            <a:ln w="76320">
              <a:solidFill>
                <a:srgbClr val="800000"/>
              </a:solidFill>
              <a:miter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rcRect l="0" t="56060" r="0" b="6453"/>
            <a:stretch/>
          </p:blipFill>
          <p:spPr>
            <a:xfrm>
              <a:off x="1835280" y="3500280"/>
              <a:ext cx="4819680" cy="2652840"/>
            </a:xfrm>
            <a:prstGeom prst="rect">
              <a:avLst/>
            </a:prstGeom>
            <a:ln w="76320">
              <a:solidFill>
                <a:srgbClr val="800000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A67-2EB5-4345-84F0-C68F8975AD9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F87F8-4BC2-4A6A-B15E-153831D1B6A3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628120" cy="488952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E2F-A15C-4C24-A122-8160B03661A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98AAF-3B0F-45DB-9B58-40E82F6870C3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72960" y="907920"/>
            <a:ext cx="7705800" cy="500868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0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6 www.brainybetty.com; All Rights Reserved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DE6-6F85-49E3-A2D2-A7B61DF896E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B133A-5B4A-4E27-99B2-7D4AF0E49CA6}" type="datetime1">
              <a:rPr lang="en-US"/>
              <a:t>07/28/26</a:t>
            </a:fld>
          </a:p>
        </p:txBody>
      </p:sp>
    </p:spTree>
  </p:cSld>
  <p:transition>
    <p:pull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0:53:19Z</dcterms:created>
  <dc:creator>Admin</dc:creator>
  <dc:description/>
  <dc:language>en-US</dc:language>
  <cp:lastModifiedBy>Admin</cp:lastModifiedBy>
  <dcterms:modified xsi:type="dcterms:W3CDTF">2011-07-31T11:24:45Z</dcterms:modified>
  <cp:revision>2</cp:revision>
  <dc:subject/>
  <dc:title>Слайд 1</dc:title>
</cp:coreProperties>
</file>