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620-21DC-498A-9684-ED01FFCD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E53-2036-4AEE-8390-A8418FD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ECC-CB11-435C-9ABB-81F77D1E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57C-CE9A-42FC-82EA-AA72A0B4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FC72-B7BF-4F75-A5A0-8E2C3E71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6DA-7A9E-4079-A098-81A81C9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D16-9D30-4FCC-8A7D-4779D2B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389-EE6F-4A8F-8E50-C895ED02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C750-E9BF-415B-A16D-4FE147F0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4C0-087C-460F-B200-AFAC9E6A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AD39-36A2-4899-84E7-3FD33AF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C40-143A-483A-A262-E8B66C4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70A-0946-4F85-9733-9C07C75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277D-7448-4FDF-A41E-C40919D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5903-9836-4074-B84E-B929DD0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4A1-0C76-475A-B353-2FA46087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893-0982-4FEA-8309-A311D53F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4CC-1C1C-4EC1-96A5-629829A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6F8-944E-443E-8134-5EB7B4B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098-E2B5-482A-B848-A94BE46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35D-0271-4195-A0E4-A21F839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FF1-9219-44C9-8CF6-E48493D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CFE-608E-4BAE-9235-4C80E89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79B-1FB1-4F4E-9ABB-E445435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22E-A1ED-438E-B599-B6A1F3E8FD0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BCE-640D-4F08-9FF2-DD22B699E4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529-252C-4AF7-95DC-108AB18130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B29-A47A-424B-9FAB-C5152958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murmansk.kp.ru/f/12/image/75/90/2379075.jpg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8280" y="1557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95640" y="115920"/>
            <a:ext cx="4259160" cy="64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32D-9D47-424F-B035-F274A6E264B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FED61-7775-4D4F-A543-31CBBCB0BA55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3A9-AD55-4140-B071-7B1BF87356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D11A5-E430-43FB-8070-F6B5BB742683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Georgia"/>
              </a:rPr>
              <a:t>ПРОВЕРЬ СЕБ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Ст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лица, р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сс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кий, н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род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я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зык, го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д, ф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ми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я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Росс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ия, Род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на, т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ва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щ,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ск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8400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21128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4036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3492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328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22728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10920" y="299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24000" y="299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23640" y="364500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2000" y="3645000"/>
            <a:ext cx="14256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FC8-BF76-4CAA-9A8E-163696C640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8070E-02E5-4D8D-948E-A6EFA9E4F694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55640" y="1844640"/>
            <a:ext cx="7991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3BB-D951-45E7-9BAB-47D761729F2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96E02-FE85-4E39-8ABE-5DF1AF87BA31}" type="datetime1">
              <a:rPr lang="en-US"/>
              <a:t>07/30/26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41360"/>
            <a:ext cx="86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my-shop.ru/_files/product/2/36/353376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чебник 2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0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чебник 1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60" y="2852640"/>
            <a:ext cx="70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stihi.ru/pics/2010/10/25/8031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1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7192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ам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0" y="5011560"/>
            <a:ext cx="78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ngrad.ru/wp-content/uploads/2010/10/65.jpe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72280"/>
            <a:ext cx="71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artsides.ru/big/item_2624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9720" y="623736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murmansk.kp.ru/f/12/image/75/90/237907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9264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bertgeist.com/uploads/posts/2010-05/1273700946_rossiy.jpg -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reamsblog.net/wp-content/uploads/2%D0%BF%D0%B0%D1%80%D0%B8%D0%B6.jpg -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59A-0F1A-4249-ACA0-ADD5B173ACE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F0448-37D3-4D5B-858B-DB8B01FDE163}" type="datetime1">
              <a:rPr lang="en-US"/>
              <a:t>07/30/26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b/3/22/409/22409102_CapitolBuilding.jpg - Вашинг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6440" y="7650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100dorog.ru/upload/contents/434/1895-1.jpg - 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1E9-00CF-4F31-AFE2-717CD91E38B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C1799-B1B8-49F5-97A9-4CC2E88F70B4}" type="datetime1">
              <a:rPr lang="en-US"/>
              <a:t>07/30/26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3816360" cy="256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924360" cy="2637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3600360" cy="27018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859280" y="3429000"/>
            <a:ext cx="3913200" cy="2608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ACD-C6E9-4F9A-9CF7-919C37566D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041EE-8D66-49E9-A984-E325A1A02D86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19280" y="836640"/>
            <a:ext cx="5472720" cy="5039280"/>
            <a:chOff x="1619280" y="836640"/>
            <a:chExt cx="5472720" cy="5039280"/>
          </a:xfrm>
        </p:grpSpPr>
        <p:grpSp>
          <p:nvGrpSpPr>
            <p:cNvPr id="89" name=""/>
            <p:cNvGrpSpPr/>
            <p:nvPr/>
          </p:nvGrpSpPr>
          <p:grpSpPr>
            <a:xfrm>
              <a:off x="1619280" y="836640"/>
              <a:ext cx="5472720" cy="5039280"/>
              <a:chOff x="1619280" y="836640"/>
              <a:chExt cx="5472720" cy="5039280"/>
            </a:xfrm>
          </p:grpSpPr>
          <p:pic>
            <p:nvPicPr>
              <p:cNvPr id="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0760" y="2349360"/>
                <a:ext cx="2631240" cy="352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9280" y="836640"/>
                <a:ext cx="2733840" cy="356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747440" y="1342080"/>
              <a:ext cx="1549080" cy="2523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1120" y="2727360"/>
              <a:ext cx="1549080" cy="25308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F24-C935-4010-B6F6-945C26B73B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451A3-1313-4AFA-8130-DD29A2DBB034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192720" cy="4680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444-9DE2-4A85-B0EF-DA75C251655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23639-20A6-40BA-8903-DE7B97B1A5DF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124000" y="692280"/>
            <a:ext cx="4462920" cy="5544000"/>
            <a:chOff x="2124000" y="692280"/>
            <a:chExt cx="4462920" cy="5544000"/>
          </a:xfrm>
        </p:grpSpPr>
        <p:sp>
          <p:nvSpPr>
            <p:cNvPr id="96" name=""/>
            <p:cNvSpPr/>
            <p:nvPr/>
          </p:nvSpPr>
          <p:spPr>
            <a:xfrm rot="1387800">
              <a:off x="2778840" y="2635560"/>
              <a:ext cx="657360" cy="255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37800">
              <a:off x="4204800" y="2720880"/>
              <a:ext cx="657000" cy="296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124000" y="692280"/>
              <a:ext cx="4462920" cy="5544000"/>
              <a:chOff x="2124000" y="692280"/>
              <a:chExt cx="4462920" cy="5544000"/>
            </a:xfrm>
          </p:grpSpPr>
          <p:sp>
            <p:nvSpPr>
              <p:cNvPr id="99" name=""/>
              <p:cNvSpPr/>
              <p:nvPr/>
            </p:nvSpPr>
            <p:spPr>
              <a:xfrm>
                <a:off x="3343320" y="1614240"/>
                <a:ext cx="46908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22440" y="1920960"/>
                <a:ext cx="46908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7000" y="1816920"/>
                <a:ext cx="75024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74720" y="1715400"/>
                <a:ext cx="842760" cy="91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124000" y="692280"/>
                <a:ext cx="4462920" cy="5544000"/>
                <a:chOff x="2124000" y="692280"/>
                <a:chExt cx="4462920" cy="5544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624120" y="1000800"/>
                  <a:ext cx="749880" cy="509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840920" y="1102320"/>
                  <a:ext cx="749880" cy="509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24000" y="692280"/>
                  <a:ext cx="4462920" cy="554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A0F-3CD9-45EC-9D8D-92076BEBB9D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8F8BA-245A-45EB-A103-92AA8DAFA807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488000" cy="51069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042-1053-4315-BDE5-1FD88ACAE0E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A4826-1AD7-4161-9AEB-3F8F882BE44D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835280" y="404640"/>
            <a:ext cx="4824360" cy="5748480"/>
            <a:chOff x="1835280" y="404640"/>
            <a:chExt cx="4824360" cy="57484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0" t="0" r="113" b="56060"/>
            <a:stretch/>
          </p:blipFill>
          <p:spPr>
            <a:xfrm>
              <a:off x="1835280" y="404640"/>
              <a:ext cx="4824360" cy="310860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rcRect l="0" t="56060" r="0" b="6453"/>
            <a:stretch/>
          </p:blipFill>
          <p:spPr>
            <a:xfrm>
              <a:off x="1835280" y="3500280"/>
              <a:ext cx="4819680" cy="265284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674-81F8-4503-83EE-EC535CE5BDE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52C08-14A3-4009-939A-D6540D449B70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628120" cy="4889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6A9-1481-4FFD-91EA-ABB6E317F8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63DD4-A5BD-46C3-80AF-1C9D0C7967A9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2960" y="907920"/>
            <a:ext cx="7705800" cy="50086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0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CA9-AF3B-482E-BB9E-4ED67615D34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BAAFC-AF63-4352-91C8-79BE164AD8EB}" type="datetime1">
              <a:rPr lang="en-US"/>
              <a:t>07/30/26</a:t>
            </a:fld>
          </a:p>
        </p:txBody>
      </p:sp>
    </p:spTree>
  </p:cSld>
  <p:transition>
    <p:pull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0:53:19Z</dcterms:created>
  <dc:creator>Admin</dc:creator>
  <dc:description/>
  <dc:language>en-US</dc:language>
  <cp:lastModifiedBy>Admin</cp:lastModifiedBy>
  <dcterms:modified xsi:type="dcterms:W3CDTF">2011-07-31T11:24:45Z</dcterms:modified>
  <cp:revision>2</cp:revision>
  <dc:subject/>
  <dc:title>Слайд 1</dc:title>
</cp:coreProperties>
</file>