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gif" ContentType="image/gif"/>
  <Override PartName="/ppt/media/image15.png" ContentType="image/png"/>
  <Override PartName="/ppt/media/image9.png" ContentType="image/png"/>
  <Override PartName="/ppt/media/image8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move the slide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EF4A-1ABA-489C-AA5E-681DD1D0E1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A55E-8E3A-42C8-A497-5C23A075FA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220D-75FE-44B4-B706-F3DA8F0549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F973-8EA2-4B4A-BA3F-5BEFD22C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1BF-D2E8-4241-9E09-3D4B7D78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2F3-F23D-483A-A871-CC9AA4E1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6F4-40C3-4033-A34C-41D185C4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F1A9-BF81-4BE5-B607-C3D7CA0B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F63F-C704-4249-B8F4-6EED01AD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32E5-B8F9-4FAE-B80B-32AF1959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0940-0FF3-48E5-A8B1-003FCA7F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AF8B-9427-4B59-A282-F27E50CB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08CB-53D6-4053-B65F-F09B857F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E359-026D-4433-8A21-141CDD8A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D76-4627-4C37-A581-BC5921D1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5712-7540-4397-9680-5EB498C6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E16D-96F5-4FBF-9F71-64D4527E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4FF7-963B-4CD8-87FD-E3381F03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A0CB-3884-49AE-B72B-CB55DADB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697E-A8B9-4BD8-BD5F-C2FA2EBA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EAD-4F49-4C05-BB1D-09BBEC9A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B7A-D28C-499D-9407-325E71CD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BFE-37B0-4AE1-943E-24BC9DE4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DDD-93C8-4474-B65E-AB2460BD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DC67-485A-4953-B433-A580DB59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580-2A9F-45A7-9135-2DFD6986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03E-7055-43E7-B438-A03BABFC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A331-F39E-4B24-A880-0558E559EC6D}" type="slidenum"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6A7F-564D-4689-8DE0-5A0746093161}" type="slidenum"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funforkids.ru/pictures/school3/school0306.gif" TargetMode="External"/><Relationship Id="rId3" Type="http://schemas.openxmlformats.org/officeDocument/2006/relationships/hyperlink" Target="http://funforkids.ru/pictures/school21/school2141.gif" TargetMode="External"/><Relationship Id="rId4" Type="http://schemas.openxmlformats.org/officeDocument/2006/relationships/hyperlink" Target="http://funforkids.ru/pictures/school21/school2128.gif" TargetMode="External"/><Relationship Id="rId5" Type="http://schemas.openxmlformats.org/officeDocument/2006/relationships/hyperlink" Target="http://funforkids.ru/pictures/school5/school0561.gif" TargetMode="External"/><Relationship Id="rId6" Type="http://schemas.openxmlformats.org/officeDocument/2006/relationships/hyperlink" Target="http://img-fotki.yandex.ru/get/4512/natali73123.283/0_50131_b1455f13_S" TargetMode="External"/><Relationship Id="rId7" Type="http://schemas.openxmlformats.org/officeDocument/2006/relationships/hyperlink" Target="http://smayli.ru/data/smiles/detia-565.gif" TargetMode="External"/><Relationship Id="rId8" Type="http://schemas.openxmlformats.org/officeDocument/2006/relationships/hyperlink" Target="http://funforkids.ru/pictures/school18/school1820.gif" TargetMode="External"/><Relationship Id="rId9" Type="http://schemas.openxmlformats.org/officeDocument/2006/relationships/hyperlink" Target="http://funforkids.ru/pictures/school8/school0818.png" TargetMode="External"/><Relationship Id="rId10" Type="http://schemas.openxmlformats.org/officeDocument/2006/relationships/hyperlink" Target="http://www.lipetsktime.ru/photo/news/1_2437.jpg" TargetMode="External"/><Relationship Id="rId11" Type="http://schemas.openxmlformats.org/officeDocument/2006/relationships/hyperlink" Target="http://funforkids.ru/pictures/school23/school2311.gif" TargetMode="External"/><Relationship Id="rId12" Type="http://schemas.openxmlformats.org/officeDocument/2006/relationships/hyperlink" Target="http://gazeta.a42.ru/images/lenta/3727.jpg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858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Словарный диктант №2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71320" y="307188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Georgia"/>
              </a:rPr>
              <a:t>«ШКОЛА»</a:t>
            </a:r>
            <a:endParaRPr b="0" lang="en-US" sz="36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a"/>
                </a:solidFill>
                <a:latin typeface="Georgia"/>
              </a:rPr>
              <a:t>Выполнила учитель начальных классов МОУ СОШ №222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a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a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19280" y="1052640"/>
            <a:ext cx="5761080" cy="4314600"/>
          </a:xfrm>
          <a:prstGeom prst="rect">
            <a:avLst/>
          </a:prstGeom>
          <a:ln w="76320">
            <a:solidFill>
              <a:srgbClr val="00339a"/>
            </a:solidFill>
            <a:miter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6362640" cy="4245120"/>
          </a:xfrm>
          <a:prstGeom prst="rect">
            <a:avLst/>
          </a:prstGeom>
          <a:ln w="76320">
            <a:solidFill>
              <a:srgbClr val="00339a"/>
            </a:solidFill>
            <a:miter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5840" y="771480"/>
            <a:ext cx="8572320" cy="531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Arial"/>
              </a:rPr>
              <a:t>ПРОВЕРЬ СЕБЯ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Учит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е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льница, уч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е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ник, р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е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бята, к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а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р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а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ндаши, дев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о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чка, мальч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и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к, п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е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нал, т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е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традь, б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и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бл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ио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тека, кла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сс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, д</a:t>
            </a:r>
            <a:r>
              <a:rPr b="1" lang="en-US" sz="4400" spc="-1" strike="noStrike" u="sng">
                <a:solidFill>
                  <a:srgbClr val="483226"/>
                </a:solidFill>
                <a:uFillTx/>
                <a:latin typeface="Georgia"/>
              </a:rPr>
              <a:t>е</a:t>
            </a:r>
            <a:r>
              <a:rPr b="1" lang="en-US" sz="4400" spc="-1" strike="noStrike">
                <a:solidFill>
                  <a:srgbClr val="483226"/>
                </a:solidFill>
                <a:latin typeface="Georgia"/>
              </a:rPr>
              <a:t>журные.</a:t>
            </a:r>
            <a:endParaRPr b="0" lang="en-US" sz="4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 rot="21187200">
            <a:off x="139320" y="596160"/>
            <a:ext cx="41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a"/>
                </a:solidFill>
                <a:latin typeface="Franklin Gothic Medium"/>
              </a:rPr>
              <a:t>Интернет-ресурсы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2205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2"/>
              </a:rPr>
              <a:t>http://funforkids.ru/pictures/school3/school0306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учитель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924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3"/>
              </a:rPr>
              <a:t>http://funforkids.ru/pictures/school21/school2141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ученик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573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4"/>
              </a:rPr>
              <a:t>http://funforkids.ru/pictures/school21/school2128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ребят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414972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a800"/>
                </a:solidFill>
                <a:uFillTx/>
                <a:latin typeface="Arial"/>
                <a:hlinkClick r:id="rId5"/>
              </a:rPr>
              <a:t>http://funforkids.ru/pictures/school5/school0561.g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андаш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549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6"/>
              </a:rPr>
              <a:t>http://img-fotki.yandex.ru/get/4512/natali73123.283/0_50131_b1455f13_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мальчишк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4797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7"/>
              </a:rPr>
              <a:t>http://smayli.ru/data/smiles/detia-565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девочк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37372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8"/>
              </a:rPr>
              <a:t>http://funforkids.ru/pictures/school18/school1820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пенал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1773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9"/>
              </a:rPr>
              <a:t>http://funforkids.ru/pictures/school8/school0818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тетради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2997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10"/>
              </a:rPr>
              <a:t>http://www.lipetsktime.ru/photo/news/1_2437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библиотек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"/>
          <p:cNvSpPr/>
          <p:nvPr/>
        </p:nvSpPr>
        <p:spPr>
          <a:xfrm>
            <a:off x="4932360" y="2349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11"/>
              </a:rPr>
              <a:t>http://funforkids.ru/pictures/school23/school2311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дежурны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3716280"/>
            <a:ext cx="37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800"/>
                </a:solidFill>
                <a:uFillTx/>
                <a:latin typeface="Arial"/>
                <a:hlinkClick r:id="rId12"/>
              </a:rPr>
              <a:t>http://gazeta.a42.ru/images/lenta/3727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школьный класс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79640" y="907920"/>
            <a:ext cx="4691160" cy="432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4810320" cy="64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7000920" cy="6477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27280" y="620640"/>
            <a:ext cx="3575160" cy="561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843280" y="907920"/>
            <a:ext cx="2544840" cy="446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771640" y="1628640"/>
            <a:ext cx="3471840" cy="388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815000" cy="518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97160" y="254160"/>
            <a:ext cx="6348240" cy="634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24:35Z</dcterms:created>
  <dc:creator/>
  <dc:description/>
  <cp:keywords/>
  <dc:language>en-US</dc:language>
  <cp:lastModifiedBy/>
  <dcterms:modified xsi:type="dcterms:W3CDTF">2012-06-12T14:10:13Z</dcterms:modified>
  <cp:revision>5</cp:revision>
  <dc:subject/>
  <dc:title>Словарный диктант №2</dc:title>
</cp:coreProperties>
</file>