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063F-E19B-40DE-BD74-DEE04E36C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8CA-9ED4-4D31-A68F-00C1A742F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BCA7-8199-4840-9C14-D14BF71CE6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E0B-4552-43C8-96A7-B132DF1F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36D-3AF6-4254-A7AC-71ECB14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89B-9EAF-44B3-94D9-016293DE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8F9-D4F1-432D-987E-BEDBDC83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681-4E60-437E-B018-F94EF300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B63-7F3C-4AFA-BEB0-C59C4F9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8BC6-D94E-47CE-840A-20610A7B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2D68-89D9-4AE1-97FE-5FA91D3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7440-A777-4A5C-81BC-EFE69E4A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3DE2-6413-44A3-B756-293C319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CBF-8D82-4A8B-BABB-C8BCED8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DCD-0C91-4941-8EE2-974F070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C47F-ADE1-4D03-AAD4-342BDE86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AA43-B90E-4533-8AFB-EF210C0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67D-39DA-4929-AB0C-87B346F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32E-4AAE-49B6-896C-09FD925E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09D7-CF3F-41E6-85A1-2DF2C37C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968-2953-43CB-B771-DA3FD4A1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573-8DE5-40F0-B42F-C154B01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00C-33AA-4876-91A0-997BCE8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1C6-D51C-4812-9511-47F350F7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C0C-D3D6-4023-93F9-97F97D8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E30-908D-4E9E-B707-4211723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D80-424A-4542-BE93-AEA0A05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13BD-B646-4124-B26D-6F17CD4BD776}" type="slidenum"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E337-5184-484A-ACCC-6C4B29F82EB7}" type="slidenum"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funforkids.ru/pictures/school3/school0306.gif" TargetMode="External"/><Relationship Id="rId3" Type="http://schemas.openxmlformats.org/officeDocument/2006/relationships/hyperlink" Target="http://funforkids.ru/pictures/school21/school2141.gif" TargetMode="External"/><Relationship Id="rId4" Type="http://schemas.openxmlformats.org/officeDocument/2006/relationships/hyperlink" Target="http://funforkids.ru/pictures/school21/school2128.gif" TargetMode="External"/><Relationship Id="rId5" Type="http://schemas.openxmlformats.org/officeDocument/2006/relationships/hyperlink" Target="http://funforkids.ru/pictures/school5/school0561.gif" TargetMode="External"/><Relationship Id="rId6" Type="http://schemas.openxmlformats.org/officeDocument/2006/relationships/hyperlink" Target="http://img-fotki.yandex.ru/get/4512/natali73123.283/0_50131_b1455f13_S" TargetMode="External"/><Relationship Id="rId7" Type="http://schemas.openxmlformats.org/officeDocument/2006/relationships/hyperlink" Target="http://smayli.ru/data/smiles/detia-565.gif" TargetMode="External"/><Relationship Id="rId8" Type="http://schemas.openxmlformats.org/officeDocument/2006/relationships/hyperlink" Target="http://funforkids.ru/pictures/school18/school1820.gif" TargetMode="External"/><Relationship Id="rId9" Type="http://schemas.openxmlformats.org/officeDocument/2006/relationships/hyperlink" Target="http://funforkids.ru/pictures/school8/school0818.png" TargetMode="External"/><Relationship Id="rId10" Type="http://schemas.openxmlformats.org/officeDocument/2006/relationships/hyperlink" Target="http://www.lipetsktime.ru/photo/news/1_2437.jpg" TargetMode="External"/><Relationship Id="rId11" Type="http://schemas.openxmlformats.org/officeDocument/2006/relationships/hyperlink" Target="http://funforkids.ru/pictures/school23/school2311.gif" TargetMode="External"/><Relationship Id="rId12" Type="http://schemas.openxmlformats.org/officeDocument/2006/relationships/hyperlink" Target="http://gazeta.a42.ru/images/lenta/3727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Словарный диктант №2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orgia"/>
              </a:rPr>
              <a:t>«ШКОЛА»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761080" cy="4314600"/>
          </a:xfrm>
          <a:prstGeom prst="rect">
            <a:avLst/>
          </a:prstGeom>
          <a:ln w="76320">
            <a:solidFill>
              <a:srgbClr val="00339a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6362640" cy="4245120"/>
          </a:xfrm>
          <a:prstGeom prst="rect">
            <a:avLst/>
          </a:prstGeom>
          <a:ln w="76320">
            <a:solidFill>
              <a:srgbClr val="00339a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ПРОВЕРЬ СЕБ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Учит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льница, уч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ик, р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бята, к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а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р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а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даши, дев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о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чка, мальч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к, п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ал, т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традь, б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бл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о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тека, кла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сс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, д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журные.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нтернет-ресурсы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20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2"/>
              </a:rPr>
              <a:t>http://funforkids.ru/pictures/school3/school0306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учител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24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3"/>
              </a:rPr>
              <a:t>http://funforkids.ru/pictures/school21/school214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учени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57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4"/>
              </a:rPr>
              <a:t>http://funforkids.ru/pictures/school21/school2128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ребят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1497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  <a:hlinkClick r:id="rId5"/>
              </a:rPr>
              <a:t>http://funforkids.ru/pictures/school5/school0561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49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6"/>
              </a:rPr>
              <a:t>http://img-fotki.yandex.ru/get/4512/natali73123.283/0_50131_b1455f13_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мальчиш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79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7"/>
              </a:rPr>
              <a:t>http://smayli.ru/data/smiles/detia-565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воч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8"/>
              </a:rPr>
              <a:t>http://funforkids.ru/pictures/school18/school1820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1773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9"/>
              </a:rPr>
              <a:t>http://funforkids.ru/pictures/school8/school0818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тетрад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997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0"/>
              </a:rPr>
              <a:t>http://www.lipetsktime.ru/photo/news/1_243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библиоте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349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1"/>
              </a:rPr>
              <a:t>http://funforkids.ru/pictures/school23/school231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журны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3716280"/>
            <a:ext cx="37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2"/>
              </a:rPr>
              <a:t>http://gazeta.a42.ru/images/lenta/372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школьный клас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4691160" cy="43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81032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000920" cy="647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620640"/>
            <a:ext cx="357516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43280" y="907920"/>
            <a:ext cx="2544840" cy="44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471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81500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8240" cy="634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24:35Z</dcterms:created>
  <dc:creator/>
  <dc:description/>
  <cp:keywords/>
  <dc:language>en-US</dc:language>
  <cp:lastModifiedBy/>
  <dcterms:modified xsi:type="dcterms:W3CDTF">2012-06-12T14:10:13Z</dcterms:modified>
  <cp:revision>5</cp:revision>
  <dc:subject/>
  <dc:title>Словарный диктант №2</dc:title>
</cp:coreProperties>
</file>