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6521-2DA6-48D3-9847-902EA6FE15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69A-95FE-46B5-A58D-4CD0E41F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707-3ADD-4063-89B9-A984CB79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1D5-07D8-4DB5-874F-21306DB9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532A-9657-42FF-9039-F0F50200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C7B-9F39-46E7-8FCD-1E0AEAA6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98F-E69C-42BA-AACC-5B00C232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708-D050-4E7F-9F79-26A34640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37F-3D39-419B-A848-3C1CF6E6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CD9-92E9-47C8-BC50-72D1DEA4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0BC-086C-428D-AECB-31405634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AE3-4D03-4522-ABFE-A0FA6B50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A9E-5C92-4700-B514-CFC1DA69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8E99-F8FF-474C-8D28-BD9D67F7D0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633680" y="163440"/>
            <a:ext cx="604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ПРЯМОУГОЛЬНИ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782640" y="1012680"/>
            <a:ext cx="2774880" cy="182880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917880" y="816120"/>
            <a:ext cx="52261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ПРЯМОУГОЛЬНИК – ЭТО ПАРАЛЛЕЛОГРАММ, У КОТОРОГО ВСЕ УГЛЫ ПРЯМЫ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592440" y="2122560"/>
            <a:ext cx="555156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7030a0"/>
                </a:solidFill>
                <a:latin typeface="Calibri"/>
              </a:rPr>
              <a:t>ОСОБОЕ СВОЙСТВО ПРЯМОУГОЛЬНИКА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874960" y="3233880"/>
            <a:ext cx="626904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Диагонали прямоугольника равны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4213080"/>
            <a:ext cx="6400800" cy="20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7030a0"/>
                </a:solidFill>
                <a:latin typeface="Calibri"/>
              </a:rPr>
              <a:t>ПРИЗНАК ПРЯМОУГОЛЬНИКА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Если в параллелограмме диагонали равны, то этот параллелограмм – прямоугольни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1"/>
          <a:stretch/>
        </p:blipFill>
        <p:spPr>
          <a:xfrm>
            <a:off x="457200" y="3429000"/>
            <a:ext cx="2351160" cy="3201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587520" y="227160"/>
            <a:ext cx="8361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Arial"/>
              </a:rPr>
              <a:t>ПРИЗНАКИ</a:t>
            </a:r>
            <a:r>
              <a:rPr b="1" lang="ru-RU" sz="33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GB" sz="3300" spc="-1" strike="noStrike">
                <a:solidFill>
                  <a:srgbClr val="7030a0"/>
                </a:solidFill>
                <a:latin typeface="Arial"/>
              </a:rPr>
              <a:t> ПАРАЛЛЕЛОГРАММА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3525840" y="1141560"/>
            <a:ext cx="5618160" cy="49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Если в четырехугольнике две стороны равны и параллельны, то этот четырехугольник – параллелограм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37"/>
              </a:spcBef>
              <a:buSzPct val="100000"/>
              <a:buBlip>
                <a:blip r:embed="rId2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Если в четырехугольнике противоположные стороны попарно равны, то этот четырехугольник – параллелограм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37"/>
              </a:spcBef>
              <a:buSzPct val="100000"/>
              <a:buBlip>
                <a:blip r:embed="rId3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Если в четырехугольнике диагонали пересекаются и точкой пересечения делятся пополам, то этот четырехугольник – параллелограм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4"/>
          <a:stretch/>
        </p:blipFill>
        <p:spPr>
          <a:xfrm>
            <a:off x="522360" y="3168720"/>
            <a:ext cx="2787480" cy="327024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"/>
          <p:cNvSpPr/>
          <p:nvPr/>
        </p:nvSpPr>
        <p:spPr>
          <a:xfrm>
            <a:off x="652320" y="1077840"/>
            <a:ext cx="2613240" cy="1631880"/>
          </a:xfrm>
          <a:prstGeom prst="parallelogram">
            <a:avLst>
              <a:gd name="adj" fmla="val 4506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73200" y="358920"/>
            <a:ext cx="7808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Times New Roman"/>
              </a:rPr>
              <a:t>ПАРАЛЛЕЛ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"/>
          <p:cNvSpPr/>
          <p:nvPr/>
        </p:nvSpPr>
        <p:spPr>
          <a:xfrm>
            <a:off x="979560" y="1077840"/>
            <a:ext cx="2417760" cy="1501920"/>
          </a:xfrm>
          <a:prstGeom prst="parallelogram">
            <a:avLst>
              <a:gd name="adj" fmla="val 4505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57600" y="1077840"/>
            <a:ext cx="515952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Параллелограмм – это четырехугольник, у которого противоположные стороны попарно параллельн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776680" y="3102120"/>
            <a:ext cx="359244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22360" y="2940120"/>
            <a:ext cx="86216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71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СВОЙСТВА ПАРАЛЛЕЛОГРАМ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226120" y="3429000"/>
            <a:ext cx="3657600" cy="26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71000"/>
              </a:lnSpc>
              <a:buSzPct val="100000"/>
              <a:buBlip>
                <a:blip r:embed="rId1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В параллелограмме противоположные стороны равны и противоположные углы равны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1000"/>
              </a:lnSpc>
              <a:spcBef>
                <a:spcPts val="1037"/>
              </a:spcBef>
              <a:buSzPct val="100000"/>
              <a:buBlip>
                <a:blip r:embed="rId2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Диагонали параллелограмма точкой пересечения делятся попола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3"/>
          <a:stretch/>
        </p:blipFill>
        <p:spPr>
          <a:xfrm>
            <a:off x="1046160" y="3560760"/>
            <a:ext cx="2560680" cy="30034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1795320" y="227160"/>
            <a:ext cx="5551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Arial"/>
              </a:rPr>
              <a:t>ТРАП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"/>
          <p:cNvSpPr/>
          <p:nvPr/>
        </p:nvSpPr>
        <p:spPr>
          <a:xfrm>
            <a:off x="979560" y="946080"/>
            <a:ext cx="2286000" cy="1668600"/>
          </a:xfrm>
          <a:custGeom>
            <a:avLst/>
            <a:gdLst>
              <a:gd name="textAreaLeft" fmla="*/ 476280 w 2286000"/>
              <a:gd name="textAreaRight" fmla="*/ 1809720 w 2286000"/>
              <a:gd name="textAreaTop" fmla="*/ 347400 h 1668600"/>
              <a:gd name="textAreaBottom" fmla="*/ 1321200 h 166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083120" y="1633680"/>
            <a:ext cx="4572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755880" y="816120"/>
            <a:ext cx="51930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ТРАПЕЦИЯ – ЭТО ЧЕТЫРЕХУГОЛЬНИК, У КОТОРОГО ДВЕ СТОРОНЫ ПАРАЛЛЕЛЬНЫ, А ДВЕ ДРУГИЕ НЕ ПАРАЛЛЕЛЬНЫ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70080" y="2906640"/>
            <a:ext cx="607392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7030a0"/>
                </a:solidFill>
                <a:latin typeface="Arial"/>
              </a:rPr>
              <a:t>ВИДЫ ТРАПЕ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657600" y="3755880"/>
            <a:ext cx="535464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Равнобедренная трапеция – это трапеция, боковые стороны которой равн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37"/>
              </a:spcBef>
              <a:buSzPct val="100000"/>
              <a:buBlip>
                <a:blip r:embed="rId2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Прямоугольная трапеция – это трапеция, один из углов которой, прям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3"/>
          <a:stretch/>
        </p:blipFill>
        <p:spPr>
          <a:xfrm>
            <a:off x="457200" y="3689280"/>
            <a:ext cx="2449440" cy="2874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2938320" y="227160"/>
            <a:ext cx="574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"/>
          <p:cNvSpPr/>
          <p:nvPr/>
        </p:nvSpPr>
        <p:spPr>
          <a:xfrm>
            <a:off x="782640" y="227160"/>
            <a:ext cx="2254320" cy="2874960"/>
          </a:xfrm>
          <a:prstGeom prst="diamond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200400" y="946080"/>
            <a:ext cx="561672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РОМБ – ЭТО ПАРАЛЛЕЛОГРАММ, У КОТОРОГО ВСЕ СТОРОНЫ РАВНЫ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611440" y="3592440"/>
            <a:ext cx="4246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48080" y="3297240"/>
            <a:ext cx="659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ОСОБОЕ СВОЙСТВО РОМБА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265560" y="4278240"/>
            <a:ext cx="5618160" cy="16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Диагонали ромба взаимно перпендикулярны и делят его углы пополам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1"/>
          <a:stretch/>
        </p:blipFill>
        <p:spPr>
          <a:xfrm>
            <a:off x="488880" y="3755880"/>
            <a:ext cx="2448000" cy="2874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2938320" y="293760"/>
            <a:ext cx="39196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719280" y="358920"/>
            <a:ext cx="2122200" cy="222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265560" y="880920"/>
            <a:ext cx="548640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КВАДРАТ – ЭТО ПРЯМОУГОЛЬНИК, У КОТОРОГО ВСЕ СТОРОНЫ РАВНЫ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449440" y="2644920"/>
            <a:ext cx="656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ОСНОВНЫЕ СВОЙСТВА КВАДРАТА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960560" y="4408560"/>
            <a:ext cx="522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938320" y="3624120"/>
            <a:ext cx="62056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Все углы квадрата прямые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037"/>
              </a:spcBef>
              <a:buSzPct val="100000"/>
              <a:buBlip>
                <a:blip r:embed="rId2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Диагонали квадрата равны, взаимно    перпендикулярны, точкой             пересечения  делятся пополам и делят углы квадрата пополам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3"/>
          <a:stretch/>
        </p:blipFill>
        <p:spPr>
          <a:xfrm>
            <a:off x="522360" y="3036960"/>
            <a:ext cx="2352600" cy="3593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7:09:34Z</dcterms:created>
  <dc:creator>Лариса</dc:creator>
  <dc:description/>
  <dc:language>en-US</dc:language>
  <cp:lastModifiedBy>Лариса</cp:lastModifiedBy>
  <dcterms:modified xsi:type="dcterms:W3CDTF">2012-06-12T17:14:12Z</dcterms:modified>
  <cp:revision>3</cp:revision>
  <dc:subject/>
  <dc:title>Слайд 1</dc:title>
</cp:coreProperties>
</file>