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5BE6-08F2-4183-9659-FC84A80E8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1B9-7434-40CC-BAE4-D8317513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ACA-5FB6-4F0B-A1BA-03020293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878-B3C5-45C7-8BCA-3BF52A2F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BA9-4749-4E57-BD8E-E8B9C19A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6B7-7EAE-421A-B865-B0A39038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FFD-70FA-4680-84B8-4BC052AA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E9D-58D0-4612-8554-5E268689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987-29D5-4A1A-B397-DBD258D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DB6-D939-473D-96E8-7E53850C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3EB-506F-4468-9E6D-E2444EF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743-47F9-4ED9-BF08-2D568615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6D1-DF0C-4424-8D85-469771B9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F5F1-CFA6-4DF7-AAAC-D238D3F28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633680" y="163440"/>
            <a:ext cx="604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ПРЯМОУГОЛЬНИ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782640" y="1012680"/>
            <a:ext cx="2774880" cy="182880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917880" y="816120"/>
            <a:ext cx="52261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ПРЯМОУГОЛЬНИК – ЭТО ПАРАЛЛЕЛОГРАММ, У КОТОРОГО ВСЕ УГЛЫ ПРЯМЫ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592440" y="2122560"/>
            <a:ext cx="555156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ОСОБОЕ СВОЙСТВО ПРЯМОУГОЛЬНИК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74960" y="3233880"/>
            <a:ext cx="626904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Диагонали прямоугольника равны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4213080"/>
            <a:ext cx="640080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ПРИЗНАК ПРЯМОУГОЛЬНИК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Если в параллелограмме диагонали равны, то этот параллелограмм – прямоугольни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1"/>
          <a:stretch/>
        </p:blipFill>
        <p:spPr>
          <a:xfrm>
            <a:off x="457200" y="3429000"/>
            <a:ext cx="2351160" cy="3201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87520" y="227160"/>
            <a:ext cx="836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Arial"/>
              </a:rPr>
              <a:t>ПРИЗНАКИ</a:t>
            </a:r>
            <a:r>
              <a:rPr b="1" lang="ru-RU" sz="33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GB" sz="3300" spc="-1" strike="noStrike">
                <a:solidFill>
                  <a:srgbClr val="7030a0"/>
                </a:solidFill>
                <a:latin typeface="Arial"/>
              </a:rPr>
              <a:t> ПАРАЛЛЕЛОГРАММ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525840" y="1141560"/>
            <a:ext cx="5618160" cy="49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Если в четырехугольнике две стороны равны и параллельны, то этот четырехугольник – параллелограм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37"/>
              </a:spcBef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Если в четырехугольнике противоположные стороны попарно равны, то этот четырехугольник – параллелограм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37"/>
              </a:spcBef>
              <a:buSzPct val="100000"/>
              <a:buBlip>
                <a:blip r:embed="rId3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Если в четырехугольнике диагонали пересекаются и точкой пересечения делятся пополам, то этот четырехугольник – параллелограм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4"/>
          <a:stretch/>
        </p:blipFill>
        <p:spPr>
          <a:xfrm>
            <a:off x="522360" y="3168720"/>
            <a:ext cx="2787480" cy="32702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"/>
          <p:cNvSpPr/>
          <p:nvPr/>
        </p:nvSpPr>
        <p:spPr>
          <a:xfrm>
            <a:off x="652320" y="1077840"/>
            <a:ext cx="2613240" cy="1631880"/>
          </a:xfrm>
          <a:prstGeom prst="parallelogram">
            <a:avLst>
              <a:gd name="adj" fmla="val 4506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73200" y="358920"/>
            <a:ext cx="7808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Times New Roman"/>
              </a:rPr>
              <a:t>ПАРАЛЛЕЛ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979560" y="1077840"/>
            <a:ext cx="2417760" cy="1501920"/>
          </a:xfrm>
          <a:prstGeom prst="parallelogram">
            <a:avLst>
              <a:gd name="adj" fmla="val 4505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57600" y="1077840"/>
            <a:ext cx="51595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Параллелограмм – это четырехугольник, у которого противоположные стороны попарно параллельн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776680" y="3102120"/>
            <a:ext cx="359244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22360" y="2940120"/>
            <a:ext cx="86216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СВОЙСТВА ПАРАЛЛЕЛОГРАМ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226120" y="3429000"/>
            <a:ext cx="3657600" cy="26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71000"/>
              </a:lnSpc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В параллелограмме противоположные стороны равны и противоположные углы равн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spcBef>
                <a:spcPts val="1037"/>
              </a:spcBef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Диагонали параллелограмма точкой пересечения делятся попола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3"/>
          <a:stretch/>
        </p:blipFill>
        <p:spPr>
          <a:xfrm>
            <a:off x="1046160" y="3560760"/>
            <a:ext cx="2560680" cy="3003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795320" y="227160"/>
            <a:ext cx="5551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ТРАП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979560" y="946080"/>
            <a:ext cx="2286000" cy="1668600"/>
          </a:xfrm>
          <a:custGeom>
            <a:avLst/>
            <a:gdLst>
              <a:gd name="textAreaLeft" fmla="*/ 476280 w 2286000"/>
              <a:gd name="textAreaRight" fmla="*/ 1809720 w 2286000"/>
              <a:gd name="textAreaTop" fmla="*/ 347400 h 1668600"/>
              <a:gd name="textAreaBottom" fmla="*/ 1321200 h 166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083120" y="1633680"/>
            <a:ext cx="4572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755880" y="816120"/>
            <a:ext cx="51930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ТРАПЕЦИЯ – ЭТО ЧЕТЫРЕХУГОЛЬНИК, У КОТОРОГО ДВЕ СТОРОНЫ ПАРАЛЛЕЛЬНЫ, А ДВЕ ДРУГИЕ НЕ ПАРАЛЛЕЛЬН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70080" y="2906640"/>
            <a:ext cx="60739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7030a0"/>
                </a:solidFill>
                <a:latin typeface="Arial"/>
              </a:rPr>
              <a:t>ВИДЫ ТРАПЕ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657600" y="3755880"/>
            <a:ext cx="535464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Равнобедренная трапеция – это трапеция, боковые стороны которой рав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37"/>
              </a:spcBef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Прямоугольная трапеция – это трапеция, один из углов которой, прям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3"/>
          <a:stretch/>
        </p:blipFill>
        <p:spPr>
          <a:xfrm>
            <a:off x="457200" y="3689280"/>
            <a:ext cx="2449440" cy="2874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2938320" y="227160"/>
            <a:ext cx="574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782640" y="227160"/>
            <a:ext cx="2254320" cy="287496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00400" y="946080"/>
            <a:ext cx="56167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РОМБ – ЭТО ПАРАЛЛЕЛОГРАММ, У КОТОРОГО ВСЕ СТОРОНЫ РАВН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611440" y="3592440"/>
            <a:ext cx="4246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48080" y="3297240"/>
            <a:ext cx="659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ОСОБОЕ СВОЙСТВО РОМБ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265560" y="4278240"/>
            <a:ext cx="561816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Диагонали ромба взаимно перпендикулярны и делят его углы попола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1"/>
          <a:stretch/>
        </p:blipFill>
        <p:spPr>
          <a:xfrm>
            <a:off x="488880" y="3755880"/>
            <a:ext cx="2448000" cy="2874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2938320" y="293760"/>
            <a:ext cx="39196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19280" y="358920"/>
            <a:ext cx="2122200" cy="222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265560" y="880920"/>
            <a:ext cx="54864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КВАДРАТ – ЭТО ПРЯМОУГОЛЬНИК, У КОТОРОГО ВСЕ СТОРОНЫ РАВНЫ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449440" y="2644920"/>
            <a:ext cx="656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ОСНОВНЫЕ СВОЙСТВА КВАДРАТ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960560" y="4408560"/>
            <a:ext cx="522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38320" y="3624120"/>
            <a:ext cx="62056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Все углы квадрата прямые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37"/>
              </a:spcBef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Диагонали квадрата равны, взаимно    перпендикулярны, точкой             пересечения  делятся пополам и делят углы квадрата пополам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3"/>
          <a:stretch/>
        </p:blipFill>
        <p:spPr>
          <a:xfrm>
            <a:off x="522360" y="3036960"/>
            <a:ext cx="2352600" cy="3593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09:34Z</dcterms:created>
  <dc:creator>Лариса</dc:creator>
  <dc:description/>
  <dc:language>en-US</dc:language>
  <cp:lastModifiedBy>Лариса</cp:lastModifiedBy>
  <dcterms:modified xsi:type="dcterms:W3CDTF">2012-06-12T17:14:12Z</dcterms:modified>
  <cp:revision>3</cp:revision>
  <dc:subject/>
  <dc:title>Слайд 1</dc:title>
</cp:coreProperties>
</file>