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688B-C4BA-4D64-9ED5-75784BDBC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9D6-18A1-45EF-B3D7-CA661E03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8C4-2B62-4CA6-8BFD-77445F61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9F0-81C7-4EE8-A697-1D8FB439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012-233B-4165-9E54-A51C5070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2AA-C580-4742-A846-F3CA616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C36-F442-4DBA-9E3E-7EB58E0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608-EF53-496D-8396-C6872EC9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8C5-575A-4186-814D-1AC02AFB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BBA-A11B-4FF3-9C8B-60BA23EC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F4E-8B58-4959-86EA-CD92864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3EC-5C0F-4CD2-A72A-9B3B642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C01-7D9C-44B1-9CCD-02DB59B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8D9A-0C3F-4052-B41F-921E59F89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143000" y="227160"/>
            <a:ext cx="63673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ОГЛАВЛЕ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984480" y="1077840"/>
            <a:ext cx="515952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1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Параллел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2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Трапе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3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Прямоуголь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4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Ром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74"/>
              </a:spcAft>
              <a:buSzPct val="100000"/>
              <a:buBlip>
                <a:blip r:embed="rId5"/>
              </a:buBlip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  </a:t>
            </a:r>
            <a:r>
              <a:rPr b="1" lang="en-GB" sz="4000" spc="-1" strike="noStrike">
                <a:solidFill>
                  <a:srgbClr val="0047ff"/>
                </a:solidFill>
                <a:latin typeface="Calibri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0" descr="C:\Documents and Settings\Лариса\Мои документы\11 класс мой\картинки выпуск\учитель1.jpg"/>
          <p:cNvPicPr/>
          <p:nvPr/>
        </p:nvPicPr>
        <p:blipFill>
          <a:blip r:embed="rId6"/>
          <a:stretch/>
        </p:blipFill>
        <p:spPr>
          <a:xfrm>
            <a:off x="652320" y="1535040"/>
            <a:ext cx="318132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"/>
          <p:cNvPicPr/>
          <p:nvPr/>
        </p:nvPicPr>
        <p:blipFill>
          <a:blip r:embed="rId7"/>
          <a:stretch/>
        </p:blipFill>
        <p:spPr>
          <a:xfrm>
            <a:off x="4049640" y="4408560"/>
            <a:ext cx="48992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16:49Z</dcterms:created>
  <dc:creator>Лариса</dc:creator>
  <dc:description/>
  <dc:language>en-US</dc:language>
  <cp:lastModifiedBy>Лариса</cp:lastModifiedBy>
  <dcterms:modified xsi:type="dcterms:W3CDTF">2012-06-12T17:26:48Z</dcterms:modified>
  <cp:revision>1</cp:revision>
  <dc:subject/>
  <dc:title>Слайд 1</dc:title>
</cp:coreProperties>
</file>