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B166-E71E-4159-9FF2-7489FE24F3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1155600" y="933480"/>
            <a:ext cx="4356360" cy="33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1031760" y="4626000"/>
            <a:ext cx="460872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9F32-A367-4D24-AB1C-A69577DB1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6757-A7D0-4031-93D9-34E981C6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0703-9A66-4520-B8BE-1102254CB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FF47-4102-4A2E-B05A-7A4179F41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2DC0-E1D0-4112-921A-6C0A3B5B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423F-1D70-4828-A8B4-D83602B7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B116-4FF4-4239-AA18-3AB9B8D4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E079-2978-4AA9-80D4-52CAD379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40F0-FBEC-4A0A-8C06-3F024C05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5F69-0E8B-4DFC-81FE-9651E830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0B04-FBE3-4F5E-8550-8D1572B4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B1ED-53AF-4E8B-87E2-E5741F5E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DACD-AFFF-4D4C-ADE1-1BF97B490B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457200" y="129600"/>
            <a:ext cx="868680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7030a0"/>
                </a:solidFill>
                <a:latin typeface="Times New Roman"/>
              </a:rPr>
              <a:t>Домашнее </a:t>
            </a:r>
            <a:r>
              <a:rPr b="1" lang="ru-RU" sz="6000" spc="-1" strike="noStrike">
                <a:solidFill>
                  <a:srgbClr val="7030a0"/>
                </a:solidFill>
                <a:latin typeface="Times New Roman"/>
              </a:rPr>
              <a:t>  </a:t>
            </a:r>
            <a:r>
              <a:rPr b="1" lang="en-GB" sz="6000" spc="-1" strike="noStrike">
                <a:solidFill>
                  <a:srgbClr val="7030a0"/>
                </a:solidFill>
                <a:latin typeface="Times New Roman"/>
              </a:rPr>
              <a:t>задание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54120" y="1273320"/>
            <a:ext cx="5159160" cy="60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70c0"/>
                </a:solidFill>
                <a:latin typeface="Calibri"/>
              </a:rPr>
              <a:t>№</a:t>
            </a:r>
            <a:r>
              <a:rPr b="0" lang="en-GB" sz="3300" spc="-1" strike="noStrike">
                <a:solidFill>
                  <a:srgbClr val="0070c0"/>
                </a:solidFill>
                <a:latin typeface="Calibri"/>
              </a:rPr>
              <a:t>1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300"/>
            </a:b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 Диагонали прямоугольника ABCD пересекаются в точке О, 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Calibri"/>
                <a:ea typeface="Arial"/>
              </a:rPr>
              <a:t>угол 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  <a:ea typeface="Arial"/>
              </a:rPr>
              <a:t>ABO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  <a:ea typeface="Arial"/>
              </a:rPr>
              <a:t> равен 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  <a:ea typeface="Arial"/>
              </a:rPr>
              <a:t>8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  <a:ea typeface="Arial"/>
              </a:rPr>
              <a:t>°. </a:t>
            </a:r>
            <a:br>
              <a:rPr sz="3300"/>
            </a:br>
            <a:r>
              <a:rPr b="0" lang="en-GB" sz="3300" spc="-1" strike="noStrike">
                <a:solidFill>
                  <a:srgbClr val="000000"/>
                </a:solidFill>
                <a:latin typeface="Calibri"/>
                <a:ea typeface="Arial"/>
              </a:rPr>
              <a:t>Найдите угол AOD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70c0"/>
                </a:solidFill>
                <a:latin typeface="Calibri"/>
                <a:ea typeface="Arial"/>
              </a:rPr>
              <a:t>№</a:t>
            </a:r>
            <a:r>
              <a:rPr b="0" lang="en-GB" sz="3300" spc="-1" strike="noStrike">
                <a:solidFill>
                  <a:srgbClr val="0070c0"/>
                </a:solidFill>
                <a:latin typeface="Calibri"/>
                <a:ea typeface="Arial"/>
              </a:rPr>
              <a:t>2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  <a:ea typeface="Arial"/>
              </a:rPr>
              <a:t>Найдите углы прямоугольной трапеции, если один из ее углов равен 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  <a:ea typeface="Arial"/>
              </a:rPr>
              <a:t>0°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24" descr="C:\Documents and Settings\Лариса\Мои документы\11 класс мой\картинки выпуск\за партой 1.jpg"/>
          <p:cNvPicPr/>
          <p:nvPr/>
        </p:nvPicPr>
        <p:blipFill>
          <a:blip r:embed="rId1"/>
          <a:stretch/>
        </p:blipFill>
        <p:spPr>
          <a:xfrm>
            <a:off x="6084720" y="1844640"/>
            <a:ext cx="2519640" cy="37670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2T17:29:09Z</dcterms:created>
  <dc:creator>Лариса</dc:creator>
  <dc:description/>
  <dc:language>en-US</dc:language>
  <cp:lastModifiedBy>Лариса</cp:lastModifiedBy>
  <dcterms:modified xsi:type="dcterms:W3CDTF">2012-06-12T17:36:23Z</dcterms:modified>
  <cp:revision>3</cp:revision>
  <dc:subject/>
  <dc:title>Слайд 1</dc:title>
</cp:coreProperties>
</file>