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DEB7-37D6-4FE6-BE21-02D0CD6232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1155600" y="933480"/>
            <a:ext cx="4356360" cy="33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031760" y="4626000"/>
            <a:ext cx="460872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D1F-AC7B-4EAD-B983-16804258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ABD-E428-42B7-8B3A-830B54F0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541-D0CB-4775-9C98-117F403F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E99-3D38-464B-A867-3D028C14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01C-CDD2-420C-BDD6-F7D3DF82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923-CB13-451B-9E28-00EB5AF2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D06-25E4-4F05-827D-304636D8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C4C-CDCF-4B91-9D3B-611F2EB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80FA-4B6F-49CA-9CBD-23A2C79C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02D-9342-42B4-925D-9586F114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474-94F8-41C1-8B82-715E59A9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2490-CEB2-4FBF-B428-697684E6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6AE1-B7D1-4F68-9F19-AB9CABD00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57200" y="129600"/>
            <a:ext cx="86868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Times New Roman"/>
              </a:rPr>
              <a:t>Домашнее </a:t>
            </a: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en-GB" sz="6000" spc="-1" strike="noStrike">
                <a:solidFill>
                  <a:srgbClr val="7030a0"/>
                </a:solidFill>
                <a:latin typeface="Times New Roman"/>
              </a:rPr>
              <a:t>зада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54120" y="1273320"/>
            <a:ext cx="515916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№</a:t>
            </a: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Диагонали прямоугольника ABCD пересекаются в точке О,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Calibri"/>
                <a:ea typeface="Arial"/>
              </a:rPr>
              <a:t>угол 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ABO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  <a:ea typeface="Arial"/>
              </a:rPr>
              <a:t> равен 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°. 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Найдите угол AOD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  <a:ea typeface="Arial"/>
              </a:rPr>
              <a:t>№</a:t>
            </a:r>
            <a:r>
              <a:rPr b="0" lang="en-GB" sz="33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Найдите углы прямоугольной трапеции, если один из ее углов равен </a:t>
            </a:r>
            <a:r>
              <a:rPr b="0" lang="ru-RU" sz="33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  <a:ea typeface="Arial"/>
              </a:rPr>
              <a:t>0°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24" descr="C:\Documents and Settings\Лариса\Мои документы\11 класс мой\картинки выпуск\за партой 1.jpg"/>
          <p:cNvPicPr/>
          <p:nvPr/>
        </p:nvPicPr>
        <p:blipFill>
          <a:blip r:embed="rId1"/>
          <a:stretch/>
        </p:blipFill>
        <p:spPr>
          <a:xfrm>
            <a:off x="6084720" y="1844640"/>
            <a:ext cx="2519640" cy="37670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17:29:09Z</dcterms:created>
  <dc:creator>Лариса</dc:creator>
  <dc:description/>
  <dc:language>en-US</dc:language>
  <cp:lastModifiedBy>Лариса</cp:lastModifiedBy>
  <dcterms:modified xsi:type="dcterms:W3CDTF">2012-06-12T17:36:23Z</dcterms:modified>
  <cp:revision>3</cp:revision>
  <dc:subject/>
  <dc:title>Слайд 1</dc:title>
</cp:coreProperties>
</file>