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768D-FF49-4DD2-96BE-D2DA769B03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155600" y="933480"/>
            <a:ext cx="4356360" cy="33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1031760" y="4626000"/>
            <a:ext cx="460872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B5AC-CFFB-49F2-855A-7DA41042F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C413-73C7-4DD9-9FCB-784B137C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390F-DD41-4704-89FE-291971939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C83C-5E91-4A8E-81D8-13756D02B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F157-91B3-4748-AE97-591BB374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2923-69EA-48F0-9760-91078FAB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3E8D-33F5-4274-B273-0F7DFDC6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F23A-9CB2-4914-943B-11D565EF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EEED-5CFD-480D-AA74-B07B49FB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95FF-9CEF-4D1B-B459-8DA89C9D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87BB-4DC3-4FEE-A58B-BA45BDF7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CE0F-EC52-4DF2-A2F7-273F7201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31B5-EC40-4F44-9846-66363D2D05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1468440" y="1633680"/>
            <a:ext cx="66945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3525840" y="880920"/>
            <a:ext cx="542304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just"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Найдите углы ромба, если его диагонали составляют с его сторонами углы, один из которых на 30</a:t>
            </a:r>
            <a:r>
              <a:rPr b="0" lang="en-GB" sz="3300" spc="-1" strike="noStrike">
                <a:solidFill>
                  <a:srgbClr val="000000"/>
                </a:solidFill>
                <a:latin typeface="Calibri"/>
                <a:ea typeface="Arial"/>
              </a:rPr>
              <a:t>° меньше другого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Calibri"/>
                <a:ea typeface="Arial"/>
              </a:rPr>
              <a:t>№</a:t>
            </a:r>
            <a:r>
              <a:rPr b="0" lang="en-GB" sz="3300" spc="-1" strike="noStrike">
                <a:solidFill>
                  <a:srgbClr val="000000"/>
                </a:solidFill>
                <a:latin typeface="Calibri"/>
                <a:ea typeface="Arial"/>
              </a:rPr>
              <a:t>4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Calibri"/>
                <a:ea typeface="Arial"/>
              </a:rPr>
              <a:t>Внутри квадрата ABCD выбрана точка М так, что треугольник АМD равносторонний. Найдите угол АМВ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2200" y="69480"/>
            <a:ext cx="7807320" cy="8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7030a0"/>
                </a:solidFill>
                <a:latin typeface="Calibri"/>
              </a:rPr>
              <a:t>Домашнее задание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024" descr="C:\Documents and Settings\Лариса\Мои документы\11 класс мой\картинки выпуск\за партой 1.jpg"/>
          <p:cNvPicPr/>
          <p:nvPr/>
        </p:nvPicPr>
        <p:blipFill>
          <a:blip r:embed="rId1"/>
          <a:stretch/>
        </p:blipFill>
        <p:spPr>
          <a:xfrm>
            <a:off x="684360" y="1773360"/>
            <a:ext cx="2519280" cy="37670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2T17:35:34Z</dcterms:created>
  <dc:creator>Лариса</dc:creator>
  <dc:description/>
  <dc:language>en-US</dc:language>
  <cp:lastModifiedBy>Лариса</cp:lastModifiedBy>
  <dcterms:modified xsi:type="dcterms:W3CDTF">2012-06-12T17:43:09Z</dcterms:modified>
  <cp:revision>4</cp:revision>
  <dc:subject/>
  <dc:title>Домашнее задание:</dc:title>
</cp:coreProperties>
</file>