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C941-FBDC-4689-9CA5-0E58F3AA4C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1B5F-4669-41A8-AD17-FC74CD38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070-0B0C-45EB-BFAA-592BADE8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591-2E2E-4D1B-AF09-0370A6C2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F22-3D64-4ADF-A12A-0806AD86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039-83BE-48F4-80FF-5900237E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4D87-0186-4B0F-A1B0-7CF1AED8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3F2B-857A-4BF5-9CC6-2D4F5E8C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8AD-843C-4813-BA4B-55D94381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C84-540E-4E60-90BD-79D8E7DA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E49-3178-4C89-8590-0F9D18C0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FF7-0888-409F-8B9A-D46D1A83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07D2-0488-48DF-ACDB-7C17D06A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BEDE-C496-4E26-A5E9-7E20350A86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1468440" y="1633680"/>
            <a:ext cx="66945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3525840" y="880920"/>
            <a:ext cx="54230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Найдите углы ромба, если его диагонали составляют с его сторонами углы, один из которых на 30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  <a:ea typeface="Arial"/>
              </a:rPr>
              <a:t>° меньше другого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  <a:ea typeface="Arial"/>
              </a:rPr>
              <a:t>4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  <a:ea typeface="Arial"/>
              </a:rPr>
              <a:t>Внутри квадрата ABCD выбрана точка М так, что треугольник АМD равносторонний. Найдите угол АМВ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2200" y="69480"/>
            <a:ext cx="780732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7030a0"/>
                </a:solidFill>
                <a:latin typeface="Calibri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024" descr="C:\Documents and Settings\Лариса\Мои документы\11 класс мой\картинки выпуск\за партой 1.jpg"/>
          <p:cNvPicPr/>
          <p:nvPr/>
        </p:nvPicPr>
        <p:blipFill>
          <a:blip r:embed="rId1"/>
          <a:stretch/>
        </p:blipFill>
        <p:spPr>
          <a:xfrm>
            <a:off x="684360" y="1773360"/>
            <a:ext cx="2519280" cy="37670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7:35:34Z</dcterms:created>
  <dc:creator>Лариса</dc:creator>
  <dc:description/>
  <dc:language>en-US</dc:language>
  <cp:lastModifiedBy>Лариса</cp:lastModifiedBy>
  <dcterms:modified xsi:type="dcterms:W3CDTF">2012-06-12T17:43:09Z</dcterms:modified>
  <cp:revision>4</cp:revision>
  <dc:subject/>
  <dc:title>Домашнее задание:</dc:title>
</cp:coreProperties>
</file>