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4E9-AF10-4DB3-927E-31EF3B57CD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AE7-03BE-468B-ABC6-BD388273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CC5-BD76-474F-9334-8F51B4F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2E8-3F67-4C58-825B-FE6EFADF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490-0D74-4EAD-B2CB-7B7D39FD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C52-4184-4925-B6DE-E9CD1BFC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F3D-8600-45F8-93C8-AD703AC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14B-5812-45EE-A6B3-ACD1CFE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553-6CBE-4F8F-9AEE-C4FA37A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AE6-BF66-4B1C-87B1-26752631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319-23C3-4D94-80EA-7DE8383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D9B-78F9-44EE-AA10-F4C399C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E53-5DF6-4748-9A9D-1B7D03F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B3A0-1E32-4875-BC88-7F7F32541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31680"/>
            <a:ext cx="78073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Проверочный</a:t>
            </a: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тест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3099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Любой прямоугольник является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а)ромб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б)квадрат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в)параллелограмм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г)нет правильного ответ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06480" y="1992240"/>
            <a:ext cx="4637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Любой ромб явля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а)квадрат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б)прямоугольник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в)параллелограмм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г)нет правильного отв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41280" y="1077840"/>
            <a:ext cx="326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551560" y="1141560"/>
            <a:ext cx="2873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47160"/>
            <a:ext cx="78073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Проверочный тест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92040" y="1338120"/>
            <a:ext cx="4572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Если 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етырехугольник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иагона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перпендикулярны, т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этот четырехугольник -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а) ромб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б) квадрат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в) прямоугольник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г) нет правильного отве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672080" y="1338120"/>
            <a:ext cx="44719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Если в параллелограмме диагонали перпендикулярны, то этот параллелограмм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а) ромб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б) квадрат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в) прямоугольник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г) нет правильного ответ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33480" y="94608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661080" y="946080"/>
            <a:ext cx="23511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2320" y="-92160"/>
            <a:ext cx="83282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Проверочный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 тест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76712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Ромб – это четырехугольник, в котор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) диагонали точкой пересечения делятся пополам и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б) диагонали взаимно перпендикулярны и точкой пересечения делятся попол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в) противолежащие углы равны, а противолежащие стороны параллель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) нет правильного от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907560"/>
            <a:ext cx="45720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Прямоугольник – это четырехугольник, в котор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а) противолежащие стороны параллельны, а диагонали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б) диагонали точкой пересечения делятся пополам и являются биссектрисами его уг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в) два угла прямые и две стороны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г) нет правильного от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620640"/>
            <a:ext cx="27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24320" y="620640"/>
            <a:ext cx="27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187280" y="0"/>
            <a:ext cx="63230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Ответы к тест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1 вариан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) в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) г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) б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219640" y="1844640"/>
            <a:ext cx="29448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2 вариан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) в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) а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) а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6:59:37Z</dcterms:created>
  <dc:creator>Лариса</dc:creator>
  <dc:description/>
  <dc:language>en-US</dc:language>
  <cp:lastModifiedBy>Лариса</cp:lastModifiedBy>
  <dcterms:modified xsi:type="dcterms:W3CDTF">2012-06-12T17:33:45Z</dcterms:modified>
  <cp:revision>4</cp:revision>
  <dc:subject/>
  <dc:title>Проверочный  тест 1</dc:title>
</cp:coreProperties>
</file>