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9A58-71FC-43AE-AEF5-8B6AD06BAC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EB6-EDA6-4884-84C8-660B0B28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891-4B98-4C4E-9FA7-2895A30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A7D-FD96-46E7-B852-8ACA879E2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E0A-7659-4F26-85F4-8CA2417D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65C-78BA-4EF6-BDCC-ECB7722B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8F2-248F-4534-AE87-A8F487E3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080-9DE9-4CC9-8BD0-B76188C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C4A-5432-47FF-A328-CF9E778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76F-845E-4C7E-BCD5-AAF7575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9A7-680C-40E9-B07D-7D78C0B0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C98-7706-4F0E-BB46-6BB49474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507-A749-461B-8F70-B25F1B8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71EB-12B0-45EF-9AD7-2057F5778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31680"/>
            <a:ext cx="78073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Проверочный</a:t>
            </a: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тест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3099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Любой прямоугольник является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а)ромб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б)квадрат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в)параллелограммом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г)нет правильного ответа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06480" y="1992240"/>
            <a:ext cx="4637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Любой ромб являетс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а)квадрат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б)прямоугольник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в)параллелограмм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2060"/>
                </a:solidFill>
                <a:latin typeface="Calibri"/>
              </a:rPr>
              <a:t>г)нет правильного отве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41280" y="1077840"/>
            <a:ext cx="3265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551560" y="1141560"/>
            <a:ext cx="2873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47160"/>
            <a:ext cx="78073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Проверочный тест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92040" y="1338120"/>
            <a:ext cx="4572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Если 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етырехугольник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иагона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перпендикулярны, т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этот четырехугольник -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а) ромб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б) квадрат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в) прямоугольник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г) нет правильного отве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672080" y="1338120"/>
            <a:ext cx="44719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Если в параллелограмме диагонали перпендикулярны, то этот параллелограмм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а) ромб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б) квадрат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в) прямоугольник;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79440" indent="-284040">
              <a:lnSpc>
                <a:spcPct val="95000"/>
              </a:lnSpc>
              <a:spcAft>
                <a:spcPts val="1287"/>
              </a:spcAft>
              <a:buClr>
                <a:srgbClr val="002060"/>
              </a:buClr>
              <a:buFont typeface="Wingdings" charset="2"/>
              <a:buChar char=""/>
              <a:tabLst>
                <a:tab algn="l" pos="379440"/>
                <a:tab algn="l" pos="785880"/>
                <a:tab algn="l" pos="1192320"/>
                <a:tab algn="l" pos="1600200"/>
                <a:tab algn="l" pos="2008080"/>
                <a:tab algn="l" pos="2416320"/>
                <a:tab algn="l" pos="2822400"/>
                <a:tab algn="l" pos="3230640"/>
                <a:tab algn="l" pos="3638520"/>
                <a:tab algn="l" pos="4044960"/>
                <a:tab algn="l" pos="4452840"/>
                <a:tab algn="l" pos="4861080"/>
                <a:tab algn="l" pos="5268960"/>
                <a:tab algn="l" pos="5675400"/>
                <a:tab algn="l" pos="6083280"/>
                <a:tab algn="l" pos="6491160"/>
                <a:tab algn="l" pos="6897600"/>
                <a:tab algn="l" pos="7305840"/>
                <a:tab algn="l" pos="7713720"/>
                <a:tab algn="l" pos="8121600"/>
                <a:tab algn="l" pos="852804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2060"/>
                </a:solidFill>
                <a:latin typeface="Times New Roman"/>
              </a:rPr>
              <a:t>г) нет правильного ответ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33480" y="946080"/>
            <a:ext cx="2855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661080" y="946080"/>
            <a:ext cx="23511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2320" y="-92160"/>
            <a:ext cx="83282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Проверочный</a:t>
            </a: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 тест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76712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Ромб – это четырехугольник, в котор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) диагонали точкой пересечения делятся пополам и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б) диагонали взаимно перпендикулярны и точкой пересечения делятся попол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в) противолежащие углы равны, а противолежащие стороны параллель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) нет правильного от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0" y="907560"/>
            <a:ext cx="457200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Прямоугольник – это четырехугольник, в котор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а) противолежащие стороны параллельны, а диагонали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б) диагонали точкой пересечения делятся пополам и являются биссектрисами его угл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в) два угла прямые и две стороны равн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2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Calibri"/>
              </a:rPr>
              <a:t>г) нет правильного отв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143000" y="620640"/>
            <a:ext cx="27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Calibri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224320" y="620640"/>
            <a:ext cx="27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7ff"/>
                </a:solidFill>
                <a:latin typeface="Calibri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1187280" y="0"/>
            <a:ext cx="632304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Ответы к тест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1 вариан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) в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) г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) б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5219640" y="1844640"/>
            <a:ext cx="29448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2 вариан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) в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) а)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) а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6:59:37Z</dcterms:created>
  <dc:creator>Лариса</dc:creator>
  <dc:description/>
  <dc:language>en-US</dc:language>
  <cp:lastModifiedBy>Лариса</cp:lastModifiedBy>
  <dcterms:modified xsi:type="dcterms:W3CDTF">2012-06-12T17:33:45Z</dcterms:modified>
  <cp:revision>4</cp:revision>
  <dc:subject/>
  <dc:title>Проверочный  тест 1</dc:title>
</cp:coreProperties>
</file>