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gif" ContentType="image/gif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64E8E-14EC-46D7-B2A5-B80D746ACE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AD297-04D0-4053-8E99-E445615C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FDC5A-FA72-4073-AFEA-E546C458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9B086-1175-406B-8D3F-B54BC71FBC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B384E-BD54-4C84-8172-8F5495E5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518D9-AE0B-43B2-B7C2-17B4FD46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FCC93-5CEC-462D-80DF-FA2C4E06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F74FA-DA77-4F16-AC11-0EC49A28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89727-103A-4ED8-837D-5F033109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6ADA6-3E5C-4CD7-8DCD-2CAC78B2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D879D-8B37-4A1A-A58D-CACA292F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642A7-4C31-46D5-B02C-5EAC0CA3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9BEBB-3824-4B3B-8B77-2A32ECA7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444A8-828D-49F5-A3DE-79CCD781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9ADCC-1249-4F55-B7D8-6B2F0DD3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A462D-3F20-4402-B4D8-305F46C7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C94B5-557B-4318-A0E3-175CEC07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D6333-C320-429B-AA19-07B7FCA5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007C5-CA06-4365-BDD7-F6CF468A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DB34E-A934-43AA-A24D-90AD250F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F6352-5BFD-4D1D-A758-E46DAA23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67D35-846D-4952-9964-51FB1EA8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46F75-D77C-46A4-B473-898941A5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7E3CC-B582-4901-945C-6850CBA1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1000" y="0"/>
            <a:ext cx="1143000" cy="6858000"/>
          </a:xfrm>
          <a:prstGeom prst="rect">
            <a:avLst/>
          </a:prstGeom>
          <a:gradFill rotWithShape="0">
            <a:gsLst>
              <a:gs pos="0">
                <a:srgbClr val="ff9900">
                  <a:alpha val="8235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816120" cy="83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96B3-5BFA-4FE4-B4C1-122B955BA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9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4114800" cy="6858000"/>
          </a:xfrm>
          <a:custGeom>
            <a:avLst/>
            <a:gdLst/>
            <a:ahLst/>
            <a:rect l="l" t="t" r="r" b="b"/>
            <a:pathLst>
              <a:path w="2592" h="4320">
                <a:moveTo>
                  <a:pt x="624" y="0"/>
                </a:moveTo>
                <a:lnTo>
                  <a:pt x="0" y="0"/>
                </a:lnTo>
                <a:lnTo>
                  <a:pt x="0" y="4320"/>
                </a:lnTo>
                <a:lnTo>
                  <a:pt x="2592" y="4320"/>
                </a:lnTo>
                <a:cubicBezTo>
                  <a:pt x="2592" y="4320"/>
                  <a:pt x="1828" y="4051"/>
                  <a:pt x="1552" y="3891"/>
                </a:cubicBezTo>
                <a:cubicBezTo>
                  <a:pt x="1276" y="3731"/>
                  <a:pt x="1095" y="3545"/>
                  <a:pt x="935" y="3362"/>
                </a:cubicBezTo>
                <a:cubicBezTo>
                  <a:pt x="775" y="3179"/>
                  <a:pt x="675" y="2997"/>
                  <a:pt x="570" y="2809"/>
                </a:cubicBezTo>
                <a:cubicBezTo>
                  <a:pt x="465" y="2621"/>
                  <a:pt x="369" y="2413"/>
                  <a:pt x="306" y="2233"/>
                </a:cubicBezTo>
                <a:cubicBezTo>
                  <a:pt x="239" y="2056"/>
                  <a:pt x="212" y="1928"/>
                  <a:pt x="192" y="1728"/>
                </a:cubicBezTo>
                <a:cubicBezTo>
                  <a:pt x="175" y="1551"/>
                  <a:pt x="162" y="1336"/>
                  <a:pt x="170" y="1176"/>
                </a:cubicBezTo>
                <a:cubicBezTo>
                  <a:pt x="171" y="1018"/>
                  <a:pt x="176" y="899"/>
                  <a:pt x="200" y="782"/>
                </a:cubicBezTo>
                <a:cubicBezTo>
                  <a:pt x="224" y="665"/>
                  <a:pt x="305" y="430"/>
                  <a:pt x="376" y="312"/>
                </a:cubicBezTo>
                <a:cubicBezTo>
                  <a:pt x="447" y="194"/>
                  <a:pt x="563" y="62"/>
                  <a:pt x="624" y="0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001000" y="4191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3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4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5"/>
          </p:nvPr>
        </p:nvSpPr>
        <p:spPr>
          <a:xfrm>
            <a:off x="66290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1677-05A3-4548-A10A-2BD616F64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114800"/>
            <a:ext cx="7848720" cy="2286000"/>
          </a:xfrm>
          <a:prstGeom prst="roundRect">
            <a:avLst>
              <a:gd name="adj" fmla="val 16667"/>
            </a:avLst>
          </a:prstGeom>
          <a:solidFill>
            <a:srgbClr val="336699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762120" y="419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4190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Иван Калита</a:t>
            </a:r>
            <a:br>
              <a:rPr sz="5400"/>
            </a:b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внук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Александра Невского</a:t>
            </a: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5790960"/>
            <a:ext cx="6400800" cy="60948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eorgia"/>
                <a:ea typeface="Times New Roman"/>
              </a:rPr>
              <a:t>(?-1340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800600" y="533520"/>
            <a:ext cx="4343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eorgia"/>
              </a:rPr>
              <a:t>После разорения отца в семье пришлось переселиться в Радонеж Московского княжества. Решив стать монахом, Сергий передал свою долю наследства младшему брату и вместе со старшим не ранее 1342 основал Троице-Сергиев монастырь, где в 1353 стал игумен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710240" cy="62485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62520" y="1219320"/>
            <a:ext cx="5181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Сергий обладал редким сочетанием таких качеств, как знатность происхождения, нестяжательство, религиозность и трудолюби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3257280" cy="4648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940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Georgia"/>
              </a:rPr>
              <a:t>Тро́ице-Се́ргиева Ла́вра, в церковной литературе обычно Свято-Тро́ицкая Се́ргиева Ла́вра — крупнейший православный мужской монастырь России, расположенный в центре города Сергиев Посад Московской области, на реке Кончуре. Основан преподобным Сергием Радонеж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344952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2914" t="19071" r="1392" b="17838"/>
          <a:stretch/>
        </p:blipFill>
        <p:spPr>
          <a:xfrm>
            <a:off x="0" y="990720"/>
            <a:ext cx="4800600" cy="3886200"/>
          </a:xfrm>
          <a:prstGeom prst="rect">
            <a:avLst/>
          </a:prstGeom>
          <a:ln w="38160">
            <a:solidFill>
              <a:srgbClr val="003399"/>
            </a:solidFill>
            <a:miter/>
          </a:ln>
        </p:spPr>
      </p:pic>
    </p:spTree>
  </p:cSld>
  <p:transition>
    <p:cover dir="r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73735"/>
                </a:solidFill>
                <a:latin typeface="Georgia"/>
              </a:rPr>
              <a:t> </a:t>
            </a:r>
            <a:r>
              <a:rPr b="1" i="1" lang="ru-RU" sz="6600" spc="-1" strike="noStrike">
                <a:solidFill>
                  <a:srgbClr val="973735"/>
                </a:solidFill>
                <a:latin typeface="Georgia"/>
              </a:rPr>
              <a:t>Иван Кали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38480" y="1294920"/>
            <a:ext cx="5105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7373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73735"/>
                </a:solidFill>
                <a:latin typeface="Georgia"/>
              </a:rPr>
              <a:t>Чем известен в истории Иван Кали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7373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73735"/>
                </a:solidFill>
                <a:latin typeface="Georgia"/>
              </a:rPr>
              <a:t>Почему он получил такое прозвищ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7373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73735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973735"/>
                </a:solidFill>
                <a:latin typeface="Georgia"/>
              </a:rPr>
              <a:t>Какую роль сыграли личные качества Ивана Калиты в успехе его правл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7373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73735"/>
                </a:solidFill>
                <a:latin typeface="Georgia"/>
              </a:rPr>
              <a:t>Расскажите о Москве времен правления Ивани Калиты.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Georgia"/>
                <a:hlinkClick r:id="rId1" action="ppaction://hlinksldjump"/>
              </a:rPr>
              <a:t>(ответы</a:t>
            </a:r>
            <a:r>
              <a:rPr b="1" lang="ru-RU" sz="2800" spc="-1" strike="noStrike">
                <a:solidFill>
                  <a:srgbClr val="ff33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C:\Мои документы\Pi5555.bmp"/>
          <p:cNvPicPr/>
          <p:nvPr/>
        </p:nvPicPr>
        <p:blipFill>
          <a:blip r:embed="rId2"/>
          <a:stretch/>
        </p:blipFill>
        <p:spPr>
          <a:xfrm>
            <a:off x="609480" y="1752480"/>
            <a:ext cx="3187800" cy="381636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p:transition>
    <p:cover dir="r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305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73735"/>
                </a:solidFill>
                <a:latin typeface="Georgia"/>
              </a:rPr>
              <a:t>И</a:t>
            </a:r>
            <a:r>
              <a:rPr b="1" lang="ru-RU" sz="2400" spc="-1" strike="noStrike">
                <a:solidFill>
                  <a:srgbClr val="973735"/>
                </a:solidFill>
                <a:latin typeface="Georgia"/>
                <a:ea typeface="Times New Roman"/>
              </a:rPr>
              <a:t>ВАН I Калита (?-1340), князь московский (с 1325), великий князь владимирский (с 1328). Сын Даниила Александровича. Заложил основы политического и экономического могущества Москвы. Добился у Золотой Орды права сбора монголо-татарской дани на Руси. При Иване I резиденция русского митрополита перенесена из Владимира в Москв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62520" y="2819520"/>
            <a:ext cx="4897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Georgia"/>
              </a:rPr>
              <a:t>Он начал объединение вокруг Москвы русских зем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Georgia"/>
              </a:rPr>
              <a:t>На поясе князь всегда носил кошель с деньгами, из которого давал нищ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Georgia"/>
              </a:rPr>
              <a:t>Он сумел войти в доверие к хану Золотой Орды и стал собирать деньги со всей русской земли. Часть денег оставлял в  своей казне. Москва богатела и ро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9999"/>
          <a:stretch/>
        </p:blipFill>
        <p:spPr>
          <a:xfrm>
            <a:off x="152280" y="2286000"/>
            <a:ext cx="3810240" cy="45720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>
    <p:cover dir="r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40520" y="1219320"/>
            <a:ext cx="757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Georgia"/>
              </a:rPr>
              <a:t>Домашнее задание с. 65 - 6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62120" y="2362320"/>
            <a:ext cx="7162560" cy="29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Спасибо за урок!</a:t>
            </a:r>
            <a:endParaRPr b="1" i="1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3584520" cy="4724280"/>
          </a:xfrm>
          <a:prstGeom prst="rect">
            <a:avLst/>
          </a:prstGeom>
          <a:ln w="0">
            <a:noFill/>
          </a:ln>
        </p:spPr>
      </p:pic>
      <p:cxnSp>
        <p:nvCxnSpPr>
          <p:cNvPr id="92" name=""/>
          <p:cNvCxnSpPr/>
          <p:nvPr/>
        </p:nvCxnSpPr>
        <p:spPr>
          <a:xfrm>
            <a:off x="3962520" y="1523520"/>
            <a:ext cx="1372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" name=""/>
          <p:cNvCxnSpPr/>
          <p:nvPr/>
        </p:nvCxnSpPr>
        <p:spPr>
          <a:xfrm flipH="1" rot="16200000">
            <a:off x="5256720" y="1599840"/>
            <a:ext cx="305640" cy="153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" name=""/>
          <p:cNvCxnSpPr/>
          <p:nvPr/>
        </p:nvCxnSpPr>
        <p:spPr>
          <a:xfrm>
            <a:off x="5486400" y="1828440"/>
            <a:ext cx="1753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"/>
          <p:cNvCxnSpPr/>
          <p:nvPr/>
        </p:nvCxnSpPr>
        <p:spPr>
          <a:xfrm flipV="1">
            <a:off x="7238880" y="1447560"/>
            <a:ext cx="14486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>
            <a:off x="3808800" y="106668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eorgia"/>
              </a:rPr>
              <a:t>1147</a:t>
            </a:r>
            <a:r>
              <a:rPr b="1" lang="ru-RU" sz="2000" spc="-1" strike="noStrike">
                <a:solidFill>
                  <a:srgbClr val="ff3300"/>
                </a:solidFill>
                <a:latin typeface="Georgia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00000" y="144792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Georgia"/>
              </a:rPr>
              <a:t>1156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71280" y="182880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Georgia"/>
              </a:rPr>
              <a:t>1237 – 1238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25720" y="106668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Georgia"/>
              </a:rPr>
              <a:t>1340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70600" y="2438280"/>
            <a:ext cx="426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eorgia"/>
              </a:rPr>
              <a:t>1147 – основание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eorgia"/>
              </a:rPr>
              <a:t>Юрием Долгорук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20480" y="3429000"/>
            <a:ext cx="470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eorgia"/>
              </a:rPr>
              <a:t>1156 – построение креп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eorgia"/>
              </a:rPr>
              <a:t>             </a:t>
            </a:r>
            <a:r>
              <a:rPr b="1" lang="en-US" sz="2400" spc="-1" strike="noStrike">
                <a:solidFill>
                  <a:srgbClr val="ff6600"/>
                </a:solidFill>
                <a:latin typeface="Georgia"/>
              </a:rPr>
              <a:t>в Моск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9600" y="4495680"/>
            <a:ext cx="953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76400" indent="-19764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eorgia"/>
              </a:rPr>
              <a:t>1237 – 1238 – разорена и сожж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76400" indent="-19764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Georgia"/>
              </a:rPr>
              <a:t>                           </a:t>
            </a:r>
            <a:r>
              <a:rPr b="1" lang="en-US" sz="2400" spc="-1" strike="noStrike">
                <a:solidFill>
                  <a:srgbClr val="000099"/>
                </a:solidFill>
                <a:latin typeface="Georgia"/>
              </a:rPr>
              <a:t>монголо-тата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34000" y="5410080"/>
            <a:ext cx="48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Georgia"/>
              </a:rPr>
              <a:t>1340г. – возвышение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9640" y="5867280"/>
            <a:ext cx="29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Georgia"/>
              </a:rPr>
              <a:t>Иван Кал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9360" y="0"/>
            <a:ext cx="54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Georgia"/>
              </a:rPr>
              <a:t>Становление Моск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>
            <a:lum contrast="-7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228600"/>
            <a:ext cx="9144000" cy="594612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Georgia"/>
              </a:rPr>
              <a:t>В награду за подавление народного восстания против монголо-татар получил в Золотой Орде ярлык на великое княжение. Имел много друзей среди татар, вёл себя как верный слуга, и хан дал ему право самому собирать дань со всех русских княжеств. Соседи Ивана</a:t>
            </a:r>
            <a:r>
              <a:rPr b="1" lang="en-US" sz="2400" spc="-1" strike="noStrike">
                <a:solidFill>
                  <a:srgbClr val="ffff99"/>
                </a:solidFill>
                <a:latin typeface="Georgia"/>
              </a:rPr>
              <a:t>I</a:t>
            </a:r>
            <a:r>
              <a:rPr b="1" lang="ru-RU" sz="2400" spc="-1" strike="noStrike">
                <a:solidFill>
                  <a:srgbClr val="ffff99"/>
                </a:solidFill>
                <a:latin typeface="Georgia"/>
              </a:rPr>
              <a:t> были им разорены непомерной данью. Часть дани для монголо-татар Иван Калита оставлял для пополнения московской казны. На эти деньги он возводил укрепления вокруг Кремля, строил в нём каменные соборы и покупал новые земли, города. Предлагал жителям соседних княжеств переселяться в Московское княжество. Калита всеми средствами заботился о развитии торговли и ремёсел в Москве. Учитывая роль церкви в укреплении централизованной власти, Иван</a:t>
            </a:r>
            <a:r>
              <a:rPr b="1" lang="en-US" sz="2400" spc="-1" strike="noStrike">
                <a:solidFill>
                  <a:srgbClr val="ffff99"/>
                </a:solidFill>
                <a:latin typeface="Georgia"/>
              </a:rPr>
              <a:t>I</a:t>
            </a:r>
            <a:r>
              <a:rPr b="1" lang="ru-RU" sz="2400" spc="-1" strike="noStrike">
                <a:solidFill>
                  <a:srgbClr val="ffff99"/>
                </a:solidFill>
                <a:latin typeface="Georgia"/>
              </a:rPr>
              <a:t> способствовал переезду главы русской церкви в Моск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15200" cy="4226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47400" y="0"/>
            <a:ext cx="754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33"/>
                </a:solidFill>
                <a:latin typeface="Georgia"/>
              </a:rPr>
              <a:t>Московский Крем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122800"/>
            <a:ext cx="89917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3735"/>
                </a:solidFill>
                <a:latin typeface="Georgia"/>
              </a:rPr>
              <a:t>При Иване Калите Кремль был расширен и обнесен дубовыми стенами (бревна в диаметре достигали одного метра). Тогда же внутри Кремля было построено несколько каменных церквей (остатки фундаментов найдены археолог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343400" y="1066680"/>
            <a:ext cx="4087800" cy="43434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3581280" cy="43434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283280" y="5638680"/>
            <a:ext cx="426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Georgia"/>
              </a:rPr>
              <a:t>Архангельский со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5400" y="5665680"/>
            <a:ext cx="33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Georgia"/>
              </a:rPr>
              <a:t>Успенский со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380880"/>
            <a:ext cx="7924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Шапка Мономаха — золотой филигранный остроконечный головной убор, предположительно восточной работы конца XIII — начала XIV века с собольей опушкой, украшенный драгоценными камнями: жемчугом, рубинами, изумрудами и крестом. Регалия русских великих князей и царей. Символ-корона самодержавия в России. «Шапка Мономаха» относится к числу самых древних регалий, хранящихся в Оружейной палате Московского Кремля. Начиная с Ивана Калиты, во всех духовных грамотах московских князей упоминается «шапка золотая». Возможно, что именно она впервые в 1572 году в завещании Ивана Грозного была названа «шапкой Мономах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164280" cy="66294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3810240" cy="472464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114800" y="685800"/>
            <a:ext cx="5029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eorgia"/>
              </a:rPr>
              <a:t>СЕРГИЙ РАДОНЕЖСКИЙ (в миру Варфоломей Кириллович) (1322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Georgia"/>
              </a:rPr>
              <a:t>с. Варницы? Ростовского княжества - 1392, Троице-Сергиев монастырь) - церковный и политический деятель. Род. в семье ростовского боярина. В отличие от братьев ему тяжело давалась грамота и он с детства искал уед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Admin</cp:lastModifiedBy>
  <dcterms:modified xsi:type="dcterms:W3CDTF">2012-06-12T12:03:32Z</dcterms:modified>
  <cp:revision>13</cp:revision>
  <dc:subject>географ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