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3.gif" ContentType="image/gif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B6DC7-6FA3-4458-8E91-03363EF78B7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AA699-1112-4E66-A5AC-C7886FB34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5457B-880B-4A83-BEA1-8B972E81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E793B-A9E7-40C6-84B7-5F7F689928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5CDCF8-E7A6-498D-9334-A6A6D192F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039E2F-3395-4417-BDFA-DED2E3BB6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3A2703-5211-4F78-BB68-6ABE434B7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2599C1-E7D1-4C28-AFAE-2EA2238ED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BEE651-B96C-4614-92B0-7B83299AA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CDA7B6-9F7D-4CA6-9BC7-6ECE4DE6A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3E10A7-7E2F-4364-A152-4142D6103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044C1-CD6B-40A7-A5D3-1AB1FBEC1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F858FE-5231-444B-B6ED-55D2ADE4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16FCC3-5521-408E-B613-C636E1FFD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BC8598-0282-4A00-87A5-008DAB4CA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0182E9-19A1-46A7-8C72-868C13860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E7C237-BB58-44E3-8BDB-B60E491FE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8823D-B659-40AB-83D0-079F118E2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51086-5CFB-4B8A-B157-3DF8C2751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47BA4-A850-46EE-BF01-B888B9ED4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429B5-9EAC-4106-A6FC-DCB4D77ED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17CC0-8E1A-4AEB-A4E5-3F81FFDDE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9FF13-DA17-459E-A17C-B36F30860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0D658-5B7F-4381-B681-0D05D042C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907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1000" y="0"/>
            <a:ext cx="1143000" cy="6858000"/>
          </a:xfrm>
          <a:prstGeom prst="rect">
            <a:avLst/>
          </a:prstGeom>
          <a:gradFill rotWithShape="0">
            <a:gsLst>
              <a:gs pos="0">
                <a:srgbClr val="ff9900">
                  <a:alpha val="82352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380880" y="152280"/>
            <a:ext cx="816120" cy="83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000CF-8906-4084-88B5-EBCFBAE3B2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996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0"/>
            <a:ext cx="4114800" cy="6858000"/>
          </a:xfrm>
          <a:custGeom>
            <a:avLst/>
            <a:gdLst/>
            <a:ahLst/>
            <a:rect l="l" t="t" r="r" b="b"/>
            <a:pathLst>
              <a:path w="2592" h="4320">
                <a:moveTo>
                  <a:pt x="624" y="0"/>
                </a:moveTo>
                <a:lnTo>
                  <a:pt x="0" y="0"/>
                </a:lnTo>
                <a:lnTo>
                  <a:pt x="0" y="4320"/>
                </a:lnTo>
                <a:lnTo>
                  <a:pt x="2592" y="4320"/>
                </a:lnTo>
                <a:cubicBezTo>
                  <a:pt x="2592" y="4320"/>
                  <a:pt x="1828" y="4051"/>
                  <a:pt x="1552" y="3891"/>
                </a:cubicBezTo>
                <a:cubicBezTo>
                  <a:pt x="1276" y="3731"/>
                  <a:pt x="1095" y="3545"/>
                  <a:pt x="935" y="3362"/>
                </a:cubicBezTo>
                <a:cubicBezTo>
                  <a:pt x="775" y="3179"/>
                  <a:pt x="675" y="2997"/>
                  <a:pt x="570" y="2809"/>
                </a:cubicBezTo>
                <a:cubicBezTo>
                  <a:pt x="465" y="2621"/>
                  <a:pt x="369" y="2413"/>
                  <a:pt x="306" y="2233"/>
                </a:cubicBezTo>
                <a:cubicBezTo>
                  <a:pt x="239" y="2056"/>
                  <a:pt x="212" y="1928"/>
                  <a:pt x="192" y="1728"/>
                </a:cubicBezTo>
                <a:cubicBezTo>
                  <a:pt x="175" y="1551"/>
                  <a:pt x="162" y="1336"/>
                  <a:pt x="170" y="1176"/>
                </a:cubicBezTo>
                <a:cubicBezTo>
                  <a:pt x="171" y="1018"/>
                  <a:pt x="176" y="899"/>
                  <a:pt x="200" y="782"/>
                </a:cubicBezTo>
                <a:cubicBezTo>
                  <a:pt x="224" y="665"/>
                  <a:pt x="305" y="430"/>
                  <a:pt x="376" y="312"/>
                </a:cubicBezTo>
                <a:cubicBezTo>
                  <a:pt x="447" y="194"/>
                  <a:pt x="563" y="62"/>
                  <a:pt x="624" y="0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8001000" y="41911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dt" idx="3"/>
          </p:nvPr>
        </p:nvSpPr>
        <p:spPr>
          <a:xfrm>
            <a:off x="-36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4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5"/>
          </p:nvPr>
        </p:nvSpPr>
        <p:spPr>
          <a:xfrm>
            <a:off x="66290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AA9DC-A624-4CFF-BF13-17456A16DC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4114800"/>
            <a:ext cx="7848720" cy="2286000"/>
          </a:xfrm>
          <a:prstGeom prst="roundRect">
            <a:avLst>
              <a:gd name="adj" fmla="val 16667"/>
            </a:avLst>
          </a:prstGeom>
          <a:solidFill>
            <a:srgbClr val="336699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title"/>
          </p:nvPr>
        </p:nvSpPr>
        <p:spPr>
          <a:xfrm>
            <a:off x="762120" y="4190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419076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00"/>
                </a:solidFill>
                <a:latin typeface="Arial"/>
              </a:rPr>
              <a:t>Иван Калита</a:t>
            </a:r>
            <a:br>
              <a:rPr sz="5400"/>
            </a:br>
            <a:r>
              <a:rPr b="1" lang="ru-RU" sz="3600" spc="-1" strike="noStrike">
                <a:solidFill>
                  <a:srgbClr val="ff6600"/>
                </a:solidFill>
                <a:latin typeface="Arial"/>
              </a:rPr>
              <a:t>внук</a:t>
            </a: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6600"/>
                </a:solidFill>
                <a:latin typeface="Arial"/>
              </a:rPr>
              <a:t>Александра Невского</a:t>
            </a:r>
            <a:r>
              <a:rPr b="1" lang="ru-RU" sz="54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5790960"/>
            <a:ext cx="6400800" cy="60948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Georgia"/>
                <a:ea typeface="Times New Roman"/>
              </a:rPr>
              <a:t>(?-1340)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800600" y="533520"/>
            <a:ext cx="43434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eorgia"/>
              </a:rPr>
              <a:t>После разорения отца в семье пришлось переселиться в Радонеж Московского княжества. Решив стать монахом, Сергий передал свою долю наследства младшему брату и вместе со старшим не ранее 1342 основал Троице-Сергиев монастырь, где в 1353 стал игумен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4710240" cy="62485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962520" y="1219320"/>
            <a:ext cx="5181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Georgia"/>
              </a:rPr>
              <a:t>Сергий обладал редким сочетанием таких качеств, как знатность происхождения, нестяжательство, религиозность и трудолюби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3257280" cy="46483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4940280"/>
            <a:ext cx="9144000" cy="2288520"/>
          </a:xfrm>
          <a:prstGeom prst="rect">
            <a:avLst/>
          </a:prstGeom>
          <a:noFill/>
          <a:ln w="0">
            <a:noFill/>
          </a:ln>
          <a:effectLst>
            <a:outerShdw dist="12600" dir="108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Georgia"/>
              </a:rPr>
              <a:t>Тро́ице-Се́ргиева Ла́вра, в церковной литературе обычно Свято-Тро́ицкая Се́ргиева Ла́вра — крупнейший православный мужской монастырь России, расположенный в центре города Сергиев Посад Московской области, на реке Кончуре. Основан преподобным Сергием Радонежск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419720" y="0"/>
            <a:ext cx="4724280" cy="3449520"/>
          </a:xfrm>
          <a:prstGeom prst="rect">
            <a:avLst/>
          </a:prstGeom>
          <a:ln w="38160">
            <a:solidFill>
              <a:srgbClr val="009999"/>
            </a:solidFill>
            <a:miter/>
          </a:ln>
        </p:spPr>
      </p:pic>
      <p:pic>
        <p:nvPicPr>
          <p:cNvPr id="127" name="" descr=""/>
          <p:cNvPicPr/>
          <p:nvPr/>
        </p:nvPicPr>
        <p:blipFill>
          <a:blip r:embed="rId2"/>
          <a:srcRect l="2914" t="19071" r="1392" b="17838"/>
          <a:stretch/>
        </p:blipFill>
        <p:spPr>
          <a:xfrm>
            <a:off x="0" y="990720"/>
            <a:ext cx="4800600" cy="3886200"/>
          </a:xfrm>
          <a:prstGeom prst="rect">
            <a:avLst/>
          </a:prstGeom>
          <a:ln w="38160">
            <a:solidFill>
              <a:srgbClr val="003399"/>
            </a:solidFill>
            <a:miter/>
          </a:ln>
        </p:spPr>
      </p:pic>
    </p:spTree>
  </p:cSld>
  <p:transition>
    <p:cover dir="rd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973735"/>
                </a:solidFill>
                <a:latin typeface="Georgia"/>
              </a:rPr>
              <a:t> </a:t>
            </a:r>
            <a:r>
              <a:rPr b="1" i="1" lang="ru-RU" sz="6600" spc="-1" strike="noStrike">
                <a:solidFill>
                  <a:srgbClr val="973735"/>
                </a:solidFill>
                <a:latin typeface="Georgia"/>
              </a:rPr>
              <a:t>Иван Калит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038480" y="1294920"/>
            <a:ext cx="5105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7373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73735"/>
                </a:solidFill>
                <a:latin typeface="Georgia"/>
              </a:rPr>
              <a:t>Чем известен в истории Иван Калит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7373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73735"/>
                </a:solidFill>
                <a:latin typeface="Georgia"/>
              </a:rPr>
              <a:t>Почему он получил такое прозвищ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7373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73735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973735"/>
                </a:solidFill>
                <a:latin typeface="Georgia"/>
              </a:rPr>
              <a:t>Какую роль сыграли личные качества Ивана Калиты в успехе его правл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7373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73735"/>
                </a:solidFill>
                <a:latin typeface="Georgia"/>
              </a:rPr>
              <a:t>Расскажите о Москве времен правления Ивани Калиты.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Georgia"/>
                <a:hlinkClick r:id="rId1" action="ppaction://hlinksldjump"/>
              </a:rPr>
              <a:t>(ответы</a:t>
            </a:r>
            <a:r>
              <a:rPr b="1" lang="ru-RU" sz="2800" spc="-1" strike="noStrike">
                <a:solidFill>
                  <a:srgbClr val="ff3300"/>
                </a:solidFill>
                <a:latin typeface="Georgi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1" descr="C:\Мои документы\Pi5555.bmp"/>
          <p:cNvPicPr/>
          <p:nvPr/>
        </p:nvPicPr>
        <p:blipFill>
          <a:blip r:embed="rId2"/>
          <a:stretch/>
        </p:blipFill>
        <p:spPr>
          <a:xfrm>
            <a:off x="609480" y="1752480"/>
            <a:ext cx="3187800" cy="381636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</p:spTree>
  </p:cSld>
  <p:transition>
    <p:cover dir="rd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8077320" cy="305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73735"/>
                </a:solidFill>
                <a:latin typeface="Georgia"/>
              </a:rPr>
              <a:t>И</a:t>
            </a:r>
            <a:r>
              <a:rPr b="1" lang="ru-RU" sz="2400" spc="-1" strike="noStrike">
                <a:solidFill>
                  <a:srgbClr val="973735"/>
                </a:solidFill>
                <a:latin typeface="Georgia"/>
                <a:ea typeface="Times New Roman"/>
              </a:rPr>
              <a:t>ВАН I Калита (?-1340), князь московский (с 1325), великий князь владимирский (с 1328). Сын Даниила Александровича. Заложил основы политического и экономического могущества Москвы. Добился у Золотой Орды права сбора монголо-татарской дани на Руси. При Иване I резиденция русского митрополита перенесена из Владимира в Москву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62520" y="2819520"/>
            <a:ext cx="48974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Georgia"/>
              </a:rPr>
              <a:t>Он начал объединение вокруг Москвы русских земе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Georgia"/>
              </a:rPr>
              <a:t>На поясе князь всегда носил кошель с деньгами, из которого давал нищ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Georgia"/>
              </a:rPr>
              <a:t>Он сумел войти в доверие к хану Золотой Орды и стал собирать деньги со всей русской земли. Часть денег оставлял в  своей казне. Москва богатела и рос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9999"/>
          <a:stretch/>
        </p:blipFill>
        <p:spPr>
          <a:xfrm>
            <a:off x="152280" y="2286000"/>
            <a:ext cx="3810240" cy="457200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</p:spTree>
  </p:cSld>
  <p:transition>
    <p:cover dir="rd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740520" y="1219320"/>
            <a:ext cx="757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Georgia"/>
              </a:rPr>
              <a:t>Домашнее задание с. 65 - 6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762120" y="2362320"/>
            <a:ext cx="7162560" cy="297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Спасибо за урок!</a:t>
            </a:r>
            <a:endParaRPr b="1" i="1" lang="en-US" sz="4400" spc="1" strike="noStrike">
              <a:ln w="1260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p:transition>
    <p:cover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3584520" cy="4724280"/>
          </a:xfrm>
          <a:prstGeom prst="rect">
            <a:avLst/>
          </a:prstGeom>
          <a:ln w="0">
            <a:noFill/>
          </a:ln>
        </p:spPr>
      </p:pic>
      <p:cxnSp>
        <p:nvCxnSpPr>
          <p:cNvPr id="92" name=""/>
          <p:cNvCxnSpPr/>
          <p:nvPr/>
        </p:nvCxnSpPr>
        <p:spPr>
          <a:xfrm>
            <a:off x="3962520" y="1523520"/>
            <a:ext cx="13723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3" name=""/>
          <p:cNvCxnSpPr/>
          <p:nvPr/>
        </p:nvCxnSpPr>
        <p:spPr>
          <a:xfrm flipH="1" rot="16200000">
            <a:off x="5256720" y="1599840"/>
            <a:ext cx="305640" cy="1530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4" name=""/>
          <p:cNvCxnSpPr/>
          <p:nvPr/>
        </p:nvCxnSpPr>
        <p:spPr>
          <a:xfrm>
            <a:off x="5486400" y="1828440"/>
            <a:ext cx="1753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5" name=""/>
          <p:cNvCxnSpPr/>
          <p:nvPr/>
        </p:nvCxnSpPr>
        <p:spPr>
          <a:xfrm flipV="1">
            <a:off x="7238880" y="1447560"/>
            <a:ext cx="144864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6" name=""/>
          <p:cNvSpPr/>
          <p:nvPr/>
        </p:nvSpPr>
        <p:spPr>
          <a:xfrm>
            <a:off x="3808800" y="106668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Georgia"/>
              </a:rPr>
              <a:t>1147</a:t>
            </a:r>
            <a:r>
              <a:rPr b="1" lang="ru-RU" sz="2000" spc="-1" strike="noStrike">
                <a:solidFill>
                  <a:srgbClr val="ff3300"/>
                </a:solidFill>
                <a:latin typeface="Georgia"/>
              </a:rPr>
              <a:t>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00000" y="144792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Georgia"/>
              </a:rPr>
              <a:t>1156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71280" y="1828800"/>
            <a:ext cx="177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Georgia"/>
              </a:rPr>
              <a:t>1237 – 1238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425720" y="106668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Georgia"/>
              </a:rPr>
              <a:t>1340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170600" y="2438280"/>
            <a:ext cx="426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Georgia"/>
              </a:rPr>
              <a:t>1147 – основание Моск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Georgia"/>
              </a:rPr>
              <a:t>Юрием Долгоруки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020480" y="3429000"/>
            <a:ext cx="470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Georgia"/>
              </a:rPr>
              <a:t>1156 – построение креп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Georgia"/>
              </a:rPr>
              <a:t>             </a:t>
            </a:r>
            <a:r>
              <a:rPr b="1" lang="en-US" sz="2400" spc="-1" strike="noStrike">
                <a:solidFill>
                  <a:srgbClr val="ff6600"/>
                </a:solidFill>
                <a:latin typeface="Georgia"/>
              </a:rPr>
              <a:t>в Моск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79600" y="4495680"/>
            <a:ext cx="953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76400" indent="-19764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Georgia"/>
              </a:rPr>
              <a:t>1237 – 1238 – разорена и сожже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76400" indent="-19764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Georgia"/>
              </a:rPr>
              <a:t>                           </a:t>
            </a:r>
            <a:r>
              <a:rPr b="1" lang="en-US" sz="2400" spc="-1" strike="noStrike">
                <a:solidFill>
                  <a:srgbClr val="000099"/>
                </a:solidFill>
                <a:latin typeface="Georgia"/>
              </a:rPr>
              <a:t>монголо-татар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34000" y="5410080"/>
            <a:ext cx="487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Georgia"/>
              </a:rPr>
              <a:t>1340г. – возвышение Моск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69640" y="5867280"/>
            <a:ext cx="29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Georgia"/>
              </a:rPr>
              <a:t>Иван Кали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9360" y="0"/>
            <a:ext cx="542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Georgia"/>
              </a:rPr>
              <a:t>Становление Москв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500"/>
                            </p:stCondLst>
                            <p:childTnLst>
                              <p:par>
                                <p:cTn id="3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5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500"/>
                            </p:stCondLst>
                            <p:childTnLst>
                              <p:par>
                                <p:cTn id="4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65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984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>
            <a:lum contrast="-7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0" y="228600"/>
            <a:ext cx="9144000" cy="594612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Georgia"/>
              </a:rPr>
              <a:t>В награду за подавление народного восстания против монголо-татар получил в Золотой Орде ярлык на великое княжение. Имел много друзей среди татар, вёл себя как верный слуга, и хан дал ему право самому собирать дань со всех русских княжеств. Соседи Ивана</a:t>
            </a:r>
            <a:r>
              <a:rPr b="1" lang="en-US" sz="2400" spc="-1" strike="noStrike">
                <a:solidFill>
                  <a:srgbClr val="ffff99"/>
                </a:solidFill>
                <a:latin typeface="Georgia"/>
              </a:rPr>
              <a:t>I</a:t>
            </a:r>
            <a:r>
              <a:rPr b="1" lang="ru-RU" sz="2400" spc="-1" strike="noStrike">
                <a:solidFill>
                  <a:srgbClr val="ffff99"/>
                </a:solidFill>
                <a:latin typeface="Georgia"/>
              </a:rPr>
              <a:t> были им разорены непомерной данью. Часть дани для монголо-татар Иван Калита оставлял для пополнения московской казны. На эти деньги он возводил укрепления вокруг Кремля, строил в нём каменные соборы и покупал новые земли, города. Предлагал жителям соседних княжеств переселяться в Московское княжество. Калита всеми средствами заботился о развитии торговли и ремёсел в Москве. Учитывая роль церкви в укреплении централизованной власти, Иван</a:t>
            </a:r>
            <a:r>
              <a:rPr b="1" lang="en-US" sz="2400" spc="-1" strike="noStrike">
                <a:solidFill>
                  <a:srgbClr val="ffff99"/>
                </a:solidFill>
                <a:latin typeface="Georgia"/>
              </a:rPr>
              <a:t>I</a:t>
            </a:r>
            <a:r>
              <a:rPr b="1" lang="ru-RU" sz="2400" spc="-1" strike="noStrike">
                <a:solidFill>
                  <a:srgbClr val="ffff99"/>
                </a:solidFill>
                <a:latin typeface="Georgia"/>
              </a:rPr>
              <a:t> способствовал переезду главы русской церкви в Москв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315200" cy="42260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247400" y="0"/>
            <a:ext cx="754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33"/>
                </a:solidFill>
                <a:latin typeface="Georgia"/>
              </a:rPr>
              <a:t>Московский Кремл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5122800"/>
            <a:ext cx="899172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73735"/>
                </a:solidFill>
                <a:latin typeface="Georgia"/>
              </a:rPr>
              <a:t>При Иване Калите Кремль был расширен и обнесен дубовыми стенами (бревна в диаметре достигали одного метра). Тогда же внутри Кремля было построено несколько каменных церквей (остатки фундаментов найдены археологам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343400" y="1066680"/>
            <a:ext cx="4087800" cy="4343400"/>
          </a:xfrm>
          <a:prstGeom prst="rect">
            <a:avLst/>
          </a:prstGeom>
          <a:ln w="76320">
            <a:solidFill>
              <a:srgbClr val="ff6600"/>
            </a:solidFill>
            <a:miter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57200" y="1066680"/>
            <a:ext cx="3581280" cy="434340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4283280" y="5638680"/>
            <a:ext cx="426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Georgia"/>
              </a:rPr>
              <a:t>Архангельский соб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25400" y="5665680"/>
            <a:ext cx="337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Georgia"/>
              </a:rPr>
              <a:t>Успенский соб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0"/>
                            </p:stCondLst>
                            <p:childTnLst>
                              <p:par>
                                <p:cTn id="1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85800" y="380880"/>
            <a:ext cx="79246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Шапка Мономаха — золотой филигранный остроконечный головной убор, предположительно восточной работы конца XIII — начала XIV века с собольей опушкой, украшенный драгоценными камнями: жемчугом, рубинами, изумрудами и крестом. Регалия русских великих князей и царей. Символ-корона самодержавия в России. «Шапка Мономаха» относится к числу самых древних регалий, хранящихся в Оружейной палате Московского Кремля. Начиная с Ивана Калиты, во всех духовных грамотах московских князей упоминается «шапка золотая». Возможно, что именно она впервые в 1572 году в завещании Ивана Грозного была названа «шапкой Мономах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86868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371600" y="228600"/>
            <a:ext cx="6164280" cy="662940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52280" y="1295280"/>
            <a:ext cx="3810240" cy="4724640"/>
          </a:xfrm>
          <a:prstGeom prst="rect">
            <a:avLst/>
          </a:prstGeom>
          <a:ln w="76320">
            <a:solidFill>
              <a:srgbClr val="000066"/>
            </a:solidFill>
            <a:miter/>
          </a:ln>
        </p:spPr>
      </p:pic>
      <p:sp>
        <p:nvSpPr>
          <p:cNvPr id="120" name=""/>
          <p:cNvSpPr/>
          <p:nvPr/>
        </p:nvSpPr>
        <p:spPr>
          <a:xfrm>
            <a:off x="4114800" y="685800"/>
            <a:ext cx="50292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Georgia"/>
              </a:rPr>
              <a:t>СЕРГИЙ РАДОНЕЖСКИЙ (в миру Варфоломей Кириллович) (1322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Georgia"/>
              </a:rPr>
              <a:t>с. Варницы? Ростовского княжества - 1392, Троице-Сергиев монастырь) - церковный и политический деятель. Род. в семье ростовского боярина. В отличие от братьев ему тяжело давалась грамота и он с детства искал уедин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Admin</cp:lastModifiedBy>
  <dcterms:modified xsi:type="dcterms:W3CDTF">2012-06-12T12:03:32Z</dcterms:modified>
  <cp:revision>13</cp:revision>
  <dc:subject>география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