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E9A60-F3CC-4BF2-91D0-043133BA2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73E59-0626-42B4-B32C-99406058C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AE1A5-B5D3-4944-84A5-8979105FE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4D404-4A45-443E-BE64-2A565F9CA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3401B-AF64-44CA-B051-F873FCD21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68A76-BA6B-4523-8037-569458A84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B4ACE-16EA-47A4-A4D4-35999C8FC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D1FE8-98BF-465D-8D6C-DA07F61C5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6E455-B4B3-46F5-9FC0-BE94A0DFE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FE3FF-3F33-42C7-9C96-45D0771A6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00E3E-FEDD-4294-B381-FDD45F633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87B9A-A912-45B9-BE31-0075BCCAD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98D2A-2834-496F-8469-2AC6D45B4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E2B9F-932A-4AF2-8C41-6C4E06EBA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8EB95-8772-4F6D-AD34-CC1F5BF69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D8F8A-5A4C-4E49-A31D-4AFBCB263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2499E-425A-40AC-9F89-17A4E272F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83AA05-9504-4F1F-8D93-5F37A00AD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2257E2-7E7D-435F-A791-26FB5CA84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BB2E20-C98B-4C30-B208-DF84A0CE8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406809-1F83-408A-975B-E7147EBCA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CA9E6E-D35B-4FEB-9518-BFDE7566B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F3963-07FB-41F4-8DBA-5A1954D46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40C52F-FCA1-4BEC-8F43-4B174412E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DDB868-5AEC-49F2-A688-5711E03B0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847389-D9DA-427A-AE12-7AE8B20D5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EDA336-99E7-4817-9CCC-AC31A358A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8A23AA-74B1-4EB7-8931-F956E1A71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DABCAB-A15A-427F-898D-D535E5459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C1BD6D-CC92-4F96-ACAC-55EA7E592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087A19-B198-4FED-8C20-1C1902231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C00F37-F63F-49E6-996C-3B54DA8D3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2A0919-3A2E-4A69-B5F5-445226553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3BAD1-DD3B-4031-97B9-D698A2172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D78A27-B508-4054-BFF8-8B3542CF2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1878B6-17FE-4574-9831-166CF919B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C19918-E24F-4320-8F4C-22F1F3C05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54CF3A-9C03-453C-A689-889D928DB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5F449B-2B97-499C-B166-FC309C259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772C78-BB81-4954-BEEB-D61E788A8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60EF5D-D613-49F1-A184-DC28F0D1A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48DA79-21C0-4BE6-B457-09AED5263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C75D17-408C-4637-8F1C-03429B5D2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0E6F2D-8350-4C92-B5EB-7ED96B423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C037E-6EF2-495B-88E7-008865972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3FA1AE-8B88-4DAE-9E60-94ACFF9FE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FA6F22-1EBE-4CAF-82DD-8893656CD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922B94-B98F-4368-BB42-A5CE4764B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B6B169-8B6D-45D9-BC10-85B60770E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580D1D-9EB7-4E01-9806-B906152BC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17B5B6-7295-45F2-81D1-591336CC5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3EE917-8BE0-45CC-BF18-8CCF00B2F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720880-1C40-4162-BF82-DFA5D611F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73171B-6D1A-4675-A55A-632A65BEB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C2CCD1-B1A0-49A5-A402-57C3AD6BB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1EAB4-9A20-4D4E-8E5D-FC8FB7D06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AA8EF4-2800-41E1-B26C-33FB5CECC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55666F-18A9-4B5D-91D7-11E6002BC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CE001A-99F6-4E05-8078-019370431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CC609A-21E2-4118-A15B-29131E2CE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2E2624-77D2-4927-B359-0E921B762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A15D70-8EB1-47ED-BFB8-5C6AE2AB5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1DFD01-DF6B-46EB-A06E-A6DB96BD1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01C835-F5F3-46DF-812C-C548825AA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2C1BD3-B93A-4340-94EE-24DC71CC9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C6D011-E393-4334-A14D-DE512743B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B6295-BEFD-46C5-BB08-BEAD4B1A5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BAEEDE-F6F2-445B-AE9F-5B1CA74A8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59C033-4B95-4F85-884F-6A6FD6BAA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48C7B8-25A3-4B6B-B478-424F9A19F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66AAC-A368-4BF0-B3C3-24D83F940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29725-F9F2-40C5-AEA4-0DE65DDE9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олилиния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3B826-AD02-46B5-AEC2-B3A2341DC2BD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олилиния 10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Полилиния 12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DE172-859F-4A18-ACE6-B912AAAB327D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олилиния 10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Полилиния 12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81231-8CC7-4993-AF65-2725E4A7045D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556A5-61A3-4E15-9302-95E6F036B8DA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Полилиния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Полилиния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B3236-37EC-4679-B1CD-C8410E73D2A5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9D977-87EF-4419-B1C7-0B5B28687519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-214200" y="-7248240"/>
            <a:ext cx="71280" cy="2012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7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433440" y="1544760"/>
            <a:ext cx="7424640" cy="352728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0" bIns="0" anchor="b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Arial"/>
              </a:rPr>
              <a:t>Иван Фёдорович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Arial"/>
              </a:rPr>
              <a:t>МОТОРИН (1660-1735)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Arial"/>
              </a:rPr>
              <a:t>и Михаил Иванович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Arial"/>
              </a:rPr>
              <a:t>МОТОРИН (ум. 1750)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Прямоугольник 1"/>
          <p:cNvSpPr/>
          <p:nvPr/>
        </p:nvSpPr>
        <p:spPr>
          <a:xfrm>
            <a:off x="214200" y="285840"/>
            <a:ext cx="87156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Знаменитая семья московских колокололитейных мастеров Моториных оставила многочисленные памятники своего литейного мастерства, относящиеся к 1687—1750 гг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Наиболее выдающимся из семьи Моториных был, конечно, Иван Моторин, отливший знаменитый Царь-колокол, непревзойдённый образец русского и мирового колокольного искусства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Прямоугольник 1"/>
          <p:cNvSpPr/>
          <p:nvPr/>
        </p:nvSpPr>
        <p:spPr>
          <a:xfrm>
            <a:off x="357120" y="428760"/>
            <a:ext cx="821556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з сохранившихся колоколов работы Ивана Моторина первые относятся к 1692 г. В Старой Руссе на колокольне Старо-Преображенского монастыря большой колокол имеет надпись: «Лета 7200 (1692 г.) вылит сей колокол при державе великих государей царей Иоанна Алексеевича и Петра Алексеевича всея великия и малыя и белые России самодержцев... весом 120 п. 8 ф. ...лил сей колокол мастер Моторин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Прямоугольник 1"/>
          <p:cNvSpPr/>
          <p:nvPr/>
        </p:nvSpPr>
        <p:spPr>
          <a:xfrm>
            <a:off x="357120" y="357120"/>
            <a:ext cx="850104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Иван Моторин изготавливал колокола для многих церквей Москвы и других городов. В 1732 г. он отлил главный колокол весом в 1000 пудов для колокольни Киево-Печерской лавры. Москва и её окрестности, Старая Русса, Петербург, Новгород, Киев — вот области, на которые, по неполным дошедшим до нас сведениям, распространялись отливки с завода, принадлежавшего Ивану Моторину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Прямоугольник 1"/>
          <p:cNvSpPr/>
          <p:nvPr/>
        </p:nvSpPr>
        <p:spPr>
          <a:xfrm>
            <a:off x="285840" y="214200"/>
            <a:ext cx="885816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Наши древние колокольные мастера — и безымянный мастер времён Алексея Михайловича, и Иван и Михаил Моторины — уже в совершенстве владели всеми основными приёмами колокололитейного искусства. Дальнейшее развитие колокололитейного производства в России до XIX в. включительно не внесло сколько-нибудь существенных изменений в разработанные ими методы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9T09:42:33Z</dcterms:created>
  <dc:creator>Admin</dc:creator>
  <dc:description/>
  <dc:language>en-US</dc:language>
  <cp:lastModifiedBy>Admin</cp:lastModifiedBy>
  <dcterms:modified xsi:type="dcterms:W3CDTF">2012-06-09T09:49:18Z</dcterms:modified>
  <cp:revision>1</cp:revision>
  <dc:subject/>
  <dc:title>Слайд 1</dc:title>
</cp:coreProperties>
</file>