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34E-92E0-401E-8B08-92A64C6C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DA2-8578-480D-8E55-ABDA966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202-1002-4699-9F88-9C420315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E70-1BC7-42B5-AE05-B74B18FF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F4A3-3796-4BDB-AC4C-DBB7DB23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1C8D-3DD7-4670-93F6-A48E9C07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9F26-3523-4990-B2DD-88994C0A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EE7-C2A0-42AD-A2CF-98247C4B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179F-F91D-4994-B5EA-68146FE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849-BAEA-4502-88C0-AC5981C0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59B6-EA23-4479-9FE8-9EE67A1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473-5102-4C77-93DD-CCA2616D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74A4-CE1B-4FEA-A56A-260D530D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C363-50BE-4CCE-B457-84E95A71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87A1-072B-49FD-AA90-38FF46B2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8F6A-3B92-497F-BA48-5BED9EED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6AED-7AD1-45FE-A60A-B2D44078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1A32-D738-4611-9562-3427CEB8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427DA-263F-4C52-A359-BBDA5D7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9C7F-5B39-45A5-BCDE-98834035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9556-743C-40DC-9561-A2188F3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BA94-B539-4E53-871B-B73A88CD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5AD-4BA5-4EAE-9153-12F4D8D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92C8-C890-4F03-8B79-E6701348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8CB7-E4EA-4F94-ADC8-887E357C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524C-44C5-4704-8BFD-6216DDA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CF86-245E-45CC-8C70-D6E15A8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0F20-532A-450B-9C66-E6BD3D35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9489-9B40-4E7B-8403-AD36BB62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A0C0-F57A-4407-A4D0-971D6CA5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59A4-66CB-4399-ABD9-48452E8A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05DA-57D8-4E81-B0F5-D3A2325C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7414-6070-4C41-B37E-279B3541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E38-CDD6-4D5D-9701-3D9CBDF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0F5D-79BF-42C5-8FF9-027E6352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319D0-4812-4606-88CA-28FDB0A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D9CD-E184-491C-BCAF-BB509BF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56A6-2119-490E-AD39-687BF19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4E5D-6002-40BC-8092-D409AB74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5813-0E84-4DA3-A63F-41B5B27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218B-3FA1-4F3B-9467-032C09E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41AC-1B56-47F3-8F17-ABE18C9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03E3-5DBA-4716-9459-BB2A7842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76CB-EE2E-4F77-BE3C-6F79E4E6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D0F-A22A-4B39-8674-18B3896E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5E8C-691F-40FE-BAA8-35171BEC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6018C-F814-4495-9405-B384725C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2A95-E977-48FC-B384-C3B694F7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00D9-809D-4782-950F-FFD08847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0707-A372-4D3D-AC9B-FCFE0A75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6ABA-9FE3-4D1C-BF14-DAA53A3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58A2-DF08-488A-A379-94CBC8D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97EA1-F245-487C-902F-6C35601D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E6B2-9C5C-4104-A9B5-07F09A0F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9DA6-93E8-43B1-9F08-F431E60D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B58-3C0C-4837-AEEF-0435B1E3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0ADDE-DEC6-4192-8C59-1998059F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7D06-5035-4A42-BE21-0A74B709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5D3B-CA67-4A38-9940-32CBF44A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6AA32-EA07-4B42-BB6F-8011E12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6C4F-70E8-4DC5-BEFF-33BC88A3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CFA32-56AF-41E8-AECA-076A03A7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F447-1007-4F3A-96F6-3DEC104A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30E7A-44B7-4458-AC5E-9E8FB30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4B6C-8E65-4C98-BAEC-3DEEAF30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B996-60D8-4002-810A-E5C1585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017-C124-4965-8F1C-3F6F6D25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D719F-2C38-420E-840B-9308052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FEB4-D81E-4203-901B-A0BC74E7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0B1DB-B1CD-498A-B463-69E3DC37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7AC-6665-4DDF-BE9E-1A6AF2A0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D2A-2FA7-4270-84E0-5B3556C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283A-E7ED-421F-A49C-795A4C7FA93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4D87-1E5A-4EFD-BADC-6C84D19F8B0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869B-15B6-4130-B436-A530007F9D2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A228-FAAF-48AD-BE8A-128B6AE1FC8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EC53-101D-4423-B15C-7AB984FAD9D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B9ED-B862-49CD-A7DA-A5A50551662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214200" y="-7248240"/>
            <a:ext cx="71280" cy="201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74246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ван Фёдорович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ОТОРИН (1660-1735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 Михаил Иванович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ОТОРИН (ум. 1750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14200" y="285840"/>
            <a:ext cx="87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наменитая семья московских колокололитейных мастеров Моториных оставила многочисленные памятники своего литейного мастерства, относящиеся к 1687—1750 г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иболее выдающимся из семьи Моториных был, конечно, Иван Моторин, отливший знаменитый Царь-колокол, непревзойдённый образец русского и мирового колокольного искус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357120" y="428760"/>
            <a:ext cx="821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сохранившихся колоколов работы Ивана Моторина первые относятся к 1692 г. В Старой Руссе на колокольне Старо-Преображенского монастыря большой колокол имеет надпись: «Лета 7200 (1692 г.) вылит сей колокол при державе великих государей царей Иоанна Алексеевича и Петра Алексеевича всея великия и малыя и белые России самодержцев... весом 120 п. 8 ф. ...лил сей колокол мастер Моторин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357120" y="357120"/>
            <a:ext cx="85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ван Моторин изготавливал колокола для многих церквей Москвы и других городов. В 1732 г. он отлил главный колокол весом в 1000 пудов для колокольни Киево-Печерской лавры. Москва и её окрестности, Старая Русса, Петербург, Новгород, Киев — вот области, на которые, по неполным дошедшим до нас сведениям, распространялись отливки с завода, принадлежавшего Ивану Моторин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285840" y="214200"/>
            <a:ext cx="885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ши древние колокольные мастера — и безымянный мастер времён Алексея Михайловича, и Иван и Михаил Моторины — уже в совершенстве владели всеми основными приёмами колокололитейного искусства. Дальнейшее развитие колокололитейного производства в России до XIX в. включительно не внесло сколько-нибудь существенных изменений в разработанные ими мет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09:42:33Z</dcterms:created>
  <dc:creator>Admin</dc:creator>
  <dc:description/>
  <dc:language>en-US</dc:language>
  <cp:lastModifiedBy>Admin</cp:lastModifiedBy>
  <dcterms:modified xsi:type="dcterms:W3CDTF">2012-06-09T09:49:18Z</dcterms:modified>
  <cp:revision>1</cp:revision>
  <dc:subject/>
  <dc:title>Слайд 1</dc:title>
</cp:coreProperties>
</file>