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gif" ContentType="image/gif"/>
  <Override PartName="/ppt/media/image23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2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9.jpeg" ContentType="image/jpeg"/>
  <Override PartName="/ppt/media/image2.gif" ContentType="image/gif"/>
  <Override PartName="/ppt/media/image25.gif" ContentType="image/gif"/>
  <Override PartName="/ppt/media/image6.jpeg" ContentType="image/jpeg"/>
  <Override PartName="/ppt/media/image33.jpeg" ContentType="image/jpeg"/>
  <Override PartName="/ppt/media/image8.png" ContentType="image/png"/>
  <Override PartName="/ppt/media/image29.gif" ContentType="image/gif"/>
  <Override PartName="/ppt/media/image9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gif" ContentType="image/gif"/>
  <Override PartName="/ppt/media/image3.png" ContentType="image/png"/>
  <Override PartName="/ppt/media/image26.png" ContentType="image/png"/>
  <Override PartName="/ppt/media/image12.jpeg" ContentType="image/jpeg"/>
  <Override PartName="/ppt/media/image11.jpeg" ContentType="image/jpeg"/>
  <Override PartName="/ppt/media/image1.gif" ContentType="image/gif"/>
  <Override PartName="/ppt/media/image16.png" ContentType="image/png"/>
  <Override PartName="/ppt/media/image24.gif" ContentType="image/gif"/>
  <Override PartName="/ppt/media/image32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F62-7B91-4ADB-9079-3FEAA3F3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B11-7ED0-4036-B2DF-1629BA1E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A8F-37D3-47D6-94AB-5417D754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DF6-83CE-4ACF-B43A-C410BBD8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3F15-6442-4876-812A-8491420F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A258-14CD-4725-A4E0-EC7BDD9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0C5C-65E5-4930-BE24-C3A2024F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CEA9-59EE-43DB-8FDA-6DB9A356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6FB0-3A23-4C70-922B-7C785E56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9E47-AC67-4330-B801-5FC15550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DE64-4A1C-49AC-A79C-C7FBFC25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1F4-4A49-4E27-A220-F9D263C1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040E-64C9-4777-B926-D6CEDD30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99A8-C189-4A8F-8FEF-7C2B87EC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954F-1C15-4F9C-BBE6-536BD02C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EC27-9902-463B-93CB-76BAA38E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8FD1-9C65-432C-8B2B-9DBDFC3C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38A-3938-4E47-8DAF-F5746F16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B52-B295-4C08-B939-BFD24F81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BC5-2F41-4AE1-ACC1-20F2414E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9F6-530F-4208-835B-C632D82E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D55-4877-4BA0-AE41-5DE405F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772-4D02-47F3-8C72-8422FA6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F80-DA28-48A8-8C55-2D3AC2B3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A7A9-22F2-4127-824A-C6604EBCA1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CFF0-EDBD-4ADE-A8DD-E1036BB4FE7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ff"/>
                </a:solidFill>
                <a:latin typeface="Verdana"/>
              </a:rPr>
              <a:t>САМООПРЕДЕЛЕНИЕ, САМОРАЗВИТИЕ </a:t>
            </a:r>
            <a:br>
              <a:rPr sz="4400"/>
            </a:br>
            <a:r>
              <a:rPr b="1" i="1" lang="ru-RU" sz="4400" spc="-1" strike="noStrike">
                <a:solidFill>
                  <a:srgbClr val="cc99ff"/>
                </a:solidFill>
                <a:latin typeface="Verdana"/>
              </a:rPr>
              <a:t>И </a:t>
            </a:r>
            <a:br>
              <a:rPr sz="4400"/>
            </a:br>
            <a:r>
              <a:rPr b="1" i="1" lang="ru-RU" sz="4400" spc="-1" strike="noStrike">
                <a:solidFill>
                  <a:srgbClr val="cc99ff"/>
                </a:solidFill>
                <a:latin typeface="Verdana"/>
              </a:rPr>
              <a:t>САМОРЕАЛИЗАЦИЯ ЛИЧНОСТИ КАК ЦЕЛЬ</a:t>
            </a:r>
            <a:br>
              <a:rPr sz="4400"/>
            </a:br>
            <a:r>
              <a:rPr b="1" i="1" lang="ru-RU" sz="4400" spc="-1" strike="noStrike">
                <a:solidFill>
                  <a:srgbClr val="cc99ff"/>
                </a:solidFill>
                <a:latin typeface="Verdana"/>
              </a:rPr>
              <a:t> И РЕЗУЛЬТАТ ГУМАНИСТИЧЕСКОГО ВОСПИТ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d007[1]"/>
          <p:cNvPicPr/>
          <p:nvPr/>
        </p:nvPicPr>
        <p:blipFill>
          <a:blip r:embed="rId1"/>
          <a:stretch/>
        </p:blipFill>
        <p:spPr>
          <a:xfrm>
            <a:off x="7620120" y="4210200"/>
            <a:ext cx="1811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00400" y="0"/>
            <a:ext cx="5943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Гуманистическое воспитани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  имеет 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воей  цель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армоничное развитие личности и предполагает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гуманный характер отношений между  участниками 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педагогического процесс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  Для обозначения таких отношений употребляется термин "гуманное  воспитание". 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4" descr="1191269059_c4115[1]"/>
          <p:cNvPicPr/>
          <p:nvPr/>
        </p:nvPicPr>
        <p:blipFill>
          <a:blip r:embed="rId1"/>
          <a:stretch/>
        </p:blipFill>
        <p:spPr>
          <a:xfrm>
            <a:off x="0" y="2819520"/>
            <a:ext cx="346392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971440" y="0"/>
            <a:ext cx="6172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Важнейшая цель воспитательной работы — культура жизненного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самоопределения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еловека... Жизненное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самоопределени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— более широкое понятие, чем только профессиональное и даже гражданское. Культура жизненного самоопределения характеризует человека как субъекта собственной жизни и собственного счастья. Именно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гармонии человека с самим собой должно идти гражданское, профессиональное и нравственное самоопределени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4" descr="1191269251_c4133[1]"/>
          <p:cNvPicPr/>
          <p:nvPr/>
        </p:nvPicPr>
        <p:blipFill>
          <a:blip r:embed="rId1"/>
          <a:stretch/>
        </p:blipFill>
        <p:spPr>
          <a:xfrm>
            <a:off x="61920" y="228600"/>
            <a:ext cx="313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повестку дня ставится вопрос не просто о развитии учащихся, а о стимулировании их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саморазвит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процессе активного освоения культуры в ходе общения с другими людь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6" descr="1191269151_c4122[1]"/>
          <p:cNvPicPr/>
          <p:nvPr/>
        </p:nvPicPr>
        <p:blipFill>
          <a:blip r:embed="rId1"/>
          <a:stretch/>
        </p:blipFill>
        <p:spPr>
          <a:xfrm>
            <a:off x="6095880" y="3048120"/>
            <a:ext cx="2524320" cy="380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1191268903_c4101[1]"/>
          <p:cNvPicPr/>
          <p:nvPr/>
        </p:nvPicPr>
        <p:blipFill>
          <a:blip r:embed="rId2"/>
          <a:stretch/>
        </p:blipFill>
        <p:spPr>
          <a:xfrm>
            <a:off x="228600" y="3132000"/>
            <a:ext cx="44956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666880" y="0"/>
            <a:ext cx="6477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дагог как бы “ведет” воспитанника, планирует необходимые изменения в его психике и поведении, способствует появлению у него определенных качеств. Он достигает это, помогая войти ребенку в мир культуры, создавая педагогические ситуации, где он может </a:t>
            </a:r>
            <a:r>
              <a:rPr b="1" i="1" lang="ru-RU" sz="2800" spc="-1" strike="noStrike">
                <a:solidFill>
                  <a:srgbClr val="cc99ff"/>
                </a:solidFill>
                <a:latin typeface="Verdana"/>
              </a:rPr>
              <a:t>самореализовыватьс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проявить свою активность. Под руководством педагога происходит </a:t>
            </a:r>
            <a:r>
              <a:rPr b="1" i="1" lang="ru-RU" sz="2800" spc="-1" strike="noStrike">
                <a:solidFill>
                  <a:srgbClr val="cc99ff"/>
                </a:solidFill>
                <a:latin typeface="Verdana"/>
              </a:rPr>
              <a:t>самоопределени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ебенка, самостоятельно и осознанно делающего свои большие и маленькие жизненные выборы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cbiz129[1]"/>
          <p:cNvPicPr/>
          <p:nvPr/>
        </p:nvPicPr>
        <p:blipFill>
          <a:blip r:embed="rId1"/>
          <a:stretch/>
        </p:blipFill>
        <p:spPr>
          <a:xfrm>
            <a:off x="0" y="3029040"/>
            <a:ext cx="29876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ля гуманистической педагогики присуща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тенденция приспособить содержание, формы и методы образования к ребенку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ма педагогически организованная жизнь ребенка воспринимается им как естественная (своя) только тогда, когда он имеет возможность в ее рамках свободно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самореализовываться, т.е. жить в соответствии со своими внутренними законами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7" descr="antn071[1]"/>
          <p:cNvPicPr/>
          <p:nvPr/>
        </p:nvPicPr>
        <p:blipFill>
          <a:blip r:embed="rId1"/>
          <a:stretch/>
        </p:blipFill>
        <p:spPr>
          <a:xfrm>
            <a:off x="5638680" y="4203720"/>
            <a:ext cx="35053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личностный подход в воспитан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 признание личности развивающегося человека высшей социальной ценностью, уважение своеобразия и уникальности каждого ребенка, подростка, молодого человека, признание их социальных прав и свобод; ориентация на личность воспитуемого как цель, объект, субъект, результат и показатель эффективности воспита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6" descr="1191268954_c4105[1]"/>
          <p:cNvPicPr/>
          <p:nvPr/>
        </p:nvPicPr>
        <p:blipFill>
          <a:blip r:embed="rId1"/>
          <a:stretch/>
        </p:blipFill>
        <p:spPr>
          <a:xfrm>
            <a:off x="6095880" y="1523880"/>
            <a:ext cx="2014560" cy="327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1191268962_c4106[1]"/>
          <p:cNvPicPr/>
          <p:nvPr/>
        </p:nvPicPr>
        <p:blipFill>
          <a:blip r:embed="rId2"/>
          <a:stretch/>
        </p:blipFill>
        <p:spPr>
          <a:xfrm>
            <a:off x="7491240" y="3505320"/>
            <a:ext cx="1652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Человек как личность с точки зрения психологии характеризуется:</a:t>
            </a: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147680" y="1438200"/>
            <a:ext cx="455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4" descr="http://old.ysu.ru/institut/pedinst/tecnology/images/t7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3441600" y="1438200"/>
          <a:ext cx="4554720" cy="517680"/>
        </p:xfrm>
        <a:graphic>
          <a:graphicData uri="http://schemas.openxmlformats.org/drawingml/2006/table">
            <a:tbl>
              <a:tblPr/>
              <a:tblGrid>
                <a:gridCol w="4554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562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Воспитание – целенаправленное управление развитием личности ребенка, его сознанием и поведением как целостным процессом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Крен в сторону сознания и поведения неизбежно порождает разрыв слова и дела, обедняет эмоционально-чувственную сферу молодежи. Жизненные ценности, нравственные нормы и правила только через чувства могут стать собственными ценностями и нормами развивающейся личност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Picture 4" descr="4201875_67687[1]"/>
          <p:cNvPicPr/>
          <p:nvPr/>
        </p:nvPicPr>
        <p:blipFill>
          <a:blip r:embed="rId1"/>
          <a:srcRect l="13004" t="0" r="18000" b="0"/>
          <a:stretch/>
        </p:blipFill>
        <p:spPr>
          <a:xfrm>
            <a:off x="5638680" y="2641680"/>
            <a:ext cx="350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86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Гуманизация межличностных отношений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 Авторитарность, грубость, насилие над ребенком губят воспитательный процесс и ребенка как личность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6" descr="1191269070_c4116[1]"/>
          <p:cNvPicPr/>
          <p:nvPr/>
        </p:nvPicPr>
        <p:blipFill>
          <a:blip r:embed="rId1"/>
          <a:srcRect l="0" t="0" r="30287" b="0"/>
          <a:stretch/>
        </p:blipFill>
        <p:spPr>
          <a:xfrm>
            <a:off x="5851440" y="274320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Вопрос анкеты: 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Удовлетворены ли вы тем как в целом сложился характер Ваших взаимоотношений с учителями?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 (опрошено 63 человека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довлетворен полностью    13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корее да, чем нет             33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корее нет, чем д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14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ет                                      1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4" descr="v25ani[1]"/>
          <p:cNvPicPr/>
          <p:nvPr/>
        </p:nvPicPr>
        <p:blipFill>
          <a:blip r:embed="rId1"/>
          <a:stretch/>
        </p:blipFill>
        <p:spPr>
          <a:xfrm>
            <a:off x="3581280" y="44197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спитание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широком смысле рассматривается как общественное явление,  как воздействие общества  на  личность, воспитание практически отождествляется с социализацией.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спитани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в узком смысле рассматривается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специально организованная деятельность педагогов и воспитанников по реализации целей образования в условиях  педагогического процесса.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еятельность педагогов в эт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учае   называетс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спитательной работо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4" descr="writingonbook[1]"/>
          <p:cNvPicPr/>
          <p:nvPr/>
        </p:nvPicPr>
        <p:blipFill>
          <a:blip r:embed="rId1"/>
          <a:stretch/>
        </p:blipFill>
        <p:spPr>
          <a:xfrm>
            <a:off x="6019920" y="3962520"/>
            <a:ext cx="2819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88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4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36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4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1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Вопрос анкеты:</a:t>
            </a:r>
            <a:br>
              <a:rPr sz="2800"/>
            </a:b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Деловые отношения между учителем и учеником в нашей школе:</a:t>
            </a:r>
            <a:br>
              <a:rPr sz="2800"/>
            </a:b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(опрошено 63 человека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брожелательные           28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ервозные                          2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езразличные                    11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равных, открытые         12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кованные, напряженные    2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о скрытой неприязнью       7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4" descr="v25ani[1]"/>
          <p:cNvPicPr/>
          <p:nvPr/>
        </p:nvPicPr>
        <p:blipFill>
          <a:blip r:embed="rId1"/>
          <a:stretch/>
        </p:blipFill>
        <p:spPr>
          <a:xfrm>
            <a:off x="5486400" y="4800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дифференциация воспитания с целью активизации познавательной 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тивационно-потребностной сферы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учащихся, предполагающая отбор содержания, форм и методов воспитания, учет специфических позиций детей и взрослых, прежде всег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одителей и педагогов 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питательном процесс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5" descr="15[1]"/>
          <p:cNvPicPr/>
          <p:nvPr/>
        </p:nvPicPr>
        <p:blipFill>
          <a:blip r:embed="rId1"/>
          <a:stretch/>
        </p:blipFill>
        <p:spPr>
          <a:xfrm>
            <a:off x="6477120" y="4221000"/>
            <a:ext cx="26668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редовой подход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 воспитании включает различные варианты взаимодействия учебного заведения со средой (семьей, внеучебными объединениями, в которые включен учащийся), которая весьма противоречив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5" descr="1191269094_c4118[1]"/>
          <p:cNvPicPr/>
          <p:nvPr/>
        </p:nvPicPr>
        <p:blipFill>
          <a:blip r:embed="rId1"/>
          <a:stretch/>
        </p:blipFill>
        <p:spPr>
          <a:xfrm>
            <a:off x="5638680" y="3048120"/>
            <a:ext cx="336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Факторы, влияющие на формирование личности ребенк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86200" cy="4456080"/>
          </a:xfrm>
          <a:prstGeom prst="rect">
            <a:avLst/>
          </a:prstGeom>
          <a:noFill/>
          <a:ln w="3168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Внутрен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аследственн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обственная активность личности,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орождаемая потребностями, противоречиями, интересами и другими мотива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4456080"/>
          </a:xfrm>
          <a:prstGeom prst="rect">
            <a:avLst/>
          </a:prstGeom>
          <a:noFill/>
          <a:ln w="3168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акросред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воспитание в широком социальном смысл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езосред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риродная и социальная (воспитание в широком педагогическом смысл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икросред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риродная и социальная(воспитание в узком педагогическом смысл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  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аследственность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– свойство организмов повторять в ряду поколений сходные типы обмена веществ и индивидуального развития в целом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    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акрофакторы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среды) – объекты, явления, отношения, обстоятельства, оказывающие влияние на жизнедеятельность больших групп людей, проживающих в разных странах, а, следовательно, на жизнедеятельность и развитие каждого человек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    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езофакторы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среды) – условия и обстоятельства жизнедеятельности человека и социальной группы, к которой он принадлежит, идеологические и духовно-нравственные отношения, моральные нормы и ценности, принятые в данном человеческом сообществ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    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икрофакторы</a:t>
            </a:r>
            <a:r>
              <a:rPr b="0" lang="ru-RU" sz="2400" spc="-1" strike="noStrike">
                <a:solidFill>
                  <a:srgbClr val="ebf7ff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среды) – материально-бытовые условия жизни человека, его ближайшее социальное окружени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440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Социальная среда нашей школы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лных семей – 48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полных семей - 12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них с одним отцом - 8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 одной матерью - 12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иноких матерей - 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многодетных семьях воспитываются - 4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благополучных семей – 7 (официально, н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  практике гораздо больш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екаемых детей - 9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оличество семей, воспитывающих детей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нвалидов - 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оличество детей, имеющих родителей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нвалидов - 1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4" descr="2H3[1]"/>
          <p:cNvPicPr/>
          <p:nvPr/>
        </p:nvPicPr>
        <p:blipFill>
          <a:blip r:embed="rId1"/>
          <a:stretch/>
        </p:blipFill>
        <p:spPr>
          <a:xfrm>
            <a:off x="7543800" y="533520"/>
            <a:ext cx="14097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5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ы должны учес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5486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то в школе есть де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торых дома бьют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 которых дома пьют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торые бывают голодными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торым бывает нечего надеть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 которых болеют родител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 которых умственный потенциал изначально не позволяет освоить программ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1" name="Picture 4" descr="136[1]"/>
          <p:cNvPicPr/>
          <p:nvPr/>
        </p:nvPicPr>
        <p:blipFill>
          <a:blip r:embed="rId1"/>
          <a:stretch/>
        </p:blipFill>
        <p:spPr>
          <a:xfrm>
            <a:off x="5334120" y="330516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086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олько тот человек может полноценно действовать в изменяющемся мире, изменить этот мир, внести в него что-то новое, который способен самостоятельно выйти за пределы усвоенной им информации, стандартного набора знаний, навыков и умений, стереотипных установок,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сделать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самостоятельны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выбо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, принять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самостояте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решение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4" descr="ED3613[1]"/>
          <p:cNvPicPr/>
          <p:nvPr/>
        </p:nvPicPr>
        <p:blipFill>
          <a:blip r:embed="rId1"/>
          <a:srcRect l="0" t="0" r="3849" b="0"/>
          <a:stretch/>
        </p:blipFill>
        <p:spPr>
          <a:xfrm>
            <a:off x="5334120" y="43434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5105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 школа и образование суть основа и источник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самовоспитания и самообразования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, как принято думать, а, наоборот,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саморазвити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есть та необходимая почва, на которой школа только и может существовать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5" name="Picture 5" descr="Internetssilki[1]"/>
          <p:cNvPicPr/>
          <p:nvPr/>
        </p:nvPicPr>
        <p:blipFill>
          <a:blip r:embed="rId1"/>
          <a:stretch/>
        </p:blipFill>
        <p:spPr>
          <a:xfrm>
            <a:off x="4648320" y="2290680"/>
            <a:ext cx="43243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бразование, чтобы стать гуманистическим, прежде всего, должно быть сориентировано на </a:t>
            </a:r>
            <a:r>
              <a:rPr b="1" lang="ru-RU" sz="3600" spc="-1" strike="noStrike">
                <a:solidFill>
                  <a:srgbClr val="cc99ff"/>
                </a:solidFill>
                <a:latin typeface="Verdana"/>
              </a:rPr>
              <a:t>пробуждение внутренней духовно-нравственной активности учащих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– их рефлексии, целеполагания. 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7" name="Picture 4" descr="chat[1]"/>
          <p:cNvPicPr/>
          <p:nvPr/>
        </p:nvPicPr>
        <p:blipFill>
          <a:blip r:embed="rId1"/>
          <a:stretch/>
        </p:blipFill>
        <p:spPr>
          <a:xfrm>
            <a:off x="5648400" y="3865680"/>
            <a:ext cx="3495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иды воспитания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классифицируются по разным основаниям. 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Наиболее обобщенная классификация включает в себ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умственное, нравственное, </a:t>
            </a:r>
            <a:br>
              <a:rPr sz="3200"/>
            </a:b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трудовое, </a:t>
            </a:r>
            <a:br>
              <a:rPr sz="3200"/>
            </a:b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физическое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итани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8" descr="1191269243_c4132[1]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0840" y="152280"/>
            <a:ext cx="3738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Гуманно-личностный подход – это ключевое звено, коммуникативная основа личностно-ориентированных педагогических технологий. Он объединяет следующие идеи: 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533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овый взгляд на личность как цель образова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уманизацию и демократизацию педагогических отношений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каз от прямого принуждения как метода, не дающего результатов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0" name="Picture 5" descr="risunok6[1]"/>
          <p:cNvPicPr/>
          <p:nvPr/>
        </p:nvPicPr>
        <p:blipFill>
          <a:blip r:embed="rId1"/>
          <a:stretch/>
        </p:blipFill>
        <p:spPr>
          <a:xfrm>
            <a:off x="5334120" y="2362320"/>
            <a:ext cx="3581280" cy="32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Verdana"/>
              </a:rPr>
              <a:t>Вопрос анкеты: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Verdana"/>
              </a:rPr>
              <a:t>Посоветуете ли вы отдать своих детей в вашу школу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а            58 чел.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ет           5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Picture 8" descr="antn027[1]"/>
          <p:cNvPicPr/>
          <p:nvPr/>
        </p:nvPicPr>
        <p:blipFill>
          <a:blip r:embed="rId1"/>
          <a:stretch/>
        </p:blipFill>
        <p:spPr>
          <a:xfrm>
            <a:off x="4267080" y="2787480"/>
            <a:ext cx="48769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    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 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Новый взгляд на личность представляет следующие позиции: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личность проявляется, выступает в раннем детстве, ребенок в школе – полноценная человеческая личность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личность является субъектом, а не объектом в педагогическом процессе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личность – не цель образовательной системы, а средство для достижения каких-либо внешних целей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ждый ребенок обладает способностями, многие дети талантливы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оритетными качествами личности являются высшие этические ценности (доброта, любовь, трудолюбие, совесть, достоинство, гражданственность и др.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6" name="Picture 4" descr="1191268944_c4104[1]"/>
          <p:cNvPicPr/>
          <p:nvPr/>
        </p:nvPicPr>
        <p:blipFill>
          <a:blip r:embed="rId1"/>
          <a:stretch/>
        </p:blipFill>
        <p:spPr>
          <a:xfrm>
            <a:off x="6705720" y="2743200"/>
            <a:ext cx="211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Гуманное отношение к детям включае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дагогическую любовь к детям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птимистическую веру в ребенке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трудничество, мастерство обще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прямого принужде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оритет положительного стимулирова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ерпимость к детским недостаткам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9" name="Picture 6" descr="1191269165_c4123[1]"/>
          <p:cNvPicPr/>
          <p:nvPr/>
        </p:nvPicPr>
        <p:blipFill>
          <a:blip r:embed="rId1"/>
          <a:stretch/>
        </p:blipFill>
        <p:spPr>
          <a:xfrm>
            <a:off x="6134040" y="30481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Демократизация отношений утверждае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равнивание ученика и учителя в правах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аво ребенка на свободный выбор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аво на ошибку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аво на собственную точку зре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блюдение Конвенции о правах ребенк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тиль отношений учителя и учеников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4" descr="en_120[1]"/>
          <p:cNvPicPr/>
          <p:nvPr/>
        </p:nvPicPr>
        <p:blipFill>
          <a:blip r:embed="rId1"/>
          <a:srcRect l="24001" t="17334" r="9997" b="0"/>
          <a:stretch/>
        </p:blipFill>
        <p:spPr>
          <a:xfrm>
            <a:off x="6019920" y="3922560"/>
            <a:ext cx="31240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Ученье без принуждения характеризуе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791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ребовательность без принуждения, основанная на доверии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влеченность, рожденная интересным преподаванием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мена принуждения желанием, которое порождает успех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тавка на самостоятельную и самодеятельность детей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менение косвенных требований через коллектив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Picture 7" descr="1191269172_c4124[1]"/>
          <p:cNvPicPr/>
          <p:nvPr/>
        </p:nvPicPr>
        <p:blipFill>
          <a:blip r:embed="rId1"/>
          <a:stretch/>
        </p:blipFill>
        <p:spPr>
          <a:xfrm>
            <a:off x="5875200" y="1600200"/>
            <a:ext cx="3097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Новая трактовка индивидуального подхода включает:</a:t>
            </a: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каз от ориентировки на среднего ученик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иск лучших качеств личност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менение психолого-педагогической диагностики личност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чет особенностей личности в учебно-воспитательном процессе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гнозирование развития личност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нструирование индивидуальных программ развития, его коррекция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8" name="Picture 5" descr="1191269179_c4125[1]"/>
          <p:cNvPicPr/>
          <p:nvPr/>
        </p:nvPicPr>
        <p:blipFill>
          <a:blip r:embed="rId1"/>
          <a:stretch/>
        </p:blipFill>
        <p:spPr>
          <a:xfrm>
            <a:off x="6591240" y="3048120"/>
            <a:ext cx="2552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7f87cd8f8528[1]"/>
          <p:cNvPicPr/>
          <p:nvPr/>
        </p:nvPicPr>
        <p:blipFill>
          <a:blip r:embed="rId1"/>
          <a:stretch/>
        </p:blipFill>
        <p:spPr>
          <a:xfrm>
            <a:off x="2209680" y="266688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81280" y="0"/>
            <a:ext cx="556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зависимости от различных направлений воспитательной работы в образовательных учреждения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 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деляют 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гражданское, политическое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интернациональное, нравственное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эстетическое, трудовое, физическое, правовое, экологическое, экономическо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оспитани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4" descr="1191269050_c4114[1]"/>
          <p:cNvPicPr/>
          <p:nvPr/>
        </p:nvPicPr>
        <p:blipFill>
          <a:blip r:embed="rId1"/>
          <a:stretch/>
        </p:blipFill>
        <p:spPr>
          <a:xfrm>
            <a:off x="0" y="2666880"/>
            <a:ext cx="3678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895120" y="380880"/>
            <a:ext cx="62485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 институциональному признаку выделяют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семейное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школьное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 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нешкольное, конфессиональное (религиозное)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оспитание по месту жительства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оспитание в детских, юношеских организациях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оспитание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специальных образовательных учреждениях. 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teacher[1]"/>
          <p:cNvPicPr/>
          <p:nvPr/>
        </p:nvPicPr>
        <p:blipFill>
          <a:blip r:embed="rId1"/>
          <a:stretch/>
        </p:blipFill>
        <p:spPr>
          <a:xfrm>
            <a:off x="0" y="3657600"/>
            <a:ext cx="3276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038120" y="304560"/>
            <a:ext cx="487692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 стилю отношений между воспитателями  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итанник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 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личают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авторитарное, демократическое, либеральное, свободно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воспитани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5" descr="1191269027_c4112[1]"/>
          <p:cNvPicPr/>
          <p:nvPr/>
        </p:nvPicPr>
        <p:blipFill>
          <a:blip r:embed="rId1"/>
          <a:stretch/>
        </p:blipFill>
        <p:spPr>
          <a:xfrm>
            <a:off x="457200" y="2209680"/>
            <a:ext cx="3506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7760" y="-360"/>
            <a:ext cx="6095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период средневековья сформировалась теория 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авторитарного воспитани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  которая в различных формах продолжает существовать и в настоящее врем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ним из ярких представителей этой теории был немецкий педагог И.Ф.Гербарт, который сводил воспитание к управлению детьми.  Цель этого управления -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подавление дикой резвости ребенка,  "которая кидает его из стороны в сторон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емами управления Гербарт считал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угрозу, надзор за детьми, приказания и запрещени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1191269232_c4131[1]"/>
          <p:cNvPicPr/>
          <p:nvPr/>
        </p:nvPicPr>
        <p:blipFill>
          <a:blip r:embed="rId1"/>
          <a:stretch/>
        </p:blipFill>
        <p:spPr>
          <a:xfrm>
            <a:off x="228600" y="0"/>
            <a:ext cx="28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410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выражение  протеста против авторитарного воспитания возникает теория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свободного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питания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двинута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Ж.-Ж.Руссо. Он и его последователи призывали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уважать в ребенке растущего человека, не стеснять,  а всемерно стимулироват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 ходе воспитания  естественное развитие ребенка. 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4" descr="teacher_clipart_8[1]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495680" y="304920"/>
            <a:ext cx="46483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705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ыт лучших учителей и педагогических коллективов, основополагающие документы 20-х гг.  ориентировали педагогов на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гуманизацию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воспитания детей,  на развитие их самостоятельности и самоуправления.  Но гуманистический расцвет советской педагогики продолжался недолго. С усилением тоталитарной государственной системы в практике  воспитания  постепенн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 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чали  преобладать 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жесткая регламентация и контроль за сознанием растущего человека,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одгонка его к заданному шаблону,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авторитаризм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едагогов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5" descr="smelom[1]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715000" y="380988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2T16:10:4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