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gif" ContentType="image/gif"/>
  <Override PartName="/ppt/media/image23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20.jpeg" ContentType="image/jpeg"/>
  <Override PartName="/ppt/media/image30.png" ContentType="image/png"/>
  <Override PartName="/ppt/media/image5.png" ContentType="image/png"/>
  <Override PartName="/ppt/media/image35.jpeg" ContentType="image/jpeg"/>
  <Override PartName="/ppt/media/image19.jpeg" ContentType="image/jpeg"/>
  <Override PartName="/ppt/media/image2.gif" ContentType="image/gif"/>
  <Override PartName="/ppt/media/image25.gif" ContentType="image/gif"/>
  <Override PartName="/ppt/media/image6.jpeg" ContentType="image/jpeg"/>
  <Override PartName="/ppt/media/image33.jpeg" ContentType="image/jpeg"/>
  <Override PartName="/ppt/media/image8.png" ContentType="image/png"/>
  <Override PartName="/ppt/media/image29.gif" ContentType="image/gif"/>
  <Override PartName="/ppt/media/image9.png" ContentType="image/png"/>
  <Override PartName="/ppt/media/image13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6.gif" ContentType="image/gif"/>
  <Override PartName="/ppt/media/image3.png" ContentType="image/png"/>
  <Override PartName="/ppt/media/image26.png" ContentType="image/png"/>
  <Override PartName="/ppt/media/image12.jpeg" ContentType="image/jpeg"/>
  <Override PartName="/ppt/media/image11.jpeg" ContentType="image/jpeg"/>
  <Override PartName="/ppt/media/image1.gif" ContentType="image/gif"/>
  <Override PartName="/ppt/media/image16.png" ContentType="image/png"/>
  <Override PartName="/ppt/media/image24.gif" ContentType="image/gif"/>
  <Override PartName="/ppt/media/image32.jpeg" ContentType="image/jpeg"/>
  <Override PartName="/ppt/media/image17.png" ContentType="image/png"/>
  <Override PartName="/ppt/media/image22.gif" ContentType="image/gif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B82-7712-47FC-8797-32B4632F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4F0C-F8D4-456D-941D-E693DCC8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141-64DA-417F-8580-5C150D91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F0F9-45C3-4484-8988-84521530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0B14-8350-4DA0-91E4-2A7A936D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B5E9-CACA-426A-8FE2-C6FA1F32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2967-3A7A-4533-AEA2-DBE2E787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7C4C-05A7-428F-B87A-EC866898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5E2F-4B77-4D0E-B513-33FF6790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85AB-7B64-4235-810F-0F5A189E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CD5F-EDD5-4DB1-8E4D-7D4B6F26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B99-4279-4D8C-9555-5B71BB55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A081-4422-43E1-A5EE-4AF1F0C8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8666-0096-41A6-A43E-ACB7E2F1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B9BE-187B-43C9-AE94-1E3F14F0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3FE7-A524-495D-95C3-9CEFFD2C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DCE2-8A4E-4B49-B56E-E74A9E22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A999-3884-40D5-9544-8ADE0276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47E9-5C25-42B1-8960-A282BD4B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64B-020B-4816-B625-A9529A7D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8F0E-95CE-40C1-91A7-078AF8B6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B026-20F7-4367-A878-49D9AC11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E85-8DF3-4ADC-BF91-5C137C1C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42DA-C9C6-48FC-9B97-25286F03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E853-B40D-423C-A5C5-31DA5BC194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5073-D092-4726-B9E6-BE9D2130AF57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99ff"/>
                </a:solidFill>
                <a:latin typeface="Verdana"/>
              </a:rPr>
              <a:t>САМООПРЕДЕЛЕНИЕ, САМОРАЗВИТИЕ </a:t>
            </a:r>
            <a:br>
              <a:rPr sz="4400"/>
            </a:br>
            <a:r>
              <a:rPr b="1" i="1" lang="ru-RU" sz="4400" spc="-1" strike="noStrike">
                <a:solidFill>
                  <a:srgbClr val="cc99ff"/>
                </a:solidFill>
                <a:latin typeface="Verdana"/>
              </a:rPr>
              <a:t>И </a:t>
            </a:r>
            <a:br>
              <a:rPr sz="4400"/>
            </a:br>
            <a:r>
              <a:rPr b="1" i="1" lang="ru-RU" sz="4400" spc="-1" strike="noStrike">
                <a:solidFill>
                  <a:srgbClr val="cc99ff"/>
                </a:solidFill>
                <a:latin typeface="Verdana"/>
              </a:rPr>
              <a:t>САМОРЕАЛИЗАЦИЯ ЛИЧНОСТИ КАК ЦЕЛЬ</a:t>
            </a:r>
            <a:br>
              <a:rPr sz="4400"/>
            </a:br>
            <a:r>
              <a:rPr b="1" i="1" lang="ru-RU" sz="4400" spc="-1" strike="noStrike">
                <a:solidFill>
                  <a:srgbClr val="cc99ff"/>
                </a:solidFill>
                <a:latin typeface="Verdana"/>
              </a:rPr>
              <a:t> И РЕЗУЛЬТАТ ГУМАНИСТИЧЕСКОГО ВОСПИТ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4" descr="d007[1]"/>
          <p:cNvPicPr/>
          <p:nvPr/>
        </p:nvPicPr>
        <p:blipFill>
          <a:blip r:embed="rId1"/>
          <a:stretch/>
        </p:blipFill>
        <p:spPr>
          <a:xfrm>
            <a:off x="7620120" y="4210200"/>
            <a:ext cx="1811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00400" y="0"/>
            <a:ext cx="5943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ff"/>
                </a:solidFill>
                <a:latin typeface="Verdana"/>
              </a:rPr>
              <a:t>Гуманистическое воспитание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  имеет 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воей  цель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 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армоничное развитие личности и предполагает </a:t>
            </a:r>
            <a:r>
              <a:rPr b="1" lang="ru-RU" sz="3200" spc="-1" strike="noStrike">
                <a:solidFill>
                  <a:srgbClr val="cc99ff"/>
                </a:solidFill>
                <a:latin typeface="Verdana"/>
              </a:rPr>
              <a:t>гуманный характер отношений между  участниками 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ff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cc99ff"/>
                </a:solidFill>
                <a:latin typeface="Verdana"/>
              </a:rPr>
              <a:t>педагогического процесс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  Для обозначения таких отношений употребляется термин "гуманное  воспитание". 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Picture 4" descr="1191269059_c4115[1]"/>
          <p:cNvPicPr/>
          <p:nvPr/>
        </p:nvPicPr>
        <p:blipFill>
          <a:blip r:embed="rId1"/>
          <a:stretch/>
        </p:blipFill>
        <p:spPr>
          <a:xfrm>
            <a:off x="0" y="2819520"/>
            <a:ext cx="346392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971440" y="0"/>
            <a:ext cx="6172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«Важнейшая цель воспитательной работы — культура жизненного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самоопределения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человека... Жизненное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самоопределение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— более широкое понятие, чем только профессиональное и даже гражданское. Культура жизненного самоопределения характеризует человека как субъекта собственной жизни и собственного счастья. Именно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в гармонии человека с самим собой должно идти гражданское, профессиональное и нравственное самоопределение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4" descr="1191269251_c4133[1]"/>
          <p:cNvPicPr/>
          <p:nvPr/>
        </p:nvPicPr>
        <p:blipFill>
          <a:blip r:embed="rId1"/>
          <a:stretch/>
        </p:blipFill>
        <p:spPr>
          <a:xfrm>
            <a:off x="61920" y="228600"/>
            <a:ext cx="3135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 повестку дня ставится вопрос не просто о развитии учащихся, а о стимулировании их </a:t>
            </a:r>
            <a:r>
              <a:rPr b="1" lang="ru-RU" sz="3200" spc="-1" strike="noStrike">
                <a:solidFill>
                  <a:srgbClr val="cc99ff"/>
                </a:solidFill>
                <a:latin typeface="Verdana"/>
              </a:rPr>
              <a:t>саморазвития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процессе активного освоения культуры в ходе общения с другими людьм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6" descr="1191269151_c4122[1]"/>
          <p:cNvPicPr/>
          <p:nvPr/>
        </p:nvPicPr>
        <p:blipFill>
          <a:blip r:embed="rId1"/>
          <a:stretch/>
        </p:blipFill>
        <p:spPr>
          <a:xfrm>
            <a:off x="6095880" y="3048120"/>
            <a:ext cx="2524320" cy="3809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1191268903_c4101[1]"/>
          <p:cNvPicPr/>
          <p:nvPr/>
        </p:nvPicPr>
        <p:blipFill>
          <a:blip r:embed="rId2"/>
          <a:stretch/>
        </p:blipFill>
        <p:spPr>
          <a:xfrm>
            <a:off x="228600" y="3132000"/>
            <a:ext cx="449568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666880" y="0"/>
            <a:ext cx="6477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едагог как бы “ведет” воспитанника, планирует необходимые изменения в его психике и поведении, способствует появлению у него определенных качеств. Он достигает это, помогая войти ребенку в мир культуры, создавая педагогические ситуации, где он может </a:t>
            </a:r>
            <a:r>
              <a:rPr b="1" i="1" lang="ru-RU" sz="2800" spc="-1" strike="noStrike">
                <a:solidFill>
                  <a:srgbClr val="cc99ff"/>
                </a:solidFill>
                <a:latin typeface="Verdana"/>
              </a:rPr>
              <a:t>самореализовываться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проявить свою активность. Под руководством педагога происходит </a:t>
            </a:r>
            <a:r>
              <a:rPr b="1" i="1" lang="ru-RU" sz="2800" spc="-1" strike="noStrike">
                <a:solidFill>
                  <a:srgbClr val="cc99ff"/>
                </a:solidFill>
                <a:latin typeface="Verdana"/>
              </a:rPr>
              <a:t>самоопределение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ребенка, самостоятельно и осознанно делающего свои большие и маленькие жизненные выборы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4" descr="cbiz129[1]"/>
          <p:cNvPicPr/>
          <p:nvPr/>
        </p:nvPicPr>
        <p:blipFill>
          <a:blip r:embed="rId1"/>
          <a:stretch/>
        </p:blipFill>
        <p:spPr>
          <a:xfrm>
            <a:off x="0" y="3029040"/>
            <a:ext cx="298764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ля гуманистической педагогики присуща </a:t>
            </a: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тенденция приспособить содержание, формы и методы образования к ребенку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.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ама педагогически организованная жизнь ребенка воспринимается им как естественная (своя) только тогда, когда он имеет возможность в ее рамках свободно </a:t>
            </a: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самореализовываться, т.е. жить в соответствии со своими внутренними законами.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7" descr="antn071[1]"/>
          <p:cNvPicPr/>
          <p:nvPr/>
        </p:nvPicPr>
        <p:blipFill>
          <a:blip r:embed="rId1"/>
          <a:stretch/>
        </p:blipFill>
        <p:spPr>
          <a:xfrm>
            <a:off x="5638680" y="4203720"/>
            <a:ext cx="350532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В основе гуманистической системы воспитания, лежат следующие идеи: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6858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личностный подход в воспитани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: признание личности развивающегося человека высшей социальной ценностью, уважение своеобразия и уникальности каждого ребенка, подростка, молодого человека, признание их социальных прав и свобод; ориентация на личность воспитуемого как цель, объект, субъект, результат и показатель эффективности воспитания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8" name="Picture 6" descr="1191268954_c4105[1]"/>
          <p:cNvPicPr/>
          <p:nvPr/>
        </p:nvPicPr>
        <p:blipFill>
          <a:blip r:embed="rId1"/>
          <a:stretch/>
        </p:blipFill>
        <p:spPr>
          <a:xfrm>
            <a:off x="6095880" y="1523880"/>
            <a:ext cx="2014560" cy="327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1191268962_c4106[1]"/>
          <p:cNvPicPr/>
          <p:nvPr/>
        </p:nvPicPr>
        <p:blipFill>
          <a:blip r:embed="rId2"/>
          <a:stretch/>
        </p:blipFill>
        <p:spPr>
          <a:xfrm>
            <a:off x="7491240" y="3505320"/>
            <a:ext cx="16527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Человек как личность с точки зрения психологии характеризуется:</a:t>
            </a: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147680" y="1438200"/>
            <a:ext cx="4554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2" name="Picture 4" descr="http://old.ysu.ru/institut/pedinst/tecnology/images/t7.jp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3441600" y="1438200"/>
          <a:ext cx="4554720" cy="517680"/>
        </p:xfrm>
        <a:graphic>
          <a:graphicData uri="http://schemas.openxmlformats.org/drawingml/2006/table">
            <a:tbl>
              <a:tblPr/>
              <a:tblGrid>
                <a:gridCol w="4554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В основе гуманистической системы воспитания, лежат следующие идеи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5562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Воспитание – целенаправленное управление развитием личности ребенка, его сознанием и поведением как целостным процессом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 Крен в сторону сознания и поведения неизбежно порождает разрыв слова и дела, обедняет эмоционально-чувственную сферу молодежи. Жизненные ценности, нравственные нормы и правила только через чувства могут стать собственными ценностями и нормами развивающейся личности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6" name="Picture 4" descr="4201875_67687[1]"/>
          <p:cNvPicPr/>
          <p:nvPr/>
        </p:nvPicPr>
        <p:blipFill>
          <a:blip r:embed="rId1"/>
          <a:srcRect l="13004" t="0" r="18000" b="0"/>
          <a:stretch/>
        </p:blipFill>
        <p:spPr>
          <a:xfrm>
            <a:off x="5638680" y="2641680"/>
            <a:ext cx="35053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В основе гуманистической системы воспитания, лежат следующие идеи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86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Гуманизация межличностных отношений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 Авторитарность, грубость, насилие над ребенком губят воспитательный процесс и ребенка как личность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Picture 6" descr="1191269070_c4116[1]"/>
          <p:cNvPicPr/>
          <p:nvPr/>
        </p:nvPicPr>
        <p:blipFill>
          <a:blip r:embed="rId1"/>
          <a:srcRect l="0" t="0" r="30287" b="0"/>
          <a:stretch/>
        </p:blipFill>
        <p:spPr>
          <a:xfrm>
            <a:off x="5851440" y="2743200"/>
            <a:ext cx="329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7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ff"/>
                </a:solidFill>
                <a:latin typeface="Verdana"/>
              </a:rPr>
              <a:t>Вопрос анкеты: </a:t>
            </a:r>
            <a:br>
              <a:rPr sz="2400"/>
            </a:br>
            <a:r>
              <a:rPr b="0" lang="ru-RU" sz="2400" spc="-1" strike="noStrike">
                <a:solidFill>
                  <a:srgbClr val="cc99ff"/>
                </a:solidFill>
                <a:latin typeface="Verdana"/>
              </a:rPr>
              <a:t>Удовлетворены ли вы тем как в целом сложился характер Ваших взаимоотношений с учителями?</a:t>
            </a:r>
            <a:br>
              <a:rPr sz="2400"/>
            </a:br>
            <a:r>
              <a:rPr b="0" lang="ru-RU" sz="2400" spc="-1" strike="noStrike">
                <a:solidFill>
                  <a:srgbClr val="cc99ff"/>
                </a:solidFill>
                <a:latin typeface="Verdana"/>
              </a:rPr>
              <a:t> (опрошено 63 человека)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довлетворен полностью    13 ч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корее да, чем нет             33 ч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Скорее нет, чем да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14 ч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Нет                                      1 ч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Picture 4" descr="v25ani[1]"/>
          <p:cNvPicPr/>
          <p:nvPr/>
        </p:nvPicPr>
        <p:blipFill>
          <a:blip r:embed="rId1"/>
          <a:stretch/>
        </p:blipFill>
        <p:spPr>
          <a:xfrm>
            <a:off x="3581280" y="44197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оспитание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широком смысле рассматривается как общественное явление,  как воздействие общества  на  личность, воспитание практически отождествляется с социализацией. 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оспитани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в узком смысле рассматривается 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ак специально организованная деятельность педагогов и воспитанников по реализации целей образования в условиях  педагогического процесса. 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еятельность педагогов в это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лучае   называетс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воспитательной работой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Picture 4" descr="writingonbook[1]"/>
          <p:cNvPicPr/>
          <p:nvPr/>
        </p:nvPicPr>
        <p:blipFill>
          <a:blip r:embed="rId1"/>
          <a:stretch/>
        </p:blipFill>
        <p:spPr>
          <a:xfrm>
            <a:off x="6019920" y="3962520"/>
            <a:ext cx="28191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88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4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36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344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12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99ff"/>
                </a:solidFill>
                <a:latin typeface="Verdana"/>
              </a:rPr>
              <a:t>Вопрос анкеты:</a:t>
            </a:r>
            <a:br>
              <a:rPr sz="2800"/>
            </a:br>
            <a:r>
              <a:rPr b="0" lang="ru-RU" sz="2800" spc="-1" strike="noStrike">
                <a:solidFill>
                  <a:srgbClr val="cc99ff"/>
                </a:solidFill>
                <a:latin typeface="Verdana"/>
              </a:rPr>
              <a:t>Деловые отношения между учителем и учеником в нашей школе:</a:t>
            </a:r>
            <a:br>
              <a:rPr sz="2800"/>
            </a:br>
            <a:r>
              <a:rPr b="0" lang="ru-RU" sz="2800" spc="-1" strike="noStrike">
                <a:solidFill>
                  <a:srgbClr val="cc99ff"/>
                </a:solidFill>
                <a:latin typeface="Verdana"/>
              </a:rPr>
              <a:t>(опрошено 63 человека)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оброжелательные           28 ч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Нервозные                          2 ч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Безразличные                    11 ч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 равных, открытые         12 ч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Скованные, напряженные    2 ч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Со скрытой неприязнью       7 ч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5" name="Picture 4" descr="v25ani[1]"/>
          <p:cNvPicPr/>
          <p:nvPr/>
        </p:nvPicPr>
        <p:blipFill>
          <a:blip r:embed="rId1"/>
          <a:stretch/>
        </p:blipFill>
        <p:spPr>
          <a:xfrm>
            <a:off x="5486400" y="48006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В основе гуманистической системы воспитания, лежат следующие идеи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дифференциация воспитания с целью активизации познавательной 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мотивационно-потребностной сферы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учащихся, предполагающая отбор содержания, форм и методов воспитания, учет специфических позиций детей и взрослых, прежде всего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одителей и педагогов 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спитательном процессе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8" name="Picture 5" descr="15[1]"/>
          <p:cNvPicPr/>
          <p:nvPr/>
        </p:nvPicPr>
        <p:blipFill>
          <a:blip r:embed="rId1"/>
          <a:stretch/>
        </p:blipFill>
        <p:spPr>
          <a:xfrm>
            <a:off x="6477120" y="4221000"/>
            <a:ext cx="26668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В основе гуманистической системы воспитания, лежат следующие идеи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средовой подход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в воспитании включает различные варианты взаимодействия учебного заведения со средой (семьей, внеучебными объединениями, в которые включен учащийся), которая весьма противоречива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1" name="Picture 5" descr="1191269094_c4118[1]"/>
          <p:cNvPicPr/>
          <p:nvPr/>
        </p:nvPicPr>
        <p:blipFill>
          <a:blip r:embed="rId1"/>
          <a:stretch/>
        </p:blipFill>
        <p:spPr>
          <a:xfrm>
            <a:off x="5638680" y="3048120"/>
            <a:ext cx="3362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ff"/>
                </a:solidFill>
                <a:latin typeface="Verdana"/>
              </a:rPr>
              <a:t>Факторы, влияющие на формирование личности ребенк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886200" cy="4456080"/>
          </a:xfrm>
          <a:prstGeom prst="rect">
            <a:avLst/>
          </a:prstGeom>
          <a:noFill/>
          <a:ln w="3168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Verdana"/>
              </a:rPr>
              <a:t>Внутренн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Наследственнос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обственная активность личности,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порождаемая потребностями, противоречиями, интересами и другими мотивам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43400" y="1600200"/>
            <a:ext cx="4648320" cy="4456080"/>
          </a:xfrm>
          <a:prstGeom prst="rect">
            <a:avLst/>
          </a:prstGeom>
          <a:noFill/>
          <a:ln w="31680">
            <a:solidFill>
              <a:srgbClr val="00669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Verdana"/>
              </a:rPr>
              <a:t>Внешн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Макросреда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(воспитание в широком социальном смысле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Мезосреда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природная и социальная (воспитание в широком педагогическом смысле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Микросреда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природная и социальная(воспитание в узком педагогическом смысле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   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Наследственность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– свойство организмов повторять в ряду поколений сходные типы обмена веществ и индивидуального развития в целом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     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Макрофакторы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(среды) – объекты, явления, отношения, обстоятельства, оказывающие влияние на жизнедеятельность больших групп людей, проживающих в разных странах, а, следовательно, на жизнедеятельность и развитие каждого человек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     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Мезофакторы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(среды) – условия и обстоятельства жизнедеятельности человека и социальной группы, к которой он принадлежит, идеологические и духовно-нравственные отношения, моральные нормы и ценности, принятые в данном человеческом сообществе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     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Микрофакторы</a:t>
            </a:r>
            <a:r>
              <a:rPr b="0" lang="ru-RU" sz="2400" spc="-1" strike="noStrike">
                <a:solidFill>
                  <a:srgbClr val="ebf7ff"/>
                </a:solidFill>
                <a:latin typeface="Verdana"/>
              </a:rPr>
              <a:t> (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(среды) – материально-бытовые условия жизни человека, его ближайшее социальное окружение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4400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ff"/>
                </a:solidFill>
                <a:latin typeface="Verdana"/>
              </a:rPr>
              <a:t>Социальная среда нашей школы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лных семей – 486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еполных семей - 12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з них с одним отцом - 8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 одной матерью - 12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диноких матерей - 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многодетных семьях воспитываются - 46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еблагополучных семей – 7 (официально, но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   практике гораздо больше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пекаемых детей - 9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оличество семей, воспитывающих детей-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нвалидов - 5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оличество детей, имеющих родителей-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нвалидов - 1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8" name="Picture 4" descr="2H3[1]"/>
          <p:cNvPicPr/>
          <p:nvPr/>
        </p:nvPicPr>
        <p:blipFill>
          <a:blip r:embed="rId1"/>
          <a:stretch/>
        </p:blipFill>
        <p:spPr>
          <a:xfrm>
            <a:off x="7543800" y="533520"/>
            <a:ext cx="14097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5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Мы должны учесть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5486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Что в школе есть дет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торых дома бьют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 которых дома пьют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торые бывают голодными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торым бывает нечего надеть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 которых болеют родител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 которых умственный потенциал изначально не позволяет освоить программ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1" name="Picture 4" descr="136[1]"/>
          <p:cNvPicPr/>
          <p:nvPr/>
        </p:nvPicPr>
        <p:blipFill>
          <a:blip r:embed="rId1"/>
          <a:stretch/>
        </p:blipFill>
        <p:spPr>
          <a:xfrm>
            <a:off x="5334120" y="3305160"/>
            <a:ext cx="38098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086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олько тот человек может полноценно действовать в изменяющемся мире, изменить этот мир, внести в него что-то новое, который способен самостоятельно выйти за пределы усвоенной им информации, стандартного набора знаний, навыков и умений, стереотипных установок,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сделать </a:t>
            </a: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самостоятельны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выбор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, принять </a:t>
            </a: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самостоятельно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cc99ff"/>
                </a:solidFill>
                <a:latin typeface="Verdana"/>
              </a:rPr>
              <a:t>решение</a:t>
            </a:r>
            <a:r>
              <a:rPr b="1" lang="ru-RU" sz="3200" spc="-1" strike="noStrike">
                <a:solidFill>
                  <a:srgbClr val="cc99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3" name="Picture 4" descr="ED3613[1]"/>
          <p:cNvPicPr/>
          <p:nvPr/>
        </p:nvPicPr>
        <p:blipFill>
          <a:blip r:embed="rId1"/>
          <a:srcRect l="0" t="0" r="3849" b="0"/>
          <a:stretch/>
        </p:blipFill>
        <p:spPr>
          <a:xfrm>
            <a:off x="5334120" y="434340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51055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е школа и образование суть основа и источник </a:t>
            </a:r>
            <a:r>
              <a:rPr b="1" lang="ru-RU" sz="3200" spc="-1" strike="noStrike">
                <a:solidFill>
                  <a:srgbClr val="cc99ff"/>
                </a:solidFill>
                <a:latin typeface="Verdana"/>
              </a:rPr>
              <a:t>самовоспитания и самообразования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, как принято думать, а, наоборот, </a:t>
            </a:r>
            <a:r>
              <a:rPr b="1" lang="ru-RU" sz="3200" spc="-1" strike="noStrike">
                <a:solidFill>
                  <a:srgbClr val="cc99ff"/>
                </a:solidFill>
                <a:latin typeface="Verdana"/>
              </a:rPr>
              <a:t>саморазвитие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есть та необходимая почва, на которой школа только и может существовать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5" name="Picture 5" descr="Internetssilki[1]"/>
          <p:cNvPicPr/>
          <p:nvPr/>
        </p:nvPicPr>
        <p:blipFill>
          <a:blip r:embed="rId1"/>
          <a:stretch/>
        </p:blipFill>
        <p:spPr>
          <a:xfrm>
            <a:off x="4648320" y="2290680"/>
            <a:ext cx="43243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6705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Образование, чтобы стать гуманистическим, прежде всего, должно быть сориентировано на </a:t>
            </a:r>
            <a:r>
              <a:rPr b="1" lang="ru-RU" sz="3600" spc="-1" strike="noStrike">
                <a:solidFill>
                  <a:srgbClr val="cc99ff"/>
                </a:solidFill>
                <a:latin typeface="Verdana"/>
              </a:rPr>
              <a:t>пробуждение внутренней духовно-нравственной активности учащихся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– их рефлексии, целеполагания. </a:t>
            </a:r>
            <a:br>
              <a:rPr sz="3600"/>
            </a:b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7" name="Picture 4" descr="chat[1]"/>
          <p:cNvPicPr/>
          <p:nvPr/>
        </p:nvPicPr>
        <p:blipFill>
          <a:blip r:embed="rId1"/>
          <a:stretch/>
        </p:blipFill>
        <p:spPr>
          <a:xfrm>
            <a:off x="5648400" y="3865680"/>
            <a:ext cx="349560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563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Виды воспитания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 классифицируются по разным основаниям. 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 Наиболее обобщенная классификация включает в себя </a:t>
            </a: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умственное, нравственное, </a:t>
            </a:r>
            <a:br>
              <a:rPr sz="3200"/>
            </a:b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трудовое, </a:t>
            </a:r>
            <a:br>
              <a:rPr sz="3200"/>
            </a:br>
            <a:r>
              <a:rPr b="0" lang="ru-RU" sz="3200" spc="-1" strike="noStrike">
                <a:solidFill>
                  <a:srgbClr val="cc99ff"/>
                </a:solidFill>
                <a:latin typeface="Verdana"/>
              </a:rPr>
              <a:t> физическое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оспитание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2" name="Picture 8" descr="1191269243_c4132[1]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0840" y="152280"/>
            <a:ext cx="37386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Гуманно-личностный подход – это ключевое звено, коммуникативная основа личностно-ориентированных педагогических технологий. Он объединяет следующие идеи: 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2361960"/>
            <a:ext cx="5333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овый взгляд на личность как цель образования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гуманизацию и демократизацию педагогических отношений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тказ от прямого принуждения как метода, не дающего результатов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0" name="Picture 5" descr="risunok6[1]"/>
          <p:cNvPicPr/>
          <p:nvPr/>
        </p:nvPicPr>
        <p:blipFill>
          <a:blip r:embed="rId1"/>
          <a:stretch/>
        </p:blipFill>
        <p:spPr>
          <a:xfrm>
            <a:off x="5334120" y="2362320"/>
            <a:ext cx="3581280" cy="32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Verdana"/>
              </a:rPr>
              <a:t>Вопрос анкеты:</a:t>
            </a:r>
            <a:br>
              <a:rPr sz="3600"/>
            </a:br>
            <a:r>
              <a:rPr b="0" lang="ru-RU" sz="3600" spc="-1" strike="noStrike">
                <a:solidFill>
                  <a:srgbClr val="cc99ff"/>
                </a:solidFill>
                <a:latin typeface="Verdana"/>
              </a:rPr>
              <a:t>Посоветуете ли вы отдать своих детей в вашу школу: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638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а            58 чел.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Нет           5 ч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3" name="Picture 8" descr="antn027[1]"/>
          <p:cNvPicPr/>
          <p:nvPr/>
        </p:nvPicPr>
        <p:blipFill>
          <a:blip r:embed="rId1"/>
          <a:stretch/>
        </p:blipFill>
        <p:spPr>
          <a:xfrm>
            <a:off x="4267080" y="2787480"/>
            <a:ext cx="487692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    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 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Новый взгляд на личность представляет следующие позиции: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685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личность проявляется, выступает в раннем детстве, ребенок в школе – полноценная человеческая личность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личность является субъектом, а не объектом в педагогическом процессе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личность – не цель образовательной системы, а средство для достижения каких-либо внешних целей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аждый ребенок обладает способностями, многие дети талантливы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иоритетными качествами личности являются высшие этические ценности (доброта, любовь, трудолюбие, совесть, достоинство, гражданственность и др.)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6" name="Picture 4" descr="1191268944_c4104[1]"/>
          <p:cNvPicPr/>
          <p:nvPr/>
        </p:nvPicPr>
        <p:blipFill>
          <a:blip r:embed="rId1"/>
          <a:stretch/>
        </p:blipFill>
        <p:spPr>
          <a:xfrm>
            <a:off x="6705720" y="2743200"/>
            <a:ext cx="2114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Гуманное отношение к детям включает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6781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едагогическую любовь к детям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птимистическую веру в ребенке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трудничество, мастерство общения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тсутствие прямого принуждения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иоритет положительного стимулирования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терпимость к детским недостаткам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9" name="Picture 6" descr="1191269165_c4123[1]"/>
          <p:cNvPicPr/>
          <p:nvPr/>
        </p:nvPicPr>
        <p:blipFill>
          <a:blip r:embed="rId1"/>
          <a:stretch/>
        </p:blipFill>
        <p:spPr>
          <a:xfrm>
            <a:off x="6134040" y="3048120"/>
            <a:ext cx="3009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Демократизация отношений утверждает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617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равнивание ученика и учителя в правах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аво ребенка на свободный выбор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аво на ошибку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аво на собственную точку зрения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блюдение Конвенции о правах ребенка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тиль отношений учителя и учеников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Picture 4" descr="en_120[1]"/>
          <p:cNvPicPr/>
          <p:nvPr/>
        </p:nvPicPr>
        <p:blipFill>
          <a:blip r:embed="rId1"/>
          <a:srcRect l="24001" t="17334" r="9997" b="0"/>
          <a:stretch/>
        </p:blipFill>
        <p:spPr>
          <a:xfrm>
            <a:off x="6019920" y="3922560"/>
            <a:ext cx="312408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ff"/>
                </a:solidFill>
                <a:latin typeface="Verdana"/>
              </a:rPr>
              <a:t>Ученье без принуждения характеризует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5791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ребовательность без принуждения, основанная на доверии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влеченность, рожденная интересным преподаванием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амена принуждения желанием, которое порождает успех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тавка на самостоятельную и самодеятельность детей;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именение косвенных требований через коллектив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5" name="Picture 7" descr="1191269172_c4124[1]"/>
          <p:cNvPicPr/>
          <p:nvPr/>
        </p:nvPicPr>
        <p:blipFill>
          <a:blip r:embed="rId1"/>
          <a:stretch/>
        </p:blipFill>
        <p:spPr>
          <a:xfrm>
            <a:off x="5875200" y="1600200"/>
            <a:ext cx="3097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Новая трактовка индивидуального подхода включает:</a:t>
            </a:r>
            <a:r>
              <a:rPr b="1" lang="ru-RU" sz="4000" spc="-1" strike="noStrike">
                <a:solidFill>
                  <a:srgbClr val="cc99ff"/>
                </a:solidFill>
                <a:latin typeface="Verdan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6248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тказ от ориентировки на среднего ученика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иск лучших качеств личности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именение психолого-педагогической диагностики личности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чет особенностей личности в учебно-воспитательном процессе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гнозирование развития личности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нструирование индивидуальных программ развития, его коррекция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8" name="Picture 5" descr="1191269179_c4125[1]"/>
          <p:cNvPicPr/>
          <p:nvPr/>
        </p:nvPicPr>
        <p:blipFill>
          <a:blip r:embed="rId1"/>
          <a:stretch/>
        </p:blipFill>
        <p:spPr>
          <a:xfrm>
            <a:off x="6591240" y="3048120"/>
            <a:ext cx="2552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7f87cd8f8528[1]"/>
          <p:cNvPicPr/>
          <p:nvPr/>
        </p:nvPicPr>
        <p:blipFill>
          <a:blip r:embed="rId1"/>
          <a:stretch/>
        </p:blipFill>
        <p:spPr>
          <a:xfrm>
            <a:off x="2209680" y="2666880"/>
            <a:ext cx="40388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581280" y="0"/>
            <a:ext cx="5562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 зависимости от различных направлений воспитательной работы в образовательных учреждения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 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деляют 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гражданское, политическое,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интернациональное, нравственное,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эстетическое, трудовое, физическое, правовое, экологическое, экономическое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воспитание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Picture 4" descr="1191269050_c4114[1]"/>
          <p:cNvPicPr/>
          <p:nvPr/>
        </p:nvPicPr>
        <p:blipFill>
          <a:blip r:embed="rId1"/>
          <a:stretch/>
        </p:blipFill>
        <p:spPr>
          <a:xfrm>
            <a:off x="0" y="2666880"/>
            <a:ext cx="3678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895120" y="380880"/>
            <a:ext cx="62485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 институциональному признаку выделяют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семейное,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школьное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  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внешкольное, конфессиональное (религиозное),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воспитание по месту жительства,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воспитание в детских, юношеских организациях,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воспитание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в специальных образовательных учреждениях. 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5" descr="teacher[1]"/>
          <p:cNvPicPr/>
          <p:nvPr/>
        </p:nvPicPr>
        <p:blipFill>
          <a:blip r:embed="rId1"/>
          <a:stretch/>
        </p:blipFill>
        <p:spPr>
          <a:xfrm>
            <a:off x="0" y="3657600"/>
            <a:ext cx="3276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038120" y="304560"/>
            <a:ext cx="4876920" cy="55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 стилю отношений между воспитателями  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 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оспитанникам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 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зличают </a:t>
            </a:r>
            <a:r>
              <a:rPr b="1" lang="ru-RU" sz="3200" spc="-1" strike="noStrike">
                <a:solidFill>
                  <a:srgbClr val="cc99ff"/>
                </a:solidFill>
                <a:latin typeface="Verdana"/>
              </a:rPr>
              <a:t>авторитарное, демократическое, либеральное, свободное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воспитание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Picture 5" descr="1191269027_c4112[1]"/>
          <p:cNvPicPr/>
          <p:nvPr/>
        </p:nvPicPr>
        <p:blipFill>
          <a:blip r:embed="rId1"/>
          <a:stretch/>
        </p:blipFill>
        <p:spPr>
          <a:xfrm>
            <a:off x="457200" y="2209680"/>
            <a:ext cx="3506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7760" y="-360"/>
            <a:ext cx="60958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период средневековья сформировалась теория  </a:t>
            </a:r>
            <a:r>
              <a:rPr b="1" lang="ru-RU" sz="2400" spc="-1" strike="noStrike">
                <a:solidFill>
                  <a:srgbClr val="cc99ff"/>
                </a:solidFill>
                <a:latin typeface="Verdana"/>
              </a:rPr>
              <a:t>авторитарного воспитания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,  которая в различных формах продолжает существовать и в настоящее время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дним из ярких представителей этой теории был немецкий педагог И.Ф.Гербарт, который сводил воспитание к управлению детьми.  Цель этого управления - </a:t>
            </a:r>
            <a:r>
              <a:rPr b="1" lang="ru-RU" sz="2400" spc="-1" strike="noStrike">
                <a:solidFill>
                  <a:srgbClr val="cc99ff"/>
                </a:solidFill>
                <a:latin typeface="Verdana"/>
              </a:rPr>
              <a:t>подавление дикой резвости ребенка,  "которая кидает его из стороны в сторон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иемами управления Гербарт считал </a:t>
            </a:r>
            <a:r>
              <a:rPr b="1" lang="ru-RU" sz="2400" spc="-1" strike="noStrike">
                <a:solidFill>
                  <a:srgbClr val="cc99ff"/>
                </a:solidFill>
                <a:latin typeface="Verdana"/>
              </a:rPr>
              <a:t>угрозу, надзор за детьми, приказания и запрещения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5" descr="1191269232_c4131[1]"/>
          <p:cNvPicPr/>
          <p:nvPr/>
        </p:nvPicPr>
        <p:blipFill>
          <a:blip r:embed="rId1"/>
          <a:stretch/>
        </p:blipFill>
        <p:spPr>
          <a:xfrm>
            <a:off x="228600" y="0"/>
            <a:ext cx="281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5410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ак выражение  протеста против авторитарного воспитания возникает теория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свободного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оспитания,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ыдвинутая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Ж.-Ж.Руссо. Он и его последователи призывали </a:t>
            </a:r>
            <a:r>
              <a:rPr b="1" lang="ru-RU" sz="2800" spc="-1" strike="noStrike">
                <a:solidFill>
                  <a:srgbClr val="cc99ff"/>
                </a:solidFill>
                <a:latin typeface="Verdana"/>
              </a:rPr>
              <a:t>уважать в ребенке растущего человека, не стеснять,  а всемерно стимулировать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в ходе воспитания  естественное развитие ребенка. 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4" descr="teacher_clipart_8[1]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495680" y="304920"/>
            <a:ext cx="464832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6705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пыт лучших учителей и педагогических коллективов, основополагающие документы 20-х гг.  ориентировали педагогов на </a:t>
            </a:r>
            <a:r>
              <a:rPr b="1" lang="ru-RU" sz="2400" spc="-1" strike="noStrike">
                <a:solidFill>
                  <a:srgbClr val="cc99ff"/>
                </a:solidFill>
                <a:latin typeface="Verdana"/>
              </a:rPr>
              <a:t>гуманизацию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воспитания детей,  на развитие их самостоятельности и самоуправления.  Но гуманистический расцвет советской педагогики продолжался недолго. С усилением тоталитарной государственной системы в практике  воспитания  постепенн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 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чали  преобладать  </a:t>
            </a:r>
            <a:r>
              <a:rPr b="1" lang="ru-RU" sz="2400" spc="-1" strike="noStrike">
                <a:solidFill>
                  <a:srgbClr val="cc99ff"/>
                </a:solidFill>
                <a:latin typeface="Verdana"/>
              </a:rPr>
              <a:t>жесткая регламентация и контроль за сознанием растущего человека,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подгонка его к заданному шаблону, </a:t>
            </a:r>
            <a:r>
              <a:rPr b="1" lang="ru-RU" sz="2400" spc="-1" strike="noStrike">
                <a:solidFill>
                  <a:srgbClr val="cc99ff"/>
                </a:solidFill>
                <a:latin typeface="Verdana"/>
              </a:rPr>
              <a:t>авторитаризм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педагогов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5" descr="smelom[1]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715000" y="3809880"/>
            <a:ext cx="3429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6-12T16:10:4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