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996-20A7-45EF-BDBC-AC668542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A2F-C872-4436-B9DD-E8E7F760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4A8-ABAD-4A3B-936C-37AB09B8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C0F-13E5-49C0-9D54-96DC94F2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85A-5FE9-4910-BF09-58904091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A09-B82E-4B89-9E65-E9C3DE6D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920-6D0C-47FB-B1AA-1E5472CE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DE9-7B5D-4496-9657-C29D0213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D05-F07C-4431-9442-09DDECF2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01F-E0FD-4998-8863-E16E5CF2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49C-5208-4975-A4A3-D0D3CEEC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FD7-AE71-4EFF-B0EF-5DE4522E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7C7-2774-4B27-8231-C3E42586AB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Вопросы гражданско-патриотического воспитания на уроках гуманитарных дисциплин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57150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Ек. Гатилова и И. Кечина (гр. ТМ-144) представляют свои творческие работы «История края и моей семьи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6" descr="DSC09495"/>
          <p:cNvPicPr/>
          <p:nvPr/>
        </p:nvPicPr>
        <p:blipFill>
          <a:blip r:embed="rId2"/>
          <a:stretch/>
        </p:blipFill>
        <p:spPr>
          <a:xfrm>
            <a:off x="1447920" y="3049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55627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нятие в этнокультурном музее колледж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6" descr="DSC09501"/>
          <p:cNvPicPr/>
          <p:nvPr/>
        </p:nvPicPr>
        <p:blipFill>
          <a:blip r:embed="rId2"/>
          <a:stretch/>
        </p:blipFill>
        <p:spPr>
          <a:xfrm>
            <a:off x="990720" y="2286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6019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 опыте старшего поколения отражается история Росси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6" descr="Безимени-5"/>
          <p:cNvPicPr/>
          <p:nvPr/>
        </p:nvPicPr>
        <p:blipFill>
          <a:blip r:embed="rId2"/>
          <a:stretch/>
        </p:blipFill>
        <p:spPr>
          <a:xfrm>
            <a:off x="2411280" y="228600"/>
            <a:ext cx="3579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«Память поколений»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анное направление предполагает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оспитание гражданина и патриота с использованием практики музейно-краееведческой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оспитание у студентов любви к Родине на исторических примерах и, прежде всего, на примерах подвига нашего народа в годы Великой Отечественной вой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8672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туденты группы ПР-137 в Арзамасском историко-художественном музее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6" descr="DSC01591"/>
          <p:cNvPicPr/>
          <p:nvPr/>
        </p:nvPicPr>
        <p:blipFill>
          <a:blip r:embed="rId2"/>
          <a:stretch/>
        </p:blipFill>
        <p:spPr>
          <a:xfrm>
            <a:off x="990720" y="3049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790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На экскурсии «Этот день мы приближали как могли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6" descr="DSC01614"/>
          <p:cNvPicPr/>
          <p:nvPr/>
        </p:nvPicPr>
        <p:blipFill>
          <a:blip r:embed="rId2"/>
          <a:stretch/>
        </p:blipFill>
        <p:spPr>
          <a:xfrm>
            <a:off x="1066680" y="3808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На уроках истории идет детальное изучение основных периодов Великой Отечественной войн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3" descr="DSC09489"/>
          <p:cNvPicPr/>
          <p:nvPr/>
        </p:nvPicPr>
        <p:blipFill>
          <a:blip r:embed="rId2"/>
          <a:stretch/>
        </p:blipFill>
        <p:spPr>
          <a:xfrm>
            <a:off x="2438280" y="228600"/>
            <a:ext cx="3695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548604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Полевой лагерь поискового отряда «Броня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3" descr="Картинка 383"/>
          <p:cNvPicPr/>
          <p:nvPr/>
        </p:nvPicPr>
        <p:blipFill>
          <a:blip r:embed="rId2"/>
          <a:stretch/>
        </p:blipFill>
        <p:spPr>
          <a:xfrm>
            <a:off x="1066680" y="2095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Синявинские высоты – место жестоких боёв в 1941-1944 года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3" descr="Фото 088"/>
          <p:cNvPicPr/>
          <p:nvPr/>
        </p:nvPicPr>
        <p:blipFill>
          <a:blip r:embed="rId2"/>
          <a:stretch/>
        </p:blipFill>
        <p:spPr>
          <a:xfrm>
            <a:off x="1066680" y="2286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Найдены останки погибшего бойца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Красной Арми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3" descr="Картинка 351"/>
          <p:cNvPicPr/>
          <p:nvPr/>
        </p:nvPicPr>
        <p:blipFill>
          <a:blip r:embed="rId2"/>
          <a:stretch/>
        </p:blipFill>
        <p:spPr>
          <a:xfrm>
            <a:off x="2247840" y="304920"/>
            <a:ext cx="4057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«Государственная политика в области образования основывается на следующих принципах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:</a:t>
            </a: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оспитание гражданственности, трудолюбия, уважения к правам и свободам человека, любви к окружающей природе, Родине, семье»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Закон РФ «Об образовании» Гл. 1. Ст. 2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791320"/>
            <a:ext cx="7848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Поисковые работы на месте бывших огневых позици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3" descr="Фото 069"/>
          <p:cNvPicPr/>
          <p:nvPr/>
        </p:nvPicPr>
        <p:blipFill>
          <a:blip r:embed="rId2"/>
          <a:stretch/>
        </p:blipFill>
        <p:spPr>
          <a:xfrm>
            <a:off x="990720" y="3049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866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хоронение найденных останков – главный итог поисковой экспедици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6" descr="Фото 014"/>
          <p:cNvPicPr/>
          <p:nvPr/>
        </p:nvPicPr>
        <p:blipFill>
          <a:blip r:embed="rId2"/>
          <a:stretch/>
        </p:blipFill>
        <p:spPr>
          <a:xfrm>
            <a:off x="762120" y="2095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Еще одна братская могила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на Синявинских высота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6" descr="Фото 042"/>
          <p:cNvPicPr/>
          <p:nvPr/>
        </p:nvPicPr>
        <p:blipFill>
          <a:blip r:embed="rId2"/>
          <a:stretch/>
        </p:blipFill>
        <p:spPr>
          <a:xfrm>
            <a:off x="914400" y="2286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190512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Гражданско-патриотическое воспитание является одним из приоритетных направлений работы преподавателей гуманитарных дисциплин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13" descr="герб"/>
          <p:cNvPicPr/>
          <p:nvPr/>
        </p:nvPicPr>
        <p:blipFill>
          <a:blip r:embed="rId2"/>
          <a:stretch/>
        </p:blipFill>
        <p:spPr>
          <a:xfrm>
            <a:off x="6019920" y="304920"/>
            <a:ext cx="2800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Гражданская компетентность предполагае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онимание своих прав и свобод и умение ими пользовать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Личную ответственность за свой выбор и свое повед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Действенное и критическое отношение к социальной реа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пособность вести позитивный диалог с властью и другими граждан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сознание своей принадлежности к стране, обществу, государст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Цели гражданско-патриотического воспита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формировать осознанное отношение к Отечеству, его прошлому, настоящему и будущем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развивать гражданственность и национальное самосозн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оздавать условия для реализации собственной гражданской пози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развивать знания об истории и культуре родного края и семь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«Я – гражданин»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анное направление предполагает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равовое и гражданское воспитание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своение ими нравственных ценностей и ориентиров современного российского общ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формирование личности, которая уважает свою страну, ее законы и культуру, но в то же время толерантно относится к национальным особенностям других наро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6171840"/>
            <a:ext cx="769608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Урок в группе ТМ-144. Тема занятия: «Административное право»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6" descr="DSC09491"/>
          <p:cNvPicPr/>
          <p:nvPr/>
        </p:nvPicPr>
        <p:blipFill>
          <a:blip r:embed="rId2"/>
          <a:stretch/>
        </p:blipFill>
        <p:spPr>
          <a:xfrm>
            <a:off x="1066680" y="228600"/>
            <a:ext cx="70866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5562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Творческие работы на уроках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нглийского языка развивают коммуникативные навыки студентов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7" descr="DSC09503"/>
          <p:cNvPicPr/>
          <p:nvPr/>
        </p:nvPicPr>
        <p:blipFill>
          <a:blip r:embed="rId2"/>
          <a:stretch/>
        </p:blipFill>
        <p:spPr>
          <a:xfrm>
            <a:off x="1143000" y="380880"/>
            <a:ext cx="685800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«Моя малая Родина»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анное направление предполагает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воспитание у студентов чувства патриотизма к своему городу, своему населенному пункт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знакомство с историей своей семьи, ее корнями и традиция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этнокультурное образование, которое способствует формированию национального самосознания, бережного отношения к наследию пре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3341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ворческая работа «История края и моей семьи» выполненная студенткой гр. ВТ-104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аранковой Светлано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6" descr="DSC09505"/>
          <p:cNvPicPr/>
          <p:nvPr/>
        </p:nvPicPr>
        <p:blipFill>
          <a:blip r:embed="rId2"/>
          <a:stretch/>
        </p:blipFill>
        <p:spPr>
          <a:xfrm>
            <a:off x="1447920" y="22860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2-06-12T12:15:1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