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B33-071D-4F17-A197-2EB41973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5BE-0E2B-4319-AB1B-E355ADCF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FFD-2E37-4F38-85C9-3F34741C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E00-490D-4BDB-9C5A-57465910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97E-ED54-43D2-ADA3-7D3D0BBD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38E-48B7-46E5-BC6E-F13ACE21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574-4056-447D-A6C1-8707216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453-0AC8-4830-B91A-F4E05EE8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84D-4E36-430C-9104-EC81F9A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8A85-57C5-49D0-8F9B-4B1278AE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901-CAFA-423B-B7C0-F9B50F9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5DB-1AB6-4A32-967D-E30C219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771-60A1-4B43-8110-1AA789C4D3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Вопросы гражданско-патриотического воспитания на уроках гуманитарных дисциплин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57150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Ек. Гатилова и И. Кечина (гр. ТМ-144) представляют свои творческие работы «История края и моей семьи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6" descr="DSC09495"/>
          <p:cNvPicPr/>
          <p:nvPr/>
        </p:nvPicPr>
        <p:blipFill>
          <a:blip r:embed="rId2"/>
          <a:stretch/>
        </p:blipFill>
        <p:spPr>
          <a:xfrm>
            <a:off x="1447920" y="30492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55627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нятие в этнокультурном музее колледж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6" descr="DSC09501"/>
          <p:cNvPicPr/>
          <p:nvPr/>
        </p:nvPicPr>
        <p:blipFill>
          <a:blip r:embed="rId2"/>
          <a:stretch/>
        </p:blipFill>
        <p:spPr>
          <a:xfrm>
            <a:off x="990720" y="2286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6019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опыте старшего поколения отражается история Росс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Безимени-5"/>
          <p:cNvPicPr/>
          <p:nvPr/>
        </p:nvPicPr>
        <p:blipFill>
          <a:blip r:embed="rId2"/>
          <a:stretch/>
        </p:blipFill>
        <p:spPr>
          <a:xfrm>
            <a:off x="2411280" y="228600"/>
            <a:ext cx="3579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«Память поколений»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анное направление предполагае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оспитание гражданина и патриота с использованием практики музейно-краееведческой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оспитание у студентов любви к Родине на исторических примерах и, прежде всего, на примерах подвига нашего народа в годы Великой Отечественной вой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Студенты группы ПР-137 в Арзамасском историко-художественном музее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6" descr="DSC01591"/>
          <p:cNvPicPr/>
          <p:nvPr/>
        </p:nvPicPr>
        <p:blipFill>
          <a:blip r:embed="rId2"/>
          <a:stretch/>
        </p:blipFill>
        <p:spPr>
          <a:xfrm>
            <a:off x="990720" y="3049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790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а экскурсии «Этот день мы приближали как могли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6" descr="DSC01614"/>
          <p:cNvPicPr/>
          <p:nvPr/>
        </p:nvPicPr>
        <p:blipFill>
          <a:blip r:embed="rId2"/>
          <a:stretch/>
        </p:blipFill>
        <p:spPr>
          <a:xfrm>
            <a:off x="1066680" y="3808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а уроках истории идет детальное изучение основных периодов Великой Отечественной войны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3" descr="DSC09489"/>
          <p:cNvPicPr/>
          <p:nvPr/>
        </p:nvPicPr>
        <p:blipFill>
          <a:blip r:embed="rId2"/>
          <a:stretch/>
        </p:blipFill>
        <p:spPr>
          <a:xfrm>
            <a:off x="2438280" y="228600"/>
            <a:ext cx="3695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4860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Полевой лагерь поискового отряда «Броня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3" descr="Картинка 383"/>
          <p:cNvPicPr/>
          <p:nvPr/>
        </p:nvPicPr>
        <p:blipFill>
          <a:blip r:embed="rId2"/>
          <a:stretch/>
        </p:blipFill>
        <p:spPr>
          <a:xfrm>
            <a:off x="1066680" y="2095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Синявинские высоты – место жестоких боёв в 1941-1944 года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3" descr="Фото 088"/>
          <p:cNvPicPr/>
          <p:nvPr/>
        </p:nvPicPr>
        <p:blipFill>
          <a:blip r:embed="rId2"/>
          <a:stretch/>
        </p:blipFill>
        <p:spPr>
          <a:xfrm>
            <a:off x="1066680" y="228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айдены останки погибшего бойца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Красной Арм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3" descr="Картинка 351"/>
          <p:cNvPicPr/>
          <p:nvPr/>
        </p:nvPicPr>
        <p:blipFill>
          <a:blip r:embed="rId2"/>
          <a:stretch/>
        </p:blipFill>
        <p:spPr>
          <a:xfrm>
            <a:off x="2247840" y="304920"/>
            <a:ext cx="40575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«Государственная политика в области образования основывается на следующих принципах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:</a:t>
            </a: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спитание гражданственности, трудолюбия, уважения к правам и свободам человека, любви к окружающей природе, Родине, семье»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Закон РФ «Об образовании» Гл. 1. Ст. 2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5791320"/>
            <a:ext cx="78483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исковые работы на месте бывших огневых позици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3" descr="Фото 069"/>
          <p:cNvPicPr/>
          <p:nvPr/>
        </p:nvPicPr>
        <p:blipFill>
          <a:blip r:embed="rId2"/>
          <a:stretch/>
        </p:blipFill>
        <p:spPr>
          <a:xfrm>
            <a:off x="990720" y="3049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866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Захоронение найденных останков – главный итог поисковой экспедиции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6" descr="Фото 014"/>
          <p:cNvPicPr/>
          <p:nvPr/>
        </p:nvPicPr>
        <p:blipFill>
          <a:blip r:embed="rId2"/>
          <a:stretch/>
        </p:blipFill>
        <p:spPr>
          <a:xfrm>
            <a:off x="762120" y="209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Еще одна братская могила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а Синявинских высота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6" descr="Фото 042"/>
          <p:cNvPicPr/>
          <p:nvPr/>
        </p:nvPicPr>
        <p:blipFill>
          <a:blip r:embed="rId2"/>
          <a:stretch/>
        </p:blipFill>
        <p:spPr>
          <a:xfrm>
            <a:off x="914400" y="2286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5638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Гражданско-патриотическое воспитание является одним из приоритетных направлений работы преподавателей гуманитарных дисциплин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13" descr="герб"/>
          <p:cNvPicPr/>
          <p:nvPr/>
        </p:nvPicPr>
        <p:blipFill>
          <a:blip r:embed="rId2"/>
          <a:stretch/>
        </p:blipFill>
        <p:spPr>
          <a:xfrm>
            <a:off x="6019920" y="304920"/>
            <a:ext cx="28000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Гражданская компетентность предполагает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онимание своих прав и свобод и умение ими пользовать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Личную ответственность за свой выбор и свое повед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Действенное и критическое отношение к социальной реа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пособность вести позитивный диалог с властью и другими граждан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сознание своей принадлежности к стране, обществу, государств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Цели гражданско-патриотического воспит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формировать осознанное отношение к Отечеству, его прошлому, настоящему и будущем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развивать гражданственность и национальное самосозн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создавать условия для реализации собственной гражданской пози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развивать знания об истории и культуре родного края и семь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«Я – гражданин»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анное направление предполагае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авовое и гражданское воспитание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освоение ими нравственных ценностей и ориентиров современного российского обще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формирование личности, которая уважает свою страну, ее законы и культуру, но в то же время толерантно относится к национальным особенностям других народ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6171840"/>
            <a:ext cx="769608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Урок в группе ТМ-144. Тема занятия: «Административное право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6" descr="DSC09491"/>
          <p:cNvPicPr/>
          <p:nvPr/>
        </p:nvPicPr>
        <p:blipFill>
          <a:blip r:embed="rId2"/>
          <a:stretch/>
        </p:blipFill>
        <p:spPr>
          <a:xfrm>
            <a:off x="1066680" y="228600"/>
            <a:ext cx="70866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5562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Творческие работы на уроках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нглийского языка развивают коммуникативные навыки студентов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7" descr="DSC09503"/>
          <p:cNvPicPr/>
          <p:nvPr/>
        </p:nvPicPr>
        <p:blipFill>
          <a:blip r:embed="rId2"/>
          <a:stretch/>
        </p:blipFill>
        <p:spPr>
          <a:xfrm>
            <a:off x="1143000" y="380880"/>
            <a:ext cx="685800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«Моя малая Родина»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данное направление предполагает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воспитание у студентов чувства патриотизма к своему городу, своему населенному пункт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знакомство с историей своей семьи, ее корнями и традиция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этнокультурное образование, которое способствует формированию национального самосознания, бережного отношения к наследию пред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33412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ворческая работа «История края и моей семьи» выполненная студенткой гр. ВТ-104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Таранковой Светлано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6" descr="DSC09505"/>
          <p:cNvPicPr/>
          <p:nvPr/>
        </p:nvPicPr>
        <p:blipFill>
          <a:blip r:embed="rId2"/>
          <a:stretch/>
        </p:blipFill>
        <p:spPr>
          <a:xfrm>
            <a:off x="1447920" y="22860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2-06-12T12:15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