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jpeg" ContentType="image/jpeg"/>
  <Override PartName="/ppt/media/image22.gif" ContentType="image/gif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0DAA-FBC2-45C6-9608-F02043169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F4CD-A096-4BCD-8C7C-71E783342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4331-FFF2-46AB-B595-2358EE315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66A2-FD47-4A80-8F58-E88833ED1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187D-11F1-435D-82BA-984255015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0C6E-9F2C-4593-85AC-DA68AB23D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E9E5-55D7-4C27-94C5-041467988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3AE3-3A0A-4464-98CB-7B966D1DE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4BD9-92E4-48A9-B9A1-1AD37F60F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1898-AE7C-488B-95C5-F29922E2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C875-8C98-415B-98A7-368CF5C1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BD6A-FBA3-4510-9418-2F947D1B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DE674-C65E-4259-BCC4-950F55DFC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volgograd.ru/accel/content/pic/pre/users/crazy_mouse/73716/photogallery4/74339_korni.jpg?w=550&amp;h=413&amp;q=100&amp;exp=604800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-316080"/>
            <a:ext cx="9144000" cy="717408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bbe0e3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42920" y="549360"/>
            <a:ext cx="64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-243360"/>
            <a:ext cx="9144000" cy="71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Тема: «Корень - главный орг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стен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2492280"/>
            <a:ext cx="45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Урок – презентация  по  биологии 6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5229360"/>
            <a:ext cx="63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читель Коваленко Тамара Владими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4000" y="2060640"/>
            <a:ext cx="4267080" cy="29509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bbe0e3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Картинка 1 из 2307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0360" y="2492280"/>
            <a:ext cx="2664000" cy="32418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80" name=""/>
          <p:cNvSpPr/>
          <p:nvPr/>
        </p:nvSpPr>
        <p:spPr>
          <a:xfrm>
            <a:off x="611280" y="5950080"/>
            <a:ext cx="230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8360" y="5877000"/>
            <a:ext cx="2374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изоиды  м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700360" y="5938920"/>
            <a:ext cx="4464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орневище папорот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4360" y="5950080"/>
            <a:ext cx="3419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орневая система дер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47640" y="549360"/>
            <a:ext cx="64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звитие корневой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95280" y="2421000"/>
            <a:ext cx="2481120" cy="3384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3203640" y="2492280"/>
            <a:ext cx="2305080" cy="33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bbe0e3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19280" y="476280"/>
            <a:ext cx="705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звитие зародышевого корешка у проростка ду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7559640" cy="44643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bbe0e3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26028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иды кор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692360" y="1484280"/>
            <a:ext cx="5111640" cy="48974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bbe0e3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Корневая сист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50920" y="4076640"/>
            <a:ext cx="1638360" cy="26002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308720" y="3933720"/>
            <a:ext cx="1524240" cy="2597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2411280" y="3500280"/>
            <a:ext cx="2089440" cy="41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Мочковат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остоит из хорошо развитого похожего на стержень главного корня и боковых корней. Типична для двудольных раст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59280" y="3500280"/>
            <a:ext cx="23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тержне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68360" y="404640"/>
            <a:ext cx="53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Типы корневых сист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5640" y="1330200"/>
            <a:ext cx="7488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Корневая систем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—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это совокупность                         всех корней раст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48360" y="4005360"/>
            <a:ext cx="208764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остоит из хорошо развитого похожего на стержень главного корня и боковых корней. Типична для двудольных раст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348000" y="3357720"/>
            <a:ext cx="1152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3357720"/>
            <a:ext cx="1079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bbe0e3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Рассмотрите проросшие семена фасоли, гороха, тыквы. Какой корень вы видит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апишите в тетрад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Рассмотрите корневые системы предложенных вам раст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Чем они различаютс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Отберите растения со стержневой корневой систем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Отберите растения с мочковатой корневой систем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По строению корневой системы определите, какие растения однодольны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акие – двудоль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. Заполните таблицу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24000" y="0"/>
            <a:ext cx="59770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Лабораторная работа № 7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«Стержневые и мочковатые корневые систем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57200" y="4437000"/>
          <a:ext cx="8002440" cy="2259000"/>
        </p:xfrm>
        <a:graphic>
          <a:graphicData uri="http://schemas.openxmlformats.org/drawingml/2006/table">
            <a:tbl>
              <a:tblPr/>
              <a:tblGrid>
                <a:gridCol w="2668680"/>
                <a:gridCol w="2665440"/>
                <a:gridCol w="266832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ние раст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ип корневой систе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обенности стро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рневой систе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bbe0e3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50920" y="260280"/>
            <a:ext cx="61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оны кор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6912000" cy="52563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bbe0e3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42920" y="189000"/>
            <a:ext cx="69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абораторная работа «Корневой чехлик и корневые волоски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26920" y="1413000"/>
            <a:ext cx="792180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смотрите проростки пшеницы, гороха невооруженным глазом, затем в лупу. Найдите корневой чехл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ратите внимание на часть корня выше корневого чехлика, найдите выросты в виде пушка - корневые волос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ложите корешок в каплю воды, подкрашенную чернилами, и рассмотрите под микроскоп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Что общего в строении корневого волоска и клетки кожицы лука? Чем объясняется различие в их форм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делайте выв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bbe0e3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0920" y="260280"/>
            <a:ext cx="50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идоизменения кор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059280" y="907920"/>
            <a:ext cx="2592360" cy="2376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508720" y="3716280"/>
            <a:ext cx="3321000" cy="2448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5508720" y="404640"/>
            <a:ext cx="3390840" cy="25862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250920" y="3860640"/>
            <a:ext cx="3024000" cy="25178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250920" y="907920"/>
            <a:ext cx="2952720" cy="23637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916360" y="32846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рнеклубни георг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516720" y="4869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292720" y="630864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орни подпорки банья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644220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оздушные корни орхиде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321300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ыхательные корни мангровых деревь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651640" y="299736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орни присоски плющ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bbe0e3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16360" y="1844640"/>
            <a:ext cx="54720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Домашнее 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§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19, 20  задание в рабочей тетрад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№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62, 64,65,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87280" y="69228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Спасибо за урок, до новых встреч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Пример смайлика из коллекции"/>
          <p:cNvPicPr/>
          <p:nvPr/>
        </p:nvPicPr>
        <p:blipFill>
          <a:blip r:embed="rId1"/>
          <a:stretch/>
        </p:blipFill>
        <p:spPr>
          <a:xfrm>
            <a:off x="684360" y="2637000"/>
            <a:ext cx="180000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bbe0e3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ерхушка говорила с похвальбо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«Моя обитель  – небо голубо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А ты, о корень, житель подземелья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о корень возмутился: «Пустомел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ак ты смешна мне со своею спесь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е я ль тебя вздымаю к поднебесью?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А.  Ибрагим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bbe0e3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164360" y="1268280"/>
            <a:ext cx="1638360" cy="2600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619280" y="620640"/>
            <a:ext cx="52578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Тема: Корень - главный орган рас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24000" y="2060640"/>
            <a:ext cx="33112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bbe0e3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26920" y="765000"/>
            <a:ext cx="7993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Цель урока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Сформировать представление о корне раст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00000" y="1989000"/>
            <a:ext cx="7559640" cy="42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дать понятие корню и видам корн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характеризовать корневые системы;           выработать умение их распознава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ознакомить с зонами,  функциями и видоизменениями кор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bbe0e3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Эпиграф уро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«Как ни тонок, неприметен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Под землёю корешок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о не может жить на свет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Без него любой цветок!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. Жа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bbe0e3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Функции корня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рган вегетативного размн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87280" y="1341360"/>
            <a:ext cx="5185080" cy="48895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bbe0e3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инеральное питание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ст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3313080" cy="45748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bbe0e3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акрепление и удержи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стения в поч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47307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bbe0e3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549360"/>
            <a:ext cx="684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7640" y="404640"/>
            <a:ext cx="64803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кладывание и накопление запасных питательных  веще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2879640" cy="2665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932360" y="1773360"/>
            <a:ext cx="3025800" cy="26384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2916360" y="4292640"/>
            <a:ext cx="301788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5:22:18Z</dcterms:created>
  <dc:creator>пользователь</dc:creator>
  <dc:description/>
  <dc:language>en-US</dc:language>
  <cp:lastModifiedBy>надежда</cp:lastModifiedBy>
  <dcterms:modified xsi:type="dcterms:W3CDTF">2011-01-11T21:30:36Z</dcterms:modified>
  <cp:revision>18</cp:revision>
  <dc:subject/>
  <dc:title>Слайд 1</dc:title>
</cp:coreProperties>
</file>