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1.jpeg" ContentType="image/jpeg"/>
  <Override PartName="/ppt/media/image22.gif" ContentType="image/gif"/>
  <Override PartName="/ppt/media/image2.png" ContentType="image/pn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9B974-85E0-40C8-A922-06432FA11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AA26A-5963-47E2-9418-7A5E37692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BD508-91F5-46AB-81C0-4E4E5EC9B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690E0-06F0-4A3F-8C93-DDDE85EC0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76EA5-EEBD-4F05-9A15-FBDB84838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56FEB-5485-4C7A-9A72-75B420C69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421D1-AC6E-479B-BDDF-EA6655E74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E924A-0818-4B67-BF92-06EB41DE1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9287B-D900-4254-8474-5AAD09153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8C982-02B5-4F5A-BEF1-5BB89850D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39239-F59B-4159-9F20-6434D54C7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4F845-D269-40B4-AF34-63CDE23B8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D482C-01AE-4B96-BF11-BD92F558F8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volgograd.ru/accel/content/pic/pre/users/crazy_mouse/73716/photogallery4/74339_korni.jpg?w=550&amp;h=413&amp;q=100&amp;exp=604800" TargetMode="External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-316080"/>
            <a:ext cx="9144000" cy="717408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bbe0e3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042920" y="549360"/>
            <a:ext cx="6408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0" y="-243360"/>
            <a:ext cx="9144000" cy="71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Тема: «Корень - главный орга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растения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43280" y="2492280"/>
            <a:ext cx="450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Урок – презентация  по  биологии 6 клас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68360" y="5229360"/>
            <a:ext cx="633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Учитель Коваленко Тамара Владимиро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24000" y="2060640"/>
            <a:ext cx="4267080" cy="295092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bbe0e3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Картинка 1 из 2307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940360" y="2492280"/>
            <a:ext cx="2664000" cy="324180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sp>
        <p:nvSpPr>
          <p:cNvPr id="80" name=""/>
          <p:cNvSpPr/>
          <p:nvPr/>
        </p:nvSpPr>
        <p:spPr>
          <a:xfrm>
            <a:off x="611280" y="5950080"/>
            <a:ext cx="2305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68360" y="5877000"/>
            <a:ext cx="23749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Ризоиды  мх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700360" y="5938920"/>
            <a:ext cx="4464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Корневище папоротн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724360" y="5950080"/>
            <a:ext cx="341964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Корневая система дере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547640" y="549360"/>
            <a:ext cx="640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Развитие корневой систе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395280" y="2421000"/>
            <a:ext cx="2481120" cy="338436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3203640" y="2492280"/>
            <a:ext cx="2305080" cy="330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bbe0e3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619280" y="476280"/>
            <a:ext cx="7056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Развитие зародышевого корешка у проростка дуб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900000" y="1628640"/>
            <a:ext cx="7559640" cy="446436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bbe0e3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700360" y="260280"/>
            <a:ext cx="468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Виды корн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692360" y="1484280"/>
            <a:ext cx="5111640" cy="489744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bbe0e3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Корневая систе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250920" y="4076640"/>
            <a:ext cx="1638360" cy="260028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7308720" y="3933720"/>
            <a:ext cx="1524240" cy="259740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sp>
        <p:nvSpPr>
          <p:cNvPr id="98" name=""/>
          <p:cNvSpPr/>
          <p:nvPr/>
        </p:nvSpPr>
        <p:spPr>
          <a:xfrm>
            <a:off x="2411280" y="3500280"/>
            <a:ext cx="2089440" cy="41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Мочковата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Состоит из хорошо развитого похожего на стержень главного корня и боковых корней. Типична для двудольных раст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859280" y="3500280"/>
            <a:ext cx="2376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Стержнев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268360" y="404640"/>
            <a:ext cx="532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Типы корневых сист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55640" y="1330200"/>
            <a:ext cx="74883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Корневая система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—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это совокупность                         всех корней раст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148360" y="4005360"/>
            <a:ext cx="2087640" cy="29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Состоит из хорошо развитого похожего на стержень главного корня и боковых корней. Типична для двудольных раст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3348000" y="3357720"/>
            <a:ext cx="115272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716360" y="3357720"/>
            <a:ext cx="10796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bbe0e3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.Рассмотрите проросшие семена фасоли, гороха, тыквы. Какой корень вы видит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Запишите в тетрад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.Рассмотрите корневые системы предложенных вам растени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Чем они различаются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.Отберите растения со стержневой корневой систем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.Отберите растения с мочковатой корневой систем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.По строению корневой системы определите, какие растения однодольные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какие – двудольны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. Заполните таблицу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124000" y="0"/>
            <a:ext cx="597708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Лабораторная работа № 7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«Стержневые и мочковатые корневые системы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457200" y="4437000"/>
          <a:ext cx="8002440" cy="2259000"/>
        </p:xfrm>
        <a:graphic>
          <a:graphicData uri="http://schemas.openxmlformats.org/drawingml/2006/table">
            <a:tbl>
              <a:tblPr/>
              <a:tblGrid>
                <a:gridCol w="2668680"/>
                <a:gridCol w="2665440"/>
                <a:gridCol w="2668320"/>
              </a:tblGrid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звание раст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ип корневой систем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собенности стро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рневой систем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bbe0e3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050920" y="260280"/>
            <a:ext cx="61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Зоны кор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900000" y="1197000"/>
            <a:ext cx="6912000" cy="525636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bbe0e3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 algn="ctr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042920" y="189000"/>
            <a:ext cx="691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Лабораторная работа «Корневой чехлик и корневые волоски»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26920" y="1413000"/>
            <a:ext cx="7921800" cy="467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Рассмотрите проростки пшеницы, гороха невооруженным глазом, затем в лупу. Найдите корневой чехли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братите внимание на часть корня выше корневого чехлика, найдите выросты в виде пушка - корневые волос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оложите корешок в каплю воды, подкрашенную чернилами, и рассмотрите под микроскоп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Что общего в строении корневого волоска и клетки кожицы лука? Чем объясняется различие в их форм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делайте выво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bbe0e3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50920" y="260280"/>
            <a:ext cx="504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Видоизменения корн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3059280" y="907920"/>
            <a:ext cx="2592360" cy="237672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5508720" y="3716280"/>
            <a:ext cx="3321000" cy="244800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5508720" y="404640"/>
            <a:ext cx="3390840" cy="258624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122" name="" descr=""/>
          <p:cNvPicPr/>
          <p:nvPr/>
        </p:nvPicPr>
        <p:blipFill>
          <a:blip r:embed="rId4"/>
          <a:stretch/>
        </p:blipFill>
        <p:spPr>
          <a:xfrm>
            <a:off x="250920" y="3860640"/>
            <a:ext cx="3024000" cy="251784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123" name="" descr=""/>
          <p:cNvPicPr/>
          <p:nvPr/>
        </p:nvPicPr>
        <p:blipFill>
          <a:blip r:embed="rId5"/>
          <a:stretch/>
        </p:blipFill>
        <p:spPr>
          <a:xfrm>
            <a:off x="250920" y="907920"/>
            <a:ext cx="2952720" cy="236376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2916360" y="328464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орнеклубни георг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516720" y="48690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292720" y="6308640"/>
            <a:ext cx="36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Корни подпорки банья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95280" y="644220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Воздушные корни орхиде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50920" y="3213000"/>
            <a:ext cx="23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Дыхательные корни мангровых деревье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651640" y="2997360"/>
            <a:ext cx="30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Корни присоски плющ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9900"/>
              </a:gs>
              <a:gs pos="100000">
                <a:srgbClr val="bbe0e3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916360" y="1844640"/>
            <a:ext cx="547200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Домашнее  зад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§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 19, 20  задание в рабочей тетрад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№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62, 64,65,6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187280" y="692280"/>
            <a:ext cx="720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Спасибо за урок, до новых встреч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Пример смайлика из коллекции"/>
          <p:cNvPicPr/>
          <p:nvPr/>
        </p:nvPicPr>
        <p:blipFill>
          <a:blip r:embed="rId1"/>
          <a:stretch/>
        </p:blipFill>
        <p:spPr>
          <a:xfrm>
            <a:off x="684360" y="2637000"/>
            <a:ext cx="1800000" cy="14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bbe0e3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Верхушка говорила с похвальбою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«Моя обитель  – небо голубо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А ты, о корень, житель подземелья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Но корень возмутился: «Пустомел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Как ты смешна мне со своею спесью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Не я ль тебя вздымаю к поднебесью?»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А.  Ибрагимо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bbe0e3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7164360" y="1268280"/>
            <a:ext cx="1638360" cy="26002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619280" y="620640"/>
            <a:ext cx="52578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Тема: Корень - главный орган раст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24000" y="2060640"/>
            <a:ext cx="331128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bbe0e3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826920" y="765000"/>
            <a:ext cx="79930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Цель урока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32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Сформировать представление о корне расте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900000" y="1989000"/>
            <a:ext cx="7559640" cy="427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Задач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дать понятие корню и видам корне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охарактеризовать корневые системы;           выработать умение их распознавать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познакомить с зонами,  функциями и видоизменениями корн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bbe0e3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Эпиграф урок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«Как ни тонок, неприметен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Под землёю корешок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Но не может жить на свет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Без него любой цветок!»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В. Жа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bbe0e3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Функции корня: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рган вегетативного размнож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187280" y="1341360"/>
            <a:ext cx="5185080" cy="488952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bbe0e3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Минеральное питание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расте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042920" y="1916280"/>
            <a:ext cx="3313080" cy="457488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bbe0e3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Закрепление и удержив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растения в почв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403280" y="1628640"/>
            <a:ext cx="473076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bbe0e3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76360" y="549360"/>
            <a:ext cx="6840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7640" y="404640"/>
            <a:ext cx="648036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ткладывание и накопление запасных питательных  вещест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684360" y="1773360"/>
            <a:ext cx="2879640" cy="26654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4932360" y="1773360"/>
            <a:ext cx="3025800" cy="263844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2916360" y="4292640"/>
            <a:ext cx="3017880" cy="23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31T15:22:18Z</dcterms:created>
  <dc:creator>пользователь</dc:creator>
  <dc:description/>
  <dc:language>en-US</dc:language>
  <cp:lastModifiedBy>надежда</cp:lastModifiedBy>
  <dcterms:modified xsi:type="dcterms:W3CDTF">2011-01-11T21:30:36Z</dcterms:modified>
  <cp:revision>18</cp:revision>
  <dc:subject/>
  <dc:title>Слайд 1</dc:title>
</cp:coreProperties>
</file>