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74400" y="1091880"/>
            <a:ext cx="47991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85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1274760" y="1092240"/>
            <a:ext cx="4800600" cy="393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1136160" y="5408280"/>
            <a:ext cx="507996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65120" y="0"/>
            <a:ext cx="961560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800" y="620640"/>
            <a:ext cx="859320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800" y="2101320"/>
            <a:ext cx="85932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314280">
              <a:lnSpc>
                <a:spcPct val="6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282600">
              <a:lnSpc>
                <a:spcPct val="6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680" indent="-212760">
              <a:lnSpc>
                <a:spcPct val="6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 indent="-203400">
              <a:lnSpc>
                <a:spcPct val="6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6320" indent="-204840">
              <a:lnSpc>
                <a:spcPct val="6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6320" indent="-204840">
              <a:lnSpc>
                <a:spcPct val="6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6320" indent="-204840">
              <a:lnSpc>
                <a:spcPct val="6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465120" y="0"/>
            <a:ext cx="961560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1944720" y="6659640"/>
            <a:ext cx="65167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Arial"/>
              </a:rPr>
              <a:t>Санкт-Петербур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2340000" y="1187280"/>
            <a:ext cx="6119640" cy="20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66"/>
                </a:solidFill>
                <a:latin typeface="Times New Roman"/>
              </a:rPr>
              <a:t>ПОДГОТОВКА К КОНТРОЛЬНОЙ РАБО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66"/>
              </a:solidFill>
              <a:latin typeface="Times New Roman"/>
              <a:ea typeface="Times New Roman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224000" y="2556000"/>
            <a:ext cx="8353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4"/>
              </a:avLst>
            </a:prstTxWarp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0a0"/>
                </a:solidFill>
                <a:latin typeface="Times New Roman"/>
              </a:rPr>
              <a:t>по теме «Четырехугольники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0a0"/>
              </a:solidFill>
              <a:latin typeface="Times New Roman"/>
              <a:ea typeface="Times New Roman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535640" y="4427640"/>
            <a:ext cx="1726920" cy="178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</cp:lastModifiedBy>
  <dcterms:modified xsi:type="dcterms:W3CDTF">2012-06-12T17:25:18Z</dcterms:modified>
  <cp:revision>18</cp:revision>
  <dc:subject/>
  <dc:title>Слайд 1</dc:title>
</cp:coreProperties>
</file>