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7.jpeg" ContentType="image/jpeg"/>
  <Override PartName="/ppt/media/image38.jpeg" ContentType="image/jpeg"/>
  <Override PartName="/ppt/media/image40.png" ContentType="image/png"/>
  <Override PartName="/ppt/media/image31.jpeg" ContentType="image/jpe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018-2747-48B9-AC08-B3B3E098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38E-4E84-4442-BC97-8882884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307-B070-411A-B1BE-2E7C7902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CE5-D5D7-40B0-93E6-093E4755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8701-7BCC-4458-81AB-7DDBE8C1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6EAF-DC28-4066-A6B1-E132675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F8E5-0DF4-4BA0-AFF9-82F2C61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B5D-3478-40AF-A6D0-70E16CEF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F1B4-C6F1-4ACF-96C4-7D584587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BE7-C6D0-4771-9134-6A35126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031F-EAF4-4A8A-8A6C-53FAEA4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D2B-E70F-475D-B807-8014425F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BB2-BC1E-424D-A3FE-14620453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C2E2-E1B7-4A7A-B50E-B4C4678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928-71C8-413C-9C8E-429EAB85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BF7-6C73-4F5A-B9A7-7F6B4415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47E1-6F8C-4239-AA10-33DC0781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6FE-FC24-44C6-A017-4D0A4BB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8D3-8320-4591-9035-066BD0F0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1AB-01D7-4D4C-997D-E97EEAFD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9E1-2D48-47C3-8EC2-9219AF8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7DB-2D64-4C27-8E27-8EBB0ADB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839-E249-410E-BC88-9E8D7DF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62E-6140-4CF7-B34C-6C44969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280-BE82-470D-A1E8-38A668270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BC5-AB90-4DFD-80F0-AE8699C0B71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900igr.net/Detskie_prezentatsii/biologiya/KHischniki_2.files/slide0014_image013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g1.liveinternet.ru/images/attach/c/4/78/812/78812177_image_560511101459317515951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022.radikal.ru/0803/68/e20f9a3a5bc9.jp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s013.radikal.ru/i322/1108/e6/6177d15598d0.jpg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4/eariel2006.2/0_1d08e_a80686bd_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-fotki.yandex.ru/get/39/kostya6969.5/0_159fc_b4f16382_X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s.123rf.com/400wm/400/400/smit/smit0906/smit090600141/5043508-hedgehog-with-mushroom-close-up.jpg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img.lenta.ru/news/2010/07/20/moles/picture.jp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chool64.uz/alfavit/16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12022-B6"/>
          <p:cNvPicPr/>
          <p:nvPr/>
        </p:nvPicPr>
        <p:blipFill>
          <a:blip r:embed="rId1"/>
          <a:stretch/>
        </p:blipFill>
        <p:spPr>
          <a:xfrm>
            <a:off x="1928880" y="2357280"/>
            <a:ext cx="5813280" cy="32292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2000160" y="928800"/>
            <a:ext cx="60721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сказке 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ТРИ ПОРОСЕНКА»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476360" y="195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1680" y="52905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  <a:ea typeface="Times New Roman"/>
              </a:rPr>
              <a:t>п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едагог – психоло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ГБС(К)ОУ школы – интерната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VIII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 вида ст. Полтавск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Огорева Наталья Викторов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000160" y="285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ррекционно-развивающее занят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 кла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Рисунок 9" descr="эмблема.jpg"/>
          <p:cNvPicPr/>
          <p:nvPr/>
        </p:nvPicPr>
        <p:blipFill>
          <a:blip r:embed="rId2"/>
          <a:stretch/>
        </p:blipFill>
        <p:spPr>
          <a:xfrm>
            <a:off x="357120" y="214200"/>
            <a:ext cx="140976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picture64"/>
          <p:cNvPicPr/>
          <p:nvPr/>
        </p:nvPicPr>
        <p:blipFill>
          <a:blip r:embed="rId1"/>
          <a:stretch/>
        </p:blipFill>
        <p:spPr>
          <a:xfrm>
            <a:off x="2916360" y="1197000"/>
            <a:ext cx="2736720" cy="234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29"/>
          <p:cNvPicPr/>
          <p:nvPr/>
        </p:nvPicPr>
        <p:blipFill>
          <a:blip r:embed="rId2"/>
          <a:stretch/>
        </p:blipFill>
        <p:spPr>
          <a:xfrm>
            <a:off x="468360" y="115920"/>
            <a:ext cx="2305080" cy="232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Картинка 16 из 1649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115920"/>
            <a:ext cx="2736720" cy="2601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Картинка 16 из 1620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2924280"/>
            <a:ext cx="1944720" cy="2923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Картинка 11 из 16594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3860640"/>
            <a:ext cx="1976400" cy="262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Картинка 4 из 14647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6000" y="3500280"/>
            <a:ext cx="3024000" cy="2264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187280" y="333360"/>
            <a:ext cx="612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: "ЭХО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714760" y="1573560"/>
            <a:ext cx="331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ро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Хлев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са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раны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Уточка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мех –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ни –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ухо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лен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4" descr="цу1.jpg"/>
          <p:cNvPicPr/>
          <p:nvPr/>
        </p:nvPicPr>
        <p:blipFill>
          <a:blip r:embed="rId1"/>
          <a:stretch/>
        </p:blipFill>
        <p:spPr>
          <a:xfrm>
            <a:off x="500040" y="1643040"/>
            <a:ext cx="3429000" cy="4573440"/>
          </a:xfrm>
          <a:prstGeom prst="rect">
            <a:avLst/>
          </a:prstGeom>
          <a:ln cap="sq" w="76320">
            <a:solidFill>
              <a:srgbClr val="e6ecf1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61" name="Прямоугольник 5" descr=""/>
          <p:cNvPicPr/>
          <p:nvPr/>
        </p:nvPicPr>
        <p:blipFill>
          <a:blip r:embed="rId2"/>
          <a:stretch/>
        </p:blipFill>
        <p:spPr>
          <a:xfrm>
            <a:off x="237960" y="334800"/>
            <a:ext cx="4010040" cy="18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4500720" y="1571760"/>
            <a:ext cx="4238640" cy="407196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7" descr=""/>
          <p:cNvPicPr/>
          <p:nvPr/>
        </p:nvPicPr>
        <p:blipFill>
          <a:blip r:embed="rId4"/>
          <a:stretch/>
        </p:blipFill>
        <p:spPr>
          <a:xfrm>
            <a:off x="4224240" y="603360"/>
            <a:ext cx="478008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2268360" y="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: "Какой листочек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6" descr="Картинка 14 из 28064"/>
          <p:cNvPicPr/>
          <p:nvPr/>
        </p:nvPicPr>
        <p:blipFill>
          <a:blip r:embed="rId1"/>
          <a:stretch/>
        </p:blipFill>
        <p:spPr>
          <a:xfrm>
            <a:off x="108000" y="1700280"/>
            <a:ext cx="3186000" cy="2122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Картинка 5 из 36703"/>
          <p:cNvPicPr/>
          <p:nvPr/>
        </p:nvPicPr>
        <p:blipFill>
          <a:blip r:embed="rId2"/>
          <a:stretch/>
        </p:blipFill>
        <p:spPr>
          <a:xfrm>
            <a:off x="324000" y="4508640"/>
            <a:ext cx="2898720" cy="20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Картинка 9 из 23114"/>
          <p:cNvPicPr/>
          <p:nvPr/>
        </p:nvPicPr>
        <p:blipFill>
          <a:blip r:embed="rId3"/>
          <a:stretch/>
        </p:blipFill>
        <p:spPr>
          <a:xfrm>
            <a:off x="3348000" y="1844640"/>
            <a:ext cx="2479680" cy="40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40018387"/>
          <p:cNvPicPr/>
          <p:nvPr/>
        </p:nvPicPr>
        <p:blipFill>
          <a:blip r:embed="rId4"/>
          <a:stretch/>
        </p:blipFill>
        <p:spPr>
          <a:xfrm>
            <a:off x="6084720" y="119700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6" descr="Картинка 17 из 6548"/>
          <p:cNvPicPr/>
          <p:nvPr/>
        </p:nvPicPr>
        <p:blipFill>
          <a:blip r:embed="rId5"/>
          <a:stretch/>
        </p:blipFill>
        <p:spPr>
          <a:xfrm>
            <a:off x="5940360" y="4005360"/>
            <a:ext cx="30592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5"/>
          <p:cNvSpPr txBox="1"/>
          <p:nvPr/>
        </p:nvSpPr>
        <p:spPr>
          <a:xfrm>
            <a:off x="900000" y="189000"/>
            <a:ext cx="784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сенка порося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Рисунок 4" descr="DSCN3447с.JPG"/>
          <p:cNvPicPr/>
          <p:nvPr/>
        </p:nvPicPr>
        <p:blipFill>
          <a:blip r:embed="rId1"/>
          <a:stretch/>
        </p:blipFill>
        <p:spPr>
          <a:xfrm>
            <a:off x="1500120" y="128592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1"/>
          <p:cNvPicPr/>
          <p:nvPr/>
        </p:nvPicPr>
        <p:blipFill>
          <a:blip r:embed="rId1"/>
          <a:stretch/>
        </p:blipFill>
        <p:spPr>
          <a:xfrm>
            <a:off x="34920" y="115920"/>
            <a:ext cx="9001080" cy="66261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-171360" y="115920"/>
            <a:ext cx="95169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РИ ПОРОСЕН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10" descr="12022-B6"/>
          <p:cNvPicPr/>
          <p:nvPr/>
        </p:nvPicPr>
        <p:blipFill>
          <a:blip r:embed="rId1"/>
          <a:stretch/>
        </p:blipFill>
        <p:spPr>
          <a:xfrm>
            <a:off x="857160" y="1714680"/>
            <a:ext cx="4429080" cy="33588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3" descr=""/>
          <p:cNvPicPr/>
          <p:nvPr/>
        </p:nvPicPr>
        <p:blipFill>
          <a:blip r:embed="rId2"/>
          <a:stretch/>
        </p:blipFill>
        <p:spPr>
          <a:xfrm>
            <a:off x="4322880" y="463680"/>
            <a:ext cx="5583240" cy="4973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5" descr="Картинка 13 из 382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786120"/>
            <a:ext cx="3632400" cy="271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Картинка 12 из 4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6800" y="428760"/>
            <a:ext cx="3703680" cy="242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1" descr="Картинка 25 из 318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57120"/>
            <a:ext cx="3867120" cy="2571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big-95-205-2010-11-1111-kozlenok.jpg"/>
          <p:cNvPicPr/>
          <p:nvPr/>
        </p:nvPicPr>
        <p:blipFill>
          <a:blip r:embed="rId7"/>
          <a:stretch/>
        </p:blipFill>
        <p:spPr>
          <a:xfrm>
            <a:off x="2714760" y="2071800"/>
            <a:ext cx="3744720" cy="2428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Картинка 2 из 8754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86240" y="3857760"/>
            <a:ext cx="3468960" cy="260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857160" y="857160"/>
            <a:ext cx="2027160" cy="2665440"/>
            <a:chOff x="857160" y="857160"/>
            <a:chExt cx="2027160" cy="2665440"/>
          </a:xfrm>
        </p:grpSpPr>
        <p:grpSp>
          <p:nvGrpSpPr>
            <p:cNvPr id="182" name="Group 5"/>
            <p:cNvGrpSpPr/>
            <p:nvPr/>
          </p:nvGrpSpPr>
          <p:grpSpPr>
            <a:xfrm>
              <a:off x="1041120" y="857160"/>
              <a:ext cx="1662120" cy="748440"/>
              <a:chOff x="1041120" y="857160"/>
              <a:chExt cx="1662120" cy="748440"/>
            </a:xfrm>
          </p:grpSpPr>
          <p:sp>
            <p:nvSpPr>
              <p:cNvPr id="183" name="Line 6"/>
              <p:cNvSpPr/>
              <p:nvPr/>
            </p:nvSpPr>
            <p:spPr>
              <a:xfrm>
                <a:off x="1041120" y="857160"/>
                <a:ext cx="0" cy="74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4" name="Line 7"/>
              <p:cNvSpPr/>
              <p:nvPr/>
            </p:nvSpPr>
            <p:spPr>
              <a:xfrm>
                <a:off x="1041120" y="857160"/>
                <a:ext cx="554040" cy="42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5" name="Line 8"/>
              <p:cNvSpPr/>
              <p:nvPr/>
            </p:nvSpPr>
            <p:spPr>
              <a:xfrm flipH="1">
                <a:off x="2149200" y="857160"/>
                <a:ext cx="461520" cy="42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Line 9"/>
              <p:cNvSpPr/>
              <p:nvPr/>
            </p:nvSpPr>
            <p:spPr>
              <a:xfrm>
                <a:off x="2611080" y="857160"/>
                <a:ext cx="92160" cy="74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10"/>
            <p:cNvGrpSpPr/>
            <p:nvPr/>
          </p:nvGrpSpPr>
          <p:grpSpPr>
            <a:xfrm>
              <a:off x="857160" y="1284840"/>
              <a:ext cx="2027160" cy="2237760"/>
              <a:chOff x="857160" y="1284840"/>
              <a:chExt cx="2027160" cy="2237760"/>
            </a:xfrm>
          </p:grpSpPr>
          <p:grpSp>
            <p:nvGrpSpPr>
              <p:cNvPr id="188" name="Group 11"/>
              <p:cNvGrpSpPr/>
              <p:nvPr/>
            </p:nvGrpSpPr>
            <p:grpSpPr>
              <a:xfrm>
                <a:off x="857160" y="1284840"/>
                <a:ext cx="2027160" cy="1605240"/>
                <a:chOff x="857160" y="1284840"/>
                <a:chExt cx="2027160" cy="1605240"/>
              </a:xfrm>
            </p:grpSpPr>
            <p:sp>
              <p:nvSpPr>
                <p:cNvPr id="189" name="Oval 12"/>
                <p:cNvSpPr/>
                <p:nvPr/>
              </p:nvSpPr>
              <p:spPr>
                <a:xfrm>
                  <a:off x="1501560" y="1819800"/>
                  <a:ext cx="1105560" cy="8557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0" name="Oval 13"/>
                <p:cNvSpPr/>
                <p:nvPr/>
              </p:nvSpPr>
              <p:spPr>
                <a:xfrm>
                  <a:off x="857160" y="1284840"/>
                  <a:ext cx="2027160" cy="1605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1" name="Oval 14"/>
              <p:cNvSpPr/>
              <p:nvPr/>
            </p:nvSpPr>
            <p:spPr>
              <a:xfrm>
                <a:off x="1317960" y="1713240"/>
                <a:ext cx="276840" cy="212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2" name="Oval 15"/>
              <p:cNvSpPr/>
              <p:nvPr/>
            </p:nvSpPr>
            <p:spPr>
              <a:xfrm>
                <a:off x="2055240" y="1713240"/>
                <a:ext cx="276840" cy="212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3" name="AutoShape 16"/>
              <p:cNvSpPr/>
              <p:nvPr/>
            </p:nvSpPr>
            <p:spPr>
              <a:xfrm>
                <a:off x="1686240" y="1926000"/>
                <a:ext cx="276840" cy="32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Oval 17"/>
              <p:cNvSpPr/>
              <p:nvPr/>
            </p:nvSpPr>
            <p:spPr>
              <a:xfrm>
                <a:off x="1630440" y="2393640"/>
                <a:ext cx="386280" cy="307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rot="9487800">
                <a:off x="1340640" y="3008520"/>
                <a:ext cx="552960" cy="426240"/>
              </a:xfrm>
              <a:prstGeom prst="triangle">
                <a:avLst>
                  <a:gd name="adj" fmla="val 34069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rot="12157800">
                <a:off x="1727280" y="3008520"/>
                <a:ext cx="538560" cy="426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97" name="Group 20"/>
          <p:cNvGrpSpPr/>
          <p:nvPr/>
        </p:nvGrpSpPr>
        <p:grpSpPr>
          <a:xfrm>
            <a:off x="3357720" y="3500280"/>
            <a:ext cx="2149200" cy="2490840"/>
            <a:chOff x="3357720" y="3500280"/>
            <a:chExt cx="2149200" cy="2490840"/>
          </a:xfrm>
        </p:grpSpPr>
        <p:sp>
          <p:nvSpPr>
            <p:cNvPr id="198" name="Oval 21"/>
            <p:cNvSpPr/>
            <p:nvPr/>
          </p:nvSpPr>
          <p:spPr>
            <a:xfrm>
              <a:off x="4040280" y="4366080"/>
              <a:ext cx="1172880" cy="77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Oval 22"/>
            <p:cNvSpPr/>
            <p:nvPr/>
          </p:nvSpPr>
          <p:spPr>
            <a:xfrm>
              <a:off x="3357720" y="3884400"/>
              <a:ext cx="2149200" cy="14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Oval 23"/>
            <p:cNvSpPr/>
            <p:nvPr/>
          </p:nvSpPr>
          <p:spPr>
            <a:xfrm>
              <a:off x="3870720" y="4192200"/>
              <a:ext cx="291240" cy="275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>
              <a:off x="4587480" y="4192200"/>
              <a:ext cx="307800" cy="275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AutoShape 25"/>
            <p:cNvSpPr/>
            <p:nvPr/>
          </p:nvSpPr>
          <p:spPr>
            <a:xfrm flipV="1" rot="217800">
              <a:off x="4280400" y="4883040"/>
              <a:ext cx="290520" cy="27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>
              <a:off x="3552840" y="3500280"/>
              <a:ext cx="0" cy="67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3552840" y="3500280"/>
              <a:ext cx="587520" cy="38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 flipH="1">
              <a:off x="4727520" y="3500280"/>
              <a:ext cx="488880" cy="38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5216400" y="3500280"/>
              <a:ext cx="98640" cy="67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4280400" y="4468320"/>
              <a:ext cx="305640" cy="27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 flipH="1">
              <a:off x="4280400" y="5299200"/>
              <a:ext cx="203760" cy="41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Line 32"/>
            <p:cNvSpPr/>
            <p:nvPr/>
          </p:nvSpPr>
          <p:spPr>
            <a:xfrm>
              <a:off x="4485600" y="5299200"/>
              <a:ext cx="203760" cy="41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Oval 33"/>
            <p:cNvSpPr/>
            <p:nvPr/>
          </p:nvSpPr>
          <p:spPr>
            <a:xfrm>
              <a:off x="4075560" y="5714280"/>
              <a:ext cx="305640" cy="276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Oval 34"/>
            <p:cNvSpPr/>
            <p:nvPr/>
          </p:nvSpPr>
          <p:spPr>
            <a:xfrm>
              <a:off x="4485600" y="5714280"/>
              <a:ext cx="306720" cy="276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2" name="Group 35"/>
          <p:cNvGrpSpPr/>
          <p:nvPr/>
        </p:nvGrpSpPr>
        <p:grpSpPr>
          <a:xfrm>
            <a:off x="6357960" y="1000080"/>
            <a:ext cx="1913040" cy="2401920"/>
            <a:chOff x="6357960" y="1000080"/>
            <a:chExt cx="1913040" cy="2401920"/>
          </a:xfrm>
        </p:grpSpPr>
        <p:grpSp>
          <p:nvGrpSpPr>
            <p:cNvPr id="213" name="Group 36"/>
            <p:cNvGrpSpPr/>
            <p:nvPr/>
          </p:nvGrpSpPr>
          <p:grpSpPr>
            <a:xfrm>
              <a:off x="6357960" y="1409760"/>
              <a:ext cx="1913040" cy="1542600"/>
              <a:chOff x="6357960" y="1409760"/>
              <a:chExt cx="1913040" cy="1542600"/>
            </a:xfrm>
          </p:grpSpPr>
          <p:sp>
            <p:nvSpPr>
              <p:cNvPr id="214" name="Oval 37"/>
              <p:cNvSpPr/>
              <p:nvPr/>
            </p:nvSpPr>
            <p:spPr>
              <a:xfrm>
                <a:off x="6966000" y="1923840"/>
                <a:ext cx="1043280" cy="822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5" name="Oval 38"/>
              <p:cNvSpPr/>
              <p:nvPr/>
            </p:nvSpPr>
            <p:spPr>
              <a:xfrm>
                <a:off x="6357960" y="1409760"/>
                <a:ext cx="1913040" cy="1542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16" name="Oval 39"/>
            <p:cNvSpPr/>
            <p:nvPr/>
          </p:nvSpPr>
          <p:spPr>
            <a:xfrm>
              <a:off x="6905160" y="1738080"/>
              <a:ext cx="261360" cy="28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7452360" y="1738080"/>
              <a:ext cx="236880" cy="29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18" name="Group 41"/>
            <p:cNvGrpSpPr/>
            <p:nvPr/>
          </p:nvGrpSpPr>
          <p:grpSpPr>
            <a:xfrm>
              <a:off x="6531480" y="1000080"/>
              <a:ext cx="1568520" cy="718200"/>
              <a:chOff x="6531480" y="1000080"/>
              <a:chExt cx="1568520" cy="718200"/>
            </a:xfrm>
          </p:grpSpPr>
          <p:sp>
            <p:nvSpPr>
              <p:cNvPr id="219" name="Line 42"/>
              <p:cNvSpPr/>
              <p:nvPr/>
            </p:nvSpPr>
            <p:spPr>
              <a:xfrm>
                <a:off x="6531480" y="1000080"/>
                <a:ext cx="0" cy="71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0" name="Line 43"/>
              <p:cNvSpPr/>
              <p:nvPr/>
            </p:nvSpPr>
            <p:spPr>
              <a:xfrm>
                <a:off x="6531480" y="1000080"/>
                <a:ext cx="52272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Line 44"/>
              <p:cNvSpPr/>
              <p:nvPr/>
            </p:nvSpPr>
            <p:spPr>
              <a:xfrm flipH="1">
                <a:off x="7577280" y="1000080"/>
                <a:ext cx="43560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Line 45"/>
              <p:cNvSpPr/>
              <p:nvPr/>
            </p:nvSpPr>
            <p:spPr>
              <a:xfrm>
                <a:off x="8012880" y="1000080"/>
                <a:ext cx="87120" cy="71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3" name="Rectangle 46"/>
            <p:cNvSpPr/>
            <p:nvPr/>
          </p:nvSpPr>
          <p:spPr>
            <a:xfrm>
              <a:off x="7178400" y="2476800"/>
              <a:ext cx="271800" cy="149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4" name="Oval 47"/>
            <p:cNvSpPr/>
            <p:nvPr/>
          </p:nvSpPr>
          <p:spPr>
            <a:xfrm>
              <a:off x="7178400" y="2034000"/>
              <a:ext cx="273960" cy="29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Rectangle 48"/>
            <p:cNvSpPr/>
            <p:nvPr/>
          </p:nvSpPr>
          <p:spPr>
            <a:xfrm rot="651000">
              <a:off x="6813360" y="2919600"/>
              <a:ext cx="455400" cy="441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6" name="Rectangle 49"/>
            <p:cNvSpPr/>
            <p:nvPr/>
          </p:nvSpPr>
          <p:spPr>
            <a:xfrm rot="20929800">
              <a:off x="7360560" y="2919240"/>
              <a:ext cx="456480" cy="442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192720" cy="6191280"/>
          </a:xfrm>
          <a:prstGeom prst="rect">
            <a:avLst/>
          </a:prstGeom>
          <a:ln w="263520">
            <a:solidFill>
              <a:srgbClr val="ff9933"/>
            </a:solidFill>
            <a:miter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284328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1116000" y="404640"/>
            <a:ext cx="7027560" cy="5738760"/>
            <a:chOff x="1116000" y="404640"/>
            <a:chExt cx="7027560" cy="5738760"/>
          </a:xfrm>
        </p:grpSpPr>
        <p:pic>
          <p:nvPicPr>
            <p:cNvPr id="230" name="Picture 14" descr=""/>
            <p:cNvPicPr/>
            <p:nvPr/>
          </p:nvPicPr>
          <p:blipFill>
            <a:blip r:embed="rId1"/>
            <a:stretch/>
          </p:blipFill>
          <p:spPr>
            <a:xfrm>
              <a:off x="3844080" y="404640"/>
              <a:ext cx="1607760" cy="20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i-main-pic" descr="Картинка 1 из 33458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116000" y="496080"/>
              <a:ext cx="7027560" cy="5647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928880" y="1000080"/>
            <a:ext cx="5450760" cy="5380920"/>
            <a:chOff x="1928880" y="1000080"/>
            <a:chExt cx="5450760" cy="5380920"/>
          </a:xfrm>
        </p:grpSpPr>
        <p:sp>
          <p:nvSpPr>
            <p:cNvPr id="233" name="Rectangle 3"/>
            <p:cNvSpPr/>
            <p:nvPr/>
          </p:nvSpPr>
          <p:spPr>
            <a:xfrm>
              <a:off x="1928880" y="1000080"/>
              <a:ext cx="1814760" cy="17913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6699"/>
                  </a:solidFill>
                  <a:latin typeface="Times New Roman"/>
                </a:rPr>
                <a:t>Н</a:t>
              </a:r>
              <a:endParaRPr b="0" lang="en-US" sz="7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5558400" y="1000080"/>
              <a:ext cx="1821240" cy="17978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743640" y="1000080"/>
              <a:ext cx="1814760" cy="17942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1928880" y="4586760"/>
              <a:ext cx="1814760" cy="17942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1928880" y="2794320"/>
              <a:ext cx="1814760" cy="1794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1bw8lg62"/>
          <p:cNvPicPr/>
          <p:nvPr/>
        </p:nvPicPr>
        <p:blipFill>
          <a:blip r:embed="rId1"/>
          <a:stretch/>
        </p:blipFill>
        <p:spPr>
          <a:xfrm>
            <a:off x="428760" y="714240"/>
            <a:ext cx="3938400" cy="2428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SUC50050"/>
          <p:cNvPicPr/>
          <p:nvPr/>
        </p:nvPicPr>
        <p:blipFill>
          <a:blip r:embed="rId2"/>
          <a:stretch/>
        </p:blipFill>
        <p:spPr>
          <a:xfrm>
            <a:off x="4775040" y="642960"/>
            <a:ext cx="3895920" cy="250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Травяной ковер"/>
          <p:cNvPicPr/>
          <p:nvPr/>
        </p:nvPicPr>
        <p:blipFill>
          <a:blip r:embed="rId3"/>
          <a:stretch/>
        </p:blipFill>
        <p:spPr>
          <a:xfrm>
            <a:off x="428760" y="3673440"/>
            <a:ext cx="3929040" cy="2405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Февральские кружева"/>
          <p:cNvPicPr/>
          <p:nvPr/>
        </p:nvPicPr>
        <p:blipFill>
          <a:blip r:embed="rId4"/>
          <a:stretch/>
        </p:blipFill>
        <p:spPr>
          <a:xfrm>
            <a:off x="4857840" y="3786120"/>
            <a:ext cx="395928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моги поросенку найти свой доми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181160" cy="1789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1055880" cy="1658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931680" cy="1716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4"/>
          <a:stretch/>
        </p:blipFill>
        <p:spPr>
          <a:xfrm>
            <a:off x="6732720" y="1125360"/>
            <a:ext cx="1655640" cy="1625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5"/>
          <a:stretch/>
        </p:blipFill>
        <p:spPr>
          <a:xfrm>
            <a:off x="6804000" y="299736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6"/>
          <a:stretch/>
        </p:blipFill>
        <p:spPr>
          <a:xfrm>
            <a:off x="6443640" y="4797360"/>
            <a:ext cx="2089080" cy="173196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20"/>
          <p:cNvSpPr/>
          <p:nvPr/>
        </p:nvSpPr>
        <p:spPr>
          <a:xfrm>
            <a:off x="1763640" y="1916280"/>
            <a:ext cx="5256360" cy="432108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1547640" y="1700280"/>
            <a:ext cx="5329440" cy="441648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Freeform 24"/>
          <p:cNvSpPr/>
          <p:nvPr/>
        </p:nvSpPr>
        <p:spPr>
          <a:xfrm>
            <a:off x="1763640" y="1916280"/>
            <a:ext cx="4969080" cy="457344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9:58:02Z</dcterms:created>
  <dc:creator>Артем</dc:creator>
  <dc:description/>
  <dc:language>en-US</dc:language>
  <cp:lastModifiedBy>User</cp:lastModifiedBy>
  <dcterms:modified xsi:type="dcterms:W3CDTF">2012-02-03T07:12:16Z</dcterms:modified>
  <cp:revision>22</cp:revision>
  <dc:subject/>
  <dc:title>Слайд 1</dc:title>
</cp:coreProperties>
</file>