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3.jpeg" ContentType="image/jpeg"/>
  <Override PartName="/ppt/media/image2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7.jpeg" ContentType="image/jpeg"/>
  <Override PartName="/ppt/media/image38.jpeg" ContentType="image/jpeg"/>
  <Override PartName="/ppt/media/image40.png" ContentType="image/png"/>
  <Override PartName="/ppt/media/image31.jpeg" ContentType="image/jpe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E56-30AD-4D99-B3EA-FC811B27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B8E-4E27-4738-9613-F0870F60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DCC-EC07-4FBC-9B7D-11EA57D0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93C-E932-440E-A2FF-496AE153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366A-6A0F-45B0-B94B-937633B6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B332-0905-4F05-A58C-1A9973C4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0CAC-F97E-4930-A6F6-B5386608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A875-7532-4387-8F99-E7F47A0C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BF91-A7C1-49D5-9CE0-53A606FB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8CE-DF77-46C8-8F5F-00072196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D444-195D-412C-8B9A-2A8C66A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A4E-6F0A-48CA-B8FD-AF610F65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84FE-8BC8-4ADB-BB60-766C837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2AA-089E-4399-ACA1-BF1BF18F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A198-D5B1-455F-B625-FB6AF31A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E38-C185-4D42-8BC3-D90A8BF2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9594-14E3-411C-AAE3-385A37E9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161-3C66-4299-B54D-41C78E3C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9A8-02EB-4487-AFA2-3E028CCE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5651-9C29-4F68-909E-4C2A0F61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715-0F8F-4CAE-A504-E66E3EBF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D34-B2BE-4593-BAE6-EFA9EC19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CD5-CC9F-459F-81FE-E2FB069E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D4C-1A02-4A85-9F87-E357EC1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A18-5F12-4D4F-B6DD-F812E8BA3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211-9575-4DFB-9C39-B8733295DB5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900igr.net/Detskie_prezentatsii/biologiya/KHischniki_2.files/slide0014_image013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g1.liveinternet.ru/images/attach/c/4/78/812/78812177_image_560511101459317515951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022.radikal.ru/0803/68/e20f9a3a5bc9.jpg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s013.radikal.ru/i322/1108/e6/6177d15598d0.jpg" TargetMode="External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14/eariel2006.2/0_1d08e_a80686bd_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-fotki.yandex.ru/get/39/kostya6969.5/0_159fc_b4f16382_X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us.123rf.com/400wm/400/400/smit/smit0906/smit090600141/5043508-hedgehog-with-mushroom-close-up.jpg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hyperlink" Target="http://img.lenta.ru/news/2010/07/20/moles/picture.jpg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school64.uz/alfavit/16.png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12022-B6"/>
          <p:cNvPicPr/>
          <p:nvPr/>
        </p:nvPicPr>
        <p:blipFill>
          <a:blip r:embed="rId1"/>
          <a:stretch/>
        </p:blipFill>
        <p:spPr>
          <a:xfrm>
            <a:off x="1928880" y="2357280"/>
            <a:ext cx="5813280" cy="32292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5"/>
          <p:cNvSpPr txBox="1"/>
          <p:nvPr/>
        </p:nvSpPr>
        <p:spPr>
          <a:xfrm>
            <a:off x="2000160" y="928800"/>
            <a:ext cx="60721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по сказке 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ТРИ ПОРОСЕНКА»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476360" y="195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1680" y="529056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Arial"/>
                <a:ea typeface="Times New Roman"/>
              </a:rPr>
              <a:t>п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едагог – психоло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ГБС(К)ОУ школы – интерната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VIII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 вида ст. Полтавско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Огорева Наталья Викторов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000160" y="285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ррекционно-развивающее занят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 клас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Рисунок 9" descr="эмблема.jpg"/>
          <p:cNvPicPr/>
          <p:nvPr/>
        </p:nvPicPr>
        <p:blipFill>
          <a:blip r:embed="rId2"/>
          <a:stretch/>
        </p:blipFill>
        <p:spPr>
          <a:xfrm>
            <a:off x="357120" y="214200"/>
            <a:ext cx="140976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picture64"/>
          <p:cNvPicPr/>
          <p:nvPr/>
        </p:nvPicPr>
        <p:blipFill>
          <a:blip r:embed="rId1"/>
          <a:stretch/>
        </p:blipFill>
        <p:spPr>
          <a:xfrm>
            <a:off x="2916360" y="1197000"/>
            <a:ext cx="2736720" cy="234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29"/>
          <p:cNvPicPr/>
          <p:nvPr/>
        </p:nvPicPr>
        <p:blipFill>
          <a:blip r:embed="rId2"/>
          <a:stretch/>
        </p:blipFill>
        <p:spPr>
          <a:xfrm>
            <a:off x="468360" y="115920"/>
            <a:ext cx="2305080" cy="232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Картинка 16 из 16495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115920"/>
            <a:ext cx="2736720" cy="2601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Картинка 16 из 16201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2924280"/>
            <a:ext cx="1944720" cy="2923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Картинка 11 из 16594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32000" y="3860640"/>
            <a:ext cx="1976400" cy="262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Картинка 4 из 14647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6000" y="3500280"/>
            <a:ext cx="3024000" cy="2264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1187280" y="333360"/>
            <a:ext cx="6121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: "ЭХО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714760" y="1573560"/>
            <a:ext cx="331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рот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Хлев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са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раны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Уточка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мех –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они –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Сухо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Verdana"/>
              </a:rPr>
              <a:t>Клен –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4" descr="цу1.jpg"/>
          <p:cNvPicPr/>
          <p:nvPr/>
        </p:nvPicPr>
        <p:blipFill>
          <a:blip r:embed="rId1"/>
          <a:stretch/>
        </p:blipFill>
        <p:spPr>
          <a:xfrm>
            <a:off x="500040" y="1643040"/>
            <a:ext cx="3429000" cy="4573440"/>
          </a:xfrm>
          <a:prstGeom prst="rect">
            <a:avLst/>
          </a:prstGeom>
          <a:ln cap="sq" w="76320">
            <a:solidFill>
              <a:srgbClr val="e6ecf1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61" name="Прямоугольник 5" descr=""/>
          <p:cNvPicPr/>
          <p:nvPr/>
        </p:nvPicPr>
        <p:blipFill>
          <a:blip r:embed="rId2"/>
          <a:stretch/>
        </p:blipFill>
        <p:spPr>
          <a:xfrm>
            <a:off x="237960" y="334800"/>
            <a:ext cx="4010040" cy="18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4500720" y="1571760"/>
            <a:ext cx="4238640" cy="407196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7" descr=""/>
          <p:cNvPicPr/>
          <p:nvPr/>
        </p:nvPicPr>
        <p:blipFill>
          <a:blip r:embed="rId4"/>
          <a:stretch/>
        </p:blipFill>
        <p:spPr>
          <a:xfrm>
            <a:off x="4224240" y="603360"/>
            <a:ext cx="478008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2268360" y="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: "Какой листочек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Picture 6" descr="Картинка 14 из 28064"/>
          <p:cNvPicPr/>
          <p:nvPr/>
        </p:nvPicPr>
        <p:blipFill>
          <a:blip r:embed="rId1"/>
          <a:stretch/>
        </p:blipFill>
        <p:spPr>
          <a:xfrm>
            <a:off x="108000" y="1700280"/>
            <a:ext cx="3186000" cy="2122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Картинка 5 из 36703"/>
          <p:cNvPicPr/>
          <p:nvPr/>
        </p:nvPicPr>
        <p:blipFill>
          <a:blip r:embed="rId2"/>
          <a:stretch/>
        </p:blipFill>
        <p:spPr>
          <a:xfrm>
            <a:off x="324000" y="4508640"/>
            <a:ext cx="2898720" cy="2050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Картинка 9 из 23114"/>
          <p:cNvPicPr/>
          <p:nvPr/>
        </p:nvPicPr>
        <p:blipFill>
          <a:blip r:embed="rId3"/>
          <a:stretch/>
        </p:blipFill>
        <p:spPr>
          <a:xfrm>
            <a:off x="3348000" y="1844640"/>
            <a:ext cx="2479680" cy="40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4" descr="40018387"/>
          <p:cNvPicPr/>
          <p:nvPr/>
        </p:nvPicPr>
        <p:blipFill>
          <a:blip r:embed="rId4"/>
          <a:stretch/>
        </p:blipFill>
        <p:spPr>
          <a:xfrm>
            <a:off x="6084720" y="119700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6" descr="Картинка 17 из 6548"/>
          <p:cNvPicPr/>
          <p:nvPr/>
        </p:nvPicPr>
        <p:blipFill>
          <a:blip r:embed="rId5"/>
          <a:stretch/>
        </p:blipFill>
        <p:spPr>
          <a:xfrm>
            <a:off x="5940360" y="4005360"/>
            <a:ext cx="305928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5"/>
          <p:cNvSpPr txBox="1"/>
          <p:nvPr/>
        </p:nvSpPr>
        <p:spPr>
          <a:xfrm>
            <a:off x="900000" y="189000"/>
            <a:ext cx="7848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сенка порося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1" name="Рисунок 4" descr="DSCN3447с.JPG"/>
          <p:cNvPicPr/>
          <p:nvPr/>
        </p:nvPicPr>
        <p:blipFill>
          <a:blip r:embed="rId1"/>
          <a:stretch/>
        </p:blipFill>
        <p:spPr>
          <a:xfrm>
            <a:off x="1500120" y="128592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1"/>
          <p:cNvPicPr/>
          <p:nvPr/>
        </p:nvPicPr>
        <p:blipFill>
          <a:blip r:embed="rId1"/>
          <a:stretch/>
        </p:blipFill>
        <p:spPr>
          <a:xfrm>
            <a:off x="34920" y="115920"/>
            <a:ext cx="9001080" cy="662616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-171360" y="115920"/>
            <a:ext cx="951696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РИ ПОРОСЕН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10" descr="12022-B6"/>
          <p:cNvPicPr/>
          <p:nvPr/>
        </p:nvPicPr>
        <p:blipFill>
          <a:blip r:embed="rId1"/>
          <a:stretch/>
        </p:blipFill>
        <p:spPr>
          <a:xfrm>
            <a:off x="857160" y="1714680"/>
            <a:ext cx="4429080" cy="33588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3" descr=""/>
          <p:cNvPicPr/>
          <p:nvPr/>
        </p:nvPicPr>
        <p:blipFill>
          <a:blip r:embed="rId2"/>
          <a:stretch/>
        </p:blipFill>
        <p:spPr>
          <a:xfrm>
            <a:off x="4322880" y="463680"/>
            <a:ext cx="5583240" cy="4973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5" descr="Картинка 13 из 3829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786120"/>
            <a:ext cx="3632400" cy="2714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7" descr="Картинка 12 из 4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6800" y="428760"/>
            <a:ext cx="3703680" cy="242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1" descr="Картинка 25 из 318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357120"/>
            <a:ext cx="3867120" cy="25718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big-95-205-2010-11-1111-kozlenok.jpg"/>
          <p:cNvPicPr/>
          <p:nvPr/>
        </p:nvPicPr>
        <p:blipFill>
          <a:blip r:embed="rId7"/>
          <a:stretch/>
        </p:blipFill>
        <p:spPr>
          <a:xfrm>
            <a:off x="2714760" y="2071800"/>
            <a:ext cx="3744720" cy="2428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Картинка 2 из 8754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86240" y="3857760"/>
            <a:ext cx="3468960" cy="260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4"/>
          <p:cNvGrpSpPr/>
          <p:nvPr/>
        </p:nvGrpSpPr>
        <p:grpSpPr>
          <a:xfrm>
            <a:off x="857160" y="857160"/>
            <a:ext cx="2027160" cy="2665440"/>
            <a:chOff x="857160" y="857160"/>
            <a:chExt cx="2027160" cy="2665440"/>
          </a:xfrm>
        </p:grpSpPr>
        <p:grpSp>
          <p:nvGrpSpPr>
            <p:cNvPr id="182" name="Group 5"/>
            <p:cNvGrpSpPr/>
            <p:nvPr/>
          </p:nvGrpSpPr>
          <p:grpSpPr>
            <a:xfrm>
              <a:off x="1041120" y="857160"/>
              <a:ext cx="1662120" cy="748440"/>
              <a:chOff x="1041120" y="857160"/>
              <a:chExt cx="1662120" cy="748440"/>
            </a:xfrm>
          </p:grpSpPr>
          <p:sp>
            <p:nvSpPr>
              <p:cNvPr id="183" name="Line 6"/>
              <p:cNvSpPr/>
              <p:nvPr/>
            </p:nvSpPr>
            <p:spPr>
              <a:xfrm>
                <a:off x="1041120" y="857160"/>
                <a:ext cx="0" cy="74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4" name="Line 7"/>
              <p:cNvSpPr/>
              <p:nvPr/>
            </p:nvSpPr>
            <p:spPr>
              <a:xfrm>
                <a:off x="1041120" y="857160"/>
                <a:ext cx="554040" cy="42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5" name="Line 8"/>
              <p:cNvSpPr/>
              <p:nvPr/>
            </p:nvSpPr>
            <p:spPr>
              <a:xfrm flipH="1">
                <a:off x="2149200" y="857160"/>
                <a:ext cx="461520" cy="42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Line 9"/>
              <p:cNvSpPr/>
              <p:nvPr/>
            </p:nvSpPr>
            <p:spPr>
              <a:xfrm>
                <a:off x="2611080" y="857160"/>
                <a:ext cx="92160" cy="74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10"/>
            <p:cNvGrpSpPr/>
            <p:nvPr/>
          </p:nvGrpSpPr>
          <p:grpSpPr>
            <a:xfrm>
              <a:off x="857160" y="1284840"/>
              <a:ext cx="2027160" cy="2237760"/>
              <a:chOff x="857160" y="1284840"/>
              <a:chExt cx="2027160" cy="2237760"/>
            </a:xfrm>
          </p:grpSpPr>
          <p:grpSp>
            <p:nvGrpSpPr>
              <p:cNvPr id="188" name="Group 11"/>
              <p:cNvGrpSpPr/>
              <p:nvPr/>
            </p:nvGrpSpPr>
            <p:grpSpPr>
              <a:xfrm>
                <a:off x="857160" y="1284840"/>
                <a:ext cx="2027160" cy="1605240"/>
                <a:chOff x="857160" y="1284840"/>
                <a:chExt cx="2027160" cy="1605240"/>
              </a:xfrm>
            </p:grpSpPr>
            <p:sp>
              <p:nvSpPr>
                <p:cNvPr id="189" name="Oval 12"/>
                <p:cNvSpPr/>
                <p:nvPr/>
              </p:nvSpPr>
              <p:spPr>
                <a:xfrm>
                  <a:off x="1501560" y="1819800"/>
                  <a:ext cx="1105560" cy="8557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90" name="Oval 13"/>
                <p:cNvSpPr/>
                <p:nvPr/>
              </p:nvSpPr>
              <p:spPr>
                <a:xfrm>
                  <a:off x="857160" y="1284840"/>
                  <a:ext cx="2027160" cy="1605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91" name="Oval 14"/>
              <p:cNvSpPr/>
              <p:nvPr/>
            </p:nvSpPr>
            <p:spPr>
              <a:xfrm>
                <a:off x="1317960" y="1713240"/>
                <a:ext cx="276840" cy="212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2" name="Oval 15"/>
              <p:cNvSpPr/>
              <p:nvPr/>
            </p:nvSpPr>
            <p:spPr>
              <a:xfrm>
                <a:off x="2055240" y="1713240"/>
                <a:ext cx="276840" cy="212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3" name="AutoShape 16"/>
              <p:cNvSpPr/>
              <p:nvPr/>
            </p:nvSpPr>
            <p:spPr>
              <a:xfrm>
                <a:off x="1686240" y="1926000"/>
                <a:ext cx="276840" cy="321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Oval 17"/>
              <p:cNvSpPr/>
              <p:nvPr/>
            </p:nvSpPr>
            <p:spPr>
              <a:xfrm>
                <a:off x="1630440" y="2393640"/>
                <a:ext cx="386280" cy="3074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rot="9487800">
                <a:off x="1340640" y="3008520"/>
                <a:ext cx="552960" cy="426240"/>
              </a:xfrm>
              <a:prstGeom prst="triangle">
                <a:avLst>
                  <a:gd name="adj" fmla="val 34069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rot="12157800">
                <a:off x="1727280" y="3008520"/>
                <a:ext cx="538560" cy="4262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grpSp>
        <p:nvGrpSpPr>
          <p:cNvPr id="197" name="Group 20"/>
          <p:cNvGrpSpPr/>
          <p:nvPr/>
        </p:nvGrpSpPr>
        <p:grpSpPr>
          <a:xfrm>
            <a:off x="3357720" y="3500280"/>
            <a:ext cx="2149200" cy="2490840"/>
            <a:chOff x="3357720" y="3500280"/>
            <a:chExt cx="2149200" cy="2490840"/>
          </a:xfrm>
        </p:grpSpPr>
        <p:sp>
          <p:nvSpPr>
            <p:cNvPr id="198" name="Oval 21"/>
            <p:cNvSpPr/>
            <p:nvPr/>
          </p:nvSpPr>
          <p:spPr>
            <a:xfrm>
              <a:off x="4040280" y="4366080"/>
              <a:ext cx="1172880" cy="770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Oval 22"/>
            <p:cNvSpPr/>
            <p:nvPr/>
          </p:nvSpPr>
          <p:spPr>
            <a:xfrm>
              <a:off x="3357720" y="3884400"/>
              <a:ext cx="2149200" cy="1444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Oval 23"/>
            <p:cNvSpPr/>
            <p:nvPr/>
          </p:nvSpPr>
          <p:spPr>
            <a:xfrm>
              <a:off x="3870720" y="4192200"/>
              <a:ext cx="291240" cy="275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Oval 24"/>
            <p:cNvSpPr/>
            <p:nvPr/>
          </p:nvSpPr>
          <p:spPr>
            <a:xfrm>
              <a:off x="4587480" y="4192200"/>
              <a:ext cx="307800" cy="275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AutoShape 25"/>
            <p:cNvSpPr/>
            <p:nvPr/>
          </p:nvSpPr>
          <p:spPr>
            <a:xfrm flipV="1" rot="217800">
              <a:off x="4280400" y="4883040"/>
              <a:ext cx="290520" cy="275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Line 26"/>
            <p:cNvSpPr/>
            <p:nvPr/>
          </p:nvSpPr>
          <p:spPr>
            <a:xfrm>
              <a:off x="3552840" y="3500280"/>
              <a:ext cx="0" cy="67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3552840" y="3500280"/>
              <a:ext cx="587520" cy="38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Line 28"/>
            <p:cNvSpPr/>
            <p:nvPr/>
          </p:nvSpPr>
          <p:spPr>
            <a:xfrm flipH="1">
              <a:off x="4727520" y="3500280"/>
              <a:ext cx="488880" cy="38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5216400" y="3500280"/>
              <a:ext cx="98640" cy="67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4280400" y="4468320"/>
              <a:ext cx="305640" cy="27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Line 31"/>
            <p:cNvSpPr/>
            <p:nvPr/>
          </p:nvSpPr>
          <p:spPr>
            <a:xfrm flipH="1">
              <a:off x="4280400" y="5299200"/>
              <a:ext cx="203760" cy="41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Line 32"/>
            <p:cNvSpPr/>
            <p:nvPr/>
          </p:nvSpPr>
          <p:spPr>
            <a:xfrm>
              <a:off x="4485600" y="5299200"/>
              <a:ext cx="203760" cy="41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0" name="Oval 33"/>
            <p:cNvSpPr/>
            <p:nvPr/>
          </p:nvSpPr>
          <p:spPr>
            <a:xfrm>
              <a:off x="4075560" y="5714280"/>
              <a:ext cx="305640" cy="276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1" name="Oval 34"/>
            <p:cNvSpPr/>
            <p:nvPr/>
          </p:nvSpPr>
          <p:spPr>
            <a:xfrm>
              <a:off x="4485600" y="5714280"/>
              <a:ext cx="306720" cy="276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2" name="Group 35"/>
          <p:cNvGrpSpPr/>
          <p:nvPr/>
        </p:nvGrpSpPr>
        <p:grpSpPr>
          <a:xfrm>
            <a:off x="6357960" y="1000080"/>
            <a:ext cx="1913040" cy="2401920"/>
            <a:chOff x="6357960" y="1000080"/>
            <a:chExt cx="1913040" cy="2401920"/>
          </a:xfrm>
        </p:grpSpPr>
        <p:grpSp>
          <p:nvGrpSpPr>
            <p:cNvPr id="213" name="Group 36"/>
            <p:cNvGrpSpPr/>
            <p:nvPr/>
          </p:nvGrpSpPr>
          <p:grpSpPr>
            <a:xfrm>
              <a:off x="6357960" y="1409760"/>
              <a:ext cx="1913040" cy="1542600"/>
              <a:chOff x="6357960" y="1409760"/>
              <a:chExt cx="1913040" cy="1542600"/>
            </a:xfrm>
          </p:grpSpPr>
          <p:sp>
            <p:nvSpPr>
              <p:cNvPr id="214" name="Oval 37"/>
              <p:cNvSpPr/>
              <p:nvPr/>
            </p:nvSpPr>
            <p:spPr>
              <a:xfrm>
                <a:off x="6966000" y="1923840"/>
                <a:ext cx="1043280" cy="822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15" name="Oval 38"/>
              <p:cNvSpPr/>
              <p:nvPr/>
            </p:nvSpPr>
            <p:spPr>
              <a:xfrm>
                <a:off x="6357960" y="1409760"/>
                <a:ext cx="1913040" cy="15426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16" name="Oval 39"/>
            <p:cNvSpPr/>
            <p:nvPr/>
          </p:nvSpPr>
          <p:spPr>
            <a:xfrm>
              <a:off x="6905160" y="1738080"/>
              <a:ext cx="261360" cy="288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7" name="Oval 40"/>
            <p:cNvSpPr/>
            <p:nvPr/>
          </p:nvSpPr>
          <p:spPr>
            <a:xfrm>
              <a:off x="7452360" y="1738080"/>
              <a:ext cx="236880" cy="295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18" name="Group 41"/>
            <p:cNvGrpSpPr/>
            <p:nvPr/>
          </p:nvGrpSpPr>
          <p:grpSpPr>
            <a:xfrm>
              <a:off x="6531480" y="1000080"/>
              <a:ext cx="1568520" cy="718200"/>
              <a:chOff x="6531480" y="1000080"/>
              <a:chExt cx="1568520" cy="718200"/>
            </a:xfrm>
          </p:grpSpPr>
          <p:sp>
            <p:nvSpPr>
              <p:cNvPr id="219" name="Line 42"/>
              <p:cNvSpPr/>
              <p:nvPr/>
            </p:nvSpPr>
            <p:spPr>
              <a:xfrm>
                <a:off x="6531480" y="1000080"/>
                <a:ext cx="0" cy="71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0" name="Line 43"/>
              <p:cNvSpPr/>
              <p:nvPr/>
            </p:nvSpPr>
            <p:spPr>
              <a:xfrm>
                <a:off x="6531480" y="1000080"/>
                <a:ext cx="52272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1" name="Line 44"/>
              <p:cNvSpPr/>
              <p:nvPr/>
            </p:nvSpPr>
            <p:spPr>
              <a:xfrm flipH="1">
                <a:off x="7577280" y="1000080"/>
                <a:ext cx="435600" cy="41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22" name="Line 45"/>
              <p:cNvSpPr/>
              <p:nvPr/>
            </p:nvSpPr>
            <p:spPr>
              <a:xfrm>
                <a:off x="8012880" y="1000080"/>
                <a:ext cx="87120" cy="71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23" name="Rectangle 46"/>
            <p:cNvSpPr/>
            <p:nvPr/>
          </p:nvSpPr>
          <p:spPr>
            <a:xfrm>
              <a:off x="7178400" y="2476800"/>
              <a:ext cx="271800" cy="149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4" name="Oval 47"/>
            <p:cNvSpPr/>
            <p:nvPr/>
          </p:nvSpPr>
          <p:spPr>
            <a:xfrm>
              <a:off x="7178400" y="2034000"/>
              <a:ext cx="273960" cy="29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Rectangle 48"/>
            <p:cNvSpPr/>
            <p:nvPr/>
          </p:nvSpPr>
          <p:spPr>
            <a:xfrm rot="651000">
              <a:off x="6813360" y="2919600"/>
              <a:ext cx="455400" cy="441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6" name="Rectangle 49"/>
            <p:cNvSpPr/>
            <p:nvPr/>
          </p:nvSpPr>
          <p:spPr>
            <a:xfrm rot="20929800">
              <a:off x="7360560" y="2919240"/>
              <a:ext cx="456480" cy="442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6192720" cy="6191280"/>
          </a:xfrm>
          <a:prstGeom prst="rect">
            <a:avLst/>
          </a:prstGeom>
          <a:ln w="263520">
            <a:solidFill>
              <a:srgbClr val="ff9933"/>
            </a:solidFill>
            <a:miter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6"/>
          <p:cNvSpPr/>
          <p:nvPr/>
        </p:nvSpPr>
        <p:spPr>
          <a:xfrm>
            <a:off x="2843280" y="12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9" name="Group 17"/>
          <p:cNvGrpSpPr/>
          <p:nvPr/>
        </p:nvGrpSpPr>
        <p:grpSpPr>
          <a:xfrm>
            <a:off x="1116000" y="404640"/>
            <a:ext cx="7027560" cy="5738760"/>
            <a:chOff x="1116000" y="404640"/>
            <a:chExt cx="7027560" cy="5738760"/>
          </a:xfrm>
        </p:grpSpPr>
        <p:pic>
          <p:nvPicPr>
            <p:cNvPr id="230" name="Picture 14" descr=""/>
            <p:cNvPicPr/>
            <p:nvPr/>
          </p:nvPicPr>
          <p:blipFill>
            <a:blip r:embed="rId1"/>
            <a:stretch/>
          </p:blipFill>
          <p:spPr>
            <a:xfrm>
              <a:off x="3844080" y="404640"/>
              <a:ext cx="1607760" cy="20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i-main-pic" descr="Картинка 1 из 33458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116000" y="496080"/>
              <a:ext cx="7027560" cy="5647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1928880" y="1000080"/>
            <a:ext cx="5450760" cy="5380920"/>
            <a:chOff x="1928880" y="1000080"/>
            <a:chExt cx="5450760" cy="5380920"/>
          </a:xfrm>
        </p:grpSpPr>
        <p:sp>
          <p:nvSpPr>
            <p:cNvPr id="233" name="Rectangle 3"/>
            <p:cNvSpPr/>
            <p:nvPr/>
          </p:nvSpPr>
          <p:spPr>
            <a:xfrm>
              <a:off x="1928880" y="1000080"/>
              <a:ext cx="1814760" cy="17913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006699"/>
                  </a:solidFill>
                  <a:latin typeface="Times New Roman"/>
                </a:rPr>
                <a:t>Н</a:t>
              </a:r>
              <a:endParaRPr b="0" lang="en-US" sz="7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4" name="Rectangle 4"/>
            <p:cNvSpPr/>
            <p:nvPr/>
          </p:nvSpPr>
          <p:spPr>
            <a:xfrm>
              <a:off x="5558400" y="1000080"/>
              <a:ext cx="1821240" cy="17978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743640" y="1000080"/>
              <a:ext cx="1814760" cy="17942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1928880" y="4586760"/>
              <a:ext cx="1814760" cy="17942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1928880" y="2794320"/>
              <a:ext cx="1814760" cy="179496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1bw8lg62"/>
          <p:cNvPicPr/>
          <p:nvPr/>
        </p:nvPicPr>
        <p:blipFill>
          <a:blip r:embed="rId1"/>
          <a:stretch/>
        </p:blipFill>
        <p:spPr>
          <a:xfrm>
            <a:off x="428760" y="714240"/>
            <a:ext cx="3938400" cy="2428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SUC50050"/>
          <p:cNvPicPr/>
          <p:nvPr/>
        </p:nvPicPr>
        <p:blipFill>
          <a:blip r:embed="rId2"/>
          <a:stretch/>
        </p:blipFill>
        <p:spPr>
          <a:xfrm>
            <a:off x="4775040" y="642960"/>
            <a:ext cx="3895920" cy="2500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Травяной ковер"/>
          <p:cNvPicPr/>
          <p:nvPr/>
        </p:nvPicPr>
        <p:blipFill>
          <a:blip r:embed="rId3"/>
          <a:stretch/>
        </p:blipFill>
        <p:spPr>
          <a:xfrm>
            <a:off x="428760" y="3673440"/>
            <a:ext cx="3929040" cy="2405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Февральские кружева"/>
          <p:cNvPicPr/>
          <p:nvPr/>
        </p:nvPicPr>
        <p:blipFill>
          <a:blip r:embed="rId4"/>
          <a:stretch/>
        </p:blipFill>
        <p:spPr>
          <a:xfrm>
            <a:off x="4857840" y="3786120"/>
            <a:ext cx="395928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моги поросенку найти свой домик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1181160" cy="17892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1055880" cy="1658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931680" cy="17161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4"/>
          <a:stretch/>
        </p:blipFill>
        <p:spPr>
          <a:xfrm>
            <a:off x="6732720" y="1125360"/>
            <a:ext cx="1655640" cy="1625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5"/>
          <a:stretch/>
        </p:blipFill>
        <p:spPr>
          <a:xfrm>
            <a:off x="6804000" y="299736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6"/>
          <a:stretch/>
        </p:blipFill>
        <p:spPr>
          <a:xfrm>
            <a:off x="6443640" y="4797360"/>
            <a:ext cx="2089080" cy="173196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20"/>
          <p:cNvSpPr/>
          <p:nvPr/>
        </p:nvSpPr>
        <p:spPr>
          <a:xfrm>
            <a:off x="1763640" y="1916280"/>
            <a:ext cx="5256360" cy="432108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Freeform 22"/>
          <p:cNvSpPr/>
          <p:nvPr/>
        </p:nvSpPr>
        <p:spPr>
          <a:xfrm>
            <a:off x="1547640" y="1700280"/>
            <a:ext cx="5329440" cy="441648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Freeform 24"/>
          <p:cNvSpPr/>
          <p:nvPr/>
        </p:nvSpPr>
        <p:spPr>
          <a:xfrm>
            <a:off x="1763640" y="1916280"/>
            <a:ext cx="4969080" cy="4573440"/>
          </a:xfrm>
          <a:prstGeom prst="pie">
            <a:avLst/>
          </a:prstGeom>
          <a:noFill/>
          <a:ln w="3168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9:58:02Z</dcterms:created>
  <dc:creator>Артем</dc:creator>
  <dc:description/>
  <dc:language>en-US</dc:language>
  <cp:lastModifiedBy>User</cp:lastModifiedBy>
  <dcterms:modified xsi:type="dcterms:W3CDTF">2012-02-03T07:12:16Z</dcterms:modified>
  <cp:revision>22</cp:revision>
  <dc:subject/>
  <dc:title>Слайд 1</dc:title>
</cp:coreProperties>
</file>