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A15AB-D479-440C-A816-FAC5F1A45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AA9D8-61BC-46D4-97AD-29E8EDD1A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1D679-40E3-4B35-9F04-A5F33D347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4AAD2-B435-4579-A658-ABA057B31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00179-DA36-45F2-B498-D6B7AE117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938E9-07E3-4048-998C-A53074774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5C937-C1C7-41CA-A845-5591A150B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4113D-A323-4F57-970D-D2B9F6B10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8F34D-1425-4C70-82AB-03A950A6C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DB7E4-7492-48E8-9787-3573E0C19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3B632-F8A9-4A36-8943-81CB8EF76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0E116-2223-4902-9A0C-C41AB2481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A5E21-8176-43E4-B6A9-1F5FDF446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F807C-42D2-4B90-B015-9BCD4791B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729EC-4681-48FA-B869-1A3F1B71B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F3DE8-6241-42D3-9417-9D7AAE3BB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57B9F-CACA-425F-883D-198FFAF32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07979-9388-4E3C-B6C5-D2B34402F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93C8B-27DC-46C3-83A0-E6766C5A7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00221-E3E7-4873-84B2-7DD055841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45031-FC37-49CB-A028-9F8EAC000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1D2E4-771D-40DC-872B-CE0BAEA7A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EAEEC-90B3-4135-AFB9-EBE05EDC8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C3DA7-C10D-4C91-8D55-515EDF8B5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prstGeom prst="pie">
              <a:avLst/>
            </a:pr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prstGeom prst="pie">
              <a:avLst/>
            </a:pr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3400" y="6173640"/>
                <a:ext cx="196560" cy="2523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61400" y="6514560"/>
                <a:ext cx="336600" cy="2098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280" y="6411600"/>
                <a:ext cx="352080" cy="1065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prstGeom prst="pie">
              <a:avLst/>
            </a:pr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6B189-0912-4C3B-9631-25820811B81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51120" cy="6858000"/>
            <a:chOff x="-20160" y="0"/>
            <a:chExt cx="905112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407560" y="63360"/>
              <a:ext cx="3623400" cy="6129000"/>
              <a:chOff x="5407560" y="63360"/>
              <a:chExt cx="3623400" cy="612900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2600" y="348840"/>
                <a:ext cx="2115360" cy="23572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21760" y="1961280"/>
                <a:ext cx="906120" cy="8431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7040" y="2593440"/>
                <a:ext cx="439200" cy="3952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52200" y="675360"/>
                <a:ext cx="388800" cy="5511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55720" y="2644560"/>
                <a:ext cx="163440" cy="3319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41320" y="1241640"/>
                <a:ext cx="190080" cy="1429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38200" y="2930400"/>
                <a:ext cx="523440" cy="326844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3480" y="3106800"/>
              <a:ext cx="512280" cy="10303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400" y="2000160"/>
              <a:ext cx="1998360" cy="24321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1160" cy="7286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4520" y="4532400"/>
              <a:ext cx="561600" cy="7365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7560" y="4728960"/>
              <a:ext cx="137880" cy="43488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88920" y="5195880"/>
              <a:ext cx="1758600" cy="16621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49720" y="1033560"/>
              <a:ext cx="1015200" cy="1262160"/>
              <a:chOff x="4149720" y="1033560"/>
              <a:chExt cx="1015200" cy="126216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63720" y="1071360"/>
                <a:ext cx="285840" cy="378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48680" y="1604520"/>
                <a:ext cx="488880" cy="3142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09760" y="1962000"/>
                <a:ext cx="511200" cy="1602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54160" y="293040"/>
              <a:ext cx="889200" cy="834120"/>
              <a:chOff x="5654160" y="293040"/>
              <a:chExt cx="889200" cy="83412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65760" y="796680"/>
                <a:ext cx="178560" cy="3618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14280" y="476280"/>
                <a:ext cx="306000" cy="300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53560" y="393480"/>
                <a:ext cx="320040" cy="153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60840" y="5253480"/>
              <a:ext cx="1062720" cy="834840"/>
              <a:chOff x="960840" y="5253480"/>
              <a:chExt cx="1062720" cy="83484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706760" y="5522040"/>
                <a:ext cx="250920" cy="3002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89800" y="5733360"/>
                <a:ext cx="429480" cy="2491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52200" y="5378040"/>
                <a:ext cx="448920" cy="126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75840" y="451080"/>
              <a:ext cx="1690200" cy="1146600"/>
              <a:chOff x="375840" y="451080"/>
              <a:chExt cx="1690200" cy="114660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76080" y="1069560"/>
                <a:ext cx="355320" cy="53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22760" y="594720"/>
                <a:ext cx="608400" cy="44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78640" y="1108440"/>
                <a:ext cx="636120" cy="2239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377480" y="3712320"/>
              <a:ext cx="1156320" cy="1607760"/>
              <a:chOff x="7377480" y="3712320"/>
              <a:chExt cx="1156320" cy="160776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32200" y="4755960"/>
                <a:ext cx="355320" cy="53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882920" y="4455360"/>
                <a:ext cx="608400" cy="44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575840" y="3781440"/>
                <a:ext cx="636120" cy="2239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1760" y="3240"/>
              <a:ext cx="1368000" cy="140652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25040" y="161280"/>
              <a:ext cx="1080720" cy="9414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69080" y="1361160"/>
              <a:ext cx="523440" cy="4410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29440" y="1282320"/>
              <a:ext cx="195120" cy="37044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4120" y="0"/>
              <a:ext cx="196560" cy="19224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48800" y="1963800"/>
              <a:ext cx="623520" cy="365148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6880" cy="2095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67A05-A575-42B5-B0A2-0FCA8A08881F}" type="slidenum">
              <a:rPr b="0" lang="ru-RU" sz="1400" spc="-1" strike="noStrike">
                <a:solidFill>
                  <a:srgbClr val="00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28440" y="999720"/>
            <a:ext cx="7389720" cy="1670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0000"/>
                </a:solidFill>
                <a:latin typeface="Comic Sans MS"/>
              </a:rPr>
              <a:t>В чём заключается формула успеха?</a:t>
            </a:r>
            <a:endParaRPr b="0" lang="en-US" sz="5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5148000" y="4149360"/>
            <a:ext cx="381636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mic Sans MS"/>
              </a:rPr>
              <a:t>Выполнила: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mic Sans MS"/>
              </a:rPr>
              <a:t>Михайлова Анастасия, воспитанница студии «Дебют»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69" name="Picture 4" descr="123"/>
          <p:cNvPicPr/>
          <p:nvPr/>
        </p:nvPicPr>
        <p:blipFill>
          <a:blip r:embed="rId2"/>
          <a:stretch/>
        </p:blipFill>
        <p:spPr>
          <a:xfrm rot="21234000">
            <a:off x="684000" y="3644640"/>
            <a:ext cx="3457440" cy="214776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500"/>
                            </p:stCondLst>
                            <p:childTnLst>
                              <p:par>
                                <p:cTn id="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42800" y="499680"/>
            <a:ext cx="8244000" cy="91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3333ff"/>
                </a:solidFill>
                <a:latin typeface="Comic Sans MS"/>
              </a:rPr>
              <a:t>Информационные ресурсы: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www</a:t>
            </a:r>
            <a:r>
              <a:rPr b="0" i="1" lang="ru-RU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koipkro</a:t>
            </a:r>
            <a:r>
              <a:rPr b="0" i="1" lang="ru-RU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ru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www</a:t>
            </a:r>
            <a:r>
              <a:rPr b="0" i="1" lang="ru-RU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powerclip</a:t>
            </a:r>
            <a:r>
              <a:rPr b="0" i="1" lang="ru-RU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ru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mic Sans MS"/>
              </a:rPr>
              <a:t>Фотографии из личного архива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0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1000"/>
                            </p:stCondLst>
                            <p:childTnLst>
                              <p:par>
                                <p:cTn id="2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1500"/>
                            </p:stCondLst>
                            <p:childTnLst>
                              <p:par>
                                <p:cTn id="29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2000"/>
                            </p:stCondLst>
                            <p:childTnLst>
                              <p:par>
                                <p:cTn id="3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468000" y="620640"/>
            <a:ext cx="510372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Comic Sans MS"/>
              </a:rPr>
              <a:t>Знаменитый американский философ успеха, миллионер Джим Рон сказал потрясающую фразу: «Если вы сегодня делаете то же, что и вчера, то завтра вы будете иметь то же, что и сегодня».</a:t>
            </a:r>
            <a:r>
              <a:rPr b="1" i="1" lang="ru-RU" sz="3200" spc="-1" strike="noStrike">
                <a:solidFill>
                  <a:srgbClr val="006699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1" name="Picture 4" descr="84_rohn--"/>
          <p:cNvPicPr/>
          <p:nvPr/>
        </p:nvPicPr>
        <p:blipFill>
          <a:blip r:embed="rId2"/>
          <a:stretch/>
        </p:blipFill>
        <p:spPr>
          <a:xfrm>
            <a:off x="6143760" y="1071720"/>
            <a:ext cx="2687400" cy="329544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5" descr="normal_30ab79c0e3388b9a622005adda906470"/>
          <p:cNvPicPr/>
          <p:nvPr/>
        </p:nvPicPr>
        <p:blipFill>
          <a:blip r:embed="rId1"/>
          <a:stretch/>
        </p:blipFill>
        <p:spPr>
          <a:xfrm rot="792000">
            <a:off x="7164000" y="3429000"/>
            <a:ext cx="1666800" cy="207504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500040" y="571680"/>
            <a:ext cx="8012160" cy="564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173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1" i="1" lang="ru-RU" sz="2800" spc="-1" strike="noStrike">
                <a:solidFill>
                  <a:srgbClr val="3333ff"/>
                </a:solidFill>
                <a:latin typeface="Comic Sans MS"/>
              </a:rPr>
              <a:t>Секретная формула достижения успеха: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5173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5173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omic Sans MS"/>
              </a:rPr>
              <a:t>В принципе, особого секрета в ней нет, но если научиться жить в соответствии с этой формулой, жизнь становится и проще, и результативнее.</a:t>
            </a:r>
            <a:br>
              <a:rPr sz="2800"/>
            </a:b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5173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33ff"/>
                </a:solidFill>
                <a:latin typeface="Comic Sans MS"/>
              </a:rPr>
              <a:t>      </a:t>
            </a:r>
            <a:r>
              <a:rPr b="1" i="1" lang="ru-RU" sz="2800" spc="-1" strike="noStrike">
                <a:solidFill>
                  <a:srgbClr val="3333ff"/>
                </a:solidFill>
                <a:latin typeface="Comic Sans MS"/>
              </a:rPr>
              <a:t>Вот она: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517320" indent="-51732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omic Sans MS"/>
              </a:rPr>
              <a:t>Нужно иметь огромное желание;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517320" indent="-51732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omic Sans MS"/>
              </a:rPr>
              <a:t>Нужно поверить в себя;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517320" indent="-51732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omic Sans MS"/>
              </a:rPr>
              <a:t>Общаться с интересными людьми;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517320" indent="-51732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omic Sans MS"/>
              </a:rPr>
              <a:t>Изменить свои привычки;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517320" indent="-51732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omic Sans MS"/>
              </a:rPr>
              <a:t>Анализировать и корректировать.              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5173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omic Sans MS"/>
              </a:rPr>
              <a:t>                                   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comb dir="horz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000"/>
                            </p:stCondLst>
                            <p:childTnLst>
                              <p:par>
                                <p:cTn id="4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2000"/>
                            </p:stCondLst>
                            <p:childTnLst>
                              <p:par>
                                <p:cTn id="5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3000"/>
                            </p:stCondLst>
                            <p:childTnLst>
                              <p:par>
                                <p:cTn id="6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4000"/>
                            </p:stCondLst>
                            <p:childTnLst>
                              <p:par>
                                <p:cTn id="6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5000"/>
                            </p:stCondLst>
                            <p:childTnLst>
                              <p:par>
                                <p:cTn id="7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6000"/>
                            </p:stCondLst>
                            <p:childTnLst>
                              <p:par>
                                <p:cTn id="7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7000"/>
                            </p:stCondLst>
                            <p:childTnLst>
                              <p:par>
                                <p:cTn id="8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28400" y="428400"/>
            <a:ext cx="824364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33ff"/>
                </a:solidFill>
                <a:latin typeface="Comic Sans MS"/>
              </a:rPr>
              <a:t>План проведения исследования: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28760" y="2214360"/>
            <a:ext cx="8229600" cy="368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mic Sans MS"/>
              </a:rPr>
              <a:t>Проведём мониторинг своей творческой деятельности в студии «Дебют» с момента поступления до настоящего времени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mic Sans MS"/>
              </a:rPr>
              <a:t>Выявим уровень своих достижений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mic Sans MS"/>
              </a:rPr>
              <a:t>Сделаем вывод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comb dir="horz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8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8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8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8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1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3000"/>
                            </p:stCondLst>
                            <p:childTnLst>
                              <p:par>
                                <p:cTn id="12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428760" y="856800"/>
            <a:ext cx="8229600" cy="23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mic Sans MS"/>
              </a:rPr>
              <a:t>Кто из нас не мечтает добиться успеха? Наверное есть и такие, но уверена, их немного. А что же такое успех? Думаю, что Вы со мной согласитесь, если я скажу, что в принципе, </a:t>
            </a:r>
            <a:r>
              <a:rPr b="1" i="1" lang="ru-RU" sz="2400" spc="-1" strike="noStrike">
                <a:solidFill>
                  <a:srgbClr val="0070c0"/>
                </a:solidFill>
                <a:latin typeface="Comic Sans MS"/>
              </a:rPr>
              <a:t>успех – это мечта, которая исполнилась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7" name="Picture 5" descr="P1070669"/>
          <p:cNvPicPr/>
          <p:nvPr/>
        </p:nvPicPr>
        <p:blipFill>
          <a:blip r:embed="rId1"/>
          <a:stretch/>
        </p:blipFill>
        <p:spPr>
          <a:xfrm rot="21269400">
            <a:off x="712440" y="3625920"/>
            <a:ext cx="2913120" cy="24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4" descr="P1000358"/>
          <p:cNvPicPr/>
          <p:nvPr/>
        </p:nvPicPr>
        <p:blipFill>
          <a:blip r:embed="rId2"/>
          <a:stretch/>
        </p:blipFill>
        <p:spPr>
          <a:xfrm rot="229800">
            <a:off x="5362200" y="3562200"/>
            <a:ext cx="3265560" cy="2449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1" dur="10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5" descr="i-4"/>
          <p:cNvPicPr/>
          <p:nvPr/>
        </p:nvPicPr>
        <p:blipFill>
          <a:blip r:embed="rId1"/>
          <a:stretch/>
        </p:blipFill>
        <p:spPr>
          <a:xfrm rot="286200">
            <a:off x="5312880" y="3777840"/>
            <a:ext cx="3338640" cy="250524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214200" y="428400"/>
            <a:ext cx="8229600" cy="58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mic Sans MS"/>
              </a:rPr>
              <a:t>Могу сказать, что моя мечта исполнилась. Два года назад я пришла в студию «Дебют». Очень переживала из-за того, что коллектив сложившийся и новичку будут, мягко говоря, не рады. Но всё получилось как раз наоборот . Приняли, поддержали, научили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mic Sans MS"/>
              </a:rPr>
              <a:t>Я люблю сцену, зрителей, аплодисменты, музыку, танцы и, благодаря «Дебюту», </a:t>
            </a:r>
            <a:r>
              <a:rPr b="0" i="1" lang="ru-RU" sz="2400" spc="-1" strike="noStrike">
                <a:solidFill>
                  <a:srgbClr val="3333ff"/>
                </a:solidFill>
                <a:latin typeface="Comic Sans MS"/>
              </a:rPr>
              <a:t>моя мечта исполнилась.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mic Sans MS"/>
              </a:rPr>
              <a:t>А это значит – первая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mic Sans MS"/>
              </a:rPr>
              <a:t>составляющая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mic Sans MS"/>
              </a:rPr>
              <a:t>формулы успеха состоялась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1000"/>
                            </p:stCondLst>
                            <p:childTnLst>
                              <p:par>
                                <p:cTn id="15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2000"/>
                            </p:stCondLst>
                            <p:childTnLst>
                              <p:par>
                                <p:cTn id="15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3000"/>
                            </p:stCondLst>
                            <p:childTnLst>
                              <p:par>
                                <p:cTn id="16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4000"/>
                            </p:stCondLst>
                            <p:childTnLst>
                              <p:par>
                                <p:cTn id="16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5000"/>
                            </p:stCondLst>
                            <p:childTnLst>
                              <p:par>
                                <p:cTn id="17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285840" y="333000"/>
            <a:ext cx="8501040" cy="17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mic Sans MS"/>
              </a:rPr>
              <a:t>С самого детства я занималась синхронным плаванием, хореографией, спортивными танцами. Студия «Дебют» - это синтез всех тех начинаний, которыми я увлекалась.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82" name="Picture 5" descr="P1070229"/>
          <p:cNvPicPr/>
          <p:nvPr/>
        </p:nvPicPr>
        <p:blipFill>
          <a:blip r:embed="rId1"/>
          <a:stretch/>
        </p:blipFill>
        <p:spPr>
          <a:xfrm rot="21048000">
            <a:off x="500040" y="3580920"/>
            <a:ext cx="3317760" cy="2487600"/>
          </a:xfrm>
          <a:prstGeom prst="rect">
            <a:avLst/>
          </a:prstGeom>
          <a:ln w="0">
            <a:noFill/>
          </a:ln>
        </p:spPr>
      </p:pic>
      <p:sp>
        <p:nvSpPr>
          <p:cNvPr id="183" name="Прямоугольник 6"/>
          <p:cNvSpPr/>
          <p:nvPr/>
        </p:nvSpPr>
        <p:spPr>
          <a:xfrm>
            <a:off x="4143240" y="3143160"/>
            <a:ext cx="47149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mic Sans MS"/>
              </a:rPr>
              <a:t>С каждым новым танцем, новым проектом  я иду к исполнению своей мечты, а значит реализую ещё одну составляющую формулы успеха: </a:t>
            </a:r>
            <a:r>
              <a:rPr b="1" i="1" lang="ru-RU" sz="2400" spc="-1" strike="noStrike">
                <a:solidFill>
                  <a:srgbClr val="0070c0"/>
                </a:solidFill>
                <a:latin typeface="Comic Sans MS"/>
              </a:rPr>
              <a:t>поверить в себя, в свои силы, в свой успех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4" name="Прямоугольник 7"/>
          <p:cNvSpPr/>
          <p:nvPr/>
        </p:nvSpPr>
        <p:spPr>
          <a:xfrm>
            <a:off x="357120" y="1951200"/>
            <a:ext cx="814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mic Sans MS"/>
              </a:rPr>
              <a:t>Сцена, зрители научили меня быть раскрепощённой.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1000"/>
                            </p:stCondLst>
                            <p:childTnLst>
                              <p:par>
                                <p:cTn id="18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2000"/>
                            </p:stCondLst>
                            <p:childTnLst>
                              <p:par>
                                <p:cTn id="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8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8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8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8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457200" y="83664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mic Sans MS"/>
              </a:rPr>
              <a:t>Одна из составляющих формулы успеха: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indent="339480" algn="just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mic Sans MS"/>
              </a:rPr>
              <a:t>планировать достижение,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indent="339480" algn="just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mic Sans MS"/>
              </a:rPr>
              <a:t>изменить свои привычки,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indent="339480" algn="just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mic Sans MS"/>
              </a:rPr>
              <a:t>анализировать,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indent="339480" algn="just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mic Sans MS"/>
              </a:rPr>
              <a:t>общаться с интересными для тебя людьми.                                                                                             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mic Sans MS"/>
              </a:rPr>
              <a:t>Ежедневные занятия в студии «Дебют» помогли мне стать более организованной и пунктуальной. Общение в «Дебюте» - это почти главное, для чего я ежедневно спешу на занятия. А планировать и анализировать мы учимся на деле. Отсюда следует ещё один очень важный компонент формулы успеха – действие.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70c0"/>
                </a:solidFill>
                <a:latin typeface="Comic Sans MS"/>
              </a:rPr>
              <a:t>Нельзя ждать, надо действовать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10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1000"/>
                            </p:stCondLst>
                            <p:childTnLst>
                              <p:par>
                                <p:cTn id="2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100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1000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3000"/>
                            </p:stCondLst>
                            <p:childTnLst>
                              <p:par>
                                <p:cTn id="22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1000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4000"/>
                            </p:stCondLst>
                            <p:childTnLst>
                              <p:par>
                                <p:cTn id="23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1000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5000"/>
                            </p:stCondLst>
                            <p:childTnLst>
                              <p:par>
                                <p:cTn id="23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1000"/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6000"/>
                            </p:stCondLst>
                            <p:childTnLst>
                              <p:par>
                                <p:cTn id="23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1000"/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44000" cy="725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33ff"/>
                </a:solidFill>
                <a:latin typeface="Comic Sans MS"/>
              </a:rPr>
              <a:t>Вывод: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71680" y="999720"/>
            <a:ext cx="822960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i="1" lang="ru-RU" sz="2000" spc="-1" strike="noStrike">
                <a:solidFill>
                  <a:srgbClr val="000000"/>
                </a:solidFill>
                <a:latin typeface="Comic Sans MS"/>
              </a:rPr>
              <a:t>Люди, достигшие успеха в жизни, часто слышат от неудачников – повезло. Да, повезло, повезло найти в себе силы пройти этот путь - от мечты до её исполнения.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Кто не мечтает об успехе, тот не находится даже в начале этого пути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omic Sans MS"/>
              </a:rPr>
              <a:t>Вот мы с вами плавно и постепенно подошли собственно к самой формуле. Итак..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99"/>
                </a:solidFill>
                <a:latin typeface="Comic Sans MS"/>
              </a:rPr>
              <a:t>Формула успеха: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6699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Comic Sans MS"/>
              </a:rPr>
              <a:t>Результат = (Событие + Ваша реакция)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6699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omic Sans MS"/>
              </a:rPr>
              <a:t>Иными словами, результат в Вашей жизни определяется не событиями, с Вами происходящими, а суммой этих событий с Вашей реакцией на них.</a:t>
            </a:r>
            <a:r>
              <a:rPr b="0" i="1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Comic Sans MS"/>
              </a:rPr>
              <a:t>Если следовать этой формуле,  успех гарантирован!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i="1" lang="ru-RU" sz="2800" spc="-1" strike="noStrike">
                <a:solidFill>
                  <a:srgbClr val="3333ff"/>
                </a:solidFill>
                <a:latin typeface="Comic Sans MS"/>
              </a:rPr>
              <a:t>Желаю удачи и… </a:t>
            </a:r>
            <a:r>
              <a:rPr b="1" i="1" lang="ru-RU" sz="2800" spc="-1" strike="noStrike">
                <a:solidFill>
                  <a:srgbClr val="ff0000"/>
                </a:solidFill>
                <a:latin typeface="Comic Sans MS"/>
              </a:rPr>
              <a:t>успеха!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0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2000"/>
                            </p:stCondLst>
                            <p:childTnLst>
                              <p:par>
                                <p:cTn id="2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" dur="10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3000"/>
                            </p:stCondLst>
                            <p:childTnLst>
                              <p:par>
                                <p:cTn id="2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10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4000"/>
                            </p:stCondLst>
                            <p:childTnLst>
                              <p:par>
                                <p:cTn id="2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1000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5000"/>
                            </p:stCondLst>
                            <p:childTnLst>
                              <p:par>
                                <p:cTn id="2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1000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6000"/>
                            </p:stCondLst>
                            <p:childTnLst>
                              <p:par>
                                <p:cTn id="2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" dur="2000"/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8000"/>
                            </p:stCondLst>
                            <p:childTnLst>
                              <p:par>
                                <p:cTn id="2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2000"/>
                                        <p:tgtEl>
                                          <p:spTgt spid="1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" dur="2000"/>
                                        <p:tgtEl>
                                          <p:spTgt spid="1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12000"/>
                            </p:stCondLst>
                            <p:childTnLst>
                              <p:par>
                                <p:cTn id="277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78" dur="2000" fill="hold"/>
                                        <p:tgtEl>
                                          <p:spTgt spid="1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1T09:57:40Z</dcterms:created>
  <dc:creator>User</dc:creator>
  <dc:description/>
  <dc:language>en-US</dc:language>
  <cp:lastModifiedBy>Вова и Соня</cp:lastModifiedBy>
  <dcterms:modified xsi:type="dcterms:W3CDTF">2009-02-01T15:08:55Z</dcterms:modified>
  <cp:revision>16</cp:revision>
  <dc:subject/>
  <dc:title>Секрет успеха прост – достань рукой до «звёзд»»</dc:title>
</cp:coreProperties>
</file>