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EC5-498B-4927-BA60-8A8828EF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E52-BAD1-417B-A328-F679D41F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1CC-4970-4214-8D17-92FBF2C3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C7D-C803-43B3-8B31-A76FF5C6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FB96-88F4-430B-8422-2B31FD12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D7D6-1F8B-424F-92A7-70F24EC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0034-88AF-4D4C-A5E4-77298C9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1411-8788-49BC-9206-A1AD583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195E-E617-406C-9B7D-E5BCAE8B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B69C-66F7-4E94-BAB7-7080DD94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942F-BA5C-4F5A-98B8-0B76153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1B8-6FFE-40A6-8BE1-D6993820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0F12-02BF-43CA-955D-9CB1836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E9E6-6C20-44DA-A5A2-CBEEAFA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FBDE-EABC-4F90-967F-AA7B5963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9FF6-0F1E-4F88-84AF-9E02FE79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B0E1-E091-4ABA-8CCE-C3D29FDE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C75-A61A-4C70-A4E2-85DCBC85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FF8-DD56-4605-BE69-B61F6EEE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CE1-43EA-4CE5-A7F6-AB4CB12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A85-E44F-486F-84F5-782CCC80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E67-1D23-4BB5-A042-1CBAEF9A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8D0-1B9A-420E-A7A1-CB582431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CE6-4FB9-4DE9-B5E3-C0DA612C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BA4-D953-4DFF-8612-0ACAE6C80C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A67E-94A8-445A-8213-2CBCC3048CA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8440" y="999720"/>
            <a:ext cx="7389720" cy="16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mic Sans MS"/>
              </a:rPr>
              <a:t>В чём заключается формула успеха?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148000" y="4149360"/>
            <a:ext cx="3816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ыполнил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ихайлова Анастасия, воспитанница студии «Дебют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123"/>
          <p:cNvPicPr/>
          <p:nvPr/>
        </p:nvPicPr>
        <p:blipFill>
          <a:blip r:embed="rId2"/>
          <a:stretch/>
        </p:blipFill>
        <p:spPr>
          <a:xfrm rot="21234000">
            <a:off x="684000" y="3644640"/>
            <a:ext cx="3457440" cy="2147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49968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Comic Sans MS"/>
              </a:rPr>
              <a:t>Информационные ресурс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koipkro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owerclip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Фотографии из личного архив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5103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Знаменитый американский философ успеха, миллионер Джим Рон сказал потрясающую фразу: «Если вы сегодня делаете то же, что и вчера, то завтра вы будете иметь то же, что и сегодня».</a:t>
            </a:r>
            <a:r>
              <a:rPr b="1" i="1" lang="ru-RU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4" descr="84_rohn--"/>
          <p:cNvPicPr/>
          <p:nvPr/>
        </p:nvPicPr>
        <p:blipFill>
          <a:blip r:embed="rId2"/>
          <a:stretch/>
        </p:blipFill>
        <p:spPr>
          <a:xfrm>
            <a:off x="6143760" y="1071720"/>
            <a:ext cx="2687400" cy="3295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normal_30ab79c0e3388b9a622005adda906470"/>
          <p:cNvPicPr/>
          <p:nvPr/>
        </p:nvPicPr>
        <p:blipFill>
          <a:blip r:embed="rId1"/>
          <a:stretch/>
        </p:blipFill>
        <p:spPr>
          <a:xfrm rot="792000">
            <a:off x="7164000" y="3429000"/>
            <a:ext cx="1666800" cy="2075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012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ru-RU" sz="2800" spc="-1" strike="noStrike">
                <a:solidFill>
                  <a:srgbClr val="3333ff"/>
                </a:solidFill>
                <a:latin typeface="Comic Sans MS"/>
              </a:rPr>
              <a:t>Секретная формула достижения успех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 принципе, особого секрета в ней нет, но если научиться жить в соответствии с этой формулой, жизнь становится и проще, и результативнее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      </a:t>
            </a:r>
            <a:r>
              <a:rPr b="1" i="1" lang="ru-RU" sz="2800" spc="-1" strike="noStrike">
                <a:solidFill>
                  <a:srgbClr val="3333ff"/>
                </a:solidFill>
                <a:latin typeface="Comic Sans MS"/>
              </a:rPr>
              <a:t>Вот он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ужно иметь огромное жела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ужно поверить в себ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бщаться с интересными людьм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Изменить свои привычк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нализировать и корректировать.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Comic Sans MS"/>
              </a:rPr>
              <a:t>План проведения исследова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8760" y="221436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роведём мониторинг своей творческой деятельности в студии «Дебют» с момента поступления до настоящего врем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ыявим уровень своих достижен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делаем выв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28760" y="85680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то из нас не мечтает добиться успеха? Наверное есть и такие, но уверена, их немного. А что же такое успех? Думаю, что Вы со мной согласитесь, если я скажу, что в принципе, </a:t>
            </a:r>
            <a:r>
              <a:rPr b="1" i="1" lang="ru-RU" sz="2400" spc="-1" strike="noStrike">
                <a:solidFill>
                  <a:srgbClr val="0070c0"/>
                </a:solidFill>
                <a:latin typeface="Comic Sans MS"/>
              </a:rPr>
              <a:t>успех – это мечта, которая исполнила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5" descr="P1070669"/>
          <p:cNvPicPr/>
          <p:nvPr/>
        </p:nvPicPr>
        <p:blipFill>
          <a:blip r:embed="rId1"/>
          <a:stretch/>
        </p:blipFill>
        <p:spPr>
          <a:xfrm rot="21269400">
            <a:off x="712440" y="3625920"/>
            <a:ext cx="2913120" cy="24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P1000358"/>
          <p:cNvPicPr/>
          <p:nvPr/>
        </p:nvPicPr>
        <p:blipFill>
          <a:blip r:embed="rId2"/>
          <a:stretch/>
        </p:blipFill>
        <p:spPr>
          <a:xfrm rot="229800">
            <a:off x="5362200" y="3562200"/>
            <a:ext cx="3265560" cy="24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i-4"/>
          <p:cNvPicPr/>
          <p:nvPr/>
        </p:nvPicPr>
        <p:blipFill>
          <a:blip r:embed="rId1"/>
          <a:stretch/>
        </p:blipFill>
        <p:spPr>
          <a:xfrm rot="286200">
            <a:off x="5312880" y="3777840"/>
            <a:ext cx="3338640" cy="2505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2296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огу сказать, что моя мечта исполнилась. Два года назад я пришла в студию «Дебют». Очень переживала из-за того, что коллектив сложившийся и новичку будут, мягко говоря, не рады. Но всё получилось как раз наоборот . Приняли, поддержали, научи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Я люблю сцену, зрителей, аплодисменты, музыку, танцы и, благодаря «Дебюту», </a:t>
            </a:r>
            <a:r>
              <a:rPr b="0" i="1" lang="ru-RU" sz="2400" spc="-1" strike="noStrike">
                <a:solidFill>
                  <a:srgbClr val="3333ff"/>
                </a:solidFill>
                <a:latin typeface="Comic Sans MS"/>
              </a:rPr>
              <a:t>моя мечта исполнилась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 это значит – перв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оставляющ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формулы успеха состояла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85840" y="333000"/>
            <a:ext cx="850104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самого детства я занималась синхронным плаванием, хореографией, спортивными танцами. Студия «Дебют» - это синтез всех тех начинаний, которыми я увлекалась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5" descr="P1070229"/>
          <p:cNvPicPr/>
          <p:nvPr/>
        </p:nvPicPr>
        <p:blipFill>
          <a:blip r:embed="rId1"/>
          <a:stretch/>
        </p:blipFill>
        <p:spPr>
          <a:xfrm rot="21048000">
            <a:off x="500040" y="3580920"/>
            <a:ext cx="3317760" cy="24876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6"/>
          <p:cNvSpPr/>
          <p:nvPr/>
        </p:nvSpPr>
        <p:spPr>
          <a:xfrm>
            <a:off x="4143240" y="314316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ждым новым танцем, новым проектом  я иду к исполнению своей мечты, а значит реализую ещё одну составляющую формулы успеха: </a:t>
            </a:r>
            <a:r>
              <a:rPr b="1" i="1" lang="ru-RU" sz="2400" spc="-1" strike="noStrike">
                <a:solidFill>
                  <a:srgbClr val="0070c0"/>
                </a:solidFill>
                <a:latin typeface="Comic Sans MS"/>
              </a:rPr>
              <a:t>поверить в себя, в свои силы, в свой успе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Прямоугольник 7"/>
          <p:cNvSpPr/>
          <p:nvPr/>
        </p:nvSpPr>
        <p:spPr>
          <a:xfrm>
            <a:off x="357120" y="1951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цена, зрители научили меня быть раскрепощённо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дна из составляющих формулы успеха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33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ланировать достижение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33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изменить свои привычки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33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нализировать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33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бщаться с интересными для тебя людьми.                                                               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Ежедневные занятия в студии «Дебют» помогли мне стать более организованной и пунктуальной. Общение в «Дебюте» - это почти главное, для чего я ежедневно спешу на занятия. А планировать и анализировать мы учимся на деле. Отсюда следует ещё один очень важный компонент формулы успеха – действи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omic Sans MS"/>
              </a:rPr>
              <a:t>Нельзя ждать, надо действова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9997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Люди, достигшие успеха в жизни, часто слышат от неудачников – повезло. Да, повезло, повезло найти в себе силы пройти этот путь - от мечты до её исполне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Кто не мечтает об успехе, тот не находится даже в начале этого пу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от мы с вами плавно и постепенно подошли собственно к самой формуле. Итак..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Comic Sans MS"/>
              </a:rPr>
              <a:t>Формула успех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Результат = (Событие + Ваша реакция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Иными словами, результат в Вашей жизни определяется не событиями, с Вами происходящими, а суммой этих событий с Вашей реакцией на них.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Если следовать этой формуле,  успех гарантирован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ff"/>
                </a:solidFill>
                <a:latin typeface="Comic Sans MS"/>
              </a:rPr>
              <a:t>Желаю удачи и…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успеха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9:57:40Z</dcterms:created>
  <dc:creator>User</dc:creator>
  <dc:description/>
  <dc:language>en-US</dc:language>
  <cp:lastModifiedBy>Вова и Соня</cp:lastModifiedBy>
  <dcterms:modified xsi:type="dcterms:W3CDTF">2009-02-01T15:08:55Z</dcterms:modified>
  <cp:revision>16</cp:revision>
  <dc:subject/>
  <dc:title>Секрет успеха прост – достань рукой до «звёзд»»</dc:title>
</cp:coreProperties>
</file>