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A8A-6C69-4EE9-9356-4B53B1D0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911-FC1B-4509-B98E-6E5DB38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9E1-D94F-4080-933B-0D2334A9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E8F-9AF5-40C2-8935-C64FFB7C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5BD-3C8B-44A4-9C23-59C3C1CE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43E-81F2-4F56-8CC4-6889C0B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9E25-B1AF-43CA-B4A5-B77B756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0AC-3340-4139-998C-A0911BB6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F459-1A2E-4357-8FDE-50F4CA84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339-DE55-479D-B6C6-2B63E30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EA73-9102-4BB5-BA41-F15B2348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687-2582-4573-85A1-60F543FB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814E-3D07-4B92-B61A-E99DDC02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4BE6-70CB-4EA7-899C-BA8E412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15A-F537-4C5A-B03A-010A1C5F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D54E-2B93-4C59-B375-75FBB772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78A-D61B-4C24-9321-7E65CFBD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125-CEE7-4ED2-99E9-D34B26F7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48C-E35B-4865-BC76-A216E01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FB9-5E7C-4FB7-BAA4-1057636A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CF8-B948-4776-878F-80EBDFD4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535-EE71-47C5-8EE1-0B13FF0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2A7-7C56-4CB5-8FB1-A6EE8196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8B2-0A95-4552-9F28-A292FAD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62D-F8E4-4201-90F2-713D30AABB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DA3C-9B1A-4B51-9B6B-D7804173DC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1.xm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3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5.xm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7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9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7;&#1083;&#1086;&#1074;&#1072;&#1088;&#1100;%20&#1056;&#1086;&#1076;&#1080;&#1085;&#1072;%20.ppt#4. &#1057;&#1083;&#1072;&#1081;&#1076; 4" TargetMode="External"/><Relationship Id="rId3" Type="http://schemas.openxmlformats.org/officeDocument/2006/relationships/hyperlink" Target="file:///&#1057;&#1083;&#1086;&#1074;&#1072;&#1088;&#1100;%20&#1056;&#1086;&#1076;&#1080;&#1085;&#1072;%20.ppt#4. &#1057;&#1083;&#1072;&#1081;&#1076; 4" TargetMode="External"/><Relationship Id="rId4" Type="http://schemas.openxmlformats.org/officeDocument/2006/relationships/hyperlink" Target="file:///&#1057;&#1083;&#1086;&#1074;&#1072;&#1088;&#1100;%20&#1056;&#1086;&#1076;&#1080;&#1085;&#1072;%20.ppt#4. &#1057;&#1083;&#1072;&#1081;&#1076; 4" TargetMode="External"/><Relationship Id="rId5" Type="http://schemas.openxmlformats.org/officeDocument/2006/relationships/hyperlink" Target="file:///&#1057;&#1083;&#1086;&#1074;&#1072;&#1088;&#1100;%20&#1056;&#1086;&#1076;&#1080;&#1085;&#1072;%20.ppt#6. &#1057;&#1083;&#1072;&#1081;&#1076; 6" TargetMode="External"/><Relationship Id="rId6" Type="http://schemas.openxmlformats.org/officeDocument/2006/relationships/hyperlink" Target="file:///&#1057;&#1083;&#1086;&#1074;&#1072;&#1088;&#1100;%20&#1056;&#1086;&#1076;&#1080;&#1085;&#1072;%20.ppt#20. &#1057;&#1083;&#1072;&#1081;&#1076; 20" TargetMode="External"/><Relationship Id="rId7" Type="http://schemas.openxmlformats.org/officeDocument/2006/relationships/hyperlink" Target="file:///&#1057;&#1083;&#1086;&#1074;&#1072;&#1088;&#1100;%20&#1056;&#1086;&#1076;&#1080;&#1085;&#1072;%20.ppt#20. &#1057;&#1083;&#1072;&#1081;&#1076; 20" TargetMode="External"/><Relationship Id="rId8" Type="http://schemas.openxmlformats.org/officeDocument/2006/relationships/hyperlink" Target="file:///&#1057;&#1083;&#1086;&#1074;&#1072;&#1088;&#1100;%20&#1056;&#1086;&#1076;&#1080;&#1085;&#1072;%20.ppt#12. &#1057;&#1083;&#1072;&#1081;&#1076; 12" TargetMode="External"/><Relationship Id="rId9" Type="http://schemas.openxmlformats.org/officeDocument/2006/relationships/hyperlink" Target="file:///&#1057;&#1083;&#1086;&#1074;&#1072;&#1088;&#1100;%20&#1056;&#1086;&#1076;&#1080;&#1085;&#1072;%20.ppt#8. &#1057;&#1083;&#1072;&#1081;&#1076; 8" TargetMode="External"/><Relationship Id="rId10" Type="http://schemas.openxmlformats.org/officeDocument/2006/relationships/hyperlink" Target="file:///&#1057;&#1083;&#1086;&#1074;&#1072;&#1088;&#1100;%20&#1056;&#1086;&#1076;&#1080;&#1085;&#1072;%20.ppt#16. &#1057;&#1083;&#1072;&#1081;&#1076; 16" TargetMode="External"/><Relationship Id="rId11" Type="http://schemas.openxmlformats.org/officeDocument/2006/relationships/hyperlink" Target="file:///&#1057;&#1083;&#1086;&#1074;&#1072;&#1088;&#1100;%20&#1056;&#1086;&#1076;&#1080;&#1085;&#1072;%20.ppt#16. &#1057;&#1083;&#1072;&#1081;&#1076; 16" TargetMode="External"/><Relationship Id="rId12" Type="http://schemas.openxmlformats.org/officeDocument/2006/relationships/hyperlink" Target="file:///&#1057;&#1083;&#1086;&#1074;&#1072;&#1088;&#1100;%20&#1056;&#1086;&#1076;&#1080;&#1085;&#1072;%20.ppt#22. &#1057;&#1083;&#1072;&#1081;&#1076; 22" TargetMode="External"/><Relationship Id="rId13" Type="http://schemas.openxmlformats.org/officeDocument/2006/relationships/hyperlink" Target="file:///&#1057;&#1083;&#1086;&#1074;&#1072;&#1088;&#1100;%20&#1056;&#1086;&#1076;&#1080;&#1085;&#1072;%20.ppt#14. &#1057;&#1083;&#1072;&#1081;&#1076; 14" TargetMode="External"/><Relationship Id="rId14" Type="http://schemas.openxmlformats.org/officeDocument/2006/relationships/hyperlink" Target="file:///&#1057;&#1083;&#1086;&#1074;&#1072;&#1088;&#1100;%20&#1056;&#1086;&#1076;&#1080;&#1085;&#1072;%20.ppt#18. &#1057;&#1083;&#1072;&#1081;&#1076; 18" TargetMode="External"/><Relationship Id="rId15" Type="http://schemas.openxmlformats.org/officeDocument/2006/relationships/hyperlink" Target="file:///&#1057;&#1083;&#1086;&#1074;&#1072;&#1088;&#1100;%20&#1056;&#1086;&#1076;&#1080;&#1085;&#1072;%20.ppt#18. &#1057;&#1083;&#1072;&#1081;&#1076; 18" TargetMode="External"/><Relationship Id="rId16" Type="http://schemas.openxmlformats.org/officeDocument/2006/relationships/hyperlink" Target="file:///&#1057;&#1083;&#1086;&#1074;&#1072;&#1088;&#1100;%20&#1056;&#1086;&#1076;&#1080;&#1085;&#1072;%20.ppt#10. &#1057;&#1083;&#1072;&#1081;&#1076; 10" TargetMode="External"/><Relationship Id="rId17" Type="http://schemas.openxmlformats.org/officeDocument/2006/relationships/slide" Target=""/><Relationship Id="rId18" Type="http://schemas.openxmlformats.org/officeDocument/2006/relationships/hyperlink" Target="file:///&#1057;&#1083;&#1086;&#1074;&#1072;&#1088;&#1100;%20&#1056;&#1086;&#1076;&#1080;&#1085;&#1072;%20.ppt" TargetMode="External"/><Relationship Id="rId19" Type="http://schemas.openxmlformats.org/officeDocument/2006/relationships/slide" Target="slide6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1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21.xml"/><Relationship Id="rId6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3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23.xml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hyperlink" Target="file:///&#1057;&#1083;&#1086;&#1074;&#1072;&#1088;&#1100;%20&#1056;&#1086;&#1076;&#1080;&#1085;&#1072;%20.ppt" TargetMode="Externa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r.foto.radikal.ru/0703/330f8657e901.jpg" TargetMode="External"/><Relationship Id="rId12" Type="http://schemas.openxmlformats.org/officeDocument/2006/relationships/hyperlink" Target="http://murmansk.kp.ru/f/12/image/75/90/2379075.jpg" TargetMode="External"/><Relationship Id="rId13" Type="http://schemas.openxmlformats.org/officeDocument/2006/relationships/hyperlink" Target="http://albertgeist.com/uploads/posts/2010-05/1273700946_rossiy.jpg" TargetMode="External"/><Relationship Id="rId14" Type="http://schemas.openxmlformats.org/officeDocument/2006/relationships/hyperlink" Target="http://100dorog.ru/upload/contents/434/1895-1.jpg" TargetMode="External"/><Relationship Id="rId15" Type="http://schemas.openxmlformats.org/officeDocument/2006/relationships/hyperlink" Target="http://stiho-bum.ru/detail.php?id=4757" TargetMode="External"/><Relationship Id="rId16" Type="http://schemas.openxmlformats.org/officeDocument/2006/relationships/hyperlink" Target="http://kaac.ru/tvardovskiy2.html" TargetMode="External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b/3/22/409/22409102_CapitolBuilding.jpg" TargetMode="External"/><Relationship Id="rId3" Type="http://schemas.openxmlformats.org/officeDocument/2006/relationships/hyperlink" Target="http://lib.deport.ru/slovar/bes/m/moskva.html" TargetMode="External"/><Relationship Id="rId4" Type="http://schemas.openxmlformats.org/officeDocument/2006/relationships/hyperlink" Target="http://poiskslov.com/word/&#1085;&#1072;&#1088;&#1086;&#1076;/" TargetMode="External"/><Relationship Id="rId5" Type="http://schemas.openxmlformats.org/officeDocument/2006/relationships/hyperlink" Target="http://poiskslov.com/word/&#1089;&#1090;&#1086;&#1083;&#1080;&#1094;&#1072;/" TargetMode="External"/><Relationship Id="rId6" Type="http://schemas.openxmlformats.org/officeDocument/2006/relationships/hyperlink" Target="http://poiskslov.com/word/&#1103;&#1079;&#1099;&#1082;/" TargetMode="External"/><Relationship Id="rId7" Type="http://schemas.openxmlformats.org/officeDocument/2006/relationships/hyperlink" Target="http://poiskslov.com/word/&#1075;&#1086;&#1088;&#1086;&#1076;/" TargetMode="External"/><Relationship Id="rId8" Type="http://schemas.openxmlformats.org/officeDocument/2006/relationships/hyperlink" Target="http://poiskslov.com/word/&#1090;&#1086;&#1074;&#1072;&#1088;&#1080;&#1097;/" TargetMode="External"/><Relationship Id="rId9" Type="http://schemas.openxmlformats.org/officeDocument/2006/relationships/hyperlink" Target="http://poiskslov.com/word/&#1088;&#1086;&#1089;&#1089;&#1080;&#1103;/" TargetMode="External"/><Relationship Id="rId10" Type="http://schemas.openxmlformats.org/officeDocument/2006/relationships/hyperlink" Target="http://poiskslov.com/word/&#1088;&#1091;&#1089;&#1089;&#1082;&#1080;&#1081;/" TargetMode="External"/><Relationship Id="rId11" Type="http://schemas.openxmlformats.org/officeDocument/2006/relationships/hyperlink" Target="http://poiskslov.com/word/&#1092;&#1072;&#1084;&#1080;&#1083;&#1080;&#1103;/" TargetMode="External"/><Relationship Id="rId12" Type="http://schemas.openxmlformats.org/officeDocument/2006/relationships/hyperlink" Target="http://www.zanimatika.narod.ru/RF9.htm" TargetMode="External"/><Relationship Id="rId13" Type="http://schemas.openxmlformats.org/officeDocument/2006/relationships/hyperlink" Target="http://www.library.vladimir.ru/stixi/cvetaeva113.htm" TargetMode="External"/><Relationship Id="rId14" Type="http://schemas.openxmlformats.org/officeDocument/2006/relationships/hyperlink" Target="http://slogos.livejournal.com/15471.html" TargetMode="External"/><Relationship Id="rId15" Type="http://schemas.openxmlformats.org/officeDocument/2006/relationships/hyperlink" Target="http://www.mmsk.ru/notes/note/?id=22397" TargetMode="External"/><Relationship Id="rId1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7;&#1083;&#1086;&#1074;&#1072;&#1088;&#1100;%202&#1082;&#1083;.%20&#1046;&#1080;&#1074;&#1086;&#1090;&#1085;&#1099;&#1077;.ppt#2. &#1057;&#1083;&#1072;&#1081;&#1076; 2" TargetMode="External"/><Relationship Id="rId3" Type="http://schemas.openxmlformats.org/officeDocument/2006/relationships/hyperlink" Target="file:///&#1057;&#1083;&#1086;&#1074;&#1072;&#1088;&#1100;%20&#1056;&#1086;&#1076;&#1080;&#1085;&#1072;%20.ppt" TargetMode="Externa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7;&#1083;&#1086;&#1074;&#1072;&#1088;&#1100;%20&#1056;&#1086;&#1076;&#1080;&#1085;&#1072;%20.ppt" TargetMode="Externa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file:///&#1057;&#1083;&#1086;&#1074;&#1072;&#1088;&#1100;%20&#1056;&#1086;&#1076;&#1080;&#1085;&#1072;%20.ppt" TargetMode="Externa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7.xml"/><Relationship Id="rId6" Type="http://schemas.openxmlformats.org/officeDocument/2006/relationships/hyperlink" Target="file:///&#1057;&#1083;&#1086;&#1074;&#1072;&#1088;&#1100;%20&#1056;&#1086;&#1076;&#1080;&#1085;&#1072;%20.ppt" TargetMode="Externa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file:///&#1057;&#1083;&#1086;&#1074;&#1072;&#1088;&#1100;%20&#1056;&#1086;&#1076;&#1080;&#1085;&#1072;%20.ppt" TargetMode="Externa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hyperlink" Target="file:///&#1057;&#1083;&#1086;&#1074;&#1072;&#1088;&#1100;%20&#1056;&#1086;&#1076;&#1080;&#1085;&#1072;%20.ppt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Словарный диктант №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«Родина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020000" y="4292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4"/>
          </p:cNvPr>
          <p:cNvSpPr/>
          <p:nvPr/>
        </p:nvSpPr>
        <p:spPr>
          <a:xfrm>
            <a:off x="6948360" y="4435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313992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6948360" y="313992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43280" y="24300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26028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ст  лица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603360"/>
            <a:ext cx="574560" cy="57600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916360" y="3068640"/>
            <a:ext cx="1944720" cy="130644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1336680" cy="194472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250920" y="3860640"/>
            <a:ext cx="2376360" cy="159732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250920" y="1916280"/>
            <a:ext cx="2311200" cy="173340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</p:spTree>
  </p:cSld>
  <p:transition>
    <p:cover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188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Главный город государства, как правило, местопребывания правительства и правительственных учрежд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172360" y="630864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880" y="1987920"/>
            <a:ext cx="771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Я по свету немало хаживал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Жил в землянке, в окопах, в тайге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Похоронен был дважды заживо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Знал разлуку, любил в тоске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Но всегда я Москвою гордился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И везде повторял я слова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Дорогая моя столица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Золотая моя Москва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3120" y="0"/>
            <a:ext cx="72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Дорогая моя столица,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Золотая моя Москва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48360" y="4219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4"/>
          </p:cNvPr>
          <p:cNvSpPr/>
          <p:nvPr/>
        </p:nvSpPr>
        <p:spPr>
          <a:xfrm>
            <a:off x="6877080" y="436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5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476360" y="260280"/>
            <a:ext cx="1440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87640" y="189000"/>
            <a:ext cx="453708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зык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83664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8000" y="2205000"/>
            <a:ext cx="3933000" cy="3816360"/>
            <a:chOff x="1908000" y="2205000"/>
            <a:chExt cx="3933000" cy="3816360"/>
          </a:xfrm>
        </p:grpSpPr>
        <p:sp>
          <p:nvSpPr>
            <p:cNvPr id="172" name=""/>
            <p:cNvSpPr/>
            <p:nvPr/>
          </p:nvSpPr>
          <p:spPr>
            <a:xfrm rot="1387800">
              <a:off x="2484720" y="3542400"/>
              <a:ext cx="579240" cy="175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37800">
              <a:off x="3742200" y="3601080"/>
              <a:ext cx="578880" cy="203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908000" y="2205000"/>
              <a:ext cx="3933000" cy="3816360"/>
              <a:chOff x="1908000" y="2205000"/>
              <a:chExt cx="3933000" cy="3816360"/>
            </a:xfrm>
          </p:grpSpPr>
          <p:sp>
            <p:nvSpPr>
              <p:cNvPr id="175" name=""/>
              <p:cNvSpPr/>
              <p:nvPr/>
            </p:nvSpPr>
            <p:spPr>
              <a:xfrm>
                <a:off x="2982240" y="2839320"/>
                <a:ext cx="413280" cy="4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0400" y="3050640"/>
                <a:ext cx="413280" cy="4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12000" y="2979000"/>
                <a:ext cx="660960" cy="4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91240" y="2909160"/>
                <a:ext cx="742680" cy="63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908000" y="2205000"/>
                <a:ext cx="3933000" cy="3816360"/>
                <a:chOff x="1908000" y="2205000"/>
                <a:chExt cx="3933000" cy="38163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229920" y="2417400"/>
                  <a:ext cx="660960" cy="35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302360" y="2487240"/>
                  <a:ext cx="660960" cy="35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00" y="2205000"/>
                  <a:ext cx="3933000" cy="381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cover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72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Georgia"/>
              </a:rPr>
              <a:t>Орган в полости рта в виде подвижного мягкого выроста, являющийся органом вкуса, а у человека способствующий также образованию звуков реч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0440" y="5157720"/>
            <a:ext cx="74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ушанье из языка живот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3429000"/>
            <a:ext cx="86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Georgia"/>
              </a:rPr>
              <a:t>Способность говорить, выражать словесно свои мысли</a:t>
            </a:r>
            <a:r>
              <a:rPr b="1" lang="ru-RU" sz="3600" spc="-1" strike="noStrike">
                <a:solidFill>
                  <a:srgbClr val="003366"/>
                </a:solidFill>
                <a:latin typeface="Georgia"/>
              </a:rPr>
              <a:t>.</a:t>
            </a:r>
            <a:r>
              <a:rPr b="1" lang="en-US" sz="36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00" y="1559160"/>
            <a:ext cx="7014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О, как ты сладок, мой язык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Мой русский, не забытый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ак я к тебе душой приник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Усталой и разбитой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ак речь живая хороша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ак слово сердцу мило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огда ведется не спеша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Беседа у камин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2840" y="260280"/>
            <a:ext cx="58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РУССКИЙ ЯЗЫ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29360" y="1197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Е. Сок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75640" y="4221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75640" y="1989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6804000" y="2062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5640" y="307008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4"/>
          </p:cNvPr>
          <p:cNvSpPr/>
          <p:nvPr/>
        </p:nvSpPr>
        <p:spPr>
          <a:xfrm>
            <a:off x="6804000" y="43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5" action="ppaction://hlinksldjump"/>
          </p:cNvPr>
          <p:cNvSpPr/>
          <p:nvPr/>
        </p:nvSpPr>
        <p:spPr>
          <a:xfrm>
            <a:off x="6804000" y="3070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30920" y="17136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26920" y="260280"/>
            <a:ext cx="6409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гор  д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98" name=""/>
          <p:cNvSpPr/>
          <p:nvPr/>
        </p:nvSpPr>
        <p:spPr>
          <a:xfrm>
            <a:off x="5075280" y="7477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rcRect l="2375" t="3450" r="2375" b="3450"/>
          <a:stretch/>
        </p:blipFill>
        <p:spPr>
          <a:xfrm>
            <a:off x="468360" y="1989000"/>
            <a:ext cx="5975280" cy="398304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</p:spTree>
  </p:cSld>
  <p:transition>
    <p:cover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626480"/>
            <a:ext cx="882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eorgia"/>
              </a:rPr>
              <a:t>Крупный населенный пункт, являющийся административным, промышленным, торговым и культурным центром района, области, округа и т.п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870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Мой город усыпан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хрустальными искрами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Блестящими песням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яркими звездами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Красивых люде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некрасивыми мыслями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Прохладными взглядами, влажными веснами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59280" y="111240"/>
            <a:ext cx="5229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eorgia"/>
              </a:rPr>
              <a:t>Мой горо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73560" y="1197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. Андре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4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5" action="ppaction://hlinksldjump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32000" y="38736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404640"/>
            <a:ext cx="81374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т  вар  щ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7477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268360" y="1844640"/>
            <a:ext cx="3090960" cy="468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940360" y="89208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53080" y="460440"/>
            <a:ext cx="9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ver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8864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Тот, кто связан с кем-л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о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б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-      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щ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ей профессией, местом работы; коллега.</a:t>
            </a:r>
            <a:r>
              <a:rPr b="1" lang="en-US" sz="40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ff00ff"/>
                </a:solidFill>
                <a:latin typeface="Georgia"/>
              </a:rPr>
              <a:t>) а) Тот, кто связан с кем-л</a:t>
            </a:r>
            <a:r>
              <a:rPr b="1" lang="ru-RU" sz="4000" spc="-1" strike="noStrike">
                <a:solidFill>
                  <a:srgbClr val="ff00ff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ff00ff"/>
                </a:solidFill>
                <a:latin typeface="Georgia"/>
              </a:rPr>
              <a:t> узами дружбы.</a:t>
            </a:r>
            <a:r>
              <a:rPr b="1" lang="en-US" sz="40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    </a:t>
            </a:r>
            <a:r>
              <a:rPr b="1" lang="en-US" sz="4000" spc="-1" strike="noStrike">
                <a:solidFill>
                  <a:srgbClr val="de5a00"/>
                </a:solidFill>
                <a:latin typeface="Georgia"/>
              </a:rPr>
              <a:t>б) Тот, кто идейно связан с кем-л</a:t>
            </a:r>
            <a:r>
              <a:rPr b="1" lang="ru-RU" sz="4000" spc="-1" strike="noStrike">
                <a:solidFill>
                  <a:srgbClr val="de5a00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de5a00"/>
                </a:solidFill>
                <a:latin typeface="Georgia"/>
              </a:rPr>
              <a:t>; соратник.</a:t>
            </a:r>
            <a:r>
              <a:rPr b="1" lang="en-US" sz="4000" spc="-1" strike="noStrike">
                <a:solidFill>
                  <a:srgbClr val="556731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) Тот, кто участвует в одном деле с кем-л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; компань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о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125892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554120"/>
            <a:ext cx="56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доль развороченных дор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разоренных се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Мы шли по звездам на восток, - Товарища я в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Он отставал, он кровь теря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Он пулю нес в гру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всю дорогу повторя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Ты брось меня. Иди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3640" y="189000"/>
            <a:ext cx="76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Баллада о товарищ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06280" y="119556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. Твард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35560" y="3844800"/>
            <a:ext cx="4708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Наверно, если б ранен бы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шел в степи чуж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Я точно так бы говори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не кривил душ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А если б он тащил мен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Товарища-бой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Он точно так же, как и 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Тащил бы до конца.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04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6804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73272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4"/>
          </p:cNvPr>
          <p:cNvSpPr/>
          <p:nvPr/>
        </p:nvSpPr>
        <p:spPr>
          <a:xfrm>
            <a:off x="6732720" y="429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5" action="ppaction://hlinksldjump"/>
          </p:cNvPr>
          <p:cNvSpPr/>
          <p:nvPr/>
        </p:nvSpPr>
        <p:spPr>
          <a:xfrm>
            <a:off x="673272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36720" y="31608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17136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16360" y="404640"/>
            <a:ext cx="244800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ия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89208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2060640"/>
            <a:ext cx="6264360" cy="354960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2844720" y="316080"/>
            <a:ext cx="180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89208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1080" y="89208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630440"/>
            <a:ext cx="889308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22d"/>
                </a:solidFill>
                <a:latin typeface="Georgia"/>
              </a:rPr>
              <a:t>Г</a:t>
            </a:r>
            <a:r>
              <a:rPr b="1" lang="en-US" sz="3600" spc="-1" strike="noStrike">
                <a:solidFill>
                  <a:srgbClr val="ff822d"/>
                </a:solidFill>
                <a:latin typeface="Georgia"/>
              </a:rPr>
              <a:t>осударство в восточной части Европы и в северной части Азии. 17 075,4 тыс. км2. Население 148,4 млн. Человек</a:t>
            </a:r>
            <a:r>
              <a:rPr b="1" lang="ru-RU" sz="3600" spc="-1" strike="noStrike">
                <a:solidFill>
                  <a:srgbClr val="ff822d"/>
                </a:solidFill>
                <a:latin typeface="Georgia"/>
              </a:rPr>
              <a:t>. </a:t>
            </a:r>
            <a:r>
              <a:rPr b="1" lang="en-US" sz="3600" spc="-1" strike="noStrike">
                <a:solidFill>
                  <a:srgbClr val="ff822d"/>
                </a:solidFill>
                <a:latin typeface="Georgia"/>
              </a:rPr>
              <a:t>Русские составляют 81,5%; проживает св. 100 народов. Большинство верующих - христиане, главным образом православные, остальные - мусульмане, буддисты и др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2800" y="1630080"/>
            <a:ext cx="78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Не слышно песен о России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Во славу больше не поют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То до небес превозносили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Теперь ногами в сердце бьют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А ты попробуй все невзгоды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С ней разделить, живя в нужде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Люби Россию в непогоду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Не оставляй её в бед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3680" y="119592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Шумилин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1000" y="262080"/>
            <a:ext cx="818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Люби Россию в непогод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916280"/>
            <a:ext cx="2808360" cy="56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2"/>
              </a:rPr>
              <a:t>..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3"/>
              </a:rPr>
              <a:t>сква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5"/>
              </a:rPr>
              <a:t>Н.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6"/>
              </a:rPr>
              <a:t>Ру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7"/>
              </a:rPr>
              <a:t>…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8"/>
              </a:rPr>
              <a:t>.зы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9"/>
              </a:rPr>
              <a:t>Род.на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1916280"/>
            <a:ext cx="33116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0"/>
              </a:rPr>
              <a:t>Т.вар.щ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2"/>
              </a:rPr>
              <a:t>Ф.мил.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3"/>
              </a:rPr>
              <a:t>Гор.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4"/>
              </a:rPr>
              <a:t>…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5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6"/>
              </a:rPr>
              <a:t>Ст.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987640" y="5589720"/>
            <a:ext cx="1944720" cy="1079280"/>
            <a:chOff x="2987640" y="5589720"/>
            <a:chExt cx="1944720" cy="1079280"/>
          </a:xfrm>
        </p:grpSpPr>
        <p:sp>
          <p:nvSpPr>
            <p:cNvPr id="88" name="">
              <a:hlinkClick r:id="rId17" action="ppaction://hlinksldjump"/>
            </p:cNvPr>
            <p:cNvSpPr/>
            <p:nvPr/>
          </p:nvSpPr>
          <p:spPr>
            <a:xfrm>
              <a:off x="2987640" y="5589720"/>
              <a:ext cx="1944720" cy="1079280"/>
            </a:xfrm>
            <a:prstGeom prst="ellipse">
              <a:avLst/>
            </a:prstGeom>
            <a:solidFill>
              <a:srgbClr val="1a3021"/>
            </a:solidFill>
            <a:ln w="152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>
              <a:hlinkClick r:id="rId18"/>
            </p:cNvPr>
            <p:cNvSpPr/>
            <p:nvPr/>
          </p:nvSpPr>
          <p:spPr>
            <a:xfrm>
              <a:off x="3058920" y="57337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оверь </a:t>
              </a:r>
              <a:r>
                <a:rPr b="0" lang="ru-RU" sz="2400" spc="-1" strike="noStrike" u="sng">
                  <a:solidFill>
                    <a:srgbClr val="556731"/>
                  </a:solidFill>
                  <a:uFillTx/>
                  <a:latin typeface="Arial"/>
                  <a:hlinkClick r:id="rId19" action="ppaction://hlinksldjump"/>
                </a:rPr>
                <a:t>себ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948360" y="414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4"/>
          </p:cNvPr>
          <p:cNvSpPr/>
          <p:nvPr/>
        </p:nvSpPr>
        <p:spPr>
          <a:xfrm>
            <a:off x="687708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916360" y="50328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73080" y="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ру     кий 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50" name=""/>
          <p:cNvSpPr/>
          <p:nvPr/>
        </p:nvSpPr>
        <p:spPr>
          <a:xfrm>
            <a:off x="3565440" y="79200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1989000"/>
            <a:ext cx="4536360" cy="4391640"/>
            <a:chOff x="1403280" y="1989000"/>
            <a:chExt cx="4536360" cy="4391640"/>
          </a:xfrm>
        </p:grpSpPr>
        <p:grpSp>
          <p:nvGrpSpPr>
            <p:cNvPr id="252" name=""/>
            <p:cNvGrpSpPr/>
            <p:nvPr/>
          </p:nvGrpSpPr>
          <p:grpSpPr>
            <a:xfrm>
              <a:off x="1403280" y="1989000"/>
              <a:ext cx="4536360" cy="4391640"/>
              <a:chOff x="1403280" y="1989000"/>
              <a:chExt cx="4536360" cy="4391640"/>
            </a:xfrm>
          </p:grpSpPr>
          <p:pic>
            <p:nvPicPr>
              <p:cNvPr id="253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3758760" y="3307320"/>
                <a:ext cx="2180880" cy="307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03280" y="1989000"/>
                <a:ext cx="2265840" cy="31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1509480" y="2429640"/>
              <a:ext cx="1283760" cy="21996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8760" y="3636720"/>
              <a:ext cx="1283760" cy="22032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80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Georgia"/>
              </a:rPr>
              <a:t>Относящийся к Руси</a:t>
            </a:r>
            <a:r>
              <a:rPr b="1" lang="ru-RU" sz="4800" spc="-1" strike="noStrike">
                <a:solidFill>
                  <a:srgbClr val="003366"/>
                </a:solidFill>
                <a:latin typeface="Georgia"/>
              </a:rPr>
              <a:t>, её языку</a:t>
            </a:r>
            <a:r>
              <a:rPr b="1" lang="en-US" sz="4800" spc="-1" strike="noStrike">
                <a:solidFill>
                  <a:srgbClr val="003366"/>
                </a:solidFill>
                <a:latin typeface="Georgia"/>
              </a:rPr>
              <a:t>, связанный с </a:t>
            </a:r>
            <a:r>
              <a:rPr b="1" lang="ru-RU" sz="4800" spc="-1" strike="noStrike">
                <a:solidFill>
                  <a:srgbClr val="003366"/>
                </a:solidFill>
                <a:latin typeface="Georgia"/>
              </a:rPr>
              <a:t>ней</a:t>
            </a:r>
            <a:r>
              <a:rPr b="1" lang="en-US" sz="4800" spc="-1" strike="noStrike">
                <a:solidFill>
                  <a:srgbClr val="003366"/>
                </a:solidFill>
                <a:latin typeface="Georg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Georgia"/>
              </a:rPr>
              <a:t>2) Свойственный</a:t>
            </a:r>
            <a:r>
              <a:rPr b="1" lang="ru-RU" sz="48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1" lang="en-US" sz="4800" spc="-1" strike="noStrike">
                <a:solidFill>
                  <a:srgbClr val="000099"/>
                </a:solidFill>
                <a:latin typeface="Georgia"/>
              </a:rPr>
              <a:t>, характерный для  Руси.</a:t>
            </a:r>
            <a:r>
              <a:rPr b="1" lang="en-US" sz="4800" spc="-1" strike="noStrike">
                <a:solidFill>
                  <a:srgbClr val="556731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eorgia"/>
              </a:rPr>
              <a:t>3) Принадлежащий Руси</a:t>
            </a: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.</a:t>
            </a:r>
            <a:r>
              <a:rPr b="1" lang="en-US" sz="4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Georgia"/>
              </a:rPr>
              <a:t>4) Созданный, выведенный на Руси</a:t>
            </a:r>
            <a:r>
              <a:rPr b="1" lang="ru-RU" sz="4800" spc="-1" strike="noStrike">
                <a:solidFill>
                  <a:srgbClr val="ff6600"/>
                </a:solidFill>
                <a:latin typeface="Georgi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630080"/>
            <a:ext cx="908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Лег над пропастью русский путь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И срывается в бездну даль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го не забудь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го не предай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Не ступили бы мы за край,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Да подталкивают враги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го выручай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му помог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9440" y="40356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"Русский русскому"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11120" y="63997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Леонид Корни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020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20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4"/>
          </p:cNvPr>
          <p:cNvSpPr/>
          <p:nvPr/>
        </p:nvSpPr>
        <p:spPr>
          <a:xfrm>
            <a:off x="694836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5" action="ppaction://hlinksldjump"/>
          </p:cNvPr>
          <p:cNvSpPr/>
          <p:nvPr/>
        </p:nvSpPr>
        <p:spPr>
          <a:xfrm>
            <a:off x="6948360" y="306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62200" y="47628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5280" y="189000"/>
            <a:ext cx="7848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ф  мил  я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70" name=""/>
          <p:cNvSpPr/>
          <p:nvPr/>
        </p:nvSpPr>
        <p:spPr>
          <a:xfrm>
            <a:off x="1906560" y="9097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908000" y="1844640"/>
            <a:ext cx="4104000" cy="4752720"/>
            <a:chOff x="1908000" y="1844640"/>
            <a:chExt cx="4104000" cy="4752720"/>
          </a:xfrm>
        </p:grpSpPr>
        <p:pic>
          <p:nvPicPr>
            <p:cNvPr id="272" name="" descr=""/>
            <p:cNvPicPr/>
            <p:nvPr/>
          </p:nvPicPr>
          <p:blipFill>
            <a:blip r:embed="rId6"/>
            <a:srcRect l="0" t="0" r="-1391" b="56060"/>
            <a:stretch/>
          </p:blipFill>
          <p:spPr>
            <a:xfrm>
              <a:off x="1908000" y="1844640"/>
              <a:ext cx="4104000" cy="2564640"/>
            </a:xfrm>
            <a:prstGeom prst="rect">
              <a:avLst/>
            </a:prstGeom>
            <a:ln w="76320">
              <a:solidFill>
                <a:srgbClr val="556731"/>
              </a:solidFill>
              <a:miter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rcRect l="0" t="56041" r="0" b="6453"/>
            <a:stretch/>
          </p:blipFill>
          <p:spPr>
            <a:xfrm>
              <a:off x="1913400" y="4407840"/>
              <a:ext cx="4045680" cy="2189520"/>
            </a:xfrm>
            <a:prstGeom prst="rect">
              <a:avLst/>
            </a:prstGeom>
            <a:ln w="76320">
              <a:solidFill>
                <a:srgbClr val="556731"/>
              </a:solidFill>
              <a:miter/>
            </a:ln>
          </p:spPr>
        </p:pic>
      </p:grpSp>
      <p:sp>
        <p:nvSpPr>
          <p:cNvPr id="274" name=""/>
          <p:cNvSpPr txBox="1"/>
          <p:nvPr/>
        </p:nvSpPr>
        <p:spPr>
          <a:xfrm>
            <a:off x="6299280" y="549360"/>
            <a:ext cx="93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83664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2620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Georgia"/>
              </a:rPr>
              <a:t>Наследственное семейное наименование, прибавляемое к личному имени и переходящее от отца к детям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Georgia"/>
              </a:rPr>
              <a:t>2) Ряд поколений, происходящих от одного предк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9640" y="1643040"/>
          <a:ext cx="7596360" cy="521496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521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У нашего Васил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Есть имя и фамил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Сегодня первоклассников Записывали в класс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Не растерялся Васень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И заявил тотчас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—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Есть у меня фамилия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Я Вася Чистя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—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Вписали вмиг Васил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В число учеников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Да, имя и фамилия 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Не пара пустяков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700200" y="18900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МЯ И ФАМИЛ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8920" y="1123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. Бар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дели слово на сл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транскрипцию сло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фонетический разбор сло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11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0b16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00040" y="2365200"/>
            <a:ext cx="81439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МОЛОДЦЫ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76280"/>
            <a:ext cx="90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2"/>
              </a:rPr>
              <a:t>http://www.zastavki.com/pictures/1280x800/2009/World_Russia_Symbol_of_Moscow_018440_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052640"/>
            <a:ext cx="84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3"/>
              </a:rPr>
              <a:t>http://my-shop.ru/_files/product/2/36/35337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2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60" y="134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4"/>
              </a:rPr>
              <a:t>http://www.ruslania.com/pictures/big/97853580848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1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360" y="1628640"/>
            <a:ext cx="91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5"/>
              </a:rPr>
              <a:t>http://img0.liveinternet.ru/images/attach/c/2/73/359/73359774_TOLPA___10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а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205000"/>
            <a:ext cx="70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6"/>
              </a:rPr>
              <a:t>http://www.stihi.ru/pics/2010/10/25/80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492280"/>
            <a:ext cx="92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7"/>
              </a:rPr>
              <a:t>http://visarun.net/uploads/posts/2011-03/1299157635_3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360" y="278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8"/>
              </a:rPr>
              <a:t>http://kaifolog.ru/uploads/posts/2009-12/thumbs/1260790122_005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фамил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870440"/>
            <a:ext cx="78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9"/>
              </a:rPr>
              <a:t>http://ngrad.ru/wp-content/uploads/2010/10/6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ер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58972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0"/>
              </a:rPr>
              <a:t>http://www.artsides.ru/big/item_26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вари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877000"/>
            <a:ext cx="74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1"/>
              </a:rPr>
              <a:t>http://r.foto.radikal.ru/0703/330f8657e9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165720"/>
            <a:ext cx="84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2"/>
              </a:rPr>
              <a:t>http://murmansk.kp.ru/f/12/image/75/90/237907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068640"/>
            <a:ext cx="91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3"/>
              </a:rPr>
              <a:t>http://albertgeist.com/uploads/posts/2010-05/1273700946_rossiy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6560" y="6491160"/>
            <a:ext cx="62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4"/>
              </a:rPr>
              <a:t>http://100dorog.ru/upload/contents/434/1895-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80" y="33577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5"/>
              </a:rPr>
              <a:t>http://stiho-bum.ru/detail.php?id=47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кол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0" y="3906720"/>
            <a:ext cx="51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6"/>
              </a:rPr>
              <a:t>http://kaac.ru/tvardovskiy2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 Твардо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1080" y="419400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ssr.hut.ru/ - В. Шуми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80" y="455436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tvet.mail.ru/question/29718692/ - ст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0" y="522936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za.ru/2011/03/23/1845 - стихотвор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20" y="361800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owns.su/stihi-o-gorodah Андрее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Times New Roman"/>
                <a:ea typeface="Times New Roman"/>
                <a:hlinkClick r:id="rId2"/>
              </a:rPr>
              <a:t>http://img1.liveinternet.ru/images/attach/b/3/22/409/22409102_CapitolBuilding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ашинг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" y="26028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3"/>
              </a:rPr>
              <a:t>http://lib.deport.ru/slovar/bes/m/moskv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4"/>
              </a:rPr>
              <a:t>http://poiskslov.com/word/%D0%BD%D0%B0%D1%80%D0%BE%D0%B4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на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5"/>
              </a:rPr>
              <a:t>http://poiskslov.com/word/%D1%81%D1%82%D0%BE%D0%BB%D0%B8%D1%86%D0%B0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сто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80" y="220500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6"/>
              </a:rPr>
              <a:t>http://poiskslov.com/word/%D1%8F%D0%B7%D1%8B%D0%BA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4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7"/>
              </a:rPr>
              <a:t>http://poiskslov.com/word/%D0%B3%D0%BE%D1%80%D0%BE%D0%B4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8"/>
              </a:rPr>
              <a:t>http://poiskslov.com/word/%D1%82%D0%BE%D0%B2%D0%B0%D1%80%D0%B8%D1%8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товари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57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9"/>
              </a:rPr>
              <a:t>http://poiskslov.com/word/%D1%80%D0%BE%D1%81%D1%81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0"/>
              </a:rPr>
              <a:t>http://poiskslov.com/word/%D1%80%D1%83%D1%81%D1%81%D0%BA%D0%B8%D0%B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ус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1"/>
              </a:rPr>
              <a:t>http://poiskslov.com/word/%D1%84%D0%B0%D0%BC%D0%B8%D0%BB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амил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60" y="5297400"/>
            <a:ext cx="52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2"/>
              </a:rPr>
              <a:t>http://www.zanimatika.narod.ru/RF9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рю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0" y="5657760"/>
            <a:ext cx="65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3"/>
              </a:rPr>
              <a:t>http://www.library.vladimir.ru/stixi/cvetaeva113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Цветае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60" y="6018120"/>
            <a:ext cx="59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4"/>
              </a:rPr>
              <a:t>http://slogos.livejournal.com/1547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лександ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80" y="6308640"/>
            <a:ext cx="68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5"/>
              </a:rPr>
              <a:t>http://www.mmsk.ru/notes/note/?id=2239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дорогая моя сто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slov.com/word/%D1%80%D0%BE%D0%B4%D0%B8%D0%BD%D0%B0/ - значение Род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5960" y="3718080"/>
            <a:ext cx="427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Люблю Москву в крещенские морозы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Когда клубится город паром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Когда мороз и ветер выбивают слёзы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Когда всем ясно – русским и татарам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Что россиянами зовёмся мы недар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0" y="515772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otvet.mail.ru/question/9686220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628640"/>
            <a:ext cx="280836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Москва</a:t>
            </a:r>
            <a:r>
              <a:rPr b="0" lang="ru-RU" sz="3600" spc="-1" strike="noStrike" u="sng">
                <a:solidFill>
                  <a:srgbClr val="556731"/>
                </a:solidFill>
                <a:uFillTx/>
                <a:latin typeface="Georgia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Нар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Рус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Род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628640"/>
            <a:ext cx="331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Товари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Фамил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Гор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Стол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/>
          </p:cNvPr>
          <p:cNvSpPr/>
          <p:nvPr/>
        </p:nvSpPr>
        <p:spPr>
          <a:xfrm>
            <a:off x="38512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2195640" y="62064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e5a00"/>
                </a:solidFill>
                <a:latin typeface="Georgia"/>
              </a:rPr>
              <a:t>«Школа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2"/>
          </p:cNvPr>
          <p:cNvSpPr/>
          <p:nvPr/>
        </p:nvSpPr>
        <p:spPr>
          <a:xfrm>
            <a:off x="7091280" y="4076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7091280" y="191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7020000" y="198900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299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4221000"/>
            <a:ext cx="180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7020000" y="299736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0920" y="2133720"/>
            <a:ext cx="6480000" cy="4051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971640" y="115920"/>
            <a:ext cx="16556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51280" y="476280"/>
            <a:ext cx="41054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сква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1474920" y="9619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9619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56000" y="558720"/>
            <a:ext cx="122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8680" y="1557360"/>
            <a:ext cx="5019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Здесь, как было, так и ныне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Сердце всей Руси свя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Здесь стоят её святы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За кремлёвскою ст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Расширяясь, возраст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ся в дворцах и вся в сада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Ты стоишь, Москва свя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На семи своих хол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4160" y="-42840"/>
            <a:ext cx="37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Georgia"/>
              </a:rPr>
              <a:t>Моск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66440" y="6165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. Брю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2349360"/>
            <a:ext cx="572436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Нет тебе на свете рав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Стародавняя Москв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Блеском дней, навеки слав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Будешь ты всегда жив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Ты стоишь, сияя зл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Необъятных куп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Над Востоком и Зак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Зыбля звон колок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7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С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толица Российской Федерации, город-герой,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областной центр.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770200" y="2444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40464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н   род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2914560" y="74772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5472000" cy="41353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6" name="">
            <a:hlinkClick r:id="rId3"/>
          </p:cNvPr>
          <p:cNvSpPr/>
          <p:nvPr/>
        </p:nvSpPr>
        <p:spPr>
          <a:xfrm>
            <a:off x="7091280" y="4076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/>
          </p:cNvPr>
          <p:cNvSpPr/>
          <p:nvPr/>
        </p:nvSpPr>
        <p:spPr>
          <a:xfrm>
            <a:off x="7091280" y="191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7020000" y="198900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6"/>
          </p:cNvPr>
          <p:cNvSpPr/>
          <p:nvPr/>
        </p:nvSpPr>
        <p:spPr>
          <a:xfrm>
            <a:off x="7091280" y="299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4221000"/>
            <a:ext cx="180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" action="ppaction://hlinksldjump"/>
          </p:cNvPr>
          <p:cNvSpPr/>
          <p:nvPr/>
        </p:nvSpPr>
        <p:spPr>
          <a:xfrm>
            <a:off x="7020000" y="299736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2880"/>
            <a:ext cx="8964720" cy="6797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eorgia"/>
              </a:rPr>
              <a:t>Население, объединенное принадлежностью к одному государству; жители страны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2) То же, что: нация, национальность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6600"/>
                </a:solidFill>
                <a:latin typeface="Georgia"/>
              </a:rPr>
              <a:t>3) Основная часть трудящегося населения стра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4) То же, что: люди.</a:t>
            </a:r>
            <a:r>
              <a:rPr b="0" lang="ru-RU" sz="4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8560" y="1628280"/>
            <a:ext cx="6773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Не умрешь, народ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Бог тебя хранит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Сердцем дал - гранат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Грудью дал - грани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Процветай, народ, -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Твердый, как скрижаль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Жаркий, как гранат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Чистый, как хрустал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70680" y="112536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Марина Цвета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9560" y="208080"/>
            <a:ext cx="62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Не умрешь, народ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54560" y="476280"/>
            <a:ext cx="9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20484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Род  на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692280"/>
            <a:ext cx="574920" cy="57600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68360" y="2205000"/>
            <a:ext cx="5832360" cy="3787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796000" y="4797360"/>
            <a:ext cx="1012680" cy="1224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192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eorgia"/>
              </a:rPr>
              <a:t>Страна, в которой кто-л</a:t>
            </a:r>
            <a:r>
              <a:rPr b="1" lang="ru-RU" sz="4400" spc="-1" strike="noStrike">
                <a:solidFill>
                  <a:srgbClr val="ff6600"/>
                </a:solidFill>
                <a:latin typeface="Georgia"/>
              </a:rPr>
              <a:t>ибо</a:t>
            </a:r>
            <a:r>
              <a:rPr b="1" lang="en-US" sz="4400" spc="-1" strike="noStrike">
                <a:solidFill>
                  <a:srgbClr val="ff6600"/>
                </a:solidFill>
                <a:latin typeface="Georgia"/>
              </a:rPr>
              <a:t> родился и гражданином которой являетс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21300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Место рождения, происхождения кого-чего-н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ибудь</a:t>
            </a: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, возникновения чего-н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ибудь.</a:t>
            </a: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900000" y="630864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2680"/>
            <a:ext cx="535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           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Если скажут слово "Родина"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разу в памяти встает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тарый дом, в саду смородин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Толстый тополь у воро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У реки березка-скромниц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И ромашковый бугор..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А другим, наверно, вспомнится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вой родной московский дв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2360" y="1125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 Александ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90640" y="0"/>
            <a:ext cx="328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РОДИН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60440" y="3844800"/>
            <a:ext cx="502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 лужах первые кораблики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Над скакалкой топот ног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большой соседней фабрики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Громкий радостный гудок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ли степь: от маков красная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Золотая целина..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Родина бывает разная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Но у всех она одн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11:08:23Z</dcterms:created>
  <dc:creator>Admin</dc:creator>
  <dc:description/>
  <cp:keywords/>
  <dc:language>en-US</dc:language>
  <cp:lastModifiedBy>Admin</cp:lastModifiedBy>
  <dcterms:modified xsi:type="dcterms:W3CDTF">2011-08-19T12:22:11Z</dcterms:modified>
  <cp:revision>16</cp:revision>
  <dc:subject/>
  <dc:title>Словарный диктант №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